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8DAD-B837-4575-B1AE-E40318DE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101D-4EF9-44CF-BA6B-E9F781B6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4E9-9CFB-4F28-886D-2419688B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00F-8F76-4E5C-BDA3-591D8FF0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C6FC-D74F-44F4-AAEC-AC951154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B80F-59E9-469C-B5D0-009802D2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8BC6-C39A-4404-A969-7758BBBA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163C-E509-488C-AFB2-987883AF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2268-1732-476E-BF47-E4F42414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4B56-7274-4AF4-82C4-4D6ACE0A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EE23-B4F7-402C-B513-217B5D8F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A72-B684-4F5B-AFF4-12CDB3E2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C7FE-FD44-4659-A038-FCEC3665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D1CC-059C-4F2F-B195-621A1968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C920-3A38-4B8E-A4EC-7736648A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48DB-A95E-47CC-9BA8-29230DA9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3880-D929-47FE-8204-43A8669E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A22-BA2E-4C3B-80C6-7A6F5317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FB5C-2C80-43C6-84B5-ACC62675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265-4179-41A5-B057-75205E00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2DE-F3CA-4418-ACD4-C296A8AE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2A06-0A53-4184-A07F-4503D092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63F-4980-46F6-9741-5DFA7701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8700-7623-4E5D-A00B-930FA3DB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3190-67C2-46B7-BFDF-1E52DFDFFD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451C-686C-4156-90B5-E66FF44B855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01480" y="809280"/>
            <a:ext cx="8296560" cy="8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66"/>
                </a:solidFill>
                <a:latin typeface="Arial"/>
              </a:rPr>
              <a:t>Лекция. Содержание банка  и базы данных, используемых при внутримашинном информационном обеспечении АРМ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2196360"/>
            <a:ext cx="795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ые вопрос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Банк данных, его состав, модели баз данн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Базы знаний – перспектива развития ИО 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влен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502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Базы данных (БД) создаются в БнД предприятия для решения на ПК задач управления производст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ограммной реализации работ с БД создаются вспомогательные программы их структур, справочников и файлов, печати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альную роль в функционировании банка данных выполняет система управления базой данных (СУБД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502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Arial"/>
              </a:rPr>
              <a:t>СУБД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это пакет программ, обеспечивающий поиск, хранение, корректировку данных, формирование ответов на запрос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а обеспечивает сохранность данных, их конфиденциальность, перемещение и связь с другими программными средств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</a:t>
            </a:r>
            <a:r>
              <a:rPr b="0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функции СУБД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епосредственное управление данными во внешней памяти; управление буферами оперативной памяти; управление транзакциями; журнализация; языки Б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502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гически в современной реляционной СУБД можно выдели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утреннюю часть - ядро СУБ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илятор языка БД (обычн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систему поддержки времени вы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ор утил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502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Концепция банка данны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это не только идея интегрированного хранения данных, но и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идея отделения описания данных от программ их обработки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нтерфейс между которыми обеспечивается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истемой управления базами данных (СУБД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снову разработки СУБД закладывают принципы: единство структурно-информационной организации массивов; централизацию процессов накопления, хранения и обработки различных видов информации; однократный ввод первичных массивов информации с последующим многоразовым многоцелевым их использованием; интегрированное использование массивов в различных режимах обработки; оперативность доступа; различным   элементам   информационных   массивов;   минимизация стоимости создания и функционир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666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 организации и технологии обработки данных </a:t>
            </a:r>
            <a:r>
              <a:rPr b="0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базы данных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подразделяются на 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централизованные и распределенные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ентрализованную базу,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данны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тличает традиционная архитектура баз дан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8209080" cy="237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68360" y="5733000"/>
            <a:ext cx="43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нтрализованная Б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Распределенная база данны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остоит из нескольких, возможно пересекающихся или даже дублирующих друг друга частей, хранимых в различных компьютерах вычислительной сети. Работа с такой БД осуществляется с помощью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системы управления распределенной базой данных (СУРБД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о способу доступа к данным БД разделяются на </a:t>
            </a:r>
            <a:r>
              <a:rPr b="0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БД с локальным доступом и БД с удаленным (сетевым) доступ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215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Системы централизованных БД с сетевым доступ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едполагают различные архитектуры подобных систем: </a:t>
            </a: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файл-сервер и клиент-серв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ление персональных компьютеров и локальных вычислительных сетей привело к разработке архитектуры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«файл-сервер»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казанной на рис.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такой архитектуре приложение, выполняемое на ПК, может получить прозрачный доступ к файл-серверу, на котором хранятся совместно используемые файлы. Когда приложению, работающему на ПК, требуется получить данные из совместно используемого файла, сетевое программное обеспечение автоматически считывает требуемый блок данных с сервера. Наиболее популярные БД для ПК, включа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Acces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do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as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поддерживают архитектуру «файл-сервер», при которой на каждом ПК работает своя копия СУБ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215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полнении обычных запросов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эта архитектура обеспечивает великолепную производительность, поскольку </a:t>
            </a:r>
            <a:r>
              <a:rPr b="0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в распоряжении каждой копии СУБД находятся все ресурсы ПК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ко поскольку запрос требует последовательного просмотра БД, СУБД постоянно запрашивает все новые блоки данных из БД, которая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физически расположена на сервере сет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чевидно, что в результате СУБД запросит и получит п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и все блоки файла. При выполнении запросов такого типа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эта архитектура создает слишком большую нагрузку на сеть и уменьшает производительность работ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184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76280" y="5949000"/>
            <a:ext cx="35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рхитектура «файл-сервер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3772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хитектура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«клиент-сервер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казана на рис.3. При такой архитектуре ПК объединены в локальную сеть, в которой имеется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ервер баз данных, содержащий общие БД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и СУБД разделена на две ча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Пользовательские программы, такие, как приложения для формирования интерактивных запросов работают на клиентском компьютер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Хранение данных и управление ими обеспечиваются сервер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этой архитектуре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QL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стал стандартным языком, предназначенным для обработки и чтения данных, содержащихся в БД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беспечивает взаимодействие между пользовательскими программами и ядром Б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66"/>
                </a:solidFill>
                <a:latin typeface="Arial"/>
              </a:rPr>
              <a:t>1. Банк данных, его состав, модели баз данных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Внутримашинное И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система специальным образом организованных данных, подлежащих автоматизированной обработке, накоплению, хранению, поиску, передаче в виде, удобном для восприятия техническими средствами. Это файлы (массивы), базы и банки данных, базы знаний, а также их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Внемашинное И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включает систему экономических показателей, потоки информации, систему классификации и кодирования, документа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а часть связана с организацией в компьютере различных информационных массивов, используемых для решения задач и передачи данны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ая часть информационного обеспечения учитывает особенности взаимодействия пользователя с ПК при выполнении технологических операций по обработке информац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4900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45400" y="5875920"/>
            <a:ext cx="37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рхитектура «клиент-сервер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215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хитектура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«клиент-сервер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зволяет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ократить трафик и распределить процесс загрузки базы данных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и работы с пользователем, такие, как обработка ввода и отображение данных, выполняются на ПК пользовател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и работы с данными, такие, как дисковый ввод-вывод и выполнение запросов, выполняются сервером Б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ее важно здесь то, чт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беспечивает четко определенный интерфейс между клиентской и серверной системами, эффективно передавая запросы на доступ к Б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а архитектура используется в современных СУБД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cl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i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bas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ыбор СУБ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пределяется многими факторами, но главным из них является возможность работы с конкретной моделью данных (иерархической, сетевой, реляционно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Иерархическую модель Б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зображают в виде дерева (рис). Элементы дерева вершины 1—14 представляют совокупность данных например логические запис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ой вершине соответствует множество экземпляров записей, составляющих логический фай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ршины расположены по уровням и связаны между собой отношениям подчиненности. Одна - единственная вершина верхнего уровня является корнев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Иерархическая модель данных обеспечивает так называемые одно-многозначные отношения между данным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имером таких отношений могут служить следующие: одному изделию соответствует несколько материалов, используемых на различных операциях обработки, сбор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7993080" cy="3097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74120" y="4321800"/>
            <a:ext cx="41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хема иерархической модели Б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50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Сетевые модели БД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ветствуют более широкому классу объектов управления, хотя требуют для своей организации и дополнительных затра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тевая модель позволяет любому объекту быть связанным с любым другим объектом. Сетевые модели сложны, что создает определенные трудности при необходимости модернизации или развития СУБ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етевой модели БД представлен на рис. На рисунке видно, что одно изделие изготавливается в результате выполнения нескольких операций, а одна операция может использоваться для изготовления различных издел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80360" cy="3024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700360" y="420120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тевая модель Б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502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Реляционная модель Б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едставляет объекты и взаимосвязи между ними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 виде таблиц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 все операции над данными сводятся к операциям над этими таблиц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этой модели базируются практически все современные СУБД. Эта модель более понятна, «прозрачна» для конечного пользователя организации данны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К преимуществам реляционной модели Б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ожно отнести также более высокую гибкость при расширении БД, состава запросов к 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имер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еляционная организация БД в виде таблицы содержит программу выпуска изделий (табл. 1 ). Эта база данных включает в себя три атрибута: код технологической группы оборудования, код изделия, программу выпус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2521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718440" y="475200"/>
            <a:ext cx="45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. Реляционная модель Б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3346560"/>
            <a:ext cx="864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о из </a:t>
            </a:r>
            <a:r>
              <a:rPr b="0" lang="ru-RU" sz="2000" spc="-1" strike="noStrike" u="sng">
                <a:solidFill>
                  <a:srgbClr val="ffff66"/>
                </a:solidFill>
                <a:uFillTx/>
                <a:latin typeface="Arial"/>
              </a:rPr>
              <a:t>основных различий между тремя типами моделей СУБ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остоит в том, что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ля иерархических и сетевых СУБД их структура не может быть изменена после ввода данных, тогда как для реляционных СУБД структура может изменяться в любое врем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ля больших БД, структура которых остается длительное время неизменной, именно иерархические и сетевые СУБД могут оказаться наиболее эффективными, ибо они могут обеспечивать более быстрый доступ к информации БД, чем реляционные СУБД. Однако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большинство СУБД для ПК работают с реляционной моделью. К реляционным моделям относят, например,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lipper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dBase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Paradox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FoxPro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ccess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Oracle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следние годы все большее признание и развитие получают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объектно-ориентированные базы данных (ООБД),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лчок к появлению которых дали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бъектно-ориентированное программирова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использование ПК для обработки и представления практически всех форм информации, воспринимаемых челове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чем принципиальное отличие реляционных и объектно-ориентированных баз данных?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 ООБД модель данных более близка сущностям реального мира. Объекты можно сохранить и использовать непосредственно, не раскладывая их по таблицам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ипы данных определяются разработчиком и не ограничены набором предопределенных типов. В объектных СУБД-данные объекта, а также его методы помещаются в хранилище как единое целое. Объектная СУБД именно то средство, которое обеспечивает запись объектов в базу данных. Существенной особенностью ООБД можно назвать объединение объектно-ориентированного программирования (ООП) с технологией баз данных для создания интегрированной среды разработки прилож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50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ОБД обеспечивает доступ к различным источникам данных, в том числе, конечно, и к данным реляционных СУБД, а также разнообразные средства манипуляции с объектами баз данных. Традиционными областями применения объектных СУБД являются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системы автоматизированного проектирования (САПР), моделирование мультимедиа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скольку именно из нужд этих отраслей выросло новое направление в базах данны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5215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Внутримашинное информационное обеспечение связано с хранением, поиском и обработкой информа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состоит из разнообразных по содержанию, назначению, организации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файлов и информационных связей между ним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но включает все виды специально организованной на машинных носителях информации для восприятия, передачи и обработки техническими средств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Внутримашинное ИО может быть созда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бо как множество локальных (независимых) файлов, каждый из которых отражает некоторое множество однородных управленческих документ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502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кольку объектные СУБД отличаются высоким быстродействием, надежностью, представляют разнообразнейший программный интерфейс для разработчиков, они широко используются в телекоммуникациях, различных аспектах автоматизации предприятия, издательском деле, геоинформационных проектах. Очень хорошо они подходят для решения задач построения распределенных вычислительных сист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основе объектной СУБД можно строить сложные распределенные банки данных, организовывать к ним доступ, как через локальную сеть, так и для удаленных пользователей в режиме реального масштаба времени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К объектным СУБД можно отнести СУБД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NTOS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— одного из лидеров направления ООБД,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asmine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DB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piter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— первый российский продукт такого рода,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RACLE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8.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66"/>
                </a:solidFill>
                <a:latin typeface="Arial"/>
              </a:rPr>
              <a:t>2. Базы знаний — перспектива развития ИО в управлени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ивно развивающейся областью использования компьютеров является создание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баз знаний (БЗ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их применение в различных областях науки и техн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База знаний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редставляет соб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емантическую модель, предназначенную для представления в ЭВМ знаний, накопленных человеком в определенной предметной обла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66"/>
                </a:solidFill>
                <a:latin typeface="Arial"/>
              </a:rPr>
              <a:t>Основные функции базы знаний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оздание знаний, загрузка; актуализация, поддержание в достоверном состоянии; расширение, включение новых знаний; обработка, формирование знаний, соответствующих текущей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502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выполнения указанных функций разрабатываются соответствующие программные средства.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овокупность этих программных средств и баз знаний принято называть 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искусственным интеллек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усственный интеллект в настоящее время находит применение в таких областях, как планирование и оперативное управление производством, выработка оптимальной стратегии поведения в соответствии сложившейся ситуацией и т. 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ее перспективным представляется использование искусственного интеллекта для построения экспертных сист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66"/>
                </a:solidFill>
                <a:latin typeface="Arial"/>
              </a:rPr>
              <a:t>Экспертная система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это компьютерные программы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формализующие принятия решений человеком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азначение экспертных систе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формирование и вывод рекомендаций в зависимости от текущей ситуации, которая описывается совокупностью сведений, данных, вводимых пользователем в диалоговом режиме. Требуемые при этом данные могут извлекаться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из создаваемой для решения функциональных  задач </a:t>
            </a: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базы данных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даваемые компьютером рекомендации должны соответствовать рекомендациям специалиста высокой квалифика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i="1" lang="ru-RU" sz="2800" spc="-1" strike="noStrike">
                <a:solidFill>
                  <a:srgbClr val="ffff66"/>
                </a:solidFill>
                <a:latin typeface="Arial"/>
              </a:rPr>
              <a:t>Поэтому в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66"/>
                </a:solidFill>
                <a:latin typeface="Arial"/>
              </a:rPr>
              <a:t>формировании БЗ должны принимать участие специалисты — менеджеры высокой квалифик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3059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честве элемента экспертной системы можно рассматривать базу данных. В то же время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БД является составной частью БнД ИТ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этому наряду с БЗ </a:t>
            </a: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экспертная система должна рассматриваться как основная составляющая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часть внутримашинного информационного обеспе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ртные системы, являющиеся в настоящее время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наиболее распространенным классом систем искусственного интеллекта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бладают способностью рассмотреть большее число вариантов, чем это доступно человеку, при доскональном анализе ситуаций в той или иной предметной области и выдать «интеллектуальные» решения в сложных ситуациях, благодаря наличию в них баз зн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3772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этому в помощь менеджерам в условиях распределенной системы обработки данных предполагается создавать ряд экспертных сист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, при разработке плана производства для уточнения номенклатуры планируемой к выпуску продукции целесообразно создать экспертные системы по оценке конъюнктуры рынка и оценке технического уровня продукции, связанные с довольно сложным анализом  исходн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502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бо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ак база данных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ри создании базы данных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файлы не являются независимыми, ибо структура одних файлов (состав полей) зависит от структуры других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этому структура файлов базы данных часто не соответствует структуре управленческих документов, на основе которых эти файлы создают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йлы БД разрабатываются с соблюдением определенных принципов и ориентацией на одну из моделей базы данных (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иерархическую, сетевую, реляционну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содержанию внутримашинное ИО должно адекватно отражать реальную действительность организационного объекта и его подразделений, т. е. конкретную предметную обла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йлы внутримашинной базы делятся на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еременные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которых отражаются факты финансово-хозяйственной деятельности объекта управления, и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условно-постоянные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которых представлены материальные, трудовые, технологические и другие нормы и нормативы, а также справочные дан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выборе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рационального варианта организации внутримашинного информационного обеспечения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иболее полно отражающей специфику объекта управления, к нему предъявляют следующие требован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та представления данны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нимальность состава данны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нимизация времени выборки данных при решении задач управ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зависимость структуры массивов от программных средств их организаци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намичность структуры информационной баз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377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Информационная  база,   организованная  на  основе  </a:t>
            </a: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локальных файлов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остоит из совокупности массивов, предназначенных для решения отдельных задач. Для каждой задачи необходимая информация складывается из следующих составляющих: множества входных переменных массивов; множества массивов, получаемых в результате решения других задач; множества массивов, получаемых от предыдущего решения данной задачи; множества массивов нормативно-справочной информации; множества процедур обработки данных;  множества массивов,  хранимых для  последующег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ения данной задачи; множества массивов, хранимых для решения других задач; множества выходных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5215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этом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основным недостатком информационной баз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является не только обилие массивов и их связей, но и то, что она не обеспечивает независимости программ решения задач от структур обрабатываемых данных.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Любое изменение структуры входных массивов вызывает необходимость изменения программ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 это в свою очередь приводит к большим затратам на поддержание информационной базы. Кроме того, при такой организации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информационная база несет в себе значительную долю избыточности из-за повторения одних и тех же реквизитов в разных массивах, ориентированных на решение локальных задач и практически не связанных между соб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455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Банк данных, его состав, модели баз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увеличении объемов информации для многоцелевого применения и эффективного удовлетворения информационных потребностей различных пользователей используется интегрированный подход к созданию внутримашинного ИО. При этом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данные рассматриваются как информационные ресурсы для разноаспектного и многократного использов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интеграции предполагает организацию хранения информации в виде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банка данных (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БнД)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где все данные собраны в едином интегрированном хранилище и к информации как важнейшему ресурсу обеспечен широкий доступ различных пользов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Банк данных (БнД)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—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это система специальным образом организованных данных (</a:t>
            </a: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баз данных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, программных, технических, языковых, организационно-методических средств, предназначенных для обеспечения централизованного накопления и коллективного многоцелевого использования дан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502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</a:t>
            </a: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требования к Бн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ключаю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грированность баз данных и целостность каждой из ни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зависим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нимальную избыточность хранимых данны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сть к расшир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жным условием эффективного функционирования БнД является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беспечение защиты данных от несанкционированного доступа или случайного уничтожения хранимых дан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о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нк данных в своем составе всегда содержи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ледующие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ва основных компонент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базу данных (БД),</a:t>
            </a: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 которая есть даталогическое представление информационной модели предприятия, и </a:t>
            </a:r>
            <a:r>
              <a:rPr b="1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систему управления базой данных (СУБД),</a:t>
            </a: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 с помощью которой реализуются централизованное управление данными, хранимыми в базе, доступ к ним и поддержание их в состоянии, соответствующем состоянию предметной обл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ik</cp:lastModifiedBy>
  <dcterms:modified xsi:type="dcterms:W3CDTF">2008-09-23T18:19:44Z</dcterms:modified>
  <cp:revision>231</cp:revision>
  <dc:subject/>
  <dc:title>PowerPoint Presentation</dc:title>
</cp:coreProperties>
</file>