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AAF6-3A53-43E1-8B99-237055B1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55EE-4E0F-4B05-9ED8-9DB8F886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AF93-D830-4B9B-BECE-A64B61D3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2CB8-84AB-416B-A56A-04AC7EF6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F237-B107-44C7-9D18-D89647EA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00B6-060A-433B-86CD-7206754C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0245-3F8B-4614-9A3B-67D32772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BEF5-2430-47AD-BC76-D6A4274D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29D3-5223-4460-B920-371D4329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CB71-6DDD-4B72-8D84-64FDA51F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6B20-8F09-46F6-9F9A-D8D611FF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009B-AA39-40E9-A227-358E9FF4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1096-4CCE-4DD5-8354-5AC3F4CD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A378-3805-4658-902D-29B46DC6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DAB1-6274-4E2E-8FDE-52F2AD22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0ADA-AD91-4B11-B2D6-0B40BE24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56FF-8B52-4900-A93F-A5F10C36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7771-EC0B-463A-BA33-EBD53A45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8353-EB13-432D-A8DE-0FD7AB92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3A6D-0A37-4D15-A35B-272E7F91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6DE7-379A-43F6-81AA-32AEB84F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AD4D-8AD0-44C1-94AB-65559509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9F53-28AE-4CDA-9517-ACAFE117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1B60-3F2F-4990-9885-32060BD2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CE2F-8555-4771-872F-430B9F4DEEE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49EA-65D5-4947-B1C5-AFE77A58AAD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01480" y="809280"/>
            <a:ext cx="8296560" cy="8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ff66"/>
                </a:solidFill>
                <a:latin typeface="Arial"/>
              </a:rPr>
              <a:t>Лекция. Содержание банка  и базы данных, используемых при внутримашинном информационном обеспечении АРМ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1904760"/>
            <a:ext cx="8377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2196360"/>
            <a:ext cx="795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бные вопрос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Банк данных, его состав, модели баз данны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Базы знаний – перспектива развития ИО 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правлен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4502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Базы данных (БД) создаются в БнД предприятия для решения на ПК задач управления производств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программной реализации работ с БД создаются вспомогательные программы их структур, справочников и файлов, печати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нтральную роль в функционировании банка данных выполняет система управления базой данных (СУБД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4502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Arial"/>
              </a:rPr>
              <a:t>СУБД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это пакет программ, обеспечивающий поиск, хранение, корректировку данных, формирование ответов на запрос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стема обеспечивает сохранность данных, их конфиденциальность, перемещение и связь с другими программными средств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</a:t>
            </a:r>
            <a:r>
              <a:rPr b="0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функции СУБД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епосредственное управление данными во внешней памяти; управление буферами оперативной памяти; управление транзакциями; журнализация; языки Б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502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огически в современной реляционной СУБД можно выдели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утреннюю часть - ядро СУБ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пилятор языка БД (обычно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систему поддержки времени выпол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бор утил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502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Концепция банка данны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это не только идея интегрированного хранения данных, но и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идея отделения описания данных от программ их обработки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нтерфейс между которыми обеспечивается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системой управления базами данных (СУБД)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основу разработки СУБД закладывают принципы: единство структурно-информационной организации массивов; централизацию процессов накопления, хранения и обработки различных видов информации; однократный ввод первичных массивов информации с последующим многоразовым многоцелевым их использованием; интегрированное использование массивов в различных режимах обработки; оперативность доступа; различным   элементам   информационных   массивов;   минимизация стоимости создания и функционир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8666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 организации и технологии обработки данных </a:t>
            </a:r>
            <a:r>
              <a:rPr b="0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базы данных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подразделяются на </a:t>
            </a: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централизованные и распределенные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Централизованную базу,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данны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тличает традиционная архитектура баз дан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8209080" cy="2376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268360" y="5733000"/>
            <a:ext cx="43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нтрализованная Б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964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Распределенная база данных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остоит из нескольких, возможно пересекающихся или даже дублирующих друг друга частей, хранимых в различных компьютерах вычислительной сети. Работа с такой БД осуществляется с помощью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системы управления распределенной базой данных (СУРБД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о способу доступа к данным БД разделяются на </a:t>
            </a:r>
            <a:r>
              <a:rPr b="0" lang="ru-RU" sz="3200" spc="-1" strike="noStrike" u="sng">
                <a:solidFill>
                  <a:srgbClr val="ffff66"/>
                </a:solidFill>
                <a:uFillTx/>
                <a:latin typeface="Arial"/>
              </a:rPr>
              <a:t>БД с локальным доступом и БД с удаленным (сетевым) доступ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215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Системы централизованных БД с сетевым доступ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едполагают различные архитектуры подобных систем: </a:t>
            </a:r>
            <a:r>
              <a:rPr b="0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файл-сервер и клиент-серве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явление персональных компьютеров и локальных вычислительных сетей привело к разработке архитектуры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«файл-сервер»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казанной на рис.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такой архитектуре приложение, выполняемое на ПК, может получить прозрачный доступ к файл-серверу, на котором хранятся совместно используемые файлы. Когда приложению, работающему на ПК, требуется получить данные из совместно используемого файла, сетевое программное обеспечение автоматически считывает требуемый блок данных с сервера. Наиболее популярные БД для ПК, включа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Acces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do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as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поддерживают архитектуру «файл-сервер», при которой на каждом ПК работает своя копия СУБ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5215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выполнении обычных запросов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эта архитектура обеспечивает великолепную производительность, поскольку </a:t>
            </a:r>
            <a:r>
              <a:rPr b="0" lang="ru-RU" sz="2800" spc="-1" strike="noStrike" u="sng">
                <a:solidFill>
                  <a:srgbClr val="ffff66"/>
                </a:solidFill>
                <a:uFillTx/>
                <a:latin typeface="Arial"/>
              </a:rPr>
              <a:t>в распоряжении каждой копии СУБД находятся все ресурсы ПК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днако поскольку запрос требует последовательного просмотра БД, СУБД постоянно запрашивает все новые блоки данных из БД, которая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физически расположена на сервере сет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чевидно, что в результате СУБД запросит и получит по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и все блоки файла. При выполнении запросов такого типа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эта архитектура создает слишком большую нагрузку на сеть и уменьшает производительность работ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184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76280" y="5949000"/>
            <a:ext cx="35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рхитектура «файл-сервер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3772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хитектура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«клиент-сервер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казана на рис.3. При такой архитектуре ПК объединены в локальную сеть, в которой имеется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ервер баз данных, содержащий общие БД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и СУБД разделена на две ча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Пользовательские программы, такие, как приложения для формирования интерактивных запросов работают на клиентском компьютер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Хранение данных и управление ими обеспечиваются сервер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этой архитектуре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QL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стал стандартным языком, предназначенным для обработки и чтения данных, содержащихся в БД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беспечивает взаимодействие между пользовательскими программами и ядром Б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ff66"/>
                </a:solidFill>
                <a:latin typeface="Arial"/>
              </a:rPr>
              <a:t>1. Банк данных, его состав, модели баз данных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Внутримашинное И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система специальным образом организованных данных, подлежащих автоматизированной обработке, накоплению, хранению, поиску, передаче в виде, удобном для восприятия техническими средствами. Это файлы (массивы), базы и банки данных, базы знаний, а также их сис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Внемашинное И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включает систему экономических показателей, потоки информации, систему классификации и кодирования, документац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а часть связана с организацией в компьютере различных информационных массивов, используемых для решения задач и передачи данны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ая часть информационного обеспечения учитывает особенности взаимодействия пользователя с ПК при выполнении технологических операций по обработке информац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04000" cy="4900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345400" y="5875920"/>
            <a:ext cx="37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рхитектура «клиент-сервер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215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хитектура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«клиент-сервер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зволяет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ократить трафик и распределить процесс загрузки базы данных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и работы с пользователем, такие, как обработка ввода и отображение данных, выполняются на ПК пользовател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кции работы с данными, такие, как дисковый ввод-вывод и выполнение запросов, выполняются сервером Б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иболее важно здесь то, что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беспечивает четко определенный интерфейс между клиентской и серверной системами, эффективно передавая запросы на доступ к Б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а архитектура используется в современных СУБД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acle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i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base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Выбор СУБ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пределяется многими факторами, но главным из них является возможность работы с конкретной моделью данных (иерархической, сетевой, реляционно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Иерархическую модель Б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зображают в виде дерева (рис). Элементы дерева вершины 1—14 представляют совокупность данных например логические запис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ждой вершине соответствует множество экземпляров записей, составляющих логический фай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ршины расположены по уровням и связаны между собой отношениям подчиненности. Одна - единственная вершина верхнего уровня является корнев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Иерархическая модель данных обеспечивает так называемые одно-многозначные отношения между данным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имером таких отношений могут служить следующие: одному изделию соответствует несколько материалов, используемых на различных операциях обработки, сбор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7993080" cy="3097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74120" y="4321800"/>
            <a:ext cx="41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хема иерархической модели Б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502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Сетевые модели БД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ответствуют более широкому классу объектов управления, хотя требуют для своей организации и дополнительных затра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тевая модель позволяет любому объекту быть связанным с любым другим объектом. Сетевые модели сложны, что создает определенные трудности при необходимости модернизации или развития СУБ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име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етевой модели БД представлен на рис. На рисунке видно, что одно изделие изготавливается в результате выполнения нескольких операций, а одна операция может использоваться для изготовления различных издел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280360" cy="3024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700360" y="4201200"/>
            <a:ext cx="37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тевая модель Б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84502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Реляционная модель Б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редставляет объекты и взаимосвязи между ними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в виде таблиц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а все операции над данными сводятся к операциям над этими таблиц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этой модели базируются практически все современные СУБД. Эта модель более понятна, «прозрачна» для конечного пользователя организации данны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К преимуществам реляционной модели Б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ожно отнести также более высокую гибкость при расширении БД, состава запросов к н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имер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еляционная организация БД в виде таблицы содержит программу выпуска изделий (табл. 1 ). Эта база данных включает в себя три атрибута: код технологической группы оборудования, код изделия, программу выпус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80360" cy="2521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718440" y="475200"/>
            <a:ext cx="450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1. Реляционная модель Б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3346560"/>
            <a:ext cx="8640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о из </a:t>
            </a:r>
            <a:r>
              <a:rPr b="0" lang="ru-RU" sz="2000" spc="-1" strike="noStrike" u="sng">
                <a:solidFill>
                  <a:srgbClr val="ffff66"/>
                </a:solidFill>
                <a:uFillTx/>
                <a:latin typeface="Arial"/>
              </a:rPr>
              <a:t>основных различий между тремя типами моделей СУБ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остоит в том, что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для иерархических и сетевых СУБД их структура не может быть изменена после ввода данных, тогда как для реляционных СУБД структура может изменяться в любое врем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ля больших БД, структура которых остается длительное время неизменной, именно иерархические и сетевые СУБД могут оказаться наиболее эффективными, ибо они могут обеспечивать более быстрый доступ к информации БД, чем реляционные СУБД. Однако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большинство СУБД для ПК работают с реляционной моделью. К реляционным моделям относят, например,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Clipper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dBase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Paradox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FoxPro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ccess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Oracle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следние годы все большее признание и развитие получают </a:t>
            </a: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объектно-ориентированные базы данных (ООБД),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лчок к появлению которых дали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объектно-ориентированное программирова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использование ПК для обработки и представления практически всех форм информации, воспринимаемых челове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чем принципиальное отличие реляционных и объектно-ориентированных баз данных?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В ООБД модель данных более близка сущностям реального мира. Объекты можно сохранить и использовать непосредственно, не раскладывая их по таблицам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ипы данных определяются разработчиком и не ограничены набором предопределенных типов. В объектных СУБД-данные объекта, а также его методы помещаются в хранилище как единое целое. Объектная СУБД именно то средство, которое обеспечивает запись объектов в базу данных. Существенной особенностью ООБД можно назвать объединение объектно-ориентированного программирования (ООП) с технологией баз данных для создания интегрированной среды разработки прилож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502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ОБД обеспечивает доступ к различным источникам данных, в том числе, конечно, и к данным реляционных СУБД, а также разнообразные средства манипуляции с объектами баз данных. Традиционными областями применения объектных СУБД являются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системы автоматизированного проектирования (САПР), моделирование мультимедиа,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оскольку именно из нужд этих отраслей выросло новое направление в базах данны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85215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Внутримашинное информационное обеспечение связано с хранением, поиском и обработкой информац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состоит из разнообразных по содержанию, назначению, организации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файлов и информационных связей между ним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но включает все виды специально организованной на машинных носителях информации для восприятия, передачи и обработки техническими средств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Внутримашинное ИО может быть созда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бо как множество локальных (независимых) файлов, каждый из которых отражает некоторое множество однородных управленческих документ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502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кольку объектные СУБД отличаются высоким быстродействием, надежностью, представляют разнообразнейший программный интерфейс для разработчиков, они широко используются в телекоммуникациях, различных аспектах автоматизации предприятия, издательском деле, геоинформационных проектах. Очень хорошо они подходят для решения задач построения распределенных вычислительных сист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основе объектной СУБД можно строить сложные распределенные банки данных, организовывать к ним доступ, как через локальную сеть, так и для удаленных пользователей в режиме реального масштаба времени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К объектным СУБД можно отнести СУБД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NTOS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— одного из лидеров направления ООБД,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Jasmine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DB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Jupiter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— первый российский продукт такого рода,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RACLE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 8.0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ff66"/>
                </a:solidFill>
                <a:latin typeface="Arial"/>
              </a:rPr>
              <a:t>2. Базы знаний — перспектива развития ИО в управлени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ктивно развивающейся областью использования компьютеров является создание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баз знаний (БЗ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их применение в различных областях науки и техн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База знаний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редставляет собо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емантическую модель, предназначенную для представления в ЭВМ знаний, накопленных человеком в определенной предметной обла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66"/>
                </a:solidFill>
                <a:latin typeface="Arial"/>
              </a:rPr>
              <a:t>Основные функции базы знаний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оздание знаний, загрузка; актуализация, поддержание в достоверном состоянии; расширение, включение новых знаний; обработка, формирование знаний, соответствующих текущей ситу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45028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выполнения указанных функций разрабатываются соответствующие программные средства.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Совокупность этих программных средств и баз знаний принято называть </a:t>
            </a: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искусственным интеллект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усственный интеллект в настоящее время находит применение в таких областях, как планирование и оперативное управление производством, выработка оптимальной стратегии поведения в соответствии сложившейся ситуацией и т. 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иболее перспективным представляется использование искусственного интеллекта для построения экспертных сист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964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66"/>
                </a:solidFill>
                <a:latin typeface="Arial"/>
              </a:rPr>
              <a:t>Экспертная система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это компьютерные программы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формализующие принятия решений человеком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азначение экспертных систе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формирование и вывод рекомендаций в зависимости от текущей ситуации, которая описывается совокупностью сведений, данных, вводимых пользователем в диалоговом режиме. Требуемые при этом данные могут извлекаться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из создаваемой для решения функциональных  задач </a:t>
            </a: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базы данных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ыдаваемые компьютером рекомендации должны соответствовать рекомендациям специалиста высокой квалификац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i="1" lang="ru-RU" sz="2800" spc="-1" strike="noStrike">
                <a:solidFill>
                  <a:srgbClr val="ffff66"/>
                </a:solidFill>
                <a:latin typeface="Arial"/>
              </a:rPr>
              <a:t>Поэтому в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66"/>
                </a:solidFill>
                <a:latin typeface="Arial"/>
              </a:rPr>
              <a:t>формировании БЗ должны принимать участие специалисты — менеджеры высокой квалифик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30592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ачестве элемента экспертной системы можно рассматривать базу данных. В то же время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БД является составной частью БнД ИТ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этому наряду с БЗ </a:t>
            </a: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экспертная система должна рассматриваться как основная составляющая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66"/>
                </a:solidFill>
                <a:latin typeface="Arial"/>
              </a:rPr>
              <a:t>часть внутримашинного информационного обеспе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ертные системы, являющиеся в настоящее время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наиболее распространенным классом систем искусственного интеллекта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бладают способностью рассмотреть большее число вариантов, чем это доступно человеку, при доскональном анализе ситуаций в той или иной предметной области и выдать «интеллектуальные» решения в сложных ситуациях, благодаря наличию в них баз зн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3772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этому в помощь менеджерам в условиях распределенной системы обработки данных предполагается создавать ряд экспертных сист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, при разработке плана производства для уточнения номенклатуры планируемой к выпуску продукции целесообразно создать экспертные системы по оценке конъюнктуры рынка и оценке технического уровня продукции, связанные с довольно сложным анализом  исходн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502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бо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как база данных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ри создании базы данных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файлы не являются независимыми, ибо структура одних файлов (состав полей) зависит от структуры других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Поэтому структура файлов базы данных часто не соответствует структуре управленческих документов, на основе которых эти файлы создаютс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айлы БД разрабатываются с соблюдением определенных принципов и ориентацией на одну из моделей базы данных (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иерархическую, сетевую, реляционную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содержанию внутримашинное ИО должно адекватно отражать реальную действительность организационного объекта и его подразделений, т. е. конкретную предметную обла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айлы внутримашинной базы делятся на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переменные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которых отражаются факты финансово-хозяйственной деятельности объекта управления, и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условно-постоянные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которых представлены материальные, трудовые, технологические и другие нормы и нормативы, а также справочные данны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выборе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рационального варианта организации внутримашинного информационного обеспечения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иболее полно отражающей специфику объекта управления, к нему предъявляют следующие требован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нота представления данных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нимальность состава данных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нимизация времени выборки данных при решении задач управ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зависимость структуры массивов от программных средств их организаци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намичность структуры информационной баз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3772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Информационная  база,   организованная  на  основе  </a:t>
            </a:r>
            <a:r>
              <a:rPr b="0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локальных файлов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остоит из совокупности массивов, предназначенных для решения отдельных задач. Для каждой задачи необходимая информация складывается из следующих составляющих: множества входных переменных массивов; множества массивов, получаемых в результате решения других задач; множества массивов, получаемых от предыдущего решения данной задачи; множества массивов нормативно-справочной информации; множества процедур обработки данных;  множества массивов,  хранимых для  последующег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ения данной задачи; множества массивов, хранимых для решения других задач; множества выходных доку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5215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этом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основным недостатком информационной баз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является не только обилие массивов и их связей, но и то, что она не обеспечивает независимости программ решения задач от структур обрабатываемых данных.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Любое изменение структуры входных массивов вызывает необходимость изменения программ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а это в свою очередь приводит к большим затратам на поддержание информационной базы. Кроме того, при такой организации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информационная база несет в себе значительную долю избыточности из-за повторения одних и тех же реквизитов в разных массивах, ориентированных на решение локальных задач и практически не связанных между соб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8455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Банк данных, его состав, модели баз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увеличении объемов информации для многоцелевого применения и эффективного удовлетворения информационных потребностей различных пользователей используется интегрированный подход к созданию внутримашинного ИО. При этом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данные рассматриваются как информационные ресурсы для разноаспектного и многократного использов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цип интеграции предполагает организацию хранения информации в виде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банка данных (</a:t>
            </a:r>
            <a:r>
              <a:rPr b="1" lang="ru-RU" sz="2400" spc="-1" strike="noStrike">
                <a:solidFill>
                  <a:srgbClr val="ffff66"/>
                </a:solidFill>
                <a:latin typeface="Arial"/>
              </a:rPr>
              <a:t>БнД)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где все данные собраны в едином интегрированном хранилище и к информации как важнейшему ресурсу обеспечен широкий доступ различных пользова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Банк данных (БнД)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—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это система специальным образом организованных данных (</a:t>
            </a:r>
            <a:r>
              <a:rPr b="0" i="1" lang="ru-RU" sz="2400" spc="-1" strike="noStrike">
                <a:solidFill>
                  <a:srgbClr val="ffff66"/>
                </a:solidFill>
                <a:latin typeface="Arial"/>
              </a:rPr>
              <a:t>баз данных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, программных, технических, языковых, организационно-методических средств, предназначенных для обеспечения централизованного накопления и коллективного многоцелевого использования дан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502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</a:t>
            </a:r>
            <a:r>
              <a:rPr b="0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требования к Бн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ключаю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грированность баз данных и целостность каждой из ни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зависим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нимальную избыточность хранимых данны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сть к расшир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жным условием эффективного функционирования БнД является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обеспечение защиты данных от несанкционированного доступа или случайного уничтожения хранимых дан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о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нк данных в своем составе всегда содержи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ледующие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два основных компонента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базу данных (БД),</a:t>
            </a:r>
            <a:r>
              <a:rPr b="0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 которая есть даталогическое представление информационной модели предприятия, и </a:t>
            </a:r>
            <a:r>
              <a:rPr b="1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систему управления базой данных (СУБД),</a:t>
            </a:r>
            <a:r>
              <a:rPr b="0" lang="ru-RU" sz="2400" spc="-1" strike="noStrike" u="sng">
                <a:solidFill>
                  <a:srgbClr val="ffff66"/>
                </a:solidFill>
                <a:uFillTx/>
                <a:latin typeface="Arial"/>
              </a:rPr>
              <a:t> с помощью которой реализуются централизованное управление данными, хранимыми в базе, доступ к ним и поддержание их в состоянии, соответствующем состоянию предметной обл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ik</cp:lastModifiedBy>
  <dcterms:modified xsi:type="dcterms:W3CDTF">2008-09-23T18:19:44Z</dcterms:modified>
  <cp:revision>231</cp:revision>
  <dc:subject/>
  <dc:title>PowerPoint Presentation</dc:title>
</cp:coreProperties>
</file>