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8BBEC-4842-499B-8516-5E1146A5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D9CD1-996B-4408-90B6-889BBFFD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C1649-5DFD-46B6-AEEF-7BC22542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1068A-F2A7-4D82-9670-3499D0BE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ADAE-8262-410F-8C75-97FD1EB1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1247-14F0-47CB-8093-089B28B7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F839-5542-46AF-A264-ED8B446B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B435-0CE5-48ED-8D42-AFBC9E70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2DEB-34D2-4589-8F57-7B80C5CD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2658-84A6-4218-A94E-0709E4C1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64AB-E566-49F4-A2D5-C54C170E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1C91D-AEC3-449A-893F-DE34E202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DE9C-AC7B-4E5F-93D3-00E795EF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B5A0-98A7-49C9-B724-93263652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EF83-6903-4111-AF39-B34EC26C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517C-C01D-401F-932E-8E77D845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76F2-6F5B-42F2-9FDB-8B674465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F1F71-DAA0-44A3-ACCD-52BC6816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39F2F-1805-4854-B482-FF6963F0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C5F2D-A67C-4CA9-82D2-01B62520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ED921-2429-4211-9AB6-D7BB3283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71DE0-213F-49DB-9149-A60CA80D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38130-6A50-4B5D-9022-B70C6844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7806E-AEB9-47DA-A5DC-6CCD7105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F0F0-D88A-43EE-B4B1-C1944C57FF6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BBEC-023D-4F70-918C-705D0352BD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Краткая история развития зоологии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 клас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оолог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 ур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Прямоугольник 5"/>
          <p:cNvSpPr/>
          <p:nvPr/>
        </p:nvSpPr>
        <p:spPr>
          <a:xfrm>
            <a:off x="3714840" y="0"/>
            <a:ext cx="2286000" cy="500040"/>
          </a:xfrm>
          <a:prstGeom prst="rect">
            <a:avLst/>
          </a:prstGeom>
          <a:solidFill>
            <a:srgbClr val="0099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entacii.co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изобретение микроскопа.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з многочисленных экспедиций путешественники привозили сведения о неизвестных ранее животных, накапливались данные о распространении и многообразии животного мир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ажное значение для изучения простейших имело изобретение микроскопа. Искусство шлифовать линзы было известно давн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нтони ван Левенгук (1632-1723)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еоднократно пытались рассматривать мелкие объекты при помощи нескольких линз. Наибольшего успеха добился голландец Антони ван Левенгук (1632-1723). Его конструкция микроскопа была наиболее удачной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нтони ван Левенгук (1632-1723)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Он открыл и описал неизвестный тогда ученым мир простейших животных. Приезжал к Левенгуку и Петр I с целью увидеть "тайны природы"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e5ff"/>
                </a:solidFill>
                <a:latin typeface="Garamond"/>
              </a:rPr>
              <a:t>классификации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Число изученных организмов стало так велико, что необходимо было их классифицировать. Предлагались разные классификации растений и животных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e5ff"/>
                </a:solidFill>
                <a:latin typeface="Garamond"/>
              </a:rPr>
              <a:t>Карл Линней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аибольшее значение для дальнейшего развития зоологии имели труды шведского ученого Карла Линнея, положившие начало современной классификации животного мира и современным научным названиям растений и животных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овый этап в развитии зоолог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Большое значение для изучения животного мира России имели экспедиции, организованные Академией наук, созданной в 1725 г. по указанию Петра I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овый этап в развитии зоологии, как и других биологических наук, начинается со второй половины XIX в. после издания книги Чарлза Дарвина "Происхождение видов путем естественного отбора" (1859)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Ч.Дарви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Ч.Дарвин убедительно доказал, что животный мир изменяется в результате естественного развития; формирование новых видов происходит в борьбе за существование и за счет выживания наиболее приспособленных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оология стала быстро развиватьс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а основе созданного Дарвином эволюционного учения зоология стала быстро развиваться. Большие успехи были достигнуты в систематике. Об этом свидетельствует описание многих новых видов животных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e5ff"/>
                </a:solidFill>
                <a:latin typeface="Garamond"/>
              </a:rPr>
              <a:t>успехи в систематике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Если Аристотель описал только около 500 животных, то К. Линнею стало известно 4208 видов, в начале XIX в. их было описано 48 тыс., в конце XIX столетия – 400 тыс., а сейчас известно около 2 млн видов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зучение животных имеет длительную и интересную историю. Исследованиями многих ученых создана современная зоологическая наука. Она продолжает успешно развиваться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ука зоолог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Животные всегда имели большое значение для человека. Жизнь древних людей полностью зависела от знаний об окружающей природе, особенно о животных. Важно было знать, где и как охотиться на зверей и птиц, ловить рыбу, как спастись от хищников, научиться содержать и разводить животных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ука зоолог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аука зоология имеет длинную и интересную историю. Первые книги о животных известны из Древнего Китая и Индии. Однако научная зоология берет начало в Древней Греции и связана с трудами великого ученого Аристотеля (IV в. до н. э.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ука зоолог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н описал около 500 видов животных, разделив их на две группы: имеющие красную кровь и без крови. К первой группе Аристотель относил всех высших животных: зверей, птиц, гадов (земноводных и пресмыкающихся) и рыб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ука зоолог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ко второй группе – низших животных: насекомых, раков, моллюсков, червей и др. Так впервые были разделены животные на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позвоночных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и </a:t>
            </a: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беспозвоночных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Аристотель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Аристотель описал строение и развитие, распространение и значение известных тогда животных. Труды Аристотеля были для своего времени зоологической энциклопедией, а ее автора теперь вполне заслуженно называют отцом зоологии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Аристотель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Основной труд Аристотеля, который определил дальнейшее развитие зоологии, – "История животных". Этот труд был написан во второй половине IV в. до н. э. на древнегреческом языке, а впервые переведен на русский язык и издан в России только в 1996 г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Средние век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редние века немного прибавили к познанию животного мира. Были забыты даже многие сведения о животных, известных в античное время. В Средние века зоологическая наука развивалась в связи с конкретными практическими задачами: содержанием и разведением животных, охотой на зверей и птиц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e5ff"/>
                </a:solidFill>
                <a:latin typeface="Garamond"/>
              </a:rPr>
              <a:t>эпоха Возрождения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нтерес к изучению животных резко возрос в эпоху Возрождения в связи с развитием торговли и мореплаван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1:48:20Z</dcterms:created>
  <dc:creator>54</dc:creator>
  <dc:description/>
  <dc:language>en-US</dc:language>
  <cp:lastModifiedBy>Admin</cp:lastModifiedBy>
  <dcterms:modified xsi:type="dcterms:W3CDTF">2012-06-11T20:50:51Z</dcterms:modified>
  <cp:revision>3</cp:revision>
  <dc:subject/>
  <dc:title>Краткая история развития зоологии </dc:title>
</cp:coreProperties>
</file>