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7D21-1521-4E83-84F4-C003593B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9A6F-F44D-41FF-8E49-3359BE9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EE98-10C4-40E0-B874-95D3FB9F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5AB6-899A-4222-B5A5-1E7D965F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6B65-0C82-42E2-8FEB-C4E48CD3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C393-A8CE-430A-93EA-115738CD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FF6D-FB3A-4319-BD3D-DBDD2D8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012C-BD3C-454A-B90C-9BDD489E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60C9-E84F-41EC-B037-2BE11BE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F02-2EF4-4A5A-873E-7166B3B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441-DAE4-434E-83C9-536CA60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D8B3-4E22-4808-938C-85255B4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22F0-9666-4BA5-BE5A-E76E6BB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CEB-7DC9-49B4-958F-F672931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B6E-B2D7-471C-A553-03A0099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9C04-6841-4A5C-8050-9391F6D7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5DB3-75D2-411A-B0A4-75406A2A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AC35-DBC7-4E3F-A724-E746721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51DE-EE54-4321-A0AD-F7C9351C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562D-5981-459F-8DB4-554D105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A374-DDC4-4F82-AB63-2BD70A51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F778-4866-4DDE-9992-4F803C5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EC5A-F443-4210-B26F-260FF72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9F7C-3A6E-4366-9EF9-6356247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496B-3B56-4FEE-B944-5124D987C9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0A2-C703-44FF-9E33-201355DAB0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Краткая история развития зоологии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изобретение микроскопа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многочисленных экспедиций путешественники привозили сведения о неизвестных ранее животных, накапливались данные о распространении и многообразии животного м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ажное значение для изучения простейших имело изобретение микроскопа. Искусство шлифовать линзы было известно дав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тони ван Левенгук (1632-1723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еоднократно пытались рассматривать мелкие объекты при помощи нескольких линз. Наибольшего успеха добился голландец Антони ван Левенгук (1632-1723). Его конструкция микроскопа была наиболее удачной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тони ван Левенгук (1632-1723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н открыл и описал неизвестный тогда ученым мир простейших животных. Приезжал к Левенгуку и Петр I с целью увидеть "тайны природы"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классификац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о изученных организмов стало так велико, что необходимо было их классифицировать. Предлагались разные классификации растений и живот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Карл Линней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ибольшее значение для дальнейшего развития зоологии имели труды шведского ученого Карла Линнея, положившие начало современной классификации животного мира и современным научным названиям растений и животны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ый этап в развитии зо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ольшое значение для изучения животного мира России имели экспедиции, организованные Академией наук, созданной в 1725 г. по указанию Петра 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овый этап в развитии зоологии, как и других биологических наук, начинается со второй половины XIX в. после издания книги Чарлза Дарвина "Происхождение видов путем естественного отбора" (1859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.Дарв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.Дарвин убедительно доказал, что животный мир изменяется в результате естественного развития; формирование новых видов происходит в борьбе за существование и за счет выживания наиболее приспособлен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оология стала быстро развиватьс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 основе созданного Дарвином эволюционного учения зоология стала быстро развиваться. Большие успехи были достигнуты в систематике. Об этом свидетельствует описание многих новых видов живот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успехи в систематике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Если Аристотель описал только около 500 животных, то К. Линнею стало известно 4208 видов, в начале XIX в. их было описано 48 тыс., в конце XIX столетия – 400 тыс., а сейчас известно около 2 млн видо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учение животных имеет длительную и интересную историю. Исследованиями многих ученых создана современная зоологическая наука. Она продолжает успешно развиваться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отные всегда имели большое значение для человека. Жизнь древних людей полностью зависела от знаний об окружающей природе, особенно о животных. Важно было знать, где и как охотиться на зверей и птиц, ловить рыбу, как спастись от хищников, научиться содержать и разводить животны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ука зоология имеет длинную и интересную историю. Первые книги о животных известны из Древнего Китая и Индии. Однако научная зоология берет начало в Древней Греции и связана с трудами великого ученого Аристотеля (IV в. до н. э.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н описал около 500 видов животных, разделив их на две группы: имеющие красную кровь и без крови. К первой группе Аристотель относил всех высших животных: зверей, птиц, гадов (земноводных и пресмыкающихся) и рыб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о второй группе – низших животных: насекомых, раков, моллюсков, червей и др. Так впервые были разделены животные на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позвоночных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спозвоночных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Аристотел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ристотель описал строение и развитие, распространение и значение известных тогда животных. Труды Аристотеля были для своего времени зоологической энциклопедией, а ее автора теперь вполне заслуженно называют отцом зоологии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Аристотел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сновной труд Аристотеля, который определил дальнейшее развитие зоологии, – "История животных". Этот труд был написан во второй половине IV в. до н. э. на древнегреческом языке, а впервые переведен на русский язык и издан в России только в 1996 г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Средние ве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редние века немного прибавили к познанию животного мира. Были забыты даже многие сведения о животных, известных в античное время. В Средние века зоологическая наука развивалась в связи с конкретными практическими задачами: содержанием и разведением животных, охотой на зверей и пти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эпоха Возрождения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терес к изучению животных резко возрос в эпоху Возрождения в связи с развитием торговли и мореплав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1:48:20Z</dcterms:created>
  <dc:creator>54</dc:creator>
  <dc:description/>
  <dc:language>en-US</dc:language>
  <cp:lastModifiedBy>Admin</cp:lastModifiedBy>
  <dcterms:modified xsi:type="dcterms:W3CDTF">2012-06-11T20:50:51Z</dcterms:modified>
  <cp:revision>3</cp:revision>
  <dc:subject/>
  <dc:title>Краткая история развития зоологии </dc:title>
</cp:coreProperties>
</file>