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D04-2850-4622-B07B-16C63A6D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7F72-F1DE-4FC8-BA3A-FD8F937D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C0BC-CBEB-437A-BD4F-46C23FC2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693-8E80-4CEB-9025-E53C5837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A1F-9F95-4D11-AF86-9782E071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CF0-2A11-4A34-A298-6F226ACB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0FA1-2F18-4C86-A55C-E9DF0099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448-BDA1-4984-9C0F-574E5ED7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7A4-8074-451B-AC14-EDC8218C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B5E-D1EC-444B-9A86-79C481A7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DC7-DE01-4FE5-9B2A-8BE1706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B10B-2E76-406D-B810-25E73F0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E49C-6C80-41E9-9DC5-A379FC7B3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1532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6675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7T06:28:24Z</dcterms:created>
  <dc:creator>1</dc:creator>
  <dc:description/>
  <dc:language>en-US</dc:language>
  <cp:lastModifiedBy>1</cp:lastModifiedBy>
  <dcterms:modified xsi:type="dcterms:W3CDTF">2022-09-27T08:42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