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CBE-CB58-4617-B5A1-1EB618E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86F-C094-4988-83A5-47F0F5E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B8E-D468-43EA-ADDA-2B6B5FAA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5B3-0741-49B2-B56E-067051E4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132-D099-447C-B3D0-7E8E678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E3F-6450-4625-9EF1-31A6993F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794-1382-43DA-9FF3-35233250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680-8009-42F8-A939-6095679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633-6245-48F5-9BF6-85BBAF2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F30-2157-48B4-BC91-9EF5A5D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4E1-74E3-4E3E-99F0-91782EA4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B84-482A-4B0E-9108-94F3474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5253-959C-4B6F-9EC0-9D4EF85F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6675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7T06:28:24Z</dcterms:created>
  <dc:creator>1</dc:creator>
  <dc:description/>
  <dc:language>en-US</dc:language>
  <cp:lastModifiedBy>1</cp:lastModifiedBy>
  <dcterms:modified xsi:type="dcterms:W3CDTF">2022-09-27T08:42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