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DFC-EB6C-42C1-9C9C-F49B496B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02588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D01-A323-4D15-9D14-77463526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972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793-2409-4D9A-9559-F84587AD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504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1568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504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1568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85E-B012-4D33-A4DA-E48152CE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951E-3489-48A9-ABFF-6C3BE917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C1D9-36FC-46D7-80FB-A6C3817A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896E-DAF6-4A8F-B90A-2D608ECB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5443-FA39-4742-998D-92EB0C88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B064-3749-4AD9-9584-8649A8D1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10353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CD9A-3EEB-40DE-AA15-6697A90A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7E36-109C-459F-8B7B-1918A8A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2BC-0AF1-4EA1-A2D8-50E64BDA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1972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A1C0-D6B2-469F-A862-05ABB29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C175-9839-4749-848A-678B6A5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402588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909F-0955-4D78-B983-B770202D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1972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09B6-9A4D-4364-ADB7-AA34161C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1504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15680" y="209556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41504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15680" y="4025880"/>
            <a:ext cx="333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DB15-6098-42C4-8DCB-2059F327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854-BAB0-42ED-B10D-0F92EE71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841-BCE4-4FD8-83C1-754F5FF9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F6C-5CFC-444B-9BFB-8B678D13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609480"/>
            <a:ext cx="10353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F0C-FB3D-48E5-AA69-33B1A457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2848-7F72-454B-BC30-3991F328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9720" y="402588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50C-918E-4D4C-86C6-09F51ED8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9720" y="2095560"/>
            <a:ext cx="50522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025880"/>
            <a:ext cx="103536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4AD-3FA9-41AA-B211-B3EB63C3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514160" y="5882760"/>
            <a:ext cx="753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D9AB-BCBB-4C75-9696-32DD88D03D88}" type="slidenum">
              <a:rPr b="0" lang="ru-RU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6640" y="7351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658520" y="297180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0514160" y="5882760"/>
            <a:ext cx="753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AC20-9A6E-42B0-AE74-16C583088CCA}" type="slidenum">
              <a:rPr b="0" lang="ru-RU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157320"/>
            <a:ext cx="10580760" cy="23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ТВОРЧЕСКИЙ ПРОЕКТ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52000" y="2987280"/>
            <a:ext cx="10952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Rockwell"/>
              </a:rPr>
              <a:t>                             </a:t>
            </a:r>
            <a:r>
              <a:rPr b="1" lang="ru-RU" sz="4000" spc="-1" strike="noStrike">
                <a:solidFill>
                  <a:srgbClr val="002060"/>
                </a:solidFill>
                <a:latin typeface="Rockwell"/>
              </a:rPr>
              <a:t>«МЯГКАЯ ИГРУШКА»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5883120" y="4676760"/>
            <a:ext cx="60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ockwell"/>
              </a:rPr>
              <a:t>Выполнила Григорян Диана-ученица 7  класса МБОУ « Гимназия № 9 «Гармония»  г. Горно-Алтайска»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Rockwell"/>
              </a:rPr>
              <a:t>Руководитель:  И.Н. Зелёнкина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7" name="Picture 6" descr="D:\Desktop\Новая папка\UYUH5188.JPG"/>
          <p:cNvPicPr/>
          <p:nvPr/>
        </p:nvPicPr>
        <p:blipFill>
          <a:blip r:embed="rId1"/>
          <a:stretch/>
        </p:blipFill>
        <p:spPr>
          <a:xfrm>
            <a:off x="789120" y="830160"/>
            <a:ext cx="4052880" cy="540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434520"/>
            <a:ext cx="10353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СЕБЕСТОИМОСТЬ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1" lang="en-US" sz="3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211400"/>
            <a:ext cx="103536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  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Ткань   флис  30 см                              - 75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Нитки 1 катушка                                - 15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Синтепон                                              -25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Нитки                                                 -15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Бусинки - глазки                                 - 4  руб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ИТОГО                                                  </a:t>
            </a:r>
            <a:r>
              <a:rPr b="0" lang="ru-RU" sz="1900" spc="-1" strike="noStrike">
                <a:solidFill>
                  <a:srgbClr val="002060"/>
                </a:solidFill>
                <a:latin typeface="Rockwell"/>
              </a:rPr>
              <a:t>134 руб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Исследуя цены на мягкие игрушки в магазинах  г. Горно-Алтайска, я прихожу к выводу, что сшить изделие  экономичнее, чем купить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ВНЕШНЯЯ  ОЦЕНКА 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Мою работу оценила моя учительница, все члены моей семьи и , главное, моя младшая сестра, для которой и создавалась эта работа. Ребёнок рад,  и это  самое главное, а у меня появилось желание дальше продолжать  это увлекательное занятие.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Надеюсь, вы тоже попробуете что- нибудь смастерить своими руками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104760" y="6480"/>
            <a:ext cx="10353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САМООЦЕНКА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160" y="1332000"/>
            <a:ext cx="621828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Rockwell"/>
              </a:rPr>
              <a:t>Я не  буду оценивать свою работу, пусть её оценят другие, но выполняла её я от души.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24" name="Picture 5" descr="D:\Desktop\Новая папка\UYUH5188.JPG"/>
          <p:cNvPicPr/>
          <p:nvPr/>
        </p:nvPicPr>
        <p:blipFill>
          <a:blip r:embed="rId1"/>
          <a:stretch/>
        </p:blipFill>
        <p:spPr>
          <a:xfrm>
            <a:off x="6961320" y="534960"/>
            <a:ext cx="4662360" cy="621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0480" y="431280"/>
            <a:ext cx="103536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МОЙ НОВЫЙ ПРОЕКТ- ЭТО ТИГР – СИМВОЛ НОВОГО 2022 ГОДА.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Bookman Old Style"/>
              </a:rPr>
              <a:t> КАКИМ ОН БУДЕТ, ПОКА ЕЩЁ НЕ ЗНАЮ, НО УВЕРЕНА, ЧТО ВСЁ ПОЛУЧИТСЯ !</a:t>
            </a:r>
            <a:endParaRPr b="1" lang="en-US" sz="31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26" name="Picture 4" descr="D:\Desktop\tigrenok-iz-fetra-16.jpg"/>
          <p:cNvPicPr/>
          <p:nvPr/>
        </p:nvPicPr>
        <p:blipFill>
          <a:blip r:embed="rId1"/>
          <a:stretch/>
        </p:blipFill>
        <p:spPr>
          <a:xfrm>
            <a:off x="905040" y="2940120"/>
            <a:ext cx="3666960" cy="244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:\Desktop\1-19.png"/>
          <p:cNvPicPr/>
          <p:nvPr/>
        </p:nvPicPr>
        <p:blipFill>
          <a:blip r:embed="rId2"/>
          <a:stretch/>
        </p:blipFill>
        <p:spPr>
          <a:xfrm>
            <a:off x="5594400" y="2487600"/>
            <a:ext cx="51498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5237280" cy="385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БЛАГОДАРЮ ЗА ВНИМАНИЕ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29" name="Picture 3" descr="D:\Desktop\Новая папка\DYOA8253.JPG"/>
          <p:cNvPicPr/>
          <p:nvPr/>
        </p:nvPicPr>
        <p:blipFill>
          <a:blip r:embed="rId1"/>
          <a:stretch/>
        </p:blipFill>
        <p:spPr>
          <a:xfrm>
            <a:off x="6130800" y="552600"/>
            <a:ext cx="41896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585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ЦЕЛЬ ПРОЕКТА:</a:t>
            </a:r>
            <a:br>
              <a:rPr sz="2400"/>
            </a:br>
            <a:br>
              <a:rPr sz="24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ЗНАКОМСТВО С ОДНИМ ИЗ ВИДОВ ДЕКОРАТИВНО-ПРИКЛАДНОГО ИСКУССТВА, </a:t>
            </a: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ИЗГОТОВЛЕНИЕ СВОИМИ РУКАМИ МЯГКОЙ ПОДАРОЧНОЙ ИГРУШКИ.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ЗАДАЧИ: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33960" y="2087640"/>
            <a:ext cx="62388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1. Продолжить осваивать новые технологии в изготовлении мягкой игрушки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2.Изучить и использовать современные материалы для изготовления  мягкой игрушки Тильды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3. Расширить свои знания в области современного украшения интерьера 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4.Изготовить игрушку в качестве эксклюзивного подарка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5.Найти полезное и интересное занятие для свободного времени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6.Порадовать своей работой  близких для меня людей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1" name="Picture 5" descr="D:\Desktop\Новая папка\YEEU6069.JPG"/>
          <p:cNvPicPr/>
          <p:nvPr/>
        </p:nvPicPr>
        <p:blipFill>
          <a:blip r:embed="rId1"/>
          <a:stretch/>
        </p:blipFill>
        <p:spPr>
          <a:xfrm>
            <a:off x="623880" y="861840"/>
            <a:ext cx="3859200" cy="529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АКТУАЛЬНОСТЬ.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2095560"/>
            <a:ext cx="103536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Rockwel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У меня есть младшая сестра, которая любит очень мягкие игрушки. Да кто их не любит? Я решила сделать ей  подарок своими руками.  Честно скажу, что мне тоже нравятся мягкие игрушки. Отсюда и  тема моего проекта: «Мягкая игрушка»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Мне захотелось  вложить в эту игрушку свою любовь и душу. Возможно, кто-то скажет, что тема уже не новая. Это так, но современные игрушки значительно отличаются от тех, которые были раньше. Поэтому я считаю, что это актуально  сегодня и будет актуально завтра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Bookman Old Style"/>
              </a:rPr>
              <a:t>ИСТОРИЯ ВОЗНИКНОВЕНИЯ ИГРУШЕК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87360" y="1411200"/>
            <a:ext cx="73659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Своеобразие изготовления игрушек определяется условиями быта и труда, обычаями народа, национальным характером, климатическими условиями и используемым материалом. Так, в областях богатых лесами, игрушки, как правило, делались из дерева, в местах богатых залежами глины – из глины. Деревянные и глиняные игрушки известны на Руси с глубокой древности. Древнейшие игрушки найдены на территории нашей страны, относятся ко 2 тысячелетию до н. э. Это – миниатюрные орудия охоты – луки, стрелы, топорики, предметы быта, погремушки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Различные игрушки, найденные в захоронениях Древнего Египта, Греции, Китая. Это – куклы из дерева и ткани, кожаные мячи, фигурки животных, выточенные из мягкого камня, бивней мамонта. Из глубины веков пришли к нам традиции швейной игрушки – куклы, сшитой из лоскутков ткани, меха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Самые ранние игрушки Древней Руси, найдены на территории древних русских городов – Киева, Новгорода, Москвы, Коломны, Радонежа – датируются приблизительно Х-ХV вв.  Учеными установлено ремесленное производство игрушек в Киеве и Новгороде уже в X-XIII вв. О высоком мастерстве московских гончаров-игрушечников XIV-XVII вв. свидетельствуют находки в Зарядье, на территории бывшей Гончарной слободы. Сюжеты игрушек этого времени: кони, медведи, птицы – свистульки, а также забавные фигурки всадников.Традиции настоящего искусства в настоящее время продолжают жить и развиваться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96" name="Picture 4" descr="C:\Users\Admin\Documents\9d38e5f0e7cc2350145484026ab00b4b.jpg"/>
          <p:cNvPicPr/>
          <p:nvPr/>
        </p:nvPicPr>
        <p:blipFill>
          <a:blip r:embed="rId1"/>
          <a:stretch/>
        </p:blipFill>
        <p:spPr>
          <a:xfrm>
            <a:off x="0" y="1787400"/>
            <a:ext cx="3890880" cy="3751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95120"/>
            <a:ext cx="102394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МАТЕРИАЛЫ И ИНСТРУМЕНТЫ ДЛЯ ИЗГОТОВЛЕНИЯ МЯГКОЙ ИГРУШКИ</a:t>
            </a:r>
            <a:r>
              <a:rPr b="1" lang="ru-RU" sz="3400" spc="-1" strike="noStrike" u="sng">
                <a:solidFill>
                  <a:srgbClr val="ffffff"/>
                </a:solidFill>
                <a:uFillTx/>
                <a:latin typeface="Bookman Old Style"/>
              </a:rPr>
              <a:t>.</a:t>
            </a:r>
            <a:br>
              <a:rPr sz="3400"/>
            </a:b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7408800" y="4627440"/>
            <a:ext cx="13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ШАБЛОН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7541280" y="20480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ПРОСТОЙ  КАРАНДАШ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6153120" y="22669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ТКАНЬ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5468400" y="14479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СИНТЕПОН  ДЛЯ  НАБИВКИ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9756720" y="4254480"/>
            <a:ext cx="13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НИТКИ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5457960" y="400212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ИГЛЫ РУЧНЫЕ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9402120" y="142704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НОЖНИЦЫ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8920080" y="328788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ШВЕЙНАЯ  МАШИНА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845400" y="5068800"/>
            <a:ext cx="29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ГЛАЗКИ – БУСИНКИ, ЛОСКУТКИ ТКАНИ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7707240" y="325764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УТЮГ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108" name="Picture 2" descr="http://diycraft.ru/wp-content/uploads/2015/06/gvkowvknud2.jpg"/>
          <p:cNvPicPr/>
          <p:nvPr/>
        </p:nvPicPr>
        <p:blipFill>
          <a:blip r:embed="rId1"/>
          <a:stretch/>
        </p:blipFill>
        <p:spPr>
          <a:xfrm>
            <a:off x="331920" y="1612800"/>
            <a:ext cx="4981320" cy="43531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3"/>
          <p:cNvSpPr/>
          <p:nvPr/>
        </p:nvSpPr>
        <p:spPr>
          <a:xfrm>
            <a:off x="5386320" y="293832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КЛЕЙ-ПИСТОЛЕТ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96560"/>
            <a:ext cx="10353600" cy="12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ШАБЛОНЫ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11" name="Picture 2" descr="D:\Desktop\a411d4680e9e6879b671eabb9bd24d73.jpg"/>
          <p:cNvPicPr/>
          <p:nvPr/>
        </p:nvPicPr>
        <p:blipFill>
          <a:blip r:embed="rId1"/>
          <a:stretch/>
        </p:blipFill>
        <p:spPr>
          <a:xfrm>
            <a:off x="831960" y="1566720"/>
            <a:ext cx="3012840" cy="425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Desktop\95931161_961601961.jpg"/>
          <p:cNvPicPr/>
          <p:nvPr/>
        </p:nvPicPr>
        <p:blipFill>
          <a:blip r:embed="rId2"/>
          <a:stretch/>
        </p:blipFill>
        <p:spPr>
          <a:xfrm>
            <a:off x="7024680" y="1693800"/>
            <a:ext cx="2951280" cy="407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esktop\Новая папка\DYOA8253.JPG"/>
          <p:cNvPicPr/>
          <p:nvPr/>
        </p:nvPicPr>
        <p:blipFill>
          <a:blip r:embed="rId3"/>
          <a:stretch/>
        </p:blipFill>
        <p:spPr>
          <a:xfrm rot="908400">
            <a:off x="3860280" y="1839600"/>
            <a:ext cx="2340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82760" y="848880"/>
            <a:ext cx="1109160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1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Складываем ткань в два слоя изнаночной стороной внутрь и обводим  по контуру шаблоны. Делаем припуск на швы 0,7-1 см. Выкраиваем детали. 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2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Выкроенные детали сметываем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3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Стачиваем детали игрушки между собой на швейной машине, оставляя свободным участок для набивки. 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4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Сшитые детали аккуратно выворачиваем на лицевую сторону и проутюживаем. 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5. 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Набиваем детали синтепоном,  плотность набивки умеренная, не слишком плотная.( туловище, лапки, ). Зашиваем аккуратно отверстия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6. 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Соединяем  детали ( делаем сборку игрушки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7 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Оформляем мордочку ( глазки- бусинки,  носик,ротик вышиваем розовыми нитками мулине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8.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 Создаём одежду для  зайчика  (по своему усмотрению.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Шаг  9. Отшиваем одежду, декорируем. ( по своему усмотрению 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10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.  Одеваем Зайчика в одежду.  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Rockwell"/>
              </a:rPr>
              <a:t>Шаг 11. </a:t>
            </a: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Можно сделать лёгкий макия ( подрумянить щёчки, подвести глазки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82760" y="264960"/>
            <a:ext cx="11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Rockwell"/>
              </a:rPr>
              <a:t>ТЕХНОЛОГИЯ ВЫПОЛНЕНИЯ МЯГКОЙ ИГРУШКИ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10353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ffffff"/>
                </a:solidFill>
                <a:uFillTx/>
                <a:latin typeface="Bookman Old Style"/>
              </a:rPr>
              <a:t>ТЕХНИКА БЕЗОПАСНОСТИ ПРИ ВЫПОЛНЕНИИ РАБОТЫ</a:t>
            </a:r>
            <a:br>
              <a:rPr sz="3100"/>
            </a:br>
            <a:endParaRPr b="1" lang="en-US" sz="3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28560"/>
            <a:ext cx="11312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1.  Рабочее место должно хорошо освещаться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2.  Сидеть нужно прямо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3.  Расстояние от глаз до изделия- 30-35 см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4.  Волосы должны быть собраны под косынку или заколоты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5.  Все инструменты и принадлежности должны находиться справа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6.  Лезвия ножниц должны лежать закрытыми, иголки и булавки воткнуты в игольницу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7.  .Мелкие детали должны находиться в </a:t>
            </a:r>
            <a:r>
              <a:rPr b="0" lang="ru-RU" sz="1800" spc="-1" strike="noStrike">
                <a:solidFill>
                  <a:srgbClr val="eeeae7"/>
                </a:solidFill>
                <a:latin typeface="Rockwell"/>
              </a:rPr>
              <a:t>специально отведённых</a:t>
            </a: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 для этого коробочках или пакетиках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8.  При работе с клеем ( если приклеивать мелкие детали )необходимо постелить на рабочем столе клеенку, а также важно иметь при себе влажную тряпочку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Rockwell"/>
              </a:rPr>
              <a:t> </a:t>
            </a:r>
            <a:endParaRPr b="0" lang="en-US" sz="7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0T12:30:23Z</dcterms:created>
  <dc:creator>DNS</dc:creator>
  <dc:description/>
  <dc:language>en-US</dc:language>
  <cp:lastModifiedBy>Пользователь Windows</cp:lastModifiedBy>
  <dcterms:modified xsi:type="dcterms:W3CDTF">2021-11-29T04:34:57Z</dcterms:modified>
  <cp:revision>60</cp:revision>
  <dc:subject/>
  <dc:title>ТВОРЧЕСКИЙ ПРОЕКТ</dc:title>
</cp:coreProperties>
</file>