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DA01-4F02-41E7-8E74-7ABB692A3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10353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095560"/>
            <a:ext cx="103536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4025880"/>
            <a:ext cx="103536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09B4-8723-44DB-A784-B552707E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10353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2095560"/>
            <a:ext cx="50522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19720" y="2095560"/>
            <a:ext cx="50522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4025880"/>
            <a:ext cx="50522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19720" y="4025880"/>
            <a:ext cx="50522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53A9-D96E-448D-9FAC-C59DA3F6B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10353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2095560"/>
            <a:ext cx="33336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15040" y="2095560"/>
            <a:ext cx="33336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15680" y="2095560"/>
            <a:ext cx="33336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4025880"/>
            <a:ext cx="33336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15040" y="4025880"/>
            <a:ext cx="33336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15680" y="4025880"/>
            <a:ext cx="33336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8110-7208-487F-AE45-760D8DB0B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3670-E21A-409D-80E9-7ECE511FD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10353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2095560"/>
            <a:ext cx="103536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0DCA0-B290-4B19-B2BC-0465EFAB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10353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2095560"/>
            <a:ext cx="103536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81DB-9B01-420A-AAE8-B9ECF194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10353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2095560"/>
            <a:ext cx="505224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19720" y="2095560"/>
            <a:ext cx="505224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4820-C66A-4F26-A108-00BFFDCB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10353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9FA2-6111-4DE5-8A82-8323BCC9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14400" y="609480"/>
            <a:ext cx="10353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6A57-18CC-475D-A8E3-D72BFCAC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10353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2095560"/>
            <a:ext cx="50522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19720" y="2095560"/>
            <a:ext cx="505224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14400" y="4025880"/>
            <a:ext cx="50522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CD69-80D2-40E8-A3A6-6E6121A1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10353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2095560"/>
            <a:ext cx="103536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C810-D82D-486B-94D8-26E41D50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10353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2095560"/>
            <a:ext cx="505224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19720" y="2095560"/>
            <a:ext cx="50522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19720" y="4025880"/>
            <a:ext cx="50522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A385-8089-4DF2-8DC9-BB161DB6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10353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2095560"/>
            <a:ext cx="50522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19720" y="2095560"/>
            <a:ext cx="50522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4025880"/>
            <a:ext cx="103536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DB5F-57C9-48CF-82FE-DD844129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10353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2095560"/>
            <a:ext cx="103536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14400" y="4025880"/>
            <a:ext cx="103536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CE6E9-A541-4AC3-AD29-562FE1EF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10353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2095560"/>
            <a:ext cx="50522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19720" y="2095560"/>
            <a:ext cx="50522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4025880"/>
            <a:ext cx="50522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19720" y="4025880"/>
            <a:ext cx="50522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BB29-B1FB-4BE8-B2F9-2A417D940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10353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2095560"/>
            <a:ext cx="33336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415040" y="2095560"/>
            <a:ext cx="33336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915680" y="2095560"/>
            <a:ext cx="33336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14400" y="4025880"/>
            <a:ext cx="33336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415040" y="4025880"/>
            <a:ext cx="33336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915680" y="4025880"/>
            <a:ext cx="33336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DF51-012B-49D3-9D0C-8AD526528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10353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2095560"/>
            <a:ext cx="103536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2509-B6A4-4A4C-8E76-FCD3811D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10353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095560"/>
            <a:ext cx="505224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19720" y="2095560"/>
            <a:ext cx="505224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865C-8F6B-49ED-A000-4DFA6310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10353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20E4-CBDB-4EE1-B327-5E107A31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609480"/>
            <a:ext cx="10353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619E-0674-4EAD-B11D-D6995C56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10353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2095560"/>
            <a:ext cx="50522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19720" y="2095560"/>
            <a:ext cx="505224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4025880"/>
            <a:ext cx="50522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B233-B147-45AD-9989-6E4A495E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10353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2095560"/>
            <a:ext cx="505224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19720" y="2095560"/>
            <a:ext cx="50522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19720" y="4025880"/>
            <a:ext cx="50522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B496-5A04-4B22-96F5-41362AAB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10353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2095560"/>
            <a:ext cx="50522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19720" y="2095560"/>
            <a:ext cx="50522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4025880"/>
            <a:ext cx="103536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9024-B9A4-4D90-A44D-306F02CE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10353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095560"/>
            <a:ext cx="103536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Rockw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514160" y="5882760"/>
            <a:ext cx="753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F85A-E0D1-4B41-ABD6-0A67D29F9A4B}" type="slidenum">
              <a:rPr b="0" lang="ru-RU" sz="10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836640" y="73512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Rockwel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0658520" y="297180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Rockwel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10353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14400" y="2095560"/>
            <a:ext cx="103536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Rockw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10514160" y="5882760"/>
            <a:ext cx="753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4D7E-69C5-4974-A375-CE92ACFDFF8C}" type="slidenum">
              <a:rPr b="0" lang="ru-RU" sz="10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3520" y="157320"/>
            <a:ext cx="10580760" cy="23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            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ТВОРЧЕСКИЙ ПРОЕКТ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152000" y="2987280"/>
            <a:ext cx="109522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Rockwell"/>
              </a:rPr>
              <a:t>                             </a:t>
            </a:r>
            <a:r>
              <a:rPr b="1" lang="ru-RU" sz="4000" spc="-1" strike="noStrike">
                <a:solidFill>
                  <a:srgbClr val="002060"/>
                </a:solidFill>
                <a:latin typeface="Rockwell"/>
              </a:rPr>
              <a:t>«МЯГКАЯ ИГРУШКА»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5883120" y="4676760"/>
            <a:ext cx="608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Rockwell"/>
              </a:rPr>
              <a:t>Выполнила Григорян Диана-ученица 7  класса МБОУ « Гимназия № 9 «Гармония»  г. Горно-Алтайска»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Rockwell"/>
              </a:rPr>
              <a:t>Руководитель:  И.Н. Зелёнкина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87" name="Picture 6" descr="D:\Desktop\Новая папка\UYUH5188.JPG"/>
          <p:cNvPicPr/>
          <p:nvPr/>
        </p:nvPicPr>
        <p:blipFill>
          <a:blip r:embed="rId1"/>
          <a:stretch/>
        </p:blipFill>
        <p:spPr>
          <a:xfrm>
            <a:off x="789120" y="830160"/>
            <a:ext cx="4052880" cy="5403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434520"/>
            <a:ext cx="10353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Bookman Old Style"/>
              </a:rPr>
              <a:t>СЕБЕСТОИМОСТЬ</a:t>
            </a:r>
            <a:br>
              <a:rPr sz="3100"/>
            </a:br>
            <a:r>
              <a:rPr b="1" lang="ru-RU" sz="3100" spc="-1" strike="noStrike">
                <a:solidFill>
                  <a:srgbClr val="ffffff"/>
                </a:solidFill>
                <a:latin typeface="Bookman Old Style"/>
              </a:rPr>
              <a:t>  </a:t>
            </a:r>
            <a:endParaRPr b="1" lang="en-US" sz="31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14400" y="1211400"/>
            <a:ext cx="1035360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Rockwell"/>
              </a:rPr>
              <a:t>   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Rockwell"/>
              </a:rPr>
              <a:t>Ткань   флис  30 см                              - 75 руб.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Rockwell"/>
              </a:rPr>
              <a:t>Нитки 1 катушка                                - 15 руб.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Rockwell"/>
              </a:rPr>
              <a:t>Синтепон                                              -25 руб.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ru-RU" sz="1900" spc="-1" strike="noStrike">
                <a:solidFill>
                  <a:srgbClr val="ffffff"/>
                </a:solidFill>
                <a:latin typeface="Rockwell"/>
              </a:rPr>
              <a:t>Нитки                                                 -15 руб.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Rockwell"/>
              </a:rPr>
              <a:t>     </a:t>
            </a:r>
            <a:r>
              <a:rPr b="0" lang="ru-RU" sz="1900" spc="-1" strike="noStrike">
                <a:solidFill>
                  <a:srgbClr val="ffffff"/>
                </a:solidFill>
                <a:latin typeface="Rockwell"/>
              </a:rPr>
              <a:t>Бусинки - глазки                                 - 4  руб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Rockwell"/>
              </a:rPr>
              <a:t>ИТОГО                                                  </a:t>
            </a:r>
            <a:r>
              <a:rPr b="0" lang="ru-RU" sz="1900" spc="-1" strike="noStrike">
                <a:solidFill>
                  <a:srgbClr val="002060"/>
                </a:solidFill>
                <a:latin typeface="Rockwell"/>
              </a:rPr>
              <a:t>134 руб.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Rockwell"/>
              </a:rPr>
              <a:t> 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Rockwell"/>
              </a:rPr>
              <a:t>Исследуя цены на мягкие игрушки в магазинах  г. Горно-Алтайска, я прихожу к выводу, что сшить изделие  экономичнее, чем купить.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Rockwell"/>
              </a:rPr>
              <a:t> 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10353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3400" spc="-1" strike="noStrike">
                <a:solidFill>
                  <a:srgbClr val="ffffff"/>
                </a:solidFill>
                <a:latin typeface="Bookman Old Style"/>
              </a:rPr>
              <a:t>ВНЕШНЯЯ  ОЦЕНКА 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14400" y="2095560"/>
            <a:ext cx="10353600" cy="36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Мою работу оценила моя учительница, все члены моей семьи и , главное, моя младшая сестра, для которой и создавалась эта работа. Ребёнок рад,  и это  самое главное, а у меня появилось желание дальше продолжать  это увлекательное занятие.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Надеюсь, вы тоже попробуете что- нибудь смастерить своими руками.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104760" y="6480"/>
            <a:ext cx="1035360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ru-RU" sz="3400" spc="-1" strike="noStrike">
                <a:solidFill>
                  <a:srgbClr val="ffffff"/>
                </a:solidFill>
                <a:latin typeface="Bookman Old Style"/>
              </a:rPr>
              <a:t>САМООЦЕНКА</a:t>
            </a:r>
            <a:br>
              <a:rPr sz="3400"/>
            </a:b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160" y="1332000"/>
            <a:ext cx="6218280" cy="53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Rockwell"/>
              </a:rPr>
              <a:t>Я не  буду оценивать свою работу, пусть её оценят другие, но выполняла её я от души. 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124" name="Picture 5" descr="D:\Desktop\Новая папка\UYUH5188.JPG"/>
          <p:cNvPicPr/>
          <p:nvPr/>
        </p:nvPicPr>
        <p:blipFill>
          <a:blip r:embed="rId1"/>
          <a:stretch/>
        </p:blipFill>
        <p:spPr>
          <a:xfrm>
            <a:off x="6961320" y="534960"/>
            <a:ext cx="4662360" cy="62150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60480" y="431280"/>
            <a:ext cx="10353600" cy="18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3100" spc="-1" strike="noStrike">
                <a:solidFill>
                  <a:srgbClr val="ffffff"/>
                </a:solidFill>
                <a:latin typeface="Bookman Old Style"/>
              </a:rPr>
              <a:t>МОЙ НОВЫЙ ПРОЕКТ- ЭТО ТИГР – СИМВОЛ НОВОГО 2022 ГОДА.</a:t>
            </a:r>
            <a:br>
              <a:rPr sz="3100"/>
            </a:br>
            <a:r>
              <a:rPr b="1" lang="ru-RU" sz="3100" spc="-1" strike="noStrike">
                <a:solidFill>
                  <a:srgbClr val="ffffff"/>
                </a:solidFill>
                <a:latin typeface="Bookman Old Style"/>
              </a:rPr>
              <a:t> КАКИМ ОН БУДЕТ, ПОКА ЕЩЁ НЕ ЗНАЮ, НО УВЕРЕНА, ЧТО ВСЁ ПОЛУЧИТСЯ !</a:t>
            </a:r>
            <a:endParaRPr b="1" lang="en-US" sz="31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126" name="Picture 4" descr="D:\Desktop\tigrenok-iz-fetra-16.jpg"/>
          <p:cNvPicPr/>
          <p:nvPr/>
        </p:nvPicPr>
        <p:blipFill>
          <a:blip r:embed="rId1"/>
          <a:stretch/>
        </p:blipFill>
        <p:spPr>
          <a:xfrm>
            <a:off x="905040" y="2940120"/>
            <a:ext cx="3666960" cy="2444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D:\Desktop\1-19.png"/>
          <p:cNvPicPr/>
          <p:nvPr/>
        </p:nvPicPr>
        <p:blipFill>
          <a:blip r:embed="rId2"/>
          <a:stretch/>
        </p:blipFill>
        <p:spPr>
          <a:xfrm>
            <a:off x="5594400" y="2487600"/>
            <a:ext cx="514980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5237280" cy="385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3400" spc="-1" strike="noStrike">
                <a:solidFill>
                  <a:srgbClr val="ffffff"/>
                </a:solidFill>
                <a:latin typeface="Bookman Old Style"/>
              </a:rPr>
              <a:t>БЛАГОДАРЮ ЗА ВНИМАНИЕ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129" name="Picture 3" descr="D:\Desktop\Новая папка\DYOA8253.JPG"/>
          <p:cNvPicPr/>
          <p:nvPr/>
        </p:nvPicPr>
        <p:blipFill>
          <a:blip r:embed="rId1"/>
          <a:stretch/>
        </p:blipFill>
        <p:spPr>
          <a:xfrm>
            <a:off x="6130800" y="552600"/>
            <a:ext cx="41896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10353600" cy="585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ЦЕЛЬ ПРОЕКТА:</a:t>
            </a:r>
            <a:br>
              <a:rPr sz="2400"/>
            </a:br>
            <a:br>
              <a:rPr sz="2400"/>
            </a:br>
            <a:r>
              <a:rPr b="1" lang="ru-RU" sz="3400" spc="-1" strike="noStrike">
                <a:solidFill>
                  <a:srgbClr val="ffffff"/>
                </a:solidFill>
                <a:latin typeface="Bookman Old Style"/>
              </a:rPr>
              <a:t>ЗНАКОМСТВО С ОДНИМ ИЗ ВИДОВ ДЕКОРАТИВНО-ПРИКЛАДНОГО ИСКУССТВА, </a:t>
            </a: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ffff"/>
                </a:solidFill>
                <a:latin typeface="Bookman Old Style"/>
              </a:rPr>
              <a:t>ИЗГОТОВЛЕНИЕ СВОИМИ РУКАМИ МЯГКОЙ ПОДАРОЧНОЙ ИГРУШКИ.</a:t>
            </a:r>
            <a:br>
              <a:rPr sz="3400"/>
            </a:b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10353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Bookman Old Style"/>
              </a:rPr>
              <a:t>ЗАДАЧИ: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133960" y="2087640"/>
            <a:ext cx="62388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Rockwell"/>
              </a:rPr>
              <a:t>1. Продолжить осваивать новые технологии в изготовлении мягкой игрушки.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Rockwell"/>
              </a:rPr>
              <a:t>2.Изучить и использовать современные материалы для изготовления  мягкой игрушки Тильды.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Rockwell"/>
              </a:rPr>
              <a:t>3. Расширить свои знания в области современного украшения интерьера .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Rockwell"/>
              </a:rPr>
              <a:t>4.Изготовить игрушку в качестве эксклюзивного подарка.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Rockwell"/>
              </a:rPr>
              <a:t>5.Найти полезное и интересное занятие для свободного времени.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Rockwell"/>
              </a:rPr>
              <a:t>6.Порадовать своей работой  близких для меня людей.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91" name="Picture 5" descr="D:\Desktop\Новая папка\YEEU6069.JPG"/>
          <p:cNvPicPr/>
          <p:nvPr/>
        </p:nvPicPr>
        <p:blipFill>
          <a:blip r:embed="rId1"/>
          <a:stretch/>
        </p:blipFill>
        <p:spPr>
          <a:xfrm>
            <a:off x="623880" y="861840"/>
            <a:ext cx="3859200" cy="5291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10353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Bookman Old Style"/>
              </a:rPr>
              <a:t>АКТУАЛЬНОСТЬ.</a:t>
            </a:r>
            <a:br>
              <a:rPr sz="3400"/>
            </a:b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14400" y="2095560"/>
            <a:ext cx="10353600" cy="36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Rockwel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У меня есть младшая сестра, которая любит очень мягкие игрушки. Да кто их не любит? Я решила сделать ей  подарок своими руками.  Честно скажу, что мне тоже нравятся мягкие игрушки. Отсюда и  тема моего проекта: «Мягкая игрушка»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Мне захотелось  вложить в эту игрушку свою любовь и душу. Возможно, кто-то скажет, что тема уже не новая. Это так, но современные игрушки значительно отличаются от тех, которые были раньше. Поэтому я считаю, что это актуально  сегодня и будет актуально завтра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3400" spc="-1" strike="noStrike" u="sng">
                <a:solidFill>
                  <a:srgbClr val="ffffff"/>
                </a:solidFill>
                <a:uFillTx/>
                <a:latin typeface="Bookman Old Style"/>
              </a:rPr>
              <a:t>ИСТОРИЯ ВОЗНИКНОВЕНИЯ ИГРУШЕК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987360" y="1411200"/>
            <a:ext cx="736596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Rockwell"/>
              </a:rPr>
              <a:t>Своеобразие изготовления игрушек определяется условиями быта и труда, обычаями народа, национальным характером, климатическими условиями и используемым материалом. Так, в областях богатых лесами, игрушки, как правило, делались из дерева, в местах богатых залежами глины – из глины. Деревянные и глиняные игрушки известны на Руси с глубокой древности. Древнейшие игрушки найдены на территории нашей страны, относятся ко 2 тысячелетию до н. э. Это – миниатюрные орудия охоты – луки, стрелы, топорики, предметы быта, погремушки.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Rockwell"/>
              </a:rPr>
              <a:t>Различные игрушки, найденные в захоронениях Древнего Египта, Греции, Китая. Это – куклы из дерева и ткани, кожаные мячи, фигурки животных, выточенные из мягкого камня, бивней мамонта. Из глубины веков пришли к нам традиции швейной игрушки – куклы, сшитой из лоскутков ткани, меха.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Rockwell"/>
              </a:rPr>
              <a:t>Самые ранние игрушки Древней Руси, найдены на территории древних русских городов – Киева, Новгорода, Москвы, Коломны, Радонежа – датируются приблизительно Х-ХV вв.  Учеными установлено ремесленное производство игрушек в Киеве и Новгороде уже в X-XIII вв. О высоком мастерстве московских гончаров-игрушечников XIV-XVII вв. свидетельствуют находки в Зарядье, на территории бывшей Гончарной слободы. Сюжеты игрушек этого времени: кони, медведи, птицы – свистульки, а также забавные фигурки всадников.Традиции настоящего искусства в настоящее время продолжают жить и развиваться.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96" name="Picture 4" descr="C:\Users\Admin\Documents\9d38e5f0e7cc2350145484026ab00b4b.jpg"/>
          <p:cNvPicPr/>
          <p:nvPr/>
        </p:nvPicPr>
        <p:blipFill>
          <a:blip r:embed="rId1"/>
          <a:stretch/>
        </p:blipFill>
        <p:spPr>
          <a:xfrm>
            <a:off x="0" y="1787400"/>
            <a:ext cx="3890880" cy="3751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195120"/>
            <a:ext cx="1023948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Bookman Old Style"/>
              </a:rPr>
              <a:t>МАТЕРИАЛЫ И ИНСТРУМЕНТЫ ДЛЯ ИЗГОТОВЛЕНИЯ МЯГКОЙ ИГРУШКИ</a:t>
            </a:r>
            <a:r>
              <a:rPr b="1" lang="ru-RU" sz="3400" spc="-1" strike="noStrike" u="sng">
                <a:solidFill>
                  <a:srgbClr val="ffffff"/>
                </a:solidFill>
                <a:uFillTx/>
                <a:latin typeface="Bookman Old Style"/>
              </a:rPr>
              <a:t>.</a:t>
            </a:r>
            <a:br>
              <a:rPr sz="3400"/>
            </a:b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7408800" y="4627440"/>
            <a:ext cx="13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Rockwell"/>
              </a:rPr>
              <a:t>ШАБЛОН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7541280" y="2048040"/>
            <a:ext cx="26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Rockwell"/>
              </a:rPr>
              <a:t>ПРОСТОЙ  КАРАНДАШ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6153120" y="2266920"/>
            <a:ext cx="10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Rockwell"/>
              </a:rPr>
              <a:t>ТКАНЬ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5468400" y="144792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Rockwell"/>
              </a:rPr>
              <a:t>СИНТЕПОН  ДЛЯ  НАБИВКИ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9756720" y="4254480"/>
            <a:ext cx="13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Rockwell"/>
              </a:rPr>
              <a:t>НИТКИ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TextBox 10"/>
          <p:cNvSpPr/>
          <p:nvPr/>
        </p:nvSpPr>
        <p:spPr>
          <a:xfrm>
            <a:off x="5457960" y="4002120"/>
            <a:ext cx="12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Rockwell"/>
              </a:rPr>
              <a:t>ИГЛЫ РУЧНЫЕ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9402120" y="142704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Rockwell"/>
              </a:rPr>
              <a:t>НОЖНИЦЫ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5" name="TextBox 12"/>
          <p:cNvSpPr/>
          <p:nvPr/>
        </p:nvSpPr>
        <p:spPr>
          <a:xfrm>
            <a:off x="8920080" y="328788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Rockwell"/>
              </a:rPr>
              <a:t>ШВЕЙНАЯ  МАШИНА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6845400" y="5068800"/>
            <a:ext cx="29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Rockwell"/>
              </a:rPr>
              <a:t>ГЛАЗКИ – БУСИНКИ, ЛОСКУТКИ ТКАНИ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7" name="TextBox 14"/>
          <p:cNvSpPr/>
          <p:nvPr/>
        </p:nvSpPr>
        <p:spPr>
          <a:xfrm>
            <a:off x="7707240" y="3257640"/>
            <a:ext cx="9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Rockwell"/>
              </a:rPr>
              <a:t>УТЮГ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108" name="Picture 2" descr="http://diycraft.ru/wp-content/uploads/2015/06/gvkowvknud2.jpg"/>
          <p:cNvPicPr/>
          <p:nvPr/>
        </p:nvPicPr>
        <p:blipFill>
          <a:blip r:embed="rId1"/>
          <a:stretch/>
        </p:blipFill>
        <p:spPr>
          <a:xfrm>
            <a:off x="331920" y="1612800"/>
            <a:ext cx="4981320" cy="435312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13"/>
          <p:cNvSpPr/>
          <p:nvPr/>
        </p:nvSpPr>
        <p:spPr>
          <a:xfrm>
            <a:off x="5386320" y="2938320"/>
            <a:ext cx="181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Rockwell"/>
              </a:rPr>
              <a:t>КЛЕЙ-ПИСТОЛЕТ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196560"/>
            <a:ext cx="10353600" cy="128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3400" spc="-1" strike="noStrike">
                <a:solidFill>
                  <a:srgbClr val="ffffff"/>
                </a:solidFill>
                <a:latin typeface="Bookman Old Style"/>
              </a:rPr>
              <a:t>ШАБЛОНЫ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111" name="Picture 2" descr="D:\Desktop\a411d4680e9e6879b671eabb9bd24d73.jpg"/>
          <p:cNvPicPr/>
          <p:nvPr/>
        </p:nvPicPr>
        <p:blipFill>
          <a:blip r:embed="rId1"/>
          <a:stretch/>
        </p:blipFill>
        <p:spPr>
          <a:xfrm>
            <a:off x="831960" y="1566720"/>
            <a:ext cx="3012840" cy="4259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D:\Desktop\95931161_961601961.jpg"/>
          <p:cNvPicPr/>
          <p:nvPr/>
        </p:nvPicPr>
        <p:blipFill>
          <a:blip r:embed="rId2"/>
          <a:stretch/>
        </p:blipFill>
        <p:spPr>
          <a:xfrm>
            <a:off x="7024680" y="1693800"/>
            <a:ext cx="2951280" cy="4079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D:\Desktop\Новая папка\DYOA8253.JPG"/>
          <p:cNvPicPr/>
          <p:nvPr/>
        </p:nvPicPr>
        <p:blipFill>
          <a:blip r:embed="rId3"/>
          <a:stretch/>
        </p:blipFill>
        <p:spPr>
          <a:xfrm rot="908400">
            <a:off x="3860280" y="1839600"/>
            <a:ext cx="23400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82760" y="848880"/>
            <a:ext cx="11091600" cy="58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ffffff"/>
                </a:solidFill>
                <a:latin typeface="Rockwell"/>
              </a:rPr>
              <a:t> </a:t>
            </a:r>
            <a:endParaRPr b="0" lang="en-US" sz="5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Rockwell"/>
              </a:rPr>
              <a:t> </a:t>
            </a:r>
            <a:r>
              <a:rPr b="1" lang="ru-RU" sz="1600" spc="-1" strike="noStrike">
                <a:solidFill>
                  <a:srgbClr val="ffffff"/>
                </a:solidFill>
                <a:latin typeface="Rockwell"/>
              </a:rPr>
              <a:t> </a:t>
            </a:r>
            <a:r>
              <a:rPr b="1" lang="ru-RU" sz="1600" spc="-1" strike="noStrike">
                <a:solidFill>
                  <a:srgbClr val="ffffff"/>
                </a:solidFill>
                <a:latin typeface="Rockwell"/>
              </a:rPr>
              <a:t>Шаг 1.</a:t>
            </a:r>
            <a:r>
              <a:rPr b="0" lang="ru-RU" sz="1600" spc="-1" strike="noStrike">
                <a:solidFill>
                  <a:srgbClr val="ffffff"/>
                </a:solidFill>
                <a:latin typeface="Rockwell"/>
              </a:rPr>
              <a:t> Складываем ткань в два слоя изнаночной стороной внутрь и обводим  по контуру шаблоны. Делаем припуск на швы 0,7-1 см. Выкраиваем детали. 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Rockwell"/>
              </a:rPr>
              <a:t> </a:t>
            </a:r>
            <a:r>
              <a:rPr b="1" lang="ru-RU" sz="1600" spc="-1" strike="noStrike">
                <a:solidFill>
                  <a:srgbClr val="ffffff"/>
                </a:solidFill>
                <a:latin typeface="Rockwell"/>
              </a:rPr>
              <a:t>Шаг 2.</a:t>
            </a:r>
            <a:r>
              <a:rPr b="0" lang="ru-RU" sz="1600" spc="-1" strike="noStrike">
                <a:solidFill>
                  <a:srgbClr val="ffffff"/>
                </a:solidFill>
                <a:latin typeface="Rockwell"/>
              </a:rPr>
              <a:t> Выкроенные детали сметываем. 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Rockwell"/>
              </a:rPr>
              <a:t> </a:t>
            </a:r>
            <a:r>
              <a:rPr b="1" lang="ru-RU" sz="1600" spc="-1" strike="noStrike">
                <a:solidFill>
                  <a:srgbClr val="ffffff"/>
                </a:solidFill>
                <a:latin typeface="Rockwell"/>
              </a:rPr>
              <a:t>Шаг 3.</a:t>
            </a:r>
            <a:r>
              <a:rPr b="0" lang="ru-RU" sz="1600" spc="-1" strike="noStrike">
                <a:solidFill>
                  <a:srgbClr val="ffffff"/>
                </a:solidFill>
                <a:latin typeface="Rockwell"/>
              </a:rPr>
              <a:t> Стачиваем детали игрушки между собой на швейной машине, оставляя свободным участок для набивки. 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Rockwell"/>
              </a:rPr>
              <a:t> </a:t>
            </a:r>
            <a:r>
              <a:rPr b="1" lang="ru-RU" sz="1600" spc="-1" strike="noStrike">
                <a:solidFill>
                  <a:srgbClr val="ffffff"/>
                </a:solidFill>
                <a:latin typeface="Rockwell"/>
              </a:rPr>
              <a:t>Шаг 4.</a:t>
            </a:r>
            <a:r>
              <a:rPr b="0" lang="ru-RU" sz="1600" spc="-1" strike="noStrike">
                <a:solidFill>
                  <a:srgbClr val="ffffff"/>
                </a:solidFill>
                <a:latin typeface="Rockwell"/>
              </a:rPr>
              <a:t> Сшитые детали аккуратно выворачиваем на лицевую сторону и проутюживаем. 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Rockwell"/>
              </a:rPr>
              <a:t> </a:t>
            </a:r>
            <a:r>
              <a:rPr b="1" lang="ru-RU" sz="1600" spc="-1" strike="noStrike">
                <a:solidFill>
                  <a:srgbClr val="ffffff"/>
                </a:solidFill>
                <a:latin typeface="Rockwell"/>
              </a:rPr>
              <a:t>Шаг 5. </a:t>
            </a:r>
            <a:r>
              <a:rPr b="0" lang="ru-RU" sz="1600" spc="-1" strike="noStrike">
                <a:solidFill>
                  <a:srgbClr val="ffffff"/>
                </a:solidFill>
                <a:latin typeface="Rockwell"/>
              </a:rPr>
              <a:t>Набиваем детали синтепоном,  плотность набивки умеренная, не слишком плотная.( туловище, лапки, ). Зашиваем аккуратно отверстия.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Rockwell"/>
              </a:rPr>
              <a:t> </a:t>
            </a:r>
            <a:r>
              <a:rPr b="1" lang="ru-RU" sz="1600" spc="-1" strike="noStrike">
                <a:solidFill>
                  <a:srgbClr val="ffffff"/>
                </a:solidFill>
                <a:latin typeface="Rockwell"/>
              </a:rPr>
              <a:t>Шаг6. </a:t>
            </a:r>
            <a:r>
              <a:rPr b="0" lang="ru-RU" sz="1600" spc="-1" strike="noStrike">
                <a:solidFill>
                  <a:srgbClr val="ffffff"/>
                </a:solidFill>
                <a:latin typeface="Rockwell"/>
              </a:rPr>
              <a:t>Соединяем  детали ( делаем сборку игрушки)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Rockwell"/>
              </a:rPr>
              <a:t> </a:t>
            </a:r>
            <a:r>
              <a:rPr b="1" lang="ru-RU" sz="1600" spc="-1" strike="noStrike">
                <a:solidFill>
                  <a:srgbClr val="ffffff"/>
                </a:solidFill>
                <a:latin typeface="Rockwell"/>
              </a:rPr>
              <a:t>Шаг 7 </a:t>
            </a:r>
            <a:r>
              <a:rPr b="0" lang="ru-RU" sz="1600" spc="-1" strike="noStrike">
                <a:solidFill>
                  <a:srgbClr val="ffffff"/>
                </a:solidFill>
                <a:latin typeface="Rockwell"/>
              </a:rPr>
              <a:t>Оформляем мордочку ( глазки- бусинки,  носик,ротик вышиваем розовыми нитками мулине)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Rockwell"/>
              </a:rPr>
              <a:t> </a:t>
            </a:r>
            <a:r>
              <a:rPr b="1" lang="ru-RU" sz="1600" spc="-1" strike="noStrike">
                <a:solidFill>
                  <a:srgbClr val="ffffff"/>
                </a:solidFill>
                <a:latin typeface="Rockwell"/>
              </a:rPr>
              <a:t>Шаг 8.</a:t>
            </a:r>
            <a:r>
              <a:rPr b="0" lang="ru-RU" sz="1600" spc="-1" strike="noStrike">
                <a:solidFill>
                  <a:srgbClr val="ffffff"/>
                </a:solidFill>
                <a:latin typeface="Rockwell"/>
              </a:rPr>
              <a:t> Создаём одежду для  зайчика  (по своему усмотрению.)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Rockwell"/>
              </a:rPr>
              <a:t> </a:t>
            </a:r>
            <a:r>
              <a:rPr b="0" lang="ru-RU" sz="1600" spc="-1" strike="noStrike">
                <a:solidFill>
                  <a:srgbClr val="ffffff"/>
                </a:solidFill>
                <a:latin typeface="Rockwell"/>
              </a:rPr>
              <a:t>Шаг  9. Отшиваем одежду, декорируем. ( по своему усмотрению )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Rockwell"/>
              </a:rPr>
              <a:t>Шаг 10</a:t>
            </a:r>
            <a:r>
              <a:rPr b="0" lang="ru-RU" sz="1600" spc="-1" strike="noStrike">
                <a:solidFill>
                  <a:srgbClr val="ffffff"/>
                </a:solidFill>
                <a:latin typeface="Rockwell"/>
              </a:rPr>
              <a:t>.  Одеваем Зайчика в одежду.  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Rockwell"/>
              </a:rPr>
              <a:t>Шаг 11. </a:t>
            </a:r>
            <a:r>
              <a:rPr b="0" lang="ru-RU" sz="1600" spc="-1" strike="noStrike">
                <a:solidFill>
                  <a:srgbClr val="ffffff"/>
                </a:solidFill>
                <a:latin typeface="Rockwell"/>
              </a:rPr>
              <a:t>Можно сделать лёгкий макия ( подрумянить щёчки, подвести глазки)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Rockwel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"/>
            </a:br>
            <a:r>
              <a:rPr b="0" lang="ru-RU" sz="5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ffffff"/>
                </a:solidFill>
                <a:latin typeface="Rockwell"/>
              </a:rPr>
              <a:t> </a:t>
            </a:r>
            <a:endParaRPr b="0" lang="en-US" sz="5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ffffff"/>
                </a:solidFill>
                <a:latin typeface="Rockwell"/>
              </a:rPr>
              <a:t> </a:t>
            </a:r>
            <a:endParaRPr b="0" lang="en-US" sz="5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ffffff"/>
                </a:solidFill>
                <a:latin typeface="Rockwell"/>
              </a:rPr>
              <a:t> </a:t>
            </a:r>
            <a:endParaRPr b="0" lang="en-US" sz="5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ffffff"/>
                </a:solidFill>
                <a:latin typeface="Rockwell"/>
              </a:rPr>
              <a:t> </a:t>
            </a:r>
            <a:endParaRPr b="0" lang="en-US" sz="5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482760" y="264960"/>
            <a:ext cx="1162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Rockwell"/>
              </a:rPr>
              <a:t>ТЕХНОЛОГИЯ ВЫПОЛНЕНИЯ МЯГКОЙ ИГРУШКИ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10353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 u="sng">
                <a:solidFill>
                  <a:srgbClr val="ffffff"/>
                </a:solidFill>
                <a:uFillTx/>
                <a:latin typeface="Bookman Old Style"/>
              </a:rPr>
              <a:t>ТЕХНИКА БЕЗОПАСНОСТИ ПРИ ВЫПОЛНЕНИИ РАБОТЫ</a:t>
            </a:r>
            <a:br>
              <a:rPr sz="3100"/>
            </a:br>
            <a:endParaRPr b="1" lang="en-US" sz="31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28560"/>
            <a:ext cx="1131264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1.  Рабочее место должно хорошо освещаться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2.  Сидеть нужно прямо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3.  Расстояние от глаз до изделия- 30-35 см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4.  Волосы должны быть собраны под косынку или заколоты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5.  Все инструменты и принадлежности должны находиться справа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6.  Лезвия ножниц должны лежать закрытыми, иголки и булавки воткнуты в игольницу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7.  .Мелкие детали должны находиться в </a:t>
            </a:r>
            <a:r>
              <a:rPr b="0" lang="ru-RU" sz="1800" spc="-1" strike="noStrike">
                <a:solidFill>
                  <a:srgbClr val="eeeae7"/>
                </a:solidFill>
                <a:latin typeface="Rockwell"/>
              </a:rPr>
              <a:t>специально отведённых</a:t>
            </a: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 для этого коробочках или пакетиках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8.  При работе с клеем ( если приклеивать мелкие детали )необходимо постелить на рабочем столе клеенку, а также важно иметь при себе влажную тряпочку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Rockwell"/>
              </a:rPr>
              <a:t> </a:t>
            </a:r>
            <a:endParaRPr b="0" lang="en-US" sz="7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Rockwell"/>
              </a:rPr>
              <a:t> </a:t>
            </a:r>
            <a:endParaRPr b="0" lang="en-US" sz="7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0T12:30:23Z</dcterms:created>
  <dc:creator>DNS</dc:creator>
  <dc:description/>
  <dc:language>en-US</dc:language>
  <cp:lastModifiedBy>Пользователь Windows</cp:lastModifiedBy>
  <dcterms:modified xsi:type="dcterms:W3CDTF">2021-11-29T04:34:57Z</dcterms:modified>
  <cp:revision>60</cp:revision>
  <dc:subject/>
  <dc:title>ТВОРЧЕСКИЙ ПРОЕКТ</dc:title>
</cp:coreProperties>
</file>