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44B-74C4-431C-AC26-3826246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04E-2149-4E5E-8157-488A05E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E2CAB-E1BB-40E9-9862-C2B253D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8C225-1074-4C62-AA13-543DD3B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77FC9-9113-483E-9A07-DB73D7AA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85A5A-7DE6-42DC-A327-F7FEEDD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614C5-EC27-471A-A94E-3E255A51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9E956-0F3C-4639-B03C-A89B7A1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EC3F0-039D-4E5D-A1C4-3D68F3E2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59BBD-E922-4CF1-B8DD-4DD8F6E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7C057-590E-4F3E-9C39-C2E4320A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DFAA3-8804-4D57-9E91-CF2BF166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4CC-9AE1-4866-BE0E-3C40F110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82A14-6BFD-42ED-B571-F144EB1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9B87B-0C77-4B79-93A7-6CAFA10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4AA62-40D4-40A1-BF07-1D4BC8E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0A5EE-A2B4-4975-9970-9F5F857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8BE9B-4845-4A4E-A0C5-97FD403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1148A-E08C-450B-8FF9-D31AD81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6EBAA-C451-4043-B264-54B9E04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A4563-8CC5-4E2C-BCD0-6FB6A7A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B4EA6-6E4A-4BB3-AD74-4D89620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58EE4-A823-4D5B-A98B-845D98FD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DD6-A5D3-40B2-9187-6519C5B1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1E66E-766F-45CE-BF80-9377E9DF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72D69-2EB5-40B1-9D00-EFDABD46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7095D-0639-4F42-967C-C952576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2D771-CEDD-4BFA-A5DC-A5A45B5F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F62C3-B514-4879-9C28-6EA7DEA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1D4C1-6A4B-44C1-899A-6A512FA4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ED2FF-A12C-4EAA-B1C1-54E511A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066E4-4D06-45DA-97A8-D434BC9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3936-824B-4E32-AFA5-3C0EE51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2798-898E-4774-9D30-177A0C6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4F2-44E9-4556-BAF0-D2C7A4DB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F2433-3299-46F6-A2CC-C77D1D7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6390F-D4D9-4670-BFEC-D0077274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30E9-03B4-4C5F-8B82-24288C6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8CE5F-0B01-41AC-B7A5-785E216D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FCFBE-3619-49A6-8CE7-64C10A42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33578-7993-42FA-9FC8-90EFB68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C9095-51A6-4148-8275-0F1FE49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5EC36-CEAE-4D75-A48C-E4CEBA3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703B6-5F3F-45AD-B53A-0A75BD9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06D57-48DA-4BBE-882E-3964C3B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CE4A-DA63-420E-B9E5-4D24F1A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31C29-C1AF-4B4E-BA5E-A92C8E3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0308D-68E8-4B03-9604-C500664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A3ED1-C9A0-4D8E-B614-C36DD5D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B6B48-224A-4A06-BE63-BEEB1E89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9D5AA-F005-4A02-AEF3-7A5E0D5C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82EC-8C2D-4950-A09A-71CC510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2F8-272C-4A01-B908-7B4FF244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5781-07FE-4689-BBE6-9E5094A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B38-F146-44FD-BAC5-46F8530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1D8C-A4EB-41BE-8B2C-BA297C9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FEB-4776-454C-A5E7-313AA2E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575-7F73-4298-9B06-DB8DA63C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B9FC-CBC2-41B8-AD34-9A969EA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A57-2983-4467-A60B-1CD1C78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2BD-EB91-4D46-B5E6-14E1B786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E80B-829F-42AE-8D91-EDC65CAE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2736-3900-49CC-9A86-DFA1AF3B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104B-BC3A-4AF7-B8A6-C8F587FE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9C79-06B8-4E60-B43F-9F68FF5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5FBE-F5CA-4E7B-8840-B5899744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C830-5E79-42EB-8EC1-B448F72E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89E-CBFE-4C6F-BEF5-E7FECB9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80EA-0D31-4C8D-9681-9D761F98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F706-2206-4167-A604-3FDA7CF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9DF2-6305-4356-81F8-34DB44A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5D8C-0169-47C2-A410-2CD99CD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6406-DA33-4F35-B5B2-22033E34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EBC6-67C0-4971-98B3-446178EB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EAAF-FC46-4C40-B1A2-58156BF7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0412-0F0B-46A6-9DE1-228D22CA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36EB-7FA1-4BAB-9CA2-AEF8F7B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0D4E-136D-4063-B907-7D78575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EA2-F9BD-4EAD-9AC5-BE9C401F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5829-AF19-405B-910C-E3BD1AB0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479D-59B6-4161-B61A-666E70F7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22BD-35BF-48DA-8C5D-9E746F2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6003-1C1B-4AF1-A070-8ADBF22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77E5-41CD-4D9D-98C9-9EE50CA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5016-408B-42CB-B79C-60AA377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A54E-6A52-4C83-A2CD-7C94E9BE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CFF1-B703-4BF7-BD96-8E9C18C7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FCEC-4758-409E-859B-D3FCD8E5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692F-CB35-4E6F-B3F3-747411CC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963-8162-43FE-B7A5-2F03D00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B4E6-D474-4AF8-9FE1-53F1708B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9DE0-63CD-45CF-9BBD-7562CD2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CE7B-64DF-4538-AD70-D7E1182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E82C-0BD4-4F63-B956-40E3422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44E0-76A1-4605-9774-0AC85E4F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9E92-F97D-4BF5-B92D-0ADF7321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C39D-2539-48B2-9E0D-6B9557E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26C2-D47D-40D5-8E7D-50A0EC8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638C-44AD-441F-BE60-BA73A10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2891-0899-4B8B-BEEC-F17D4B19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CC2-A935-47BC-A651-4C363C8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3023-6D83-4F4A-B56C-10B9A126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4A0B-0ECD-4FD9-B04E-5A784FE5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53D4-FD4B-4338-A0CD-2CD878A2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CED1-527E-453F-A33B-D8A75A0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8AC0-6329-4B7D-84E0-82C34C81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4A21-0355-4248-A1B7-F53F917F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8540-F8C8-446C-B371-21E0578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BDB4-AA73-46E8-9B3E-D67E3B8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2A8C-0011-470F-9109-CC2430A2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A2E9-8F2F-42AF-A6E3-55B0692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403-19BA-4BC7-B4EF-F600656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0710-5C94-42C8-A302-15E1FF7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2F80-9592-4A1C-A32D-0083183F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8068-9450-41F5-B520-615F3C42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8B6B4-4DA6-4B6E-833F-E1F2B8D8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3F3B-B98B-4F56-8F7D-A4C17AD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F976-7A9B-4841-B7AB-33D6549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0CB9-9DA7-4BB1-B4CC-89D7396B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4CDF-16E6-4FB9-88F7-4144AA0D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3080-9612-4EEE-AF7A-393D5C1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42487-A19E-4A77-8063-5661C20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FD9-CC43-4C1E-8723-928F842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FA56-3D31-4D6F-BA08-2CF3242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CC8B-F941-49A0-9EE4-77BC230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60B5-A016-4D71-ACB2-7DAA4C0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1AF67-5E50-4E1A-BC95-39967101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531F3-E0E2-4E23-B61E-DD42644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7D153-887B-48C5-B896-9738DE6B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7CFFC-8483-449C-B09C-F4D0289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11A0-2026-485D-A84B-DC7FB853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0568-586D-40D9-9C72-218AB44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7333-A063-4840-8440-302A1A8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00E-137E-4016-83ED-A30DFC9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C92B-CB82-4EC2-BE06-ACD6856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E826C-E8D7-415B-8B44-B84F766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432FF-4C11-4CFB-AF67-EA498EE4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BB26-6DBB-4185-8A02-19D40B0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D05E-E0EA-4EE4-B701-5C3BAD54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855C-B669-4064-A310-41159557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E2BF-8302-49A5-A307-87B38D0B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51651-25D8-4682-A330-31A8ACB5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370D3-4EC6-485D-AEA1-5EA51D40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A49E0-FC7A-4D37-A458-4F004A40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877-A4EA-449F-8E03-D65E67E1307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7B05-C8D9-4CA8-B65A-CA031CE136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482-F143-4ADB-BB39-D40376F56C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9275-165C-4F3E-A89B-BA1E7FC364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592-926B-4D1F-84FB-2FF2CDD174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4F81-7EC0-44D0-B296-A529D91F2C3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A58-49BD-4759-924B-57B62B7512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996-FC42-4666-BB37-5F1CF9BAA70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8A63-36B7-4C4B-A3E5-A16962A418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35C-4F1A-4A69-B8C7-40EE1D8C911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72C-8218-4A7A-9E67-7FCE49D00FC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AF9-09A5-46C0-93B7-AC5D64EF16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»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ямина Е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Прямоугольник 1" descr=""/>
          <p:cNvPicPr/>
          <p:nvPr/>
        </p:nvPicPr>
        <p:blipFill>
          <a:blip r:embed="rId1"/>
          <a:stretch/>
        </p:blipFill>
        <p:spPr>
          <a:xfrm>
            <a:off x="895320" y="689040"/>
            <a:ext cx="7626240" cy="920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2057400" y="1905120"/>
            <a:ext cx="457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6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7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8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3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380880" y="167652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5"/>
          <p:cNvSpPr/>
          <p:nvPr/>
        </p:nvSpPr>
        <p:spPr>
          <a:xfrm>
            <a:off x="4419720" y="220968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380880" y="26668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3733920" y="3276720"/>
            <a:ext cx="44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457200" y="419112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2971800" y="502920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0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1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5"/>
          <p:cNvSpPr/>
          <p:nvPr/>
        </p:nvSpPr>
        <p:spPr>
          <a:xfrm>
            <a:off x="1676520" y="6019920"/>
            <a:ext cx="3657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4"/>
          <p:cNvSpPr/>
          <p:nvPr/>
        </p:nvSpPr>
        <p:spPr>
          <a:xfrm>
            <a:off x="609480" y="6019920"/>
            <a:ext cx="213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en</dc:creator>
  <dc:description/>
  <dc:language>en-US</dc:language>
  <cp:lastModifiedBy>open</cp:lastModifiedBy>
  <dcterms:modified xsi:type="dcterms:W3CDTF">2022-09-30T11:00:10Z</dcterms:modified>
  <cp:revision>21</cp:revision>
  <dc:subject/>
  <dc:title>Слайд 1</dc:title>
</cp:coreProperties>
</file>