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A37-1138-4C98-A914-40BFB350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7CE-AA98-453F-8042-C72C2FF5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B006D-AF9E-454A-9572-DF6C5EF6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881AD-AF4D-4F0A-812F-08EF8705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0AE63-B810-4E0B-9606-395FBEAD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AC030-2B5A-4CFB-9861-31E908A1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0B58D-BC47-431A-BFF1-186E99FB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91557-B61B-4811-B805-CD8B514D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609FC-DBF1-4621-A91D-833F5A07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19E42-6470-4236-9B03-C6A71AE1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D2F30-3737-4D1C-900A-0211105D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A111E-6408-4601-BCFC-59CCCAF1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716-8DE5-45E8-9130-8DA42D06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36708-0A62-496B-BFE6-00A6034D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9EF78-CDF3-4BFF-AE68-01FE9540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FFD50-F364-4F10-981E-9D2F6E43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E2293-73DE-405D-9D85-80AD26F4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7E9FF-29E6-4EBD-9C66-D04CA75F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4C45B-FEEC-4907-BA94-161C2506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7FC1D-0040-450B-B613-4344513C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FB4E6-1314-41DE-BA13-70CE5A2E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DBC1B-B187-41E1-AE19-74BBB26D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2754B-06E6-41ED-83E9-12377D91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44D-ECF8-4153-94F6-FE80EA90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D893D-8DDD-4E97-8456-BFA83421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37465-F13B-4A02-9B0F-AFD9EDCA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0B9D4-F802-4F4A-9E28-4F27CD97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B2550-8E41-410F-8737-DE0EA800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F188E-3960-4397-9EF2-2EE43CFB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84D7C-A4FF-471F-A08B-0758F8D7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788B7-EA61-48F2-BF75-0CBC246A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EC365-2B5F-411C-B8ED-AB171F54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87E69-9F57-43F1-A6B6-4A0E4278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55EA1-EBD2-44FA-857F-6886361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BB7A-8BC4-42EC-B7D9-5B9C4174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AC325-DDDD-4FAD-BEF5-AC95A408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908D2-98B2-4B70-B11C-DA16EBD5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8CD81-E5CE-471C-B2D7-ABBC3658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21765-272D-4C87-8484-260C5306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39B52-B4A8-4B83-AB45-7E1023B2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A393F-10EB-4784-8191-D5A23265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01E08-17B8-42AE-8CB0-B7D0B8AB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1145F-A0F4-4482-94A6-D51A032A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6A9CD-E1BB-4B48-A324-C33D6916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F90838-9FF7-41F8-B13F-B29E3028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4EB0-6827-4FDF-8A34-E55AF3DC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8D165-6A2D-44E4-A239-8B8A5EC9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F5BB9D-18C9-45E6-9AF6-C5BBA5E9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49A70B-0BAF-4926-B3F5-3CB23107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F164D-3CCA-43C0-B879-37F8F3F9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54A78-6907-4B82-AF86-0D3FBCB2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45F4-8867-4FE3-B9DA-804C70CB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53DA-F5DF-4DCA-9961-5A17B143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C9BC-936F-4A3F-BB3C-0A7E80C4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1DF0-BE14-4886-AA6B-E3CAAD01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FE67-A35F-40FA-8ABB-0524847C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73C-646D-489C-89A3-066F1B15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166B-3890-41D9-B000-E1787A2D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7191-F137-4A61-BE40-A0B225DC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6E11-5063-442C-B28D-96C0764D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A910-56ED-49FB-9D62-4C91E3B2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E1B9-E5D6-4F74-866E-5F32B4DF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325A-9827-4BE1-AC3C-FF8D9CDFB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87C51-1067-4EBA-BC50-45B0FE5F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9A1C5-3E04-44C7-AB6A-7BD3AE5D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49788-566C-473E-A3D7-AFD796AC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89E9-7E1C-44F8-8C97-676A1429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6DF-AB2C-470B-B9DA-F67FB5F0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35FE-630D-46D2-9656-E7C084C9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EC24B-1679-452A-8E1E-42AF4920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E4121-9BB9-4F91-8D39-9FCC690B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4A452-AC5D-43D7-80C9-6F91770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11DA2-E358-4EC3-B6B7-182E93A9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7ECD-4E04-46B9-974F-0A6BC3C8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0947-440C-4FF0-9636-908FAE5C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02265-B585-4500-B803-8E1D74B0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5795B-DA31-4081-B372-FC69CA69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4C364-3DB9-4B98-A0EA-015AA3BA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401-419E-42B7-BB3D-AB9AD34F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4EFB0-5172-4922-97AE-9ED5B4F6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79A4F-3057-493F-8572-88A75408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EB11-B41B-418F-ADC4-FF2DD6BA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367E0-7C9C-4E8E-AA47-585990C8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7BF7-6D3C-49A2-A888-65F11014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46181-7E94-487B-9286-DFCB9103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F37F1-2FCA-4479-B705-FB08F1DD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2B7DF-A398-47D0-A71F-7BB20712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8D7E-F970-45B9-900E-C65661E6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97A59-1993-4E6D-83EB-FF05F5ED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527-3273-48F8-8CDC-4D8CFFB5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88914-036D-48F1-B37E-50CCB377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52E36-4E13-4C09-9EE4-1CB0460E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6EEBB-D7D6-438B-98EE-E6882265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21EF3-8817-437E-9888-4C8F0DC6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03125-EC3F-4E29-84BB-8C68D3B8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ACC86-7D56-4BDC-94B3-0F90D580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97851-984F-4761-A513-220FA29A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DB985-D006-4D86-B557-C999FD43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DADAC-2FA1-4C0E-838F-AFEDAC6A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513A-00A6-4125-B717-CF5901FD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008-2F6F-4C92-BFB0-D655BEFA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663EB-FAC2-4D5D-82FB-C9D09F1F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9AD87-9153-4492-BF69-0FFC44EC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5520D-024E-46C6-B67B-F739A920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7532A-6D08-4665-B93F-A68ABFA6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4295E-52E1-4A45-81E8-5E712854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802E1-2BE0-4840-8203-EDEECA5E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39095-4601-46EC-B393-B7B8266D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CF111-86B2-4B70-AB6C-4EEE9B15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F633D-32A8-431D-B488-DF7E0263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64B22-F778-480F-B6DB-F2A2F477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15B-4969-4AC7-BF6E-9E27D35A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5FBA4-9F84-4314-808B-0105E250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03224-CD1C-415A-A187-D077B5E6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1DAE3-B9CF-4101-BFDF-B135EA20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0BF40-A55B-47CA-9077-A4A0559D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B8C4-617F-4E08-A8D5-5C3551F9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842C8-174B-4845-B97C-874DC63E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A1FF0-7122-4CB9-802B-CA8E61F2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490F0-2A14-422D-827B-071DFBF5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4EA4B-E2CF-4203-B821-9BE670BC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0C707-B9D8-442F-943B-1EE9A380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B7B-84C0-4369-9384-BD634CCB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2297B-B234-42B9-889E-78AE6286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4F978-2855-4909-A13E-81A0DA43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22BB4-65DF-422C-8C36-1CF08CCB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01C1B-DFD1-4F4A-AB19-DE1C6B37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1AD41-998F-4450-9F97-27A2AA74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CBA28-63CF-48E2-8534-537100F9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52910-C23A-4EA1-9F9A-3C8AD7AF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49069-24F8-4466-940B-F04C794B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A141B-1A67-4E81-AF86-AB6CAAF2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E3BF5-1882-41E4-BE96-725DCB2C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4EE-21E7-4E97-AB8B-A83285D4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8D23F-2E38-438B-9B5D-2B077B8F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70676-16C8-4516-BA5C-9CB87C11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CCDD-33FC-49A6-A1A3-1FD9BF50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8EF3D-0186-45A9-ACDD-03027870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410DE-578F-4D80-BC71-BEBC9E0F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C8ED3-A446-47A6-B432-31069A01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793C0-842E-4052-93C0-54045EB2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1DCB4-9238-4508-B0ED-6185B652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4C46C1-5843-417E-8227-EDE2E56A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8F1B0-5015-4CE5-8B94-FDAF786B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EA34-2ECE-48A6-9859-E31DDA1EC75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9B79-A3CB-456E-BB21-0DEC09EBB36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3BE4-C0EF-457F-937C-146CA9DDEEC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584C-92B3-40AF-8A96-094F746FECC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9F39-AF6A-4140-B172-3C26BDE3D80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F37E-65C1-43AA-8E49-4E6877B47D7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55E6-9C22-4A9C-9CA5-687DE7C36FB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5A0D-E4A9-4D77-8DEA-D2F6BA23F96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6F4F-B34F-4482-8FEB-7C36754C140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C0BC-8114-4C84-B060-F4104F35EBE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598E-61E5-450A-B402-8C76A63DC2FF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80F0-B068-4A4E-A566-99A47C14EC5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2590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«Технология обработки числов</a:t>
            </a:r>
            <a:r>
              <a:rPr b="0" lang="ru-RU" sz="3800" spc="-1" strike="noStrike">
                <a:solidFill>
                  <a:srgbClr val="d16349"/>
                </a:solidFill>
                <a:latin typeface="Arial"/>
              </a:rPr>
              <a:t>ых </a:t>
            </a:r>
            <a:r>
              <a:rPr b="0" lang="ru-RU" sz="3800" spc="-1" strike="noStrike">
                <a:solidFill>
                  <a:srgbClr val="d16349"/>
                </a:solidFill>
                <a:latin typeface="Georgia"/>
              </a:rPr>
              <a:t>данных»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TextBox 2"/>
          <p:cNvSpPr/>
          <p:nvPr/>
        </p:nvSpPr>
        <p:spPr>
          <a:xfrm>
            <a:off x="4419720" y="51814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чик презента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Можайска Моск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лямина Е.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Прямоугольник 1" descr=""/>
          <p:cNvPicPr/>
          <p:nvPr/>
        </p:nvPicPr>
        <p:blipFill>
          <a:blip r:embed="rId1"/>
          <a:stretch/>
        </p:blipFill>
        <p:spPr>
          <a:xfrm>
            <a:off x="895320" y="689040"/>
            <a:ext cx="7626240" cy="9205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Встроенные функции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6760"/>
            <a:ext cx="850428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ормулы могут состоять не только из арифметических операторов и адресов ячеек. Часто в вычислениях приходится использовать формулы, содержащие функции. Электронные таблицы имеют несколько сотен встроенных функций, которые подразделяются на категории: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атематические, Статистические, Финансовые, Дата и врем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так дале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2" descr="C:\Work\11а\информатика1111\3058424.jpg"/>
          <p:cNvPicPr/>
          <p:nvPr/>
        </p:nvPicPr>
        <p:blipFill>
          <a:blip r:embed="rId1"/>
          <a:stretch/>
        </p:blipFill>
        <p:spPr>
          <a:xfrm>
            <a:off x="1752480" y="4572000"/>
            <a:ext cx="5105520" cy="2000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TextBox 3"/>
          <p:cNvSpPr/>
          <p:nvPr/>
        </p:nvSpPr>
        <p:spPr>
          <a:xfrm>
            <a:off x="2057400" y="1905120"/>
            <a:ext cx="4572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Встроенные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838080" y="3276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атемат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48769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огическ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Прямая со стрелкой 7"/>
          <p:cNvCxnSpPr/>
          <p:nvPr/>
        </p:nvCxnSpPr>
        <p:spPr>
          <a:xfrm flipH="1">
            <a:off x="2666520" y="2666880"/>
            <a:ext cx="61056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cxnSp>
        <p:nvCxnSpPr>
          <p:cNvPr id="646" name="Прямая со стрелкой 9"/>
          <p:cNvCxnSpPr/>
          <p:nvPr/>
        </p:nvCxnSpPr>
        <p:spPr>
          <a:xfrm>
            <a:off x="4952520" y="2666880"/>
            <a:ext cx="762840" cy="53424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647" name="TextBox 10"/>
          <p:cNvSpPr/>
          <p:nvPr/>
        </p:nvSpPr>
        <p:spPr>
          <a:xfrm>
            <a:off x="1752480" y="5791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Математ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дной из наиболее часто используемых операций является суммирование значений диапазона ячеек для расчета итоговых результатов. На панели инструментов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тандартна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сположена кнопка [х], </a:t>
            </a: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Автосуммирование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торая используется для автоматического суммирования чисел с помощью функции СУММ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TextBox 3"/>
          <p:cNvSpPr/>
          <p:nvPr/>
        </p:nvSpPr>
        <p:spPr>
          <a:xfrm>
            <a:off x="251460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огические функции</a:t>
            </a:r>
            <a:br>
              <a:rPr sz="3300"/>
            </a:b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нее были рассмотрены базовые логические операции (умножения, сложения, отрицания) и их таблицы истинно­сти. В электронных таблицах имеются соответствующие ло­гические функции, с помощью которых достаточно просто построить таблицы истинности логических операций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ргументами логических функций являются логические значения ИСТИНА и ЛОЖЬ. Логические значения, в свою очередь, могут быть получены как результат определения значений логических выражений. Например, для логического выражения 10&gt;5 результатом будет логическое значе­ние ИСТИНА, а для логического выражения А1&lt;А2 (где в ячейке А1 хранится число 10, а в ячейке А2 — число 5) — значение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Логическая функция «И»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, которые могут быть истинными или ложными, и задает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=Щлог_знач1;лог_знач2;...)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нимает значение ИСТИНА тогда и только тогда, когда все аргументы имеют значение ИСТИН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имер, значение функции =И(10&gt;5;10&lt;5) — ЛОЖЬ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228240" y="13716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ИЛИ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в качестве аргументов логические значения и задается формулой =ИЛИ(лог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_знач1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лог_знач2;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..). Принимает значение ИСТИНА, если хотя бы один из аргументов имеет значение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ИЛИ(10&gt;5;10&lt;5) — ИСТИНА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Логическая функция «НЕ»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имеет один аргумент и задается формулой </a:t>
            </a:r>
            <a:r>
              <a:rPr b="0" i="1" lang="ru-RU" sz="2100" spc="-1" strike="noStrike">
                <a:solidFill>
                  <a:srgbClr val="000000"/>
                </a:solidFill>
                <a:latin typeface="Georgia"/>
              </a:rPr>
              <a:t>=НЕ(лог_знач).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ринимает значение ИСТИНА, если аргумент имеет значение ЛОЖЬ, и наоборот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пример, значение функции =НЕ(10&gt;5) — ЛОЖ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строим с помощью электронных таблиц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таблицу истинности операции логического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умножения, используя логическую функцию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«И»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Work\11а\информатика1111\520dff42-178a-11dd-9641-001f2908c552_enl.jpg"/>
          <p:cNvPicPr/>
          <p:nvPr/>
        </p:nvPicPr>
        <p:blipFill>
          <a:blip r:embed="rId1"/>
          <a:stretch/>
        </p:blipFill>
        <p:spPr>
          <a:xfrm>
            <a:off x="6095880" y="3886200"/>
            <a:ext cx="2787840" cy="278748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838080" y="6019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Сортировка и поиск данны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4560" y="137124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существлять сортировку данных, то есть производить их упорядочение. Данные (числа, текст, даты) в электронных таблицах можно сортировать по возрастанию или убыванию. При сортировке по возрастанию данные выстраиваются в следующем порядке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числа сортируются от наименьшего отрицательного до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наибольшего положительного числа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текст сортируется в следующем порядке: числа, знаки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латинский алфавит, русский алфавит;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- пустые ячейки всегда помещаются в конец списк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ртировки строк таблицы необходимо выбрать столбец, данные которого будут упорядочиваться. После сортировки изменяется порядок следования строк, но сохраняется их целостность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ожно проводить вложенные сортировки, то есть сортировать данные последовательно по нескольким столбцам. При вложенной сортировке строки, имеющие одинаковые значения в ячейках первого столбца, будут упорядочены по значениям в ячейках второго столбца, а строки, имеющие одинаковые значения во втором столбце, будут упорядочены по значениям третьего столбца. Так, результат вложенной сортировки таблицы (исключая первую строку), содержащей данные о компьютерах, при сортировке столбца А по возрастанию, столбца В по убыванию и столбца С по возрас­танию будет таким, как показано на рис. 10.4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3200400" y="4495680"/>
          <a:ext cx="5181480" cy="1828800"/>
        </p:xfrm>
        <a:graphic>
          <a:graphicData uri="http://schemas.openxmlformats.org/drawingml/2006/table">
            <a:tbl>
              <a:tblPr/>
              <a:tblGrid>
                <a:gridCol w="592200"/>
                <a:gridCol w="1523880"/>
                <a:gridCol w="1698840"/>
                <a:gridCol w="1366560"/>
              </a:tblGrid>
              <a:tr h="371520">
                <a:tc gridSpan="4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74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44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046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2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ип компьюте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8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ссо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мят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56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36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толь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44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20">
                <a:tc>
                  <a:txBody>
                    <a:bodyPr lIns="25560" rIns="25560" tIns="0" bIns="0" anchor="t">
                      <a:noAutofit/>
                    </a:bodyPr>
                    <a:p>
                      <a:pPr marL="142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1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25560" rIns="25560" tIns="0" bIns="0" anchor="t">
                      <a:noAutofit/>
                    </a:bodyPr>
                    <a:p>
                      <a:pPr marL="139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ртативны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иск данных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электронных таблицах можно осуществлять поиск данных (строк) в соответствии с  заданными условиями. Такие условия называютс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фильтром.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В результате поиска будут найдены строки, удовлетворяющие заданному фильтру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Условия задаются с помощью операций сравнения. Для числовых данных это операци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=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мен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lt;=) и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или равно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знак &gt;=). Для задания условия необхо­димо выбрать операцию сравнения и задать число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Для текстовых данных возможны операции сравнения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, начинается с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ервы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заканчивается на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последние символы),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содержит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(сравниваются символы в любой части текста). Для задания условия необходимо выбрать операцию сравнения и задать последовательность символов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ожно осуществлять поиск данных, вводя условия поиска для нескольких столбцов. В этом случае фильтр будет содержать несколько условий, которые должны выполняться одновременно. Например, если мы хотим в таблице, изображенной на рис. 10.4, найти данные о настольном компьютере с процессором </a:t>
            </a:r>
            <a:r>
              <a:rPr b="0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4 и памятью 128 Мб, то необходимо задать фильтр, состоящий из трех условий: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Компьютеры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Настольный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роцессор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равно </a:t>
            </a:r>
            <a:r>
              <a:rPr b="0" i="1" lang="en-US" sz="1500" spc="-1" strike="noStrike">
                <a:solidFill>
                  <a:srgbClr val="000000"/>
                </a:solidFill>
                <a:latin typeface="Georgia"/>
              </a:rPr>
              <a:t>Pentium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4;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- для столбца «Память» </a:t>
            </a:r>
            <a:r>
              <a:rPr b="0" i="1" lang="ru-RU" sz="1500" spc="-1" strike="noStrike">
                <a:solidFill>
                  <a:srgbClr val="000000"/>
                </a:solidFill>
                <a:latin typeface="Georgia"/>
              </a:rPr>
              <a:t>больше 6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TextBox 3"/>
          <p:cNvSpPr/>
          <p:nvPr/>
        </p:nvSpPr>
        <p:spPr>
          <a:xfrm>
            <a:off x="685800" y="5943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7b9899"/>
                </a:solidFill>
                <a:latin typeface="Georgia"/>
              </a:rPr>
              <a:t>Построение диаграмм и графи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Типы диаграмм и графиков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визуализировать данные, размещенные на рабочем листе, в виде диаграммы или графика. Диаграммы и графики наглядно отображают зависимости между данными, что облегчает восприятие и помогает при анализе и сравнении данны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иаграммы могут быть различных типов и соответственно представлять данные в различной форме. Для каждого набора данных важно правильно подобрать тип создаваемой диаграммы. Для наглядного сравнения различных величин используются линейчатые диаграммы. Например, с помощью линейчатой диаграммы можно наглядно представить данные о численности населения различных стран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величин частей от целого применяется круговая диаграмма. Круговая диаграмма позволяет, например, наглядно показать доли стоимости отдельных устройств компьютера в его цене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отображения изменения величин в зависимости от времени и построения графиков функций используются диаграммы типа «график» (рис. 10.5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4" name="Picture 1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5105160" cy="125100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2"/>
          <p:cNvSpPr/>
          <p:nvPr/>
        </p:nvSpPr>
        <p:spPr>
          <a:xfrm>
            <a:off x="4416120" y="-267480"/>
            <a:ext cx="311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01320" y="1447920"/>
            <a:ext cx="85042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иаграммы могут располагаться как на листе с данными (внедренные диаграммы), так и на отдельных листах. Диаграммы связаны с исходными данными на рабочем листе и обновляются при обновлении данных на рабочем лист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Для создания диаграмм используется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 диаграмм. Мастер диа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зволяет создавать диаграмму по шагам с помощью серии диалоговых панелей. В качестве примера рассмотрим таблицу «Цены устройств компьютера» и представим в наглядной форме долю цены каждого устройства в цене компьютер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остроение графиков. Построение графиков является частным случаем  построения диаграмм. Графики выбирают в тех случаях, когда хотят отобразить изменение данных с течением времени. Графики позволяют анализировать за­кономерности изменения величин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едставим с помощью графика динамику изменения цен по годам на различные модели компьютеров (на базе процессоров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Pentium III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) — рис. 10.6. 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роцесс построения графика с помощью </a:t>
            </a:r>
            <a:r>
              <a:rPr b="0" i="1" lang="ru-RU" sz="1300" spc="-1" strike="noStrike">
                <a:solidFill>
                  <a:srgbClr val="000000"/>
                </a:solidFill>
                <a:latin typeface="Georgia"/>
              </a:rPr>
              <a:t>Мастера диа­грамм 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аналогичен рассмотренному выше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2133720" y="3733920"/>
          <a:ext cx="4419360" cy="990360"/>
        </p:xfrm>
        <a:graphic>
          <a:graphicData uri="http://schemas.openxmlformats.org/drawingml/2006/table">
            <a:tbl>
              <a:tblPr/>
              <a:tblGrid>
                <a:gridCol w="2896920"/>
                <a:gridCol w="541440"/>
                <a:gridCol w="527040"/>
                <a:gridCol w="453960"/>
              </a:tblGrid>
              <a:tr h="3492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0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на компьютера на базе процессор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tium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46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5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8" name="Picture 1" descr="C:\Work\11а\информатика1111\IT3791_03_1.jpg"/>
          <p:cNvPicPr/>
          <p:nvPr/>
        </p:nvPicPr>
        <p:blipFill>
          <a:blip r:embed="rId1"/>
          <a:stretch/>
        </p:blipFill>
        <p:spPr>
          <a:xfrm>
            <a:off x="2590920" y="228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" descr="C:\Work\11а\информатика1111\KC6302_48.jpg"/>
          <p:cNvPicPr/>
          <p:nvPr/>
        </p:nvPicPr>
        <p:blipFill>
          <a:blip r:embed="rId2"/>
          <a:stretch/>
        </p:blipFill>
        <p:spPr>
          <a:xfrm>
            <a:off x="5105520" y="152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70" name="TextBox 6"/>
          <p:cNvSpPr/>
          <p:nvPr/>
        </p:nvSpPr>
        <p:spPr>
          <a:xfrm>
            <a:off x="685800" y="594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Надстройки в электронных таблицах</a:t>
            </a:r>
            <a:br>
              <a:rPr sz="30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6760"/>
            <a:ext cx="8504280" cy="22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озможности электронных таблиц не ограничиваются вычислениями по формулам и построением диаграмм и графиков. С помощью надстроек электронных таблиц можно строить геоинформационные модели (выводить на географи­ческие карты данные), приближенно с заданной точностью решать уравнения методом подбора параметра, решать задачи оптимизационного моделирования методом поиска решений и так далее. Некоторые из надстроек не устанавливаются по умолчанию и требуют установ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3" name="Picture 1" descr="C:\Work\11а\информатика1111\calc.jpg"/>
          <p:cNvPicPr/>
          <p:nvPr/>
        </p:nvPicPr>
        <p:blipFill>
          <a:blip r:embed="rId1"/>
          <a:stretch/>
        </p:blipFill>
        <p:spPr>
          <a:xfrm>
            <a:off x="1981080" y="3429000"/>
            <a:ext cx="4489560" cy="3166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3"/>
          <p:cNvSpPr/>
          <p:nvPr/>
        </p:nvSpPr>
        <p:spPr>
          <a:xfrm>
            <a:off x="2743200" y="3049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d7a"/>
                </a:solidFill>
                <a:latin typeface="Georgia"/>
              </a:rPr>
              <a:t>Содерж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4"/>
          <p:cNvSpPr/>
          <p:nvPr/>
        </p:nvSpPr>
        <p:spPr>
          <a:xfrm>
            <a:off x="380880" y="167652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1" action="ppaction://hlinksldjump"/>
              </a:rPr>
              <a:t>Электронные кальк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5"/>
          <p:cNvSpPr/>
          <p:nvPr/>
        </p:nvSpPr>
        <p:spPr>
          <a:xfrm>
            <a:off x="4419720" y="2209680"/>
            <a:ext cx="411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Электронны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380880" y="2666880"/>
            <a:ext cx="396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3" action="ppaction://hlinksldjump"/>
              </a:rPr>
              <a:t>Встроенные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7"/>
          <p:cNvSpPr/>
          <p:nvPr/>
        </p:nvSpPr>
        <p:spPr>
          <a:xfrm>
            <a:off x="3733920" y="3276720"/>
            <a:ext cx="44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4" action="ppaction://hlinksldjump"/>
              </a:rPr>
              <a:t>Сортировка и поиск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8"/>
          <p:cNvSpPr/>
          <p:nvPr/>
        </p:nvSpPr>
        <p:spPr>
          <a:xfrm>
            <a:off x="457200" y="4191120"/>
            <a:ext cx="579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5" action="ppaction://hlinksldjump"/>
              </a:rPr>
              <a:t>Построение диаграмм и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9"/>
          <p:cNvSpPr/>
          <p:nvPr/>
        </p:nvSpPr>
        <p:spPr>
          <a:xfrm>
            <a:off x="2971800" y="5029200"/>
            <a:ext cx="563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a3d6"/>
                </a:solidFill>
                <a:uFillTx/>
                <a:latin typeface="Georgia"/>
                <a:hlinkClick r:id="rId6" action="ppaction://hlinksldjump"/>
              </a:rPr>
              <a:t>Надстройки в электронных таблиц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иск решен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01320" y="1526760"/>
            <a:ext cx="85042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Поиск решения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является надстройкой, которая позволяет решать задачи оптимизационного моде­лирования. Процедура поиска решения позволяет найти оптимальное значение формулы, содержащейся в ячейке, которая называется целевой. Эта процедура работает с группой ячеек, прямо или косвенно связанных с формулой в целевой ячейке. Чтобы получить по формуле, содержащейся в целевой ячейке, искомый результат, процедура изменяет значения во влияющих ячейках. Чтобы сузить множество значений, используемых в модели, применяются ограничения. Эти ограничения могут содержать ссылки на другие влияющие ячейки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1" descr="C:\Work\11а\инфр\5.jpg"/>
          <p:cNvPicPr/>
          <p:nvPr/>
        </p:nvPicPr>
        <p:blipFill>
          <a:blip r:embed="rId1"/>
          <a:stretch/>
        </p:blipFill>
        <p:spPr>
          <a:xfrm>
            <a:off x="1143000" y="3962520"/>
            <a:ext cx="1771560" cy="23619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" descr="C:\Work\11а\инфр\ноут.jpg"/>
          <p:cNvPicPr/>
          <p:nvPr/>
        </p:nvPicPr>
        <p:blipFill>
          <a:blip r:embed="rId2"/>
          <a:stretch/>
        </p:blipFill>
        <p:spPr>
          <a:xfrm>
            <a:off x="4648320" y="396252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дбор параметр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является одним из инструментов анализа «что, если». Этот метод используется при поиске значения аргумента функции, который обеспечивает требуемое значение функции. При подборе параметра изменяется значение в ячейке аргумента функции до тех пор, пока значение в ячейке самой функции не будет возвращать нужный результат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качестве примера рассмотрим поиск корня урав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lang="ru-RU" sz="23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sin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* - 0,5 = 0. Представим функцию в табличной форме, построим ее график, который позволит определить корень уравнения грубо приближенно. Для поиска решения с заданной точностью используем метод 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Подбор параметра.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Точность подбора зависит от заданной точности представления чисел в ячейках таблицы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0" name="Picture 2" descr="C:\Work\11а\информатика1111\c465b.jpg"/>
          <p:cNvPicPr/>
          <p:nvPr/>
        </p:nvPicPr>
        <p:blipFill>
          <a:blip r:embed="rId1"/>
          <a:stretch/>
        </p:blipFill>
        <p:spPr>
          <a:xfrm>
            <a:off x="7086600" y="228600"/>
            <a:ext cx="1623960" cy="1219320"/>
          </a:xfrm>
          <a:prstGeom prst="rect">
            <a:avLst/>
          </a:prstGeom>
          <a:ln w="0">
            <a:noFill/>
          </a:ln>
        </p:spPr>
      </p:pic>
      <p:sp>
        <p:nvSpPr>
          <p:cNvPr id="681" name="TextBox 4"/>
          <p:cNvSpPr/>
          <p:nvPr/>
        </p:nvSpPr>
        <p:spPr>
          <a:xfrm>
            <a:off x="1219320" y="6019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546d7a"/>
                </a:solidFill>
                <a:latin typeface="Georgia"/>
              </a:rPr>
              <a:t>Электронные калькулято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6760"/>
            <a:ext cx="8504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являются специализирован­ными программными приложениями, предназначенными для произведения вычислений. Электронные калькуляторы по своим функциональным возможностям соответствуют ап­паратным микрокалькулятора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Аппаратные микрокалькуляторы могут существенно раз­личаться по своим возможностям и областям применения. Простые микрокалькуляторы позволяют осуществлять толь­ко арифметические операции над числами и используются в быту. Инженерные микрокалькуляторы позволяют также вычислять значения различных функций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(sin, cos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и др.) и используются в процессе обучения и для инженерных расче­тов; программистские микрокалькуляторы позволяют про­водить вычисления в различных системах счисления и другие оп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Электронные калькуляторы гораздо удобнее, так как могут обладать возможностями всех вышеперечисленных типов ап­паратных микрокалькуляторо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8" name="Picture 2" descr="C:\Work\11а\информатика1111\4537_17.jpg"/>
          <p:cNvPicPr/>
          <p:nvPr/>
        </p:nvPicPr>
        <p:blipFill>
          <a:blip r:embed="rId1"/>
          <a:stretch/>
        </p:blipFill>
        <p:spPr>
          <a:xfrm>
            <a:off x="6324480" y="4114800"/>
            <a:ext cx="2210040" cy="20048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C:\Work\11а\информатика1111\c476b.jpg"/>
          <p:cNvPicPr/>
          <p:nvPr/>
        </p:nvPicPr>
        <p:blipFill>
          <a:blip r:embed="rId2"/>
          <a:stretch/>
        </p:blipFill>
        <p:spPr>
          <a:xfrm>
            <a:off x="838080" y="4419720"/>
            <a:ext cx="2157480" cy="16192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" descr="C:\Work\11а\информатика1111\c465b.jpg"/>
          <p:cNvPicPr/>
          <p:nvPr/>
        </p:nvPicPr>
        <p:blipFill>
          <a:blip r:embed="rId3"/>
          <a:stretch/>
        </p:blipFill>
        <p:spPr>
          <a:xfrm>
            <a:off x="3657600" y="4419720"/>
            <a:ext cx="21574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й Калькулятор является стандартным приложением операционной системы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indows.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дним из удачных элек­тронных калькуляторов является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umLock Calculator,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процессе работы с которым легко выбрать требуемый тип калькулятора 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 помощью электронных калькуляторов можно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роизводить  арифметические  действия  над  целыми  и дробными числами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переводить числа из одной системы счисления в другую(например, из десятичной в двоичную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математических функций  (например,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х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, 1/х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статистических функций (например, среднее арифметическое заданных чисел)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- вычислять значения финансовых  функций  (например, вычислять сумму банковского вклада с заданным процентом) и др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проводить сложные многоступенчатые вычисления с записью промежуточных результатов в ячейки памяти калькулятора. По мере необходимости такие результаты можно извлекать из памяти и использовать в дальнейших вычислениях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Электронные калькуляторы позволяют обмениваться числовыми данными с другими приложениями с использованием </a:t>
            </a: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буфера обмена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перационной систем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2" descr="C:\Work\11а\инфр\265.jpg"/>
          <p:cNvPicPr/>
          <p:nvPr/>
        </p:nvPicPr>
        <p:blipFill>
          <a:blip r:embed="rId1"/>
          <a:stretch/>
        </p:blipFill>
        <p:spPr>
          <a:xfrm>
            <a:off x="1066680" y="228600"/>
            <a:ext cx="6542280" cy="10666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5"/>
          <p:cNvSpPr/>
          <p:nvPr/>
        </p:nvSpPr>
        <p:spPr>
          <a:xfrm>
            <a:off x="1676520" y="6019920"/>
            <a:ext cx="3657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Электронные таблиц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6760"/>
            <a:ext cx="85042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 позволяют обрабатывать большие массивы числовых данных, например результаты экспериментов, статистические данные и так далее. Наибольшее распространение получили электронные таблицы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Microsoft Excel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tarCalc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это работающее в диалоговом режиме приложение, хранящее и обрабатывающее данные в прямоугольных таблицах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ая таблица состоит из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олбцов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строк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Заго­ловки столбцов обозначаются буквами или сочетаниями букв (А, С, АВ и т. п.), заголовки строк — числами (1, 2, 3 и далее)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Ячейк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— место пересечения столбца и строк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ждая ячейка таблицы имеет свой собственный адрес.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дрес ячейки электронной таблицы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оставляется из заго­ловка столбца и заголовка строки, например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l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B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5, ЕЗ. Ячейка, с которой производятся какие-то действия, выделя­ется рамкой и называе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ктивной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 рис. активной ячейкой является ячейка СЗ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3657600" y="4952880"/>
          <a:ext cx="3986280" cy="1051200"/>
        </p:xfrm>
        <a:graphic>
          <a:graphicData uri="http://schemas.openxmlformats.org/drawingml/2006/table">
            <a:tbl>
              <a:tblPr/>
              <a:tblGrid>
                <a:gridCol w="365040"/>
                <a:gridCol w="609840"/>
                <a:gridCol w="725400"/>
                <a:gridCol w="695160"/>
                <a:gridCol w="792360"/>
                <a:gridCol w="798480"/>
              </a:tblGrid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96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62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365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95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5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25560" rIns="25560" tIns="0" bIns="0" anchor="t">
                      <a:noAutofit/>
                    </a:bodyPr>
                    <a:p>
                      <a:pPr marL="106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25560" rIns="25560" tIns="0" bIns="0" anchor="t">
                      <a:noAutofit/>
                    </a:bodyPr>
                    <a:p>
                      <a:pPr marL="968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Электронные таблицы, с которыми работает пользователь в приложении,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листами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Можно вво­дить и изменять данные одновременно на нескольких рабочих листах, а также выполнять вычисления на основе данных из нескольких листов. Документы электронных таблиц могут включать несколько рабочих листов и называются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рабочими книгам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Основные типы и форматы данных. В работе с электронными таблицами можно выделить три основных типа данных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, текст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формула.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зависимости от решаемой задачи возникает необходимость применять различные форматы представления данных. В каждом конкретном случае важно выбрать наиболее подходящий форма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чисел по умолчанию электронные таблицы используют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числово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, который отображает два десятичных знака после запятой (например, 195,2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Экспоненциаль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применяется, если число, содержащее большое количество разрядов, не умещается в ячейке (например, число 2 000 000 000 в экспоненциальном формате будет записано в следующем виде: 2,00Е+09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 умолчанию числа выравниваются в ячейке по правому краю. Это объясняется тем, что при размещении чисел друг под другом (в столбце таблицы) удобно иметь выравнивание по разрядам (единицы под единицами, десятки под десятками и так далее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1" descr="C:\Work\11а\информатика1111\Photoentirepage.jpg"/>
          <p:cNvPicPr/>
          <p:nvPr/>
        </p:nvPicPr>
        <p:blipFill>
          <a:blip r:embed="rId1"/>
          <a:stretch/>
        </p:blipFill>
        <p:spPr>
          <a:xfrm>
            <a:off x="609480" y="152280"/>
            <a:ext cx="1752840" cy="1165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C:\Work\11а\информатика1111\de754f679fdd.jpg"/>
          <p:cNvPicPr/>
          <p:nvPr/>
        </p:nvPicPr>
        <p:blipFill>
          <a:blip r:embed="rId2"/>
          <a:stretch/>
        </p:blipFill>
        <p:spPr>
          <a:xfrm>
            <a:off x="6400800" y="152280"/>
            <a:ext cx="1612800" cy="127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Текстом в электронных таблицах является последовательность символов, состоящая из букв, цифр и пробелов, например, запись «32 Мбайт» является текстовой. По умолчанию текст выравнивается в ячейке по левому краю. Это объясняется традиционным способом письма (слева направо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ула должна начинаться со знака равенства и может включать в себя числа, имена ячеек, функции и знаки математических операций. В формулу не может входить текст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Например, формула =А1+В2 обеспечивает сложение чисел, хранящихся в ячейках А1 и В2, а формула =А1*5 — умножение числа, хранящегося в ячейке А1, на 5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вводе формулы в ячейке отображается не сама формула, а результат вычислений по этой формуле. При изменении исходных значений, входящих в формулу, результат пересчитывается немедленно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Для представления данных можно использовать также специализированные форматы: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енежный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ормат (12000,00р.) удобен для бухгалтерских расчетов, форматы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дата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время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озволяют хранить значения временных данных (15.01.2002    17:45:10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1" descr="C:\Work\11а\информатика1111\clementoni_60303_1.jpg"/>
          <p:cNvPicPr/>
          <p:nvPr/>
        </p:nvPicPr>
        <p:blipFill>
          <a:blip r:embed="rId1"/>
          <a:stretch/>
        </p:blipFill>
        <p:spPr>
          <a:xfrm>
            <a:off x="3809880" y="228600"/>
            <a:ext cx="1376640" cy="1066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7b9899"/>
                </a:solidFill>
                <a:latin typeface="Georgia"/>
              </a:rPr>
              <a:t>Относительные и абсолютные ссылки.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ссылки на адреса ячеек. Существуют два основных типа ссылок: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абсолютные.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зличия между относительными и абсолютными ссылками проявляются при копировании формулы из активной ячейки в другую ячейку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900" spc="-1" strike="noStrike">
                <a:solidFill>
                  <a:srgbClr val="000000"/>
                </a:solidFill>
                <a:latin typeface="Georgia"/>
              </a:rPr>
              <a:t>Относительные ссылк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адреса ячейки, вычисляемого относительно ячей­ки, в которой находится формул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перемещении или копировании формулы из актив­ной ячейки относительные ссылки автоматически обновля­ются в зависимости от нового положения формулы. Относи­тельные ссылки имеют следующий вид: А1, ВЗ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относи­тельные ссылки, из ячейки С1 в ячейку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2 обозначения столбцов и строк в формуле изменятся на один шаг вправо и вниз (рис. 10.3)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2362320" y="5105520"/>
          <a:ext cx="4572000" cy="1218960"/>
        </p:xfrm>
        <a:graphic>
          <a:graphicData uri="http://schemas.openxmlformats.org/drawingml/2006/table">
            <a:tbl>
              <a:tblPr/>
              <a:tblGrid>
                <a:gridCol w="420480"/>
                <a:gridCol w="638280"/>
                <a:gridCol w="623880"/>
                <a:gridCol w="1065240"/>
                <a:gridCol w="1157400"/>
                <a:gridCol w="666720"/>
              </a:tblGrid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99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666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5244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95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1033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А1*В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В2*С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400">
                <a:tc>
                  <a:txBody>
                    <a:bodyPr lIns="25560" rIns="25560" tIns="0" bIns="0" anchor="t">
                      <a:noAutofit/>
                    </a:bodyPr>
                    <a:p>
                      <a:pPr marL="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$А$1*$В$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3040">
                <a:tc>
                  <a:txBody>
                    <a:bodyPr lIns="25560" rIns="25560" tIns="0" bIns="0" anchor="t">
                      <a:noAutofit/>
                    </a:bodyPr>
                    <a:p>
                      <a:pPr marL="93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01320" y="1526760"/>
            <a:ext cx="8504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i="1" lang="ru-RU" sz="1700" spc="-1" strike="noStrike">
                <a:solidFill>
                  <a:srgbClr val="000000"/>
                </a:solidFill>
                <a:latin typeface="Georgia"/>
              </a:rPr>
              <a:t>Абсолютные ссылки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в формулах используются для указания фиксированного адреса ячейки. При перемещении или копировании формулы абсолютные ссылки не изменяются. В абсолютных ссылках перед неизменяемыми значе­ниями адреса ячейки ставится знак доллара (например, $А$1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При копировании формулы, содержащей только абсолютные ссылки, из ячейки СЗ в ячейку 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4 обозначения столбцов и строк в формуле не изменятся (см. рис. 10.3)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Рассмотрим действие относительных и абсолютных ссылок на примере. Пусть нам необходимо вычислить стоимость комплектующих для компьютера в рублях, если известны их цены в долларах и курс доллара. Для вычисления цены в рублях необходимо умножить цену в долларах на величину курса доллара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2" descr="C:\Work\11а\информатика1111\1250152275.jpg"/>
          <p:cNvPicPr/>
          <p:nvPr/>
        </p:nvPicPr>
        <p:blipFill>
          <a:blip r:embed="rId1"/>
          <a:stretch/>
        </p:blipFill>
        <p:spPr>
          <a:xfrm>
            <a:off x="5334120" y="4038480"/>
            <a:ext cx="3033720" cy="2654280"/>
          </a:xfrm>
          <a:prstGeom prst="rect">
            <a:avLst/>
          </a:prstGeom>
          <a:ln w="0">
            <a:noFill/>
          </a:ln>
        </p:spPr>
      </p:pic>
      <p:sp>
        <p:nvSpPr>
          <p:cNvPr id="637" name="TextBox 4"/>
          <p:cNvSpPr/>
          <p:nvPr/>
        </p:nvSpPr>
        <p:spPr>
          <a:xfrm>
            <a:off x="609480" y="6019920"/>
            <a:ext cx="213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a3d6"/>
                </a:solidFill>
                <a:uFillTx/>
                <a:latin typeface="Georgia"/>
                <a:hlinkClick r:id="rId2" action="ppaction://hlinksldjump"/>
              </a:rPr>
              <a:t>На глав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pen</dc:creator>
  <dc:description/>
  <dc:language>en-US</dc:language>
  <cp:lastModifiedBy>open</cp:lastModifiedBy>
  <dcterms:modified xsi:type="dcterms:W3CDTF">2022-09-30T11:00:10Z</dcterms:modified>
  <cp:revision>21</cp:revision>
  <dc:subject/>
  <dc:title>Слайд 1</dc:title>
</cp:coreProperties>
</file>