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5659-3BDF-466E-A442-F8C3FF966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E8B5-37DF-4AD6-8228-A16E08B2E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D975-F939-410C-95BE-82D982FC61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E7C-D98A-4240-9401-3CA595F7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F59-4FE3-4EC3-8AC3-3B766BB3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1A6-CEBB-42E1-962D-E95340C1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496-B5F4-4777-8F6F-9BAF2E7A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299-D08D-4D25-B4FF-7F59C97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BFE-4F69-4CC7-814F-0DE46EB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9BB-ABDF-4DFB-A118-B48FF1E9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692-71E2-452E-8F26-8BE4EB6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EF9-154C-47D3-A9C6-18E03F2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A95-6DCF-4B8C-9D2B-017F5A9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621-89C9-49B9-8A74-B2BFD473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3E6-1689-4972-A63C-34C0D15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EF25-FFE0-4F8A-9D6B-EBB4718F2E10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000080" y="785880"/>
            <a:ext cx="8143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Методические рекомендаци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по обучению грамматике английского языка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с помощью интерактивной д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071880" y="4572000"/>
            <a:ext cx="561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истовой Ольги Юр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ропцевой Екатерины Викто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БОУ Ложк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530d5af709938a798eb30e45f6924aa"/>
          <p:cNvPicPr/>
          <p:nvPr/>
        </p:nvPicPr>
        <p:blipFill>
          <a:blip r:embed="rId1"/>
          <a:stretch/>
        </p:blipFill>
        <p:spPr>
          <a:xfrm flipH="1">
            <a:off x="0" y="14292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24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249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124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24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365040"/>
            <a:ext cx="8534520" cy="915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user\Desktop\Картинки\Бабочки_ Блестящие бабочки на сайте www_glitters_ru_ Тема бабочки (блестящие картинки).files\butterfly_20037.gif"/>
          <p:cNvPicPr/>
          <p:nvPr/>
        </p:nvPicPr>
        <p:blipFill>
          <a:blip r:embed="rId2"/>
          <a:stretch/>
        </p:blipFill>
        <p:spPr>
          <a:xfrm flipH="1">
            <a:off x="6786720" y="1643040"/>
            <a:ext cx="207144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95d61780f74bc8e5141f93693b3035c"/>
          <p:cNvPicPr/>
          <p:nvPr/>
        </p:nvPicPr>
        <p:blipFill>
          <a:blip r:embed="rId3"/>
          <a:stretch/>
        </p:blipFill>
        <p:spPr>
          <a:xfrm flipH="1">
            <a:off x="-360" y="4572000"/>
            <a:ext cx="1857240" cy="21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142920"/>
            <a:ext cx="771552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Использование ИКТ в учебном процессе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илить образовательные эффе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ысить качество усвоения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роить индивидуальные образовательные траектор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ить дифференцированный подход к учащимся с разным уровнем готовности к обучен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изовать одновременно детей, обладающих различными способностями и возмож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baby07"/>
          <p:cNvPicPr/>
          <p:nvPr/>
        </p:nvPicPr>
        <p:blipFill>
          <a:blip r:embed="rId1"/>
          <a:stretch/>
        </p:blipFill>
        <p:spPr>
          <a:xfrm flipH="1">
            <a:off x="7286760" y="2143080"/>
            <a:ext cx="154440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642960" y="479520"/>
            <a:ext cx="8001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Внедрение ИКТ осуществляется по направлен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дание презентаций к урок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на интерактивной дос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различных готовых обучающих програм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ресурсов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-557640"/>
            <a:ext cx="8501040" cy="78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Преимущества работы с интерактивными досками для преподава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преподавателям объяснять новый материал из центра класса, работать в большой аудито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ощряет импровизацию и гибкость, позволяя рисовать и делать записи поверх любых прилож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сохранять и распечатывать изображения на доске, включая любые записи, сделанные во время занятия, не затрачивая при этом много времени и сил и упрощая проверку усвоен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учителям делиться материалами друг с другом и вновь использовать и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дохновляет преподавателей на поиск новых подходов к обучению, стимулирует профессиональный р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28760" y="344520"/>
            <a:ext cx="84294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Преимущества для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лает занятия интересными и развивает мотив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яет больше возможностей для участия в коллективной работе, развития личных и социальных навы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щиеся легче воспринимают и усваивают сложные вопросы в результате более ясной, эффективной и динамичной подачи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использовать различные стили обучения, преподаватели могут обращаться к всевозможным ресурсам, приспосабливаясь к определенным потреб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щиеся начинают работать более творчески и становятся уверенными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14200" y="-184680"/>
            <a:ext cx="8715600" cy="72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Использую я электронную доску SMART </a:t>
            </a:r>
            <a:r>
              <a:rPr b="1" lang="en-US" sz="3200" spc="-1" strike="noStrike">
                <a:solidFill>
                  <a:srgbClr val="7030a0"/>
                </a:solidFill>
                <a:latin typeface="Arial Black"/>
              </a:rPr>
              <a:t>BOARD</a:t>
            </a: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, которая  позволяет осуществля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ное комментирование материала: выделение, уточнение, добавление дополнительной информации посредством электронных маркеров с возможностью изменить цвет и толщину ли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лноценную работу по переводу текста и отдельных предложений с указанием связей и взаимоотношений между слов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бор посредством виртуальной клавиатуры любого текста задания в любом приложении и его демонстрацию в режиме реального времен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 только знакомство с тестовыми заданиями в режиме просмотра, но и показательное тестирование отдельного ученика или группы учеников для всей аудитории, если в школе отсутствует компьютерный класс или он не может быть предоставлен учителю в данный момен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хранение результатов в отдельном файле в виде картинок или в HTML и PDF-форм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1680" y="20160"/>
            <a:ext cx="814356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Цели применения интерактивной доски при обучении грамматики английск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рецептивных грамматических навыков чтения и ауд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продуктивных грамматических навыков преимущественно письменн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троль уровня сформированности грамматических навыков на основе тестов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казание справочно-информационной поддержки (автоматизированные справочники по граммат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28760" y="526320"/>
            <a:ext cx="84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 Black"/>
              </a:rPr>
              <a:t>Направления работы с интерактивной доско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ние обучающих и познавательных программ на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здание упражнений в различных приложениях самим учителем с дальнейшим применением на уроках при объяснении материала, при его отработке и провер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357120"/>
            <a:ext cx="835812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 Black"/>
              </a:rPr>
              <a:t>Упражнения должн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Содержать четкую инструкцию по выполнению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Соответствовать этапу обучения грам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Использовать различные ресур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Предоставляться в разнообразных формах (текст, анимация, графика, зву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Использовать различные интерактивные функции доски (маркеры, подчеркивание, шторка, экранная клавиатура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Возможность просмотра правильного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Итоговая отм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7072200" y="4214880"/>
            <a:ext cx="1800360" cy="24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7:52:20Z</dcterms:created>
  <dc:creator>user</dc:creator>
  <dc:description/>
  <dc:language>en-US</dc:language>
  <cp:lastModifiedBy>Алексей</cp:lastModifiedBy>
  <dcterms:modified xsi:type="dcterms:W3CDTF">2022-09-30T10:57:58Z</dcterms:modified>
  <cp:revision>12</cp:revision>
  <dc:subject/>
  <dc:title>Слайд 1</dc:title>
</cp:coreProperties>
</file>