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19BD-F82C-46F7-8D91-3127ABBC91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7CCA-3459-4A45-AC3C-FCA7C0F10C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120-EAE0-434C-8BCA-5B7B514CB6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05C-DE11-4D8B-864B-B00775D9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8B1-8A36-4DDA-AA31-87C3C2B6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FF6-251D-463F-AF85-947759F5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8FF-6FA9-422A-88DD-1D0ACAEA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A4E-A10A-4957-8678-28FC4BE3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1FE-45F1-43A0-8FFD-434CABB6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FCA-7579-4140-BDF7-58F53C87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E39-332F-4EA2-8B8E-D59EC5C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69F-F7C4-4184-BA37-45D42D1A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86E-3D06-42FD-9795-4C96A3EC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77A-144A-4386-BD9A-5B3F0F7D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C3CE-49B4-400E-AD2F-D9B589F0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9CC8-D419-4037-97BF-39C4281A6399}" type="slidenum">
              <a:rPr b="0" lang="ru-RU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1000080" y="785880"/>
            <a:ext cx="81439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Методические рекомендации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по обучению грамматике английского языка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с помощью интерактивной до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3071880" y="4572000"/>
            <a:ext cx="5616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 опыта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истовой Ольги Юрь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оропцевой Екатерины Виктор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БОУ Ложковская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530d5af709938a798eb30e45f6924aa"/>
          <p:cNvPicPr/>
          <p:nvPr/>
        </p:nvPicPr>
        <p:blipFill>
          <a:blip r:embed="rId1"/>
          <a:stretch/>
        </p:blipFill>
        <p:spPr>
          <a:xfrm flipH="1">
            <a:off x="0" y="14292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24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249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1249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1249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Прямоугольник 1" descr=""/>
          <p:cNvPicPr/>
          <p:nvPr/>
        </p:nvPicPr>
        <p:blipFill>
          <a:blip r:embed="rId1"/>
          <a:stretch/>
        </p:blipFill>
        <p:spPr>
          <a:xfrm>
            <a:off x="291960" y="365040"/>
            <a:ext cx="8534520" cy="9156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user\Desktop\Картинки\Бабочки_ Блестящие бабочки на сайте www_glitters_ru_ Тема бабочки (блестящие картинки).files\butterfly_20037.gif"/>
          <p:cNvPicPr/>
          <p:nvPr/>
        </p:nvPicPr>
        <p:blipFill>
          <a:blip r:embed="rId2"/>
          <a:stretch/>
        </p:blipFill>
        <p:spPr>
          <a:xfrm flipH="1">
            <a:off x="6786720" y="1643040"/>
            <a:ext cx="2071440" cy="2209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f95d61780f74bc8e5141f93693b3035c"/>
          <p:cNvPicPr/>
          <p:nvPr/>
        </p:nvPicPr>
        <p:blipFill>
          <a:blip r:embed="rId3"/>
          <a:stretch/>
        </p:blipFill>
        <p:spPr>
          <a:xfrm flipH="1">
            <a:off x="-360" y="4572000"/>
            <a:ext cx="1857240" cy="21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142920"/>
            <a:ext cx="771552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Использование ИКТ в учебном процессе позволя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силить образовательные эффек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высить качество усвоения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роить индивидуальные образовательные траектори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уществить дифференцированный подход к учащимся с разным уровнем готовности к обучен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рганизовать одновременно детей, обладающих различными способностями и возмож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baby07"/>
          <p:cNvPicPr/>
          <p:nvPr/>
        </p:nvPicPr>
        <p:blipFill>
          <a:blip r:embed="rId1"/>
          <a:stretch/>
        </p:blipFill>
        <p:spPr>
          <a:xfrm flipH="1">
            <a:off x="7286760" y="2143080"/>
            <a:ext cx="154440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642960" y="479520"/>
            <a:ext cx="800100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Внедрение ИКТ осуществляется по направлен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здание презентаций к урок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бота на интерактивной дос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различных готовых обучающих програм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ресурсов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85840" y="-557640"/>
            <a:ext cx="8501040" cy="78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Преимущества работы с интерактивными досками для преподават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воляет преподавателям объяснять новый материал из центра класса, работать в большой аудитор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ощряет импровизацию и гибкость, позволяя рисовать и делать записи поверх любых прилож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воляет сохранять и распечатывать изображения на доске, включая любые записи, сделанные во время занятия, не затрачивая при этом много времени и сил и упрощая проверку усвоенного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воляет учителям делиться материалами друг с другом и вновь использовать и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дохновляет преподавателей на поиск новых подходов к обучению, стимулирует профессиональный р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428760" y="344520"/>
            <a:ext cx="84294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Преимущества для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лает занятия интересными и развивает мотивацию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доставляет больше возможностей для участия в коллективной работе, развития личных и социальных навы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щиеся легче воспринимают и усваивают сложные вопросы в результате более ясной, эффективной и динамичной подачи материа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воляет использовать различные стили обучения, преподаватели могут обращаться к всевозможным ресурсам, приспосабливаясь к определенным потребностя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чащиеся начинают работать более творчески и становятся уверенными в с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214200" y="-184680"/>
            <a:ext cx="8715600" cy="72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Использую я электронную доску SMART </a:t>
            </a:r>
            <a:r>
              <a:rPr b="1" lang="en-US" sz="3200" spc="-1" strike="noStrike">
                <a:solidFill>
                  <a:srgbClr val="7030a0"/>
                </a:solidFill>
                <a:latin typeface="Arial Black"/>
              </a:rPr>
              <a:t>BOARD</a:t>
            </a: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, которая  позволяет осуществля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активное комментирование материала: выделение, уточнение, добавление дополнительной информации посредством электронных маркеров с возможностью изменить цвет и толщину ли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лноценную работу по переводу текста и отдельных предложений с указанием связей и взаимоотношений между слов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бор посредством виртуальной клавиатуры любого текста задания в любом приложении и его демонстрацию в режиме реального времен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е только знакомство с тестовыми заданиями в режиме просмотра, но и показательное тестирование отдельного ученика или группы учеников для всей аудитории, если в школе отсутствует компьютерный класс или он не может быть предоставлен учителю в данный момен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хранение результатов в отдельном файле в виде картинок или в HTML и PDF-форм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71680" y="20160"/>
            <a:ext cx="814356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 Black"/>
              </a:rPr>
              <a:t>Цели применения интерактивной доски при обучении грамматики английского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рецептивных грамматических навыков чтения и ауд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формирование продуктивных грамматических навыков преимущественно письменно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троль уровня сформированности грамматических навыков на основе тестов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казание справочно-информационной поддержки (автоматизированные справочники по граммати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28760" y="526320"/>
            <a:ext cx="84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 Black"/>
              </a:rPr>
              <a:t>Направления работы с интерактивной доско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Использование обучающих и познавательных программ на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nstanti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здание упражнений в различных приложениях самим учителем с дальнейшим применением на уроках при объяснении материала, при его отработке и провер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85840" y="357120"/>
            <a:ext cx="8358120" cy="43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Arial Black"/>
              </a:rPr>
              <a:t>Упражнения должн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Содержать четкую инструкцию по выполнению з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Соответствовать этапу обучения грамма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Использовать различные ресур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Предоставляться в разнообразных формах (текст, анимация, графика, зву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Использовать различные интерактивные функции доски (маркеры, подчеркивание, шторка, экранная клавиатура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Возможность просмотра правильного от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 Black"/>
              </a:rPr>
              <a:t>Итоговая отме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8"/>
          <p:cNvPicPr/>
          <p:nvPr/>
        </p:nvPicPr>
        <p:blipFill>
          <a:blip r:embed="rId1"/>
          <a:stretch/>
        </p:blipFill>
        <p:spPr>
          <a:xfrm>
            <a:off x="7072200" y="4214880"/>
            <a:ext cx="1800360" cy="24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0T17:52:20Z</dcterms:created>
  <dc:creator>user</dc:creator>
  <dc:description/>
  <dc:language>en-US</dc:language>
  <cp:lastModifiedBy>Алексей</cp:lastModifiedBy>
  <dcterms:modified xsi:type="dcterms:W3CDTF">2022-09-30T10:57:58Z</dcterms:modified>
  <cp:revision>12</cp:revision>
  <dc:subject/>
  <dc:title>Слайд 1</dc:title>
</cp:coreProperties>
</file>