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7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25.gif" ContentType="image/gif"/>
  <Override PartName="/ppt/media/image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5.jpeg" ContentType="image/jpeg"/>
  <Override PartName="/ppt/media/image35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754-724E-4E64-BA76-2EEFD122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73E-FC64-45D6-BD34-901DF350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11E-CF23-473A-A23C-785DC257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27B-13AB-4A27-BBD3-139B926C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91D-F641-4BAA-ABFD-EF266657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BC7-A391-4EFA-A8A9-95B1A08C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0AB-D778-424D-A8C6-0B061418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DD78-1FCB-4F5F-8AF4-D94982EA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035-D963-4683-8FD8-10C27067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D1D-973B-4B2A-8BD3-8E287A20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6E9-711C-403E-B309-369EE14C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614-3AB8-4119-89F4-3AC5344C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7081-8043-4186-AB49-EE50BF29BF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copypast.ru%2Ffoto5%2F7333%2FBelki%2Fbelki_004.jpg&amp;pageurl=http%3A%2F%2Fzverilesa.ru%2F%3Fp%3D26&amp;id=71537658&amp;iid=3&amp;imgwidth=300&amp;imgheight=216&amp;imgsize=86900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go.mail.ru/frame.html?&amp;imgurl=http%3A%2F%2Fwww.tiga.by%2Fimages%2Fnews%2Fc2fc3beer.jpg&amp;pageurl=http%3A%2F%2Fwww.liveinternet.ru%2Fusers%2F2853611%2F&amp;id=269591&amp;iid=3&amp;imgwidth=300&amp;imgheight=203&amp;imgsize=4987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go.mail.ru/frame.html?&amp;imgurl=http%3A%2F%2Fimg-fotki.yandex.ru%2Fget%2F11%2Fivassh.0%2F0_405f_eab83e9_L.jpg&amp;pageurl=http%3A%2F%2Fagol.ucoz.ru%2Findex%2F0-4&amp;id=51161876&amp;iid=8&amp;imgwidth=350&amp;imgheight=305&amp;imgsize=8475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upload.wikimedia.org%2Fwikipedia%2Fcommons%2Fthumb%2F9%2F96%2FMountain_Hare_Scotland.jpg%2F275px-Mountain_Hare_Scotland.jpg&amp;pageurl=http%3A%2F%2Fdic.academic.ru%2Fdic.nsf%2Fruwiki%2F105970&amp;id=40907417&amp;iid=2&amp;imgwidth=441&amp;imgheight=357&amp;imgsize=69805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go.mail.ru/frame.html?&amp;imgurl=http%3A%2F%2Fzhurnal.lib.ru%2Fimg%2Fk%2Fkozlow_p_w%2Fptica%2Fptica.gif&amp;pageurl=http%3A%2F%2F900igr.net%2FDetskie_prezentatsii%2Fnasekomye_i_ptitsy%2FPtitsy_3.files%2Fskachat_prezentatsiju_dlja_detej_Ptitsy.html&amp;id=23357721&amp;iid=0&amp;imgwidth=74&amp;imgheight=95&amp;imgsize=42092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go.mail.ru/frame.html?&amp;imgurl=http%3A%2F%2Fimg0.liveinternet.ru%2Fimages%2Fattach%2Fc%2F0%2F47%2F992%2F47992029_30.jpg&amp;pageurl=http%3A%2F%2Flesfleurs.ucoz.ru%2Fforum%2F100-408-26&amp;id=21855731&amp;iid=6&amp;imgwidth=600&amp;imgheight=450&amp;imgsize=305272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go.mail.ru/frame.html?&amp;imgurl=http%3A%2F%2Fi033.radikal.ru%2F0805%2Fc8%2Fe9f55be0af01t.jpg&amp;pageurl=http%3A%2F%2Fwww.blogdex.ru%2F%3Fp%3D3496%26page%3D3&amp;id=30796994&amp;iid=6&amp;imgwidth=180&amp;imgheight=120&amp;imgsize=35758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go.mail.ru/frame.html?&amp;imgurl=http%3A%2F%2Fz2.foto.rambler.ru%2Fpublic%2Flilysha2006%2F_photos%2F3%2F1-prev.jpg&amp;pageurl=http%3A%2F%2Fwww.pil.ru%2Fcards%2Fpage_card-3_5.html&amp;id=19072682&amp;iid=5&amp;imgwidth=100&amp;imgheight=75&amp;imgsize=28115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jpeg"/><Relationship Id="rId3" Type="http://schemas.openxmlformats.org/officeDocument/2006/relationships/image" Target="../media/image21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&amp;imgurl=http%3A%2F%2Fwww.ctv.by%2Fimg%2F16%2F%7Eotlet-ptic_15386_250x150_mc.jpg&amp;pageurl=http%3A%2F%2Fwww.ctv.by%2Fnews%2F%7Epage__m11%3D300%7Enews__m11%3D15531&amp;id=141300823&amp;iid=5&amp;imgwidth=250&amp;imgheight=150&amp;imgsize=4008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go.mail.ru/frame.html?&amp;imgurl=http%3A%2F%2Fimg-fotki.yandex.ru%2Fget%2F3301%2Fastra-alaya.1d%2F0_165ba_e65f8aeb_S&amp;pageurl=http%3A%2F%2Ffotki.yandex.ru%2Fusers%2Fastra-alaya%2Fview%2F91578%2F&amp;id=134221766&amp;iid=8&amp;imgwidth=700&amp;imgheight=525&amp;imgsize=48813" TargetMode="Externa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25.gi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4240" y="158400"/>
            <a:ext cx="57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«ОЦ»Созвездие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клас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44808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4600" y="3541680"/>
            <a:ext cx="3749760" cy="251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152280"/>
            <a:ext cx="2447640" cy="2124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24000" y="24732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"/>
              </a:rPr>
              <a:t>ЖИВОТНЫ ОСЕН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4241880" y="5568840"/>
            <a:ext cx="457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ванов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826920" y="189000"/>
            <a:ext cx="78487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Я очень осторожный зверь. Охочусь ночью. Тело покрыто серебристо-серой жёсткой щетиной. От носа тянутся белые полосы. Осенью нагуливаю жир – готовлюсь к зиме. Питаюсь грызунами, лягушками, ящерицами, выкапываю червей. К холодам ложусь сп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rcRect l="0" t="9031" r="0" b="9203"/>
          <a:stretch/>
        </p:blipFill>
        <p:spPr>
          <a:xfrm>
            <a:off x="755640" y="189000"/>
            <a:ext cx="8066160" cy="5554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6" name="WordArt 4"/>
          <p:cNvSpPr txBox="1"/>
          <p:nvPr/>
        </p:nvSpPr>
        <p:spPr>
          <a:xfrm>
            <a:off x="2484360" y="5805360"/>
            <a:ext cx="4105440" cy="91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арсу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0" t="7099" r="6624" b="0"/>
          <a:stretch/>
        </p:blipFill>
        <p:spPr>
          <a:xfrm>
            <a:off x="4356000" y="189000"/>
            <a:ext cx="4565880" cy="34066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88" name="Picture 3" descr=""/>
          <p:cNvPicPr/>
          <p:nvPr/>
        </p:nvPicPr>
        <p:blipFill>
          <a:blip r:embed="rId2"/>
          <a:srcRect l="5994" t="2613" r="5322" b="7159"/>
          <a:stretch/>
        </p:blipFill>
        <p:spPr>
          <a:xfrm>
            <a:off x="250920" y="3357720"/>
            <a:ext cx="4787640" cy="3284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9" name="WordArt 4"/>
          <p:cNvSpPr txBox="1"/>
          <p:nvPr/>
        </p:nvSpPr>
        <p:spPr>
          <a:xfrm>
            <a:off x="900000" y="2349360"/>
            <a:ext cx="25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ме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5508720" y="3860640"/>
            <a:ext cx="331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ягуш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0" t="9031" r="0" b="9203"/>
          <a:stretch/>
        </p:blipFill>
        <p:spPr>
          <a:xfrm>
            <a:off x="4932360" y="3933720"/>
            <a:ext cx="3997440" cy="2752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rcRect l="15326" t="16926" r="18411" b="8441"/>
          <a:stretch/>
        </p:blipFill>
        <p:spPr>
          <a:xfrm>
            <a:off x="250920" y="1052640"/>
            <a:ext cx="3240000" cy="2736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3" name="Picture 4" descr=""/>
          <p:cNvPicPr/>
          <p:nvPr/>
        </p:nvPicPr>
        <p:blipFill>
          <a:blip r:embed="rId3"/>
          <a:srcRect l="5994" t="0" r="0" b="7159"/>
          <a:stretch/>
        </p:blipFill>
        <p:spPr>
          <a:xfrm>
            <a:off x="250920" y="3933720"/>
            <a:ext cx="4103640" cy="27320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5292720" y="765000"/>
            <a:ext cx="3600360" cy="30117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419640" y="2491920"/>
            <a:ext cx="230328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ходя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спяч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979640" y="-360"/>
            <a:ext cx="446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Что объединяет этих животны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71640" y="189000"/>
            <a:ext cx="7272360" cy="48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 у мен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Целых тридцать три кладов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 каждой семечки леж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ля моих же малыш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Ешьте, детки, ешьте вволю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ного семечек на п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rcRect l="1964" t="1230" r="2935" b="0"/>
          <a:stretch/>
        </p:blipFill>
        <p:spPr>
          <a:xfrm>
            <a:off x="971640" y="93600"/>
            <a:ext cx="7272360" cy="60166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99" name="WordArt 4"/>
          <p:cNvSpPr txBox="1"/>
          <p:nvPr/>
        </p:nvSpPr>
        <p:spPr>
          <a:xfrm>
            <a:off x="3132000" y="6165720"/>
            <a:ext cx="2448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ыш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826920" y="189000"/>
            <a:ext cx="75614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Мы меняем шубку на более тёплую и пушистую. Свою главную добычу – мышей-полёвок – находим без всяких уловок. Нос и уши помогают. А зайца нам догнать трудно, разве что случайно столкнёмся с косым или набредём на зайчо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5778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2" name="WordArt 4"/>
          <p:cNvSpPr txBox="1"/>
          <p:nvPr/>
        </p:nvSpPr>
        <p:spPr>
          <a:xfrm>
            <a:off x="3132000" y="6093000"/>
            <a:ext cx="251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rcRect l="0" t="6939" r="0" b="10094"/>
          <a:stretch/>
        </p:blipFill>
        <p:spPr>
          <a:xfrm>
            <a:off x="4211640" y="620640"/>
            <a:ext cx="4622760" cy="5256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4" name="Text Box 3"/>
          <p:cNvSpPr/>
          <p:nvPr/>
        </p:nvSpPr>
        <p:spPr>
          <a:xfrm>
            <a:off x="611280" y="620640"/>
            <a:ext cx="3097080" cy="52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У него рога ветвист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а копыта быстр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Головой качая, 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Задевает небосклон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68360" y="333360"/>
            <a:ext cx="324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5"/>
          <p:cNvSpPr txBox="1"/>
          <p:nvPr/>
        </p:nvSpPr>
        <p:spPr>
          <a:xfrm>
            <a:off x="5724360" y="6021360"/>
            <a:ext cx="1872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ос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0" t="0" r="0" b="14484"/>
          <a:stretch/>
        </p:blipFill>
        <p:spPr>
          <a:xfrm>
            <a:off x="3984480" y="404640"/>
            <a:ext cx="4954680" cy="5112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08" name="Text Box 3"/>
          <p:cNvSpPr/>
          <p:nvPr/>
        </p:nvSpPr>
        <p:spPr>
          <a:xfrm>
            <a:off x="250920" y="333360"/>
            <a:ext cx="3384360" cy="534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пускается тум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Просыпается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Роет землю у ре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Точит острые клы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5148360" y="5589720"/>
            <a:ext cx="2303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бан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258920" y="476280"/>
            <a:ext cx="5400720" cy="47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н носит мех блестящ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Осторожно воду пь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ом его в кедровой чащ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Жизнь он скрытную ведё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0" t="0" r="6608" b="5856"/>
          <a:stretch/>
        </p:blipFill>
        <p:spPr>
          <a:xfrm>
            <a:off x="1042920" y="260280"/>
            <a:ext cx="6264360" cy="5545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2" name="WordArt 4"/>
          <p:cNvSpPr txBox="1"/>
          <p:nvPr/>
        </p:nvSpPr>
        <p:spPr>
          <a:xfrm>
            <a:off x="2771640" y="5757840"/>
            <a:ext cx="381816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ол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92360" y="260280"/>
            <a:ext cx="5545080" cy="47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ень и ночь по лесу рыщ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День и ночь добычу ищ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Ходит-бродит он молч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Уши серые – торч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624720" cy="5349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5" name="WordArt 4"/>
          <p:cNvSpPr txBox="1"/>
          <p:nvPr/>
        </p:nvSpPr>
        <p:spPr>
          <a:xfrm>
            <a:off x="3635280" y="5805360"/>
            <a:ext cx="147636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л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900000" y="981000"/>
            <a:ext cx="741708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Times New Roman"/>
              </a:rPr>
              <a:t>Звери от врагов спасаются по-разному: кто в дуплах, кто прячется под снегом, кто в норах. А я ничего этого делать не умею. Врагов у меня полным-полно. И всё-таки, я живу, не тужу. Выручают меня нос, чуткие уши, быстрые ноги и неприметная шуб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573440" cy="3349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541680" cy="53737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19" name="WordArt 5"/>
          <p:cNvSpPr txBox="1"/>
          <p:nvPr/>
        </p:nvSpPr>
        <p:spPr>
          <a:xfrm>
            <a:off x="1258920" y="5589720"/>
            <a:ext cx="251928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яц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ГРУППЫ  ЖИВОТН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СМЫКАЮЩИЕСЯ  И ЗЕМНОВ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341360"/>
            <a:ext cx="1584360" cy="127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8000" y="1844640"/>
            <a:ext cx="1098720" cy="1409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3141720"/>
            <a:ext cx="172692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88000" y="3789360"/>
            <a:ext cx="2125800" cy="122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292720" y="5499000"/>
            <a:ext cx="20160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260280"/>
            <a:ext cx="4067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Что объединяет этих живот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55720" cy="26654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2" name="Picture 4" descr=""/>
          <p:cNvPicPr/>
          <p:nvPr/>
        </p:nvPicPr>
        <p:blipFill>
          <a:blip r:embed="rId2"/>
          <a:srcRect l="10877" t="9449" r="0" b="9818"/>
          <a:stretch/>
        </p:blipFill>
        <p:spPr>
          <a:xfrm>
            <a:off x="179280" y="1484280"/>
            <a:ext cx="2881440" cy="2106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3" name="Picture 5" descr=""/>
          <p:cNvPicPr/>
          <p:nvPr/>
        </p:nvPicPr>
        <p:blipFill>
          <a:blip r:embed="rId3"/>
          <a:srcRect l="10732" t="0" r="15202" b="5856"/>
          <a:stretch/>
        </p:blipFill>
        <p:spPr>
          <a:xfrm>
            <a:off x="6443640" y="4076640"/>
            <a:ext cx="2347920" cy="2619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124" name="Rectangle 6"/>
          <p:cNvSpPr/>
          <p:nvPr/>
        </p:nvSpPr>
        <p:spPr>
          <a:xfrm>
            <a:off x="6084720" y="2492280"/>
            <a:ext cx="280836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и мог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кормить себ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4"/>
          <a:srcRect l="0" t="6939" r="0" b="10094"/>
          <a:stretch/>
        </p:blipFill>
        <p:spPr>
          <a:xfrm>
            <a:off x="179280" y="3716280"/>
            <a:ext cx="2571840" cy="2925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6" name="Picture 8" descr=""/>
          <p:cNvPicPr/>
          <p:nvPr/>
        </p:nvPicPr>
        <p:blipFill>
          <a:blip r:embed="rId5"/>
          <a:srcRect l="3770" t="11332" r="3605" b="0"/>
          <a:stretch/>
        </p:blipFill>
        <p:spPr>
          <a:xfrm>
            <a:off x="2987640" y="4437000"/>
            <a:ext cx="3168720" cy="22748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7" name="Picture 9" descr=""/>
          <p:cNvPicPr/>
          <p:nvPr/>
        </p:nvPicPr>
        <p:blipFill>
          <a:blip r:embed="rId6"/>
          <a:srcRect l="7505" t="8425" r="3839" b="24092"/>
          <a:stretch/>
        </p:blipFill>
        <p:spPr>
          <a:xfrm>
            <a:off x="3276720" y="1989000"/>
            <a:ext cx="2520720" cy="2314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28" name="Picture 10" descr=""/>
          <p:cNvPicPr/>
          <p:nvPr/>
        </p:nvPicPr>
        <p:blipFill>
          <a:blip r:embed="rId7"/>
          <a:srcRect l="12781" t="9572" r="11692" b="15084"/>
          <a:stretch/>
        </p:blipFill>
        <p:spPr>
          <a:xfrm>
            <a:off x="4716360" y="189000"/>
            <a:ext cx="2159280" cy="1673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027080" y="573120"/>
            <a:ext cx="75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ентябрь ещё называют месяцем с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ентябре синица просит осень в г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олоден батюшка сентябрь, да кормить гораз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51920" y="5105520"/>
            <a:ext cx="760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Сентябрь птиц в дорогу торопит»- глас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овица. Как ни хороша осенняя пого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не сытен сентябрьский лес, а улетать над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уть предстоит неблиз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714840" y="2703600"/>
            <a:ext cx="1714320" cy="1450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1908000" y="1773360"/>
            <a:ext cx="5791320" cy="3090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7596360" y="4797360"/>
            <a:ext cx="1238040" cy="990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7905600" y="4076640"/>
            <a:ext cx="123840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5"/>
          <a:stretch/>
        </p:blipFill>
        <p:spPr>
          <a:xfrm>
            <a:off x="7667640" y="404640"/>
            <a:ext cx="12384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692360" y="620640"/>
            <a:ext cx="6102360" cy="825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Звери  осен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 flipH="1">
            <a:off x="1618920" y="1484280"/>
            <a:ext cx="115236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4572000" y="1484280"/>
            <a:ext cx="0" cy="295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6659640" y="1484280"/>
            <a:ext cx="100800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250920" y="2924280"/>
            <a:ext cx="2519280" cy="701640"/>
            <a:chOff x="250920" y="2924280"/>
            <a:chExt cx="2519280" cy="701640"/>
          </a:xfrm>
        </p:grpSpPr>
        <p:sp>
          <p:nvSpPr>
            <p:cNvPr id="141" name="Text Box 7"/>
            <p:cNvSpPr/>
            <p:nvPr/>
          </p:nvSpPr>
          <p:spPr>
            <a:xfrm>
              <a:off x="250920" y="292428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WordArt 8"/>
            <p:cNvSpPr txBox="1"/>
            <p:nvPr/>
          </p:nvSpPr>
          <p:spPr>
            <a:xfrm>
              <a:off x="1187280" y="299736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3" name="Group 9"/>
          <p:cNvGrpSpPr/>
          <p:nvPr/>
        </p:nvGrpSpPr>
        <p:grpSpPr>
          <a:xfrm>
            <a:off x="3132000" y="4581360"/>
            <a:ext cx="2519280" cy="701640"/>
            <a:chOff x="3132000" y="4581360"/>
            <a:chExt cx="2519280" cy="701640"/>
          </a:xfrm>
        </p:grpSpPr>
        <p:sp>
          <p:nvSpPr>
            <p:cNvPr id="144" name="Text Box 10"/>
            <p:cNvSpPr/>
            <p:nvPr/>
          </p:nvSpPr>
          <p:spPr>
            <a:xfrm>
              <a:off x="3132000" y="458136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WordArt 11"/>
            <p:cNvSpPr txBox="1"/>
            <p:nvPr/>
          </p:nvSpPr>
          <p:spPr>
            <a:xfrm>
              <a:off x="4068360" y="465444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6" name="Group 12"/>
          <p:cNvGrpSpPr/>
          <p:nvPr/>
        </p:nvGrpSpPr>
        <p:grpSpPr>
          <a:xfrm>
            <a:off x="6084720" y="3429000"/>
            <a:ext cx="2519280" cy="701640"/>
            <a:chOff x="6084720" y="3429000"/>
            <a:chExt cx="2519280" cy="701640"/>
          </a:xfrm>
        </p:grpSpPr>
        <p:sp>
          <p:nvSpPr>
            <p:cNvPr id="147" name="Text Box 13"/>
            <p:cNvSpPr/>
            <p:nvPr/>
          </p:nvSpPr>
          <p:spPr>
            <a:xfrm>
              <a:off x="6084720" y="342900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WordArt 14"/>
            <p:cNvSpPr txBox="1"/>
            <p:nvPr/>
          </p:nvSpPr>
          <p:spPr>
            <a:xfrm>
              <a:off x="7021080" y="350208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250920" y="2924280"/>
            <a:ext cx="2519280" cy="701640"/>
            <a:chOff x="250920" y="2924280"/>
            <a:chExt cx="2519280" cy="701640"/>
          </a:xfrm>
        </p:grpSpPr>
        <p:sp>
          <p:nvSpPr>
            <p:cNvPr id="150" name="Text Box 16"/>
            <p:cNvSpPr/>
            <p:nvPr/>
          </p:nvSpPr>
          <p:spPr>
            <a:xfrm>
              <a:off x="250920" y="2924280"/>
              <a:ext cx="2519280" cy="7016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WordArt 17"/>
            <p:cNvSpPr txBox="1"/>
            <p:nvPr/>
          </p:nvSpPr>
          <p:spPr>
            <a:xfrm>
              <a:off x="1187280" y="2997360"/>
              <a:ext cx="4017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2" name="Rectangle 18"/>
          <p:cNvSpPr/>
          <p:nvPr/>
        </p:nvSpPr>
        <p:spPr>
          <a:xfrm>
            <a:off x="3132000" y="4508640"/>
            <a:ext cx="2592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лаю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а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250920" y="2781360"/>
            <a:ext cx="266364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ходя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яч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5867280" y="2924280"/>
            <a:ext cx="309744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гу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корм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ПТИЦЫ  ОСЕН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ОХОЛО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ЧЕЗАЮТ НАСЕКО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ЯДАЮТ ТРА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РЗАЮТ ВОДОЁ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ОТЛЁТ  ПТИ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2519280" cy="151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2852640"/>
            <a:ext cx="2341440" cy="1755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5"/>
          <a:stretch/>
        </p:blipFill>
        <p:spPr>
          <a:xfrm>
            <a:off x="611280" y="4221000"/>
            <a:ext cx="2952720" cy="2171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"/>
          <p:cNvPicPr/>
          <p:nvPr/>
        </p:nvPicPr>
        <p:blipFill>
          <a:blip r:embed="rId6"/>
          <a:stretch/>
        </p:blipFill>
        <p:spPr>
          <a:xfrm>
            <a:off x="4211640" y="1197000"/>
            <a:ext cx="2376360" cy="1544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7"/>
          <a:stretch/>
        </p:blipFill>
        <p:spPr>
          <a:xfrm>
            <a:off x="4643280" y="4714920"/>
            <a:ext cx="2737080" cy="1915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4"/>
          <p:cNvSpPr/>
          <p:nvPr/>
        </p:nvSpPr>
        <p:spPr>
          <a:xfrm>
            <a:off x="1547640" y="3016440"/>
            <a:ext cx="56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усей крикливых караван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янулся к югу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5" descr=""/>
          <p:cNvPicPr/>
          <p:nvPr/>
        </p:nvPicPr>
        <p:blipFill>
          <a:blip r:embed="rId8"/>
          <a:stretch/>
        </p:blipFill>
        <p:spPr>
          <a:xfrm>
            <a:off x="7164360" y="189000"/>
            <a:ext cx="17146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6019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Птицы улетают на юг, туда, где теп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38080" y="380880"/>
            <a:ext cx="7543800" cy="526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434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617184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Значит скоро придет з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934320" cy="579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91440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3622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1834920" y="692280"/>
            <a:ext cx="5976720" cy="3168000"/>
            <a:chOff x="1834920" y="692280"/>
            <a:chExt cx="5976720" cy="3168000"/>
          </a:xfrm>
        </p:grpSpPr>
        <p:sp>
          <p:nvSpPr>
            <p:cNvPr id="55" name="Text Box 3"/>
            <p:cNvSpPr/>
            <p:nvPr/>
          </p:nvSpPr>
          <p:spPr>
            <a:xfrm>
              <a:off x="2627280" y="692280"/>
              <a:ext cx="4824000" cy="7034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3300"/>
                  </a:solidFill>
                  <a:latin typeface="Times New Roman"/>
                </a:rPr>
                <a:t>Животные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4"/>
            <p:cNvSpPr/>
            <p:nvPr/>
          </p:nvSpPr>
          <p:spPr>
            <a:xfrm flipH="1">
              <a:off x="1834920" y="1412640"/>
              <a:ext cx="2663640" cy="151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"/>
            <p:cNvSpPr/>
            <p:nvPr/>
          </p:nvSpPr>
          <p:spPr>
            <a:xfrm flipH="1">
              <a:off x="4714560" y="1412640"/>
              <a:ext cx="70920" cy="24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>
              <a:off x="5290920" y="1484280"/>
              <a:ext cx="2520720" cy="179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7"/>
          <p:cNvSpPr/>
          <p:nvPr/>
        </p:nvSpPr>
        <p:spPr>
          <a:xfrm>
            <a:off x="179280" y="2997360"/>
            <a:ext cx="251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012000" y="3284640"/>
            <a:ext cx="2952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132000" y="3933720"/>
            <a:ext cx="251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138560" cy="5977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3" name="Text Box 3"/>
          <p:cNvSpPr/>
          <p:nvPr/>
        </p:nvSpPr>
        <p:spPr>
          <a:xfrm>
            <a:off x="250920" y="333360"/>
            <a:ext cx="367344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Меняю шубку на серую. Собираю грибы, ягоды, шишки, развешиваю их на ветках и храню в дупл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2268360" y="6021360"/>
            <a:ext cx="2184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л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260280"/>
            <a:ext cx="4174920" cy="534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У него смешные щёч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На спине полосок пя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А за щёчками – мешочк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Чтобы семечки таск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3"/>
          <p:cNvSpPr txBox="1"/>
          <p:nvPr/>
        </p:nvSpPr>
        <p:spPr>
          <a:xfrm>
            <a:off x="1547640" y="6165720"/>
            <a:ext cx="2787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урунду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897360" cy="6264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755640" y="1413000"/>
            <a:ext cx="7416720" cy="436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Это животное запасает летом сено на зиму. Собирает травянистые растения и просушивает их на солнце и складывает в стожок в особом месте. Запасов пищи хватает обычно на четыре меся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rcRect l="0" t="0" r="0" b="10974"/>
          <a:stretch/>
        </p:blipFill>
        <p:spPr>
          <a:xfrm>
            <a:off x="755640" y="333360"/>
            <a:ext cx="7416720" cy="5948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70" name="WordArt 4"/>
          <p:cNvSpPr txBox="1"/>
          <p:nvPr/>
        </p:nvSpPr>
        <p:spPr>
          <a:xfrm>
            <a:off x="2340000" y="6334200"/>
            <a:ext cx="331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щух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00000" y="836640"/>
            <a:ext cx="7056720" cy="454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Times New Roman"/>
              </a:rPr>
              <a:t>Я умею строить на речках и ручьях плотины, прокладывать в лесу каналы и валить толстые деревья, сооружать хатки для жилья. Упавшее дерево старательно разделываю, запасаю себе на зиму ветки, ствол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rcRect l="0" t="17393" r="2173" b="21630"/>
          <a:stretch/>
        </p:blipFill>
        <p:spPr>
          <a:xfrm>
            <a:off x="826920" y="476280"/>
            <a:ext cx="7128000" cy="55548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73" name="WordArt 4"/>
          <p:cNvSpPr txBox="1"/>
          <p:nvPr/>
        </p:nvSpPr>
        <p:spPr>
          <a:xfrm>
            <a:off x="3203640" y="6118200"/>
            <a:ext cx="244800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обёр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403236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Что объединяет этих живот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5400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и делают запасы на зи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2792520" cy="40320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3276720" y="2637000"/>
            <a:ext cx="2509560" cy="4033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8" name="Picture 6" descr=""/>
          <p:cNvPicPr/>
          <p:nvPr/>
        </p:nvPicPr>
        <p:blipFill>
          <a:blip r:embed="rId3"/>
          <a:srcRect l="32262" t="7382" r="13529" b="26476"/>
          <a:stretch/>
        </p:blipFill>
        <p:spPr>
          <a:xfrm>
            <a:off x="179280" y="2637000"/>
            <a:ext cx="2846520" cy="40320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79" name="Picture 7" descr=""/>
          <p:cNvPicPr/>
          <p:nvPr/>
        </p:nvPicPr>
        <p:blipFill>
          <a:blip r:embed="rId4"/>
          <a:srcRect l="5929" t="19873" r="5138" b="21630"/>
          <a:stretch/>
        </p:blipFill>
        <p:spPr>
          <a:xfrm>
            <a:off x="6012000" y="189000"/>
            <a:ext cx="2806560" cy="2307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651640" y="62064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4360" y="476280"/>
            <a:ext cx="7848360" cy="49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Мы осенью линя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Надо позаботиться о надёжном убежище, где можно проспать до весны, но для этого нам нужно накопить запас жир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009900"/>
                </a:solidFill>
                <a:latin typeface="Times New Roman"/>
              </a:rPr>
              <a:t>Жир – это запас пищи на всю зи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0" r="0" b="8243"/>
          <a:stretch/>
        </p:blipFill>
        <p:spPr>
          <a:xfrm>
            <a:off x="684360" y="189000"/>
            <a:ext cx="7848360" cy="56991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83" name="WordArt 5"/>
          <p:cNvSpPr txBox="1"/>
          <p:nvPr/>
        </p:nvSpPr>
        <p:spPr>
          <a:xfrm>
            <a:off x="2484360" y="5757840"/>
            <a:ext cx="410544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двед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08:43:18Z</dcterms:created>
  <dc:creator>***</dc:creator>
  <dc:description/>
  <dc:language>en-US</dc:language>
  <cp:lastModifiedBy>александр довгаль</cp:lastModifiedBy>
  <dcterms:modified xsi:type="dcterms:W3CDTF">2022-09-30T09:26:04Z</dcterms:modified>
  <cp:revision>6</cp:revision>
  <dc:subject/>
  <dc:title>ЖИВОТНЫЕ  ОСЕНЬЮ</dc:title>
</cp:coreProperties>
</file>