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png" ContentType="image/png"/>
  <Override PartName="/ppt/media/image65.jpeg" ContentType="image/jpeg"/>
  <Override PartName="/ppt/media/image12.jpeg" ContentType="image/jpeg"/>
  <Override PartName="/ppt/media/image34.png" ContentType="image/png"/>
  <Override PartName="/ppt/media/image11.png" ContentType="image/png"/>
  <Override PartName="/ppt/media/image29.png" ContentType="image/png"/>
  <Override PartName="/ppt/media/image56.jpeg" ContentType="image/jpeg"/>
  <Override PartName="/ppt/media/image3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52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28.jpeg" ContentType="image/jpeg"/>
  <Override PartName="/ppt/media/image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1.png" ContentType="image/png"/>
  <Override PartName="/ppt/media/image6.png" ContentType="image/png"/>
  <Override PartName="/ppt/media/image1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9.png" ContentType="image/png"/>
  <Override PartName="/ppt/media/image17.png" ContentType="image/pn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47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60.gif" ContentType="image/gif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4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0334-624F-486D-8CF6-F52273C5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5845-C457-45AC-AF34-47633FA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D1F4-B8B0-4D73-A88F-66ED977F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EBCC-0F75-4F7F-8D6C-BBA43178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E3A-EEFC-4F5A-8D59-3D480A0E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AC98-2951-4358-8C0C-2E07D0F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C9F-C737-4762-9CA0-0DF5B28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8229-12B8-4B88-94B6-4DD81A38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778F-9CAD-4B60-BF34-AE62E63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510E-CC7E-43C6-9A7B-965FC04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248C-E2E5-4E4D-8978-8AE52B3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F896-13B8-49B8-A592-6F58A306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AE8C-52AD-43F3-894C-A4F29D3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7EF7-70ED-4404-BEE8-8D489D5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728-F0CB-44DD-B80D-6D065273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B208-2001-4344-A1E8-130A9329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7CC4-DC68-471E-9C8C-0A1F62EF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9FBC-2415-40B5-926B-85BC919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B925-6A42-4B2D-991F-8D61EE0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5157-7BC3-4C04-977C-029794C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BAA0-1197-4AD3-8305-07383677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8D25-94E0-42DF-8D8D-55547EB8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713F-97FA-4929-B0F1-5BCDC81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6562-4BD8-42FA-B710-9277106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520-03DF-4013-AB5D-30A086E414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6693-9519-463B-8B50-8D23C01343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2.xml"/><Relationship Id="rId4" Type="http://schemas.openxmlformats.org/officeDocument/2006/relationships/slide" Target="slide25.xml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img0.liveinternet.ru/images/attach/c/0/38/498/38498729_ScreenHunter_5.jpg" TargetMode="External"/><Relationship Id="rId5" Type="http://schemas.openxmlformats.org/officeDocument/2006/relationships/image" Target="../media/image30.jpeg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9;&#1090;&#1072;" TargetMode="External"/><Relationship Id="rId2" Type="http://schemas.openxmlformats.org/officeDocument/2006/relationships/hyperlink" Target="http://ru.wikipedia.org/wiki/&#1060;&#1080;&#1073;&#1088;&#1086;&#1079;" TargetMode="External"/><Relationship Id="rId3" Type="http://schemas.openxmlformats.org/officeDocument/2006/relationships/hyperlink" Target="http://ru.wikipedia.org/wiki/&#1052;&#1091;&#1090;&#1072;&#1094;&#1080;&#1103;" TargetMode="External"/><Relationship Id="rId4" Type="http://schemas.openxmlformats.org/officeDocument/2006/relationships/hyperlink" Target="http://ru.wikipedia.org/wiki/&#1043;&#1077;&#1085;" TargetMode="External"/><Relationship Id="rId5" Type="http://schemas.openxmlformats.org/officeDocument/2006/relationships/hyperlink" Target="http://ru.wikipedia.org/wiki/&#1052;&#1042;&#1058;&#1056;" TargetMode="External"/><Relationship Id="rId6" Type="http://schemas.openxmlformats.org/officeDocument/2006/relationships/hyperlink" Target="http://ru.wikipedia.org/wiki/&#1046;&#1077;&#1083;&#1077;&#1079;&#1099;_&#1074;&#1085;&#1077;&#1096;&#1085;&#1077;&#1081;_&#1089;&#1077;&#1082;&#1088;&#1077;&#1094;&#1080;&#1080;" TargetMode="External"/><Relationship Id="rId7" Type="http://schemas.openxmlformats.org/officeDocument/2006/relationships/hyperlink" Target="http://ru.wikipedia.org/wiki/&#1054;&#1088;&#1075;&#1072;&#1085;&#1099;_&#1076;&#1099;&#1093;&#1072;&#1085;&#1080;&#1103;" TargetMode="External"/><Relationship Id="rId8" Type="http://schemas.openxmlformats.org/officeDocument/2006/relationships/hyperlink" Target="http://ru.wikipedia.org/wiki/&#1046;&#1077;&#1083;&#1091;&#1076;&#1086;&#1095;&#1085;&#1086;-&#1082;&#1080;&#1096;&#1077;&#1095;&#1085;&#1099;&#1081;_&#1090;&#1088;&#1072;&#1082;&#1090;" TargetMode="External"/><Relationship Id="rId9" Type="http://schemas.openxmlformats.org/officeDocument/2006/relationships/hyperlink" Target="http://humbio.ru/Humbio/allerg/00092721.htm" TargetMode="External"/><Relationship Id="rId10" Type="http://schemas.openxmlformats.org/officeDocument/2006/relationships/hyperlink" Target="http://humbio.ru/Humbio/01122001/medgen/x004158f.htm" TargetMode="External"/><Relationship Id="rId11" Type="http://schemas.openxmlformats.org/officeDocument/2006/relationships/hyperlink" Target="http://humbio.ru/Humbio/01122001/medgen/x003b620.htm" TargetMode="Externa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6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keldysh.ru/school1413/pro_2005/z/dis.jpg" TargetMode="External"/><Relationship Id="rId2" Type="http://schemas.openxmlformats.org/officeDocument/2006/relationships/image" Target="../media/image32.jpe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77;&#1084;&#1086;&#1092;&#1080;&#1083;&#1080;&#1103;_&#1040;&amp;action=edit&amp;redlink=1" TargetMode="External"/><Relationship Id="rId2" Type="http://schemas.openxmlformats.org/officeDocument/2006/relationships/hyperlink" Target="http://ru.wikipedia.org/w/index.php?title=&#1056;&#1077;&#1094;&#1077;&#1089;&#1089;&#1080;&#1074;&#1085;&#1072;&#1103;&amp;action=edit&amp;redlink=1" TargetMode="External"/><Relationship Id="rId3" Type="http://schemas.openxmlformats.org/officeDocument/2006/relationships/hyperlink" Target="http://ru.wikipedia.org/wiki/&#1052;&#1091;&#1090;&#1072;&#1094;&#1080;&#1103;" TargetMode="External"/><Relationship Id="rId4" Type="http://schemas.openxmlformats.org/officeDocument/2006/relationships/hyperlink" Target="http://ru.wikipedia.org/wiki/&#1055;&#1086;&#1083;&#1086;&#1074;&#1099;&#1077;_&#1093;&#1088;&#1086;&#1084;&#1086;&#1089;&#1086;&#1084;&#1099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hyperlink" Target="http://ru.wikipedia.org/wiki/&#1041;&#1077;&#1083;&#1082;&#1080;" TargetMode="External"/><Relationship Id="rId7" Type="http://schemas.openxmlformats.org/officeDocument/2006/relationships/hyperlink" Target="http://ru.wikipedia.org/w/index.php?title=&#1043;&#1077;&#1084;&#1086;&#1092;&#1080;&#1083;&#1080;&#1103;_B&amp;action=edit&amp;redlink=1" TargetMode="External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39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2.png"/><Relationship Id="rId7" Type="http://schemas.openxmlformats.org/officeDocument/2006/relationships/slide" Target="slide38.xml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8;&#1086;&#1084;&#1086;&#1089;&#1086;&#1084;&#1085;&#1099;&#1077;_&#1073;&#1086;&#1083;&#1077;&#1079;&#1085;&#1080;" TargetMode="External"/><Relationship Id="rId2" Type="http://schemas.openxmlformats.org/officeDocument/2006/relationships/hyperlink" Target="http://ru.wikipedia.org/wiki/&#1048;&#1085;&#1092;&#1072;&#1085;&#1090;&#1080;&#1083;&#1080;&#1079;&#1084;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38.xml"/><Relationship Id="rId3" Type="http://schemas.openxmlformats.org/officeDocument/2006/relationships/hyperlink" Target="http://www.enci.ru/&#1043;&#1080;&#1087;&#1086;&#1090;&#1086;&#1085;&#1080;&#1103;" TargetMode="External"/><Relationship Id="rId4" Type="http://schemas.openxmlformats.org/officeDocument/2006/relationships/hyperlink" Target="http://www.enci.ru/&#1051;&#1091;&#1085;&#1072;" TargetMode="External"/><Relationship Id="rId5" Type="http://schemas.openxmlformats.org/officeDocument/2006/relationships/hyperlink" Target="http://www.enci.ru/&#1043;&#1083;&#1072;&#1079;" TargetMode="External"/><Relationship Id="rId6" Type="http://schemas.openxmlformats.org/officeDocument/2006/relationships/hyperlink" Target="http://www.enci.ru/&#1056;&#1077;&#1073;&#1105;&#1085;&#1086;&#1082;" TargetMode="External"/><Relationship Id="rId7" Type="http://schemas.openxmlformats.org/officeDocument/2006/relationships/hyperlink" Target="http://www.enci.ru/&#1050;&#1086;&#1096;&#1082;&#1072;" TargetMode="External"/><Relationship Id="rId8" Type="http://schemas.openxmlformats.org/officeDocument/2006/relationships/hyperlink" Target="http://www.enci.ru/&#1043;&#1086;&#1088;&#1090;&#1072;&#1085;&#1100;" TargetMode="Externa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7.xml"/><Relationship Id="rId6" Type="http://schemas.openxmlformats.org/officeDocument/2006/relationships/slide" Target="slide46.xml"/><Relationship Id="rId7" Type="http://schemas.openxmlformats.org/officeDocument/2006/relationships/slide" Target="slide47.xml"/><Relationship Id="rId8" Type="http://schemas.openxmlformats.org/officeDocument/2006/relationships/slide" Target="slide9.xml"/><Relationship Id="rId9" Type="http://schemas.openxmlformats.org/officeDocument/2006/relationships/slide" Target="slide17.xml"/><Relationship Id="rId10" Type="http://schemas.openxmlformats.org/officeDocument/2006/relationships/slide" Target="slide27.xml"/><Relationship Id="rId11" Type="http://schemas.openxmlformats.org/officeDocument/2006/relationships/slide" Target="slide38.xml"/><Relationship Id="rId12" Type="http://schemas.openxmlformats.org/officeDocument/2006/relationships/slide" Target="slide62.xml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732720" y="-1099080"/>
            <a:ext cx="72720" cy="17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1763640" y="4149720"/>
            <a:ext cx="58262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ы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 челове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7" descr="эмбрион"/>
          <p:cNvPicPr/>
          <p:nvPr/>
        </p:nvPicPr>
        <p:blipFill>
          <a:blip r:embed="rId5"/>
          <a:stretch/>
        </p:blipFill>
        <p:spPr>
          <a:xfrm>
            <a:off x="4716360" y="1052640"/>
            <a:ext cx="35276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403280" y="2204640"/>
            <a:ext cx="7283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индром Марф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болезнь Олбрай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дизосто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отосклер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пароксизмальная миопле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алассемия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1835280" y="765000"/>
            <a:ext cx="6265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ы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Управляющая кнопка: в начало 3">
            <a:hlinkClick r:id="rId7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5184"/>
          <p:cNvPicPr/>
          <p:nvPr/>
        </p:nvPicPr>
        <p:blipFill>
          <a:blip r:embed="rId1"/>
          <a:stretch/>
        </p:blipFill>
        <p:spPr>
          <a:xfrm>
            <a:off x="6443640" y="476280"/>
            <a:ext cx="23907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2"/>
          <p:cNvSpPr txBox="1"/>
          <p:nvPr/>
        </p:nvSpPr>
        <p:spPr>
          <a:xfrm>
            <a:off x="1763640" y="476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дндром Марфа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24000" y="170028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ое заболевание соединительной ткани , проявляющееся изменениями скелета: высоким ростом с относительно коротким туловищем , длинными паукообразными пальцами (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Times New Roman"/>
                <a:hlinkClick r:id="rId4" action="ppaction://hlinksldjump"/>
              </a:rPr>
              <a:t>арахнодактил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), разболтаннностью суставов , часто сколиозом , кифозом , деформациями грудной клетки , аркообразным небом . Характерны также поражения глаз . В связи с аномалиями сердечно-сосудистой системы средняя продолжительность жизни сокращ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357720" y="1816200"/>
            <a:ext cx="5473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ий выброс адреналина , характерный для заболевания, способствует не только развитию сердечно-сосудистых осложнений, но и появлению у некоторых лиц особой силы духа и умственной одаренности. Способы лечения неизвестны.  Считают, что ею болели Паганини, Андерсен, Чуко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stat14_1_big"/>
          <p:cNvPicPr/>
          <p:nvPr/>
        </p:nvPicPr>
        <p:blipFill>
          <a:blip r:embed="rId1"/>
          <a:stretch/>
        </p:blipFill>
        <p:spPr>
          <a:xfrm>
            <a:off x="106200" y="1755720"/>
            <a:ext cx="3322800" cy="4232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1714680" y="50004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e"/>
                </a:solidFill>
                <a:latin typeface="Times New Roman"/>
              </a:rPr>
              <a:t>Арахнодактил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Управляющая кнопка: в начало 6">
            <a:hlinkClick r:id="rId2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42920" y="154764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изуется появлением кист в костях нижних и верхних конечностей, таза, грудной клетки, с чем связаны самопроизвольные переломы и появление очагов гипертрофии костей; пигментацией коричневого цвета отдельных участков кожи, преждевременным развитием. Кости искривляются. Появляются бурые пятна на задней поверхности шеи, спине, области поясницы и бедер величиной от маленькой родинки до больших пятен. Эндокринные нарушения заключаются в преждевременном половом развитии и с ранним появлением менструаций (часто в возрасте до 7 лет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C:\Users\87463\Desktop\606_606_1.jpg"/>
          <p:cNvPicPr/>
          <p:nvPr/>
        </p:nvPicPr>
        <p:blipFill>
          <a:blip r:embed="rId1"/>
          <a:stretch/>
        </p:blipFill>
        <p:spPr>
          <a:xfrm>
            <a:off x="5038560" y="357120"/>
            <a:ext cx="4105440" cy="61437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435600" y="357120"/>
            <a:ext cx="50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болезнь Олбрай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Управляющая кнопка: в начало 5">
            <a:hlinkClick r:id="rId2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ff"/>
                </a:solidFill>
                <a:latin typeface="Arial"/>
              </a:rPr>
              <a:t>ДИЗОСТОЗ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репно-ключичны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репно-лицево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юстно-лицево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ндроэктодермальны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рихоринофалангеальны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РЕБЕНОК С ЧЕРЕПНО-КЛЮЧИЧНЫМ ДИЗОСТОЗОМ"/>
          <p:cNvPicPr/>
          <p:nvPr/>
        </p:nvPicPr>
        <p:blipFill>
          <a:blip r:embed="rId1"/>
          <a:stretch/>
        </p:blipFill>
        <p:spPr>
          <a:xfrm>
            <a:off x="250920" y="2205000"/>
            <a:ext cx="1539720" cy="2249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0" y="4652280"/>
            <a:ext cx="22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бенок с черепно-ключичным дизостозом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чается выраженное недоразвитие ключиц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ДЕВУШКА С ХОРИНОФАЛАНГЕАЛЬНЫМ ДИЗОСТОЗОМ"/>
          <p:cNvPicPr/>
          <p:nvPr/>
        </p:nvPicPr>
        <p:blipFill>
          <a:blip r:embed="rId2"/>
          <a:stretch/>
        </p:blipFill>
        <p:spPr>
          <a:xfrm>
            <a:off x="3203640" y="2205000"/>
            <a:ext cx="1320840" cy="2232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2627280" y="4580640"/>
            <a:ext cx="259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ушка с хоринофалангеальным дизостозо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орочение конечностей за счет предплечий и голеней, выраженная деформация нижних конеч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РЕБЕНОК С ТРИХОРИНОФАЛАНГЕАЛЬНЫМ ДИЗОСТОЗОМ II ТИПА"/>
          <p:cNvPicPr/>
          <p:nvPr/>
        </p:nvPicPr>
        <p:blipFill>
          <a:blip r:embed="rId3"/>
          <a:stretch/>
        </p:blipFill>
        <p:spPr>
          <a:xfrm>
            <a:off x="5867280" y="2205000"/>
            <a:ext cx="1487520" cy="2100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5580000" y="4652280"/>
            <a:ext cx="3195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бенок с трихоринофалангеальным дизостозом II тип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бая асимметрия лица, экзостоз на передней поверхности грудной клетки сл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1785960" y="549360"/>
            <a:ext cx="70009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ИЗОСТОЗ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Управляющая кнопка: в начало 9">
            <a:hlinkClick r:id="rId4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6600"/>
                </a:solidFill>
                <a:latin typeface="Arial"/>
              </a:rPr>
              <a:t>МИОПЛЕГИЯ ПАРОКСИЗМАЛЬНАЯ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оксизмальная миоплег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ериодический семейный паралич, относится к группе нервно-мышечных заболеваний и характеризуется приступами резкой слабости, вплоть до полного паралича конеч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нтный ген проявляется только в гомозиготном состоя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ные мальчики и девочки рождаются с одинаковой часто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сть рождения больного ребенка составляет 25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и больных детей фенотипически могут быть здоровы, но являются гетерозиготными носителями мутантного 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тосомно-рецессивный тип наследования более характерен для заболеваний, при которых нарушена функция одного или нескольких ферментов, — так назы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ферментопат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1835280" y="549360"/>
            <a:ext cx="6769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утосомно-рецессив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676160" y="263664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  <a:hlinkClick r:id="rId1" action="ppaction://hlinksldjump"/>
              </a:rPr>
              <a:t>Фенилкетону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икроцеф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  <a:hlinkClick r:id="rId2" action="ppaction://hlinksldjump"/>
              </a:rPr>
              <a:t>Ихтиоз (не сцепленный с поло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  <a:hlinkClick r:id="rId3" action="ppaction://hlinksldjump"/>
              </a:rPr>
              <a:t>Прог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Муковисцидоз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835280" y="1052640"/>
            <a:ext cx="64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ы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Управляющая кнопка: в начало 4">
            <a:hlinkClick r:id="rId7" action="ppaction://hlinksldjump"/>
          </p:cNvPr>
          <p:cNvSpPr/>
          <p:nvPr/>
        </p:nvSpPr>
        <p:spPr>
          <a:xfrm>
            <a:off x="814392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5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9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8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нилкетону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ФКУ) - врождённое заболевание, вызванное нарушением перехода фенилаланина в тирозин и приводящее к задержке психического разви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3203640" y="549360"/>
            <a:ext cx="4105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ЕНИЛКЕТОНУ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4427640" y="3068640"/>
            <a:ext cx="2178000" cy="273672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следственные болезни — заболевания человека, обусловленные хромосомными и генными мутаци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3429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редко ошибочно термины «наследственная болезнь» и «врожденная болезнь» употребляются как синонимы, однако врожденными болезнями называют те заболевания, которые имеются уже при рождении ребенка и могут быть обусловлены как наследственными, так и экзогенными факто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1835280" y="836640"/>
            <a:ext cx="648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676160" y="1413000"/>
            <a:ext cx="7010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врологические и психические расстрой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мственная отстал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ная возбудимость в детст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фическая поход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фическая осанка и поза при сиден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обычное положение конечно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реотипные дв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сухожильных рефлек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орог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фектное формирование миел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цефал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менения кож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попигмент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х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кз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леродерм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гипопигментирова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вота в периоде новорождё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етлые радужки, катара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фический мышиный запах те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2700360" y="260280"/>
            <a:ext cx="4032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ая карти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Picture 7" descr="Fenyloalanina.svg"/>
          <p:cNvPicPr/>
          <p:nvPr/>
        </p:nvPicPr>
        <p:blipFill>
          <a:blip r:embed="rId3"/>
          <a:stretch/>
        </p:blipFill>
        <p:spPr>
          <a:xfrm>
            <a:off x="6012000" y="2708280"/>
            <a:ext cx="1949400" cy="2011320"/>
          </a:xfrm>
          <a:prstGeom prst="rect">
            <a:avLst/>
          </a:prstGeom>
          <a:ln w="0">
            <a:noFill/>
          </a:ln>
        </p:spPr>
      </p:pic>
      <p:sp>
        <p:nvSpPr>
          <p:cNvPr id="2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ета с резким ограничением содержания фенилаланина вводится с момента подтверждения диагноза . Учитывая высокое содержание фенилаланина в белке, полностью исключают продукты животного происхождения (мясо, птица, рыба, грибы, молоко и продукты из них). Своевременно начатое диетическое лечение позволяет избежать развития клинических проявлений классической фенилкетону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2268360" y="692280"/>
            <a:ext cx="5362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ечение фенилкетонур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276200" cy="133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179280" y="4230720"/>
            <a:ext cx="1584360" cy="1442880"/>
          </a:xfrm>
          <a:prstGeom prst="rect">
            <a:avLst/>
          </a:prstGeom>
          <a:ln w="0">
            <a:noFill/>
          </a:ln>
        </p:spPr>
      </p:pic>
      <p:sp>
        <p:nvSpPr>
          <p:cNvPr id="270" name="Управляющая кнопка: в начало 5">
            <a:hlinkClick r:id="rId3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708000" y="1484280"/>
            <a:ext cx="4978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ер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греч. progērōs преждевременно состарившийся) — патологическое состояние, характеризующееся комплексом изменений кожи, внутренних органов, обусловленных преждевременным старением организма. Основными формами является детская прогерия (синдром Гетчинсона (Хадчинсона) — Гилфорда) и прогерия взрослых (синдром Верне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продолжительность жизни у больны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ери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ставляет 13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2124000" y="692280"/>
            <a:ext cx="3743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е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5" descr="08e0016d1d34"/>
          <p:cNvPicPr/>
          <p:nvPr/>
        </p:nvPicPr>
        <p:blipFill>
          <a:blip r:embed="rId3"/>
          <a:stretch/>
        </p:blipFill>
        <p:spPr>
          <a:xfrm>
            <a:off x="900000" y="1916280"/>
            <a:ext cx="2495520" cy="3809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12720" y="6236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347640" y="620280"/>
            <a:ext cx="549756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е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начал стареть, жизнь и так корот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многих людей она, как река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ется куда-то в манящую дал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руя то радость, то скорбь, то печа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я же подобна скале с водопад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падает с неба серебряным градом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й капле, которой секунда дан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шь чтобы разбиться о камни у дна.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зависти нет к могучей рек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ровно течет по тропе на пес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дел их один, – закончив скитань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кой обрести в морях сострадан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век мой не долог, судьбы не боюс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дь, в пар превратясь, вновь к небу верну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29 сентября 2000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ычков Александр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progeria2"/>
          <p:cNvPicPr/>
          <p:nvPr/>
        </p:nvPicPr>
        <p:blipFill>
          <a:blip r:embed="rId1"/>
          <a:stretch/>
        </p:blipFill>
        <p:spPr>
          <a:xfrm>
            <a:off x="179280" y="1557360"/>
            <a:ext cx="2627280" cy="4537080"/>
          </a:xfrm>
          <a:prstGeom prst="rect">
            <a:avLst/>
          </a:prstGeom>
          <a:ln w="0">
            <a:noFill/>
          </a:ln>
        </p:spPr>
      </p:pic>
      <p:sp>
        <p:nvSpPr>
          <p:cNvPr id="278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"/>
                            </p:stCondLst>
                            <p:childTnLst>
                              <p:par>
                                <p:cTn id="2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50"/>
                            </p:stCondLst>
                            <p:childTnLst>
                              <p:par>
                                <p:cTn id="2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30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9350"/>
                            </p:stCondLst>
                            <p:childTnLst>
                              <p:par>
                                <p:cTn id="2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35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335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image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285840" y="191628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хтио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греч. - рыба) — наследственный дерматоз, характеризующийся диффузным нарушением ороговения по типу гиперкератоза, проявляется образованием на коже чешуек) напоминающих рыб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WordArt 7"/>
          <p:cNvSpPr txBox="1"/>
          <p:nvPr/>
        </p:nvSpPr>
        <p:spPr>
          <a:xfrm>
            <a:off x="2050920" y="765000"/>
            <a:ext cx="43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тиоз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2" name="Picture 9" descr="Картинка 172 из 2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700280"/>
            <a:ext cx="4734000" cy="3610080"/>
          </a:xfrm>
          <a:prstGeom prst="rect">
            <a:avLst/>
          </a:prstGeom>
          <a:ln w="0">
            <a:noFill/>
          </a:ln>
        </p:spPr>
      </p:pic>
      <p:sp>
        <p:nvSpPr>
          <p:cNvPr id="283" name="Управляющая кнопка: в начало 5">
            <a:hlinkClick r:id="rId6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ковисцидо́з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кистозн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фиброз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 — системное наследственное заболевание, обусловленное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мутаци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ге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трансмембранного регулятора муковисцидоз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характеризующееся поражением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желез внешней секре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яжёлыми нарушениями функций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органов дых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8"/>
              </a:rPr>
              <a:t>желудочно-кишечного тра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ковисцидоз - это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9"/>
              </a:rPr>
              <a:t>системное наследственное заболе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, обычно проявляющееся в детстве, хотя в 4% случаев диагноз ставят в зрелом возрас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ковисцидоз встречается в среднем у 1 из 2000-3000 новорожденных, а среди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0"/>
              </a:rPr>
              <a:t>черного африканск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1"/>
              </a:rPr>
              <a:t>японск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селения его частота составляет 1 : 100 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857240" y="404640"/>
            <a:ext cx="55008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ковисцидо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Файл:ClubbingFingers1.jpg"/>
          <p:cNvPicPr/>
          <p:nvPr/>
        </p:nvPicPr>
        <p:blipFill>
          <a:blip r:embed="rId1"/>
          <a:stretch/>
        </p:blipFill>
        <p:spPr>
          <a:xfrm>
            <a:off x="2195640" y="1268280"/>
            <a:ext cx="5256000" cy="31514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2340000" y="49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птом барабанных палочек и часовых стекол при муковисцид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42960" y="198108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мышечная дистрофия типа Дюше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гемофилии А и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синдрома Леша — Найх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болезни Гун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5" action="ppaction://hlinksldjump"/>
              </a:rPr>
              <a:t>болезни Фабри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ецессивное наследование, сцепленное с Х хромосом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фосфат-диабе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доминантное наследование, сцепленное с Х хромосом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4"/>
          <p:cNvSpPr txBox="1"/>
          <p:nvPr/>
        </p:nvSpPr>
        <p:spPr>
          <a:xfrm>
            <a:off x="1835280" y="620640"/>
            <a:ext cx="662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,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цепленные с полом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Управляющая кнопка: в начало 3">
            <a:hlinkClick r:id="rId11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6600"/>
                </a:solidFill>
                <a:latin typeface="Arial"/>
              </a:rPr>
              <a:t>Мышечная дистрофия типа</a:t>
            </a:r>
            <a:br>
              <a:rPr sz="3900"/>
            </a:br>
            <a:r>
              <a:rPr b="0" lang="ru-RU" sz="3900" spc="-1" strike="noStrike">
                <a:solidFill>
                  <a:srgbClr val="ff6600"/>
                </a:solidFill>
                <a:latin typeface="Arial"/>
              </a:rPr>
              <a:t>Дюшен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АЯ ДИСТРОФИЯ, группа хронических наследственных заболеваний скелетных (произвольных) мышц человека. Мышечные дистрофии проявляются прогрессирующей слабостью и дегенерацией мыш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ая дистрофия Дюшенна — одна из самых тяжелых и быстро прогрессирующих форм. К 12 годам больные обычно теряют способность передвигаться, а к 20 годам большинство из них погиб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льной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ышечной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истрофией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юшенн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5" descr="Картинка 1 из 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844640"/>
            <a:ext cx="2077920" cy="4137120"/>
          </a:xfrm>
          <a:prstGeom prst="rect">
            <a:avLst/>
          </a:prstGeom>
          <a:ln w="0">
            <a:noFill/>
          </a:ln>
        </p:spPr>
      </p:pic>
      <p:sp>
        <p:nvSpPr>
          <p:cNvPr id="299" name="Управляющая кнопка: в начало 4">
            <a:hlinkClick r:id="rId3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763640" y="549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9d9d9"/>
                </a:solidFill>
                <a:latin typeface="Arial"/>
              </a:rPr>
              <a:t>Каждая семья мечтает иметь здоровых детей. Современные тенденции к росту числа семей, имеющих ребёнка с наследственной патологией делают чрезвычайно важной проблему наследственных болезней, как болезней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708360" y="2205000"/>
            <a:ext cx="471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9e4ff"/>
                </a:solidFill>
                <a:latin typeface="Arial"/>
              </a:rPr>
              <a:t>В настоящее время известно около 6000 наследственных болезней. Больше половины, которых – врожденные дефекты, одни из которых могут передаваться из поколения в поколение, а другие – являться единственным случаем в родословной; одни – проявляться сразу после рождения, другие – через несколько месяцев или даже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50920" y="465300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e"/>
                </a:solidFill>
                <a:latin typeface="Arial"/>
              </a:rPr>
              <a:t>До недавнего времени все наследственные болезни считались фатальными и неизлечимыми. Однако сейчас показано, что это не так. Облегчить страдания людей, а подчас и совсем избавить от них можно, но для этого необходимо, прежде всего, научиться методам ранней диагностики этих заболе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Картинка 18 из 204"/>
          <p:cNvPicPr/>
          <p:nvPr/>
        </p:nvPicPr>
        <p:blipFill>
          <a:blip r:embed="rId1"/>
          <a:stretch/>
        </p:blipFill>
        <p:spPr>
          <a:xfrm>
            <a:off x="179280" y="2060640"/>
            <a:ext cx="324180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ндром Лёша-Ниха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редкое Х-сцепленное наследственное заболевание, характеризующееся двусторонним хореатетозом, умственной отсталостью, гиперурикеми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WordArt 4"/>
          <p:cNvSpPr txBox="1"/>
          <p:nvPr/>
        </p:nvSpPr>
        <p:spPr>
          <a:xfrm>
            <a:off x="2411280" y="836640"/>
            <a:ext cx="4562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индром Лёша-Них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Управляющая кнопка: в начало 4">
            <a:hlinkClick r:id="rId1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635280" y="1557000"/>
            <a:ext cx="5051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ледственное заболевание, характеризующееся пожизненным нарушением механизма свертывания крови. В 80% случаев это обусловлено отсутствием или недостаточностью  антигемофилического глобулина в плазме крови. В результате время свертывания крови удлиняется и больные страдают от сильных кровотечений даже после минимальных трав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C:\Documents and Settings\1\Рабочий стол\artlib_gallery-23929-b.jpg"/>
          <p:cNvPicPr/>
          <p:nvPr/>
        </p:nvPicPr>
        <p:blipFill>
          <a:blip r:embed="rId1"/>
          <a:stretch/>
        </p:blipFill>
        <p:spPr>
          <a:xfrm>
            <a:off x="395280" y="191628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305" name="WordArt 7"/>
          <p:cNvSpPr txBox="1"/>
          <p:nvPr/>
        </p:nvSpPr>
        <p:spPr>
          <a:xfrm>
            <a:off x="3276720" y="404640"/>
            <a:ext cx="2374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мофил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676160" y="404640"/>
            <a:ext cx="7010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знании людей любое упоминание о гемофилии в первую очередь ассоциируется с образом цесаревича Алексея - сыном последнего российского императора Николая II. Алексей был болен гемофилией, получив ее от матери - императрицы Александры Федоровны, унаследовавшей болезнь от своей матери принцессы Алисы, которая в свою очередь получила ее от матери - королевы Виктор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Scan0007"/>
          <p:cNvPicPr/>
          <p:nvPr/>
        </p:nvPicPr>
        <p:blipFill>
          <a:blip r:embed="rId1"/>
          <a:stretch/>
        </p:blipFill>
        <p:spPr>
          <a:xfrm>
            <a:off x="1835280" y="2997360"/>
            <a:ext cx="6119640" cy="314136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30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Гемофилия 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рецессив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мут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X-хромосом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вызвана генетическим дефектом, отсутствием в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обходимого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бел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так называемого фактора VIII (антигемофильного глобулина). Такая гемофилия считается классической, она встречается наиболее часто, у 80-85 % больных гемофилией. Тяжёлые кровотечения при травмах и операциях наблюдаются при уровне VIII фактора — 5-20 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Гемофилия 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звана дефектным фактором крови IX (рецессивная мутация в X-хромосоме). Нарушено образование вторичной коагуляционной проб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3132000" y="692280"/>
            <a:ext cx="3743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мофил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Управляющая кнопка: в начало 3">
            <a:hlinkClick r:id="rId8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Основные клинические признаки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ника несовместимых с длительной жизнью аномалий легких, печени, почек, сердца у ребенка с обилием стигм дизэмбриогене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Морфологические особенност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патологии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сты в корковом слое и клубочковые к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имптоматиче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WordArt 4"/>
          <p:cNvSpPr txBox="1"/>
          <p:nvPr/>
        </p:nvSpPr>
        <p:spPr>
          <a:xfrm>
            <a:off x="1619280" y="476280"/>
            <a:ext cx="633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ндром Цельвегера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аутосомно-рецессивный)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857240"/>
            <a:ext cx="50400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бри болезн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наследственная болезнь, обусловленная нарушением обмена гликолипидов и проявляющаяся поражением кожи туловища в виде множественных сосудистых образований типа ангиом доброкачественного характера, сопровождающихся парестезиями, болями в конечностях, поражениями глаз, кишок, почек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6" descr="0091"/>
          <p:cNvPicPr/>
          <p:nvPr/>
        </p:nvPicPr>
        <p:blipFill>
          <a:blip r:embed="rId1"/>
          <a:stretch/>
        </p:blipFill>
        <p:spPr>
          <a:xfrm>
            <a:off x="6429240" y="1457280"/>
            <a:ext cx="2214720" cy="4600800"/>
          </a:xfrm>
          <a:prstGeom prst="rect">
            <a:avLst/>
          </a:prstGeom>
          <a:ln w="0">
            <a:noFill/>
          </a:ln>
        </p:spPr>
      </p:pic>
      <p:sp>
        <p:nvSpPr>
          <p:cNvPr id="318" name="WordArt 7"/>
          <p:cNvSpPr txBox="1"/>
          <p:nvPr/>
        </p:nvSpPr>
        <p:spPr>
          <a:xfrm>
            <a:off x="2916360" y="620640"/>
            <a:ext cx="4248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лезнь Фабр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Управляющая кнопка: в начало 4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37930"/>
          <p:cNvPicPr/>
          <p:nvPr/>
        </p:nvPicPr>
        <p:blipFill>
          <a:blip r:embed="rId1"/>
          <a:stretch/>
        </p:blipFill>
        <p:spPr>
          <a:xfrm>
            <a:off x="3276720" y="1628640"/>
            <a:ext cx="3492360" cy="3841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8"/>
          <p:cNvSpPr/>
          <p:nvPr/>
        </p:nvSpPr>
        <p:spPr>
          <a:xfrm>
            <a:off x="2844000" y="54446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дром Гунтера у мальчика 2 лет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бые черты лица, скафоцефа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WordArt 9"/>
          <p:cNvSpPr txBox="1"/>
          <p:nvPr/>
        </p:nvSpPr>
        <p:spPr>
          <a:xfrm>
            <a:off x="2916360" y="476280"/>
            <a:ext cx="3771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ндром Гунте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кополисахаридоз II ти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индром Гунтера) cвязан с дефицитом фермента альфа-L-идуроносульфатсульфатазы, в результате чего в соединительной ткани накапливается гликозаминогликан дерматансульфат и гепарансульф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ип на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Х-сцепленный рецессивный (т.е. поражение встречается только у мальчик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WordArt 4"/>
          <p:cNvSpPr txBox="1"/>
          <p:nvPr/>
        </p:nvSpPr>
        <p:spPr>
          <a:xfrm>
            <a:off x="2700360" y="620640"/>
            <a:ext cx="3771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ндром Гунте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Управляющая кнопка: в начало 3">
            <a:hlinkClick r:id="rId3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95280" y="2637000"/>
            <a:ext cx="829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индрома Шэрешевского-Терн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болезнь Дауна (трисомия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синдроме Клайнфельтера (47,ХХ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синдром «кошачьего кр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WordArt 6"/>
          <p:cNvSpPr txBox="1"/>
          <p:nvPr/>
        </p:nvSpPr>
        <p:spPr>
          <a:xfrm>
            <a:off x="1835280" y="836640"/>
            <a:ext cx="56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номные мутац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Управляющая кнопка: в начало 3">
            <a:hlinkClick r:id="rId7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356000" y="620640"/>
            <a:ext cx="433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знь, обусловленная аномалией хромосомного набора (изменением числа или структуры аутосом), основными проявлениями которой являются умственная отсталость, своеобразный внешний облик больного и врожденные пороки развития. Одна из наиболее распространенных хромосомных болезней, встречается в среднем с частотой 1 на 700 новорожде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nedug.ru"/>
          <p:cNvPicPr/>
          <p:nvPr/>
        </p:nvPicPr>
        <p:blipFill>
          <a:blip r:embed="rId1"/>
          <a:stretch/>
        </p:blipFill>
        <p:spPr>
          <a:xfrm>
            <a:off x="395280" y="1916280"/>
            <a:ext cx="3587760" cy="4132080"/>
          </a:xfrm>
          <a:prstGeom prst="rect">
            <a:avLst/>
          </a:prstGeom>
          <a:ln w="0">
            <a:noFill/>
          </a:ln>
        </p:spPr>
      </p:pic>
      <p:sp>
        <p:nvSpPr>
          <p:cNvPr id="332" name="WordArt 6"/>
          <p:cNvSpPr txBox="1"/>
          <p:nvPr/>
        </p:nvSpPr>
        <p:spPr>
          <a:xfrm>
            <a:off x="1763640" y="476280"/>
            <a:ext cx="266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у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5"/>
          <p:cNvGrpSpPr/>
          <p:nvPr/>
        </p:nvGrpSpPr>
        <p:grpSpPr>
          <a:xfrm>
            <a:off x="285840" y="836640"/>
            <a:ext cx="8667360" cy="5378040"/>
            <a:chOff x="285840" y="836640"/>
            <a:chExt cx="8667360" cy="5378040"/>
          </a:xfrm>
        </p:grpSpPr>
        <p:sp>
          <p:nvSpPr>
            <p:cNvPr id="125" name="AutoShape 6"/>
            <p:cNvSpPr/>
            <p:nvPr/>
          </p:nvSpPr>
          <p:spPr>
            <a:xfrm>
              <a:off x="285840" y="836640"/>
              <a:ext cx="8571240" cy="53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011240" y="1779480"/>
              <a:ext cx="7704720" cy="3805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011240" y="4952160"/>
              <a:ext cx="7704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1011240" y="431496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1011240" y="368316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1011240" y="304884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1011240" y="241344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1011240" y="1779480"/>
              <a:ext cx="7704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1011240" y="1779480"/>
              <a:ext cx="7704720" cy="3805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1011240" y="1779480"/>
              <a:ext cx="1800" cy="380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974520" y="5584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974520" y="49521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>
              <a:off x="974520" y="4314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>
              <a:off x="974520" y="3683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0"/>
            <p:cNvSpPr/>
            <p:nvPr/>
          </p:nvSpPr>
          <p:spPr>
            <a:xfrm>
              <a:off x="974520" y="3048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>
              <a:off x="974520" y="2413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>
              <a:off x="974520" y="1779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1011240" y="558468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101124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171396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 flipV="1">
              <a:off x="241164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311220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28"/>
            <p:cNvSpPr/>
            <p:nvPr/>
          </p:nvSpPr>
          <p:spPr>
            <a:xfrm flipV="1">
              <a:off x="381420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 flipV="1">
              <a:off x="451548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521244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 flipV="1">
              <a:off x="591516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32"/>
            <p:cNvSpPr/>
            <p:nvPr/>
          </p:nvSpPr>
          <p:spPr>
            <a:xfrm flipV="1">
              <a:off x="661572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V="1">
              <a:off x="731628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 flipV="1">
              <a:off x="801396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 flipV="1">
              <a:off x="871596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1361880" y="2345760"/>
              <a:ext cx="7003800" cy="2275200"/>
            </a:xfrm>
            <a:prstGeom prst="pie">
              <a:avLst/>
            </a:pr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1334880" y="4592160"/>
              <a:ext cx="5544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2035800" y="3825000"/>
              <a:ext cx="568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733120" y="3704760"/>
              <a:ext cx="568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3435840" y="3292560"/>
              <a:ext cx="55080" cy="554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136400" y="2317320"/>
              <a:ext cx="56880" cy="554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4836960" y="2835720"/>
              <a:ext cx="56880" cy="5580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5536080" y="2912040"/>
              <a:ext cx="5544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6237000" y="3493800"/>
              <a:ext cx="550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6937560" y="3110040"/>
              <a:ext cx="56880" cy="554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7636680" y="2709360"/>
              <a:ext cx="550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8337600" y="3508560"/>
              <a:ext cx="550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8"/>
            <p:cNvSpPr/>
            <p:nvPr/>
          </p:nvSpPr>
          <p:spPr>
            <a:xfrm>
              <a:off x="1859760" y="1032480"/>
              <a:ext cx="7093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Численность детей с нарушением интеллекта в дошкольных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учреждениях по назначению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49"/>
            <p:cNvSpPr/>
            <p:nvPr/>
          </p:nvSpPr>
          <p:spPr>
            <a:xfrm>
              <a:off x="4128480" y="12420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50"/>
            <p:cNvSpPr/>
            <p:nvPr/>
          </p:nvSpPr>
          <p:spPr>
            <a:xfrm>
              <a:off x="1442880" y="4550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51"/>
            <p:cNvSpPr/>
            <p:nvPr/>
          </p:nvSpPr>
          <p:spPr>
            <a:xfrm>
              <a:off x="2143800" y="37825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7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52"/>
            <p:cNvSpPr/>
            <p:nvPr/>
          </p:nvSpPr>
          <p:spPr>
            <a:xfrm>
              <a:off x="2842920" y="36626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53"/>
            <p:cNvSpPr/>
            <p:nvPr/>
          </p:nvSpPr>
          <p:spPr>
            <a:xfrm>
              <a:off x="3543480" y="32482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5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54"/>
            <p:cNvSpPr/>
            <p:nvPr/>
          </p:nvSpPr>
          <p:spPr>
            <a:xfrm>
              <a:off x="4244400" y="2273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51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5"/>
            <p:cNvSpPr/>
            <p:nvPr/>
          </p:nvSpPr>
          <p:spPr>
            <a:xfrm>
              <a:off x="4944960" y="2792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6"/>
            <p:cNvSpPr/>
            <p:nvPr/>
          </p:nvSpPr>
          <p:spPr>
            <a:xfrm>
              <a:off x="5644080" y="2869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6345000" y="34509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2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8"/>
            <p:cNvSpPr/>
            <p:nvPr/>
          </p:nvSpPr>
          <p:spPr>
            <a:xfrm>
              <a:off x="7045560" y="3065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59"/>
            <p:cNvSpPr/>
            <p:nvPr/>
          </p:nvSpPr>
          <p:spPr>
            <a:xfrm>
              <a:off x="7744680" y="2666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4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60"/>
            <p:cNvSpPr/>
            <p:nvPr/>
          </p:nvSpPr>
          <p:spPr>
            <a:xfrm>
              <a:off x="8445240" y="3466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2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61"/>
            <p:cNvSpPr/>
            <p:nvPr/>
          </p:nvSpPr>
          <p:spPr>
            <a:xfrm>
              <a:off x="858240" y="5513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62"/>
            <p:cNvSpPr/>
            <p:nvPr/>
          </p:nvSpPr>
          <p:spPr>
            <a:xfrm>
              <a:off x="730440" y="4879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63"/>
            <p:cNvSpPr/>
            <p:nvPr/>
          </p:nvSpPr>
          <p:spPr>
            <a:xfrm>
              <a:off x="730440" y="4244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64"/>
            <p:cNvSpPr/>
            <p:nvPr/>
          </p:nvSpPr>
          <p:spPr>
            <a:xfrm>
              <a:off x="730440" y="3611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65"/>
            <p:cNvSpPr/>
            <p:nvPr/>
          </p:nvSpPr>
          <p:spPr>
            <a:xfrm>
              <a:off x="730440" y="2977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66"/>
            <p:cNvSpPr/>
            <p:nvPr/>
          </p:nvSpPr>
          <p:spPr>
            <a:xfrm>
              <a:off x="730440" y="23425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67"/>
            <p:cNvSpPr/>
            <p:nvPr/>
          </p:nvSpPr>
          <p:spPr>
            <a:xfrm>
              <a:off x="731520" y="1708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8"/>
            <p:cNvSpPr/>
            <p:nvPr/>
          </p:nvSpPr>
          <p:spPr>
            <a:xfrm>
              <a:off x="124488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69"/>
            <p:cNvSpPr/>
            <p:nvPr/>
          </p:nvSpPr>
          <p:spPr>
            <a:xfrm>
              <a:off x="194544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70"/>
            <p:cNvSpPr/>
            <p:nvPr/>
          </p:nvSpPr>
          <p:spPr>
            <a:xfrm>
              <a:off x="264456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71"/>
            <p:cNvSpPr/>
            <p:nvPr/>
          </p:nvSpPr>
          <p:spPr>
            <a:xfrm>
              <a:off x="334512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2"/>
            <p:cNvSpPr/>
            <p:nvPr/>
          </p:nvSpPr>
          <p:spPr>
            <a:xfrm>
              <a:off x="404640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73"/>
            <p:cNvSpPr/>
            <p:nvPr/>
          </p:nvSpPr>
          <p:spPr>
            <a:xfrm>
              <a:off x="474696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74"/>
            <p:cNvSpPr/>
            <p:nvPr/>
          </p:nvSpPr>
          <p:spPr>
            <a:xfrm>
              <a:off x="544608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5"/>
            <p:cNvSpPr/>
            <p:nvPr/>
          </p:nvSpPr>
          <p:spPr>
            <a:xfrm>
              <a:off x="614664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6"/>
            <p:cNvSpPr/>
            <p:nvPr/>
          </p:nvSpPr>
          <p:spPr>
            <a:xfrm>
              <a:off x="684720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7"/>
            <p:cNvSpPr/>
            <p:nvPr/>
          </p:nvSpPr>
          <p:spPr>
            <a:xfrm>
              <a:off x="754632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78"/>
            <p:cNvSpPr/>
            <p:nvPr/>
          </p:nvSpPr>
          <p:spPr>
            <a:xfrm>
              <a:off x="824724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79"/>
            <p:cNvSpPr/>
            <p:nvPr/>
          </p:nvSpPr>
          <p:spPr>
            <a:xfrm>
              <a:off x="4766040" y="589068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Го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80"/>
            <p:cNvSpPr/>
            <p:nvPr/>
          </p:nvSpPr>
          <p:spPr>
            <a:xfrm rot="16200000">
              <a:off x="-473040" y="3074760"/>
              <a:ext cx="21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Численность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дет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547640" y="691920"/>
            <a:ext cx="30355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ладони часто обнаруживают поперечную склад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nedug.ru"/>
          <p:cNvPicPr/>
          <p:nvPr/>
        </p:nvPicPr>
        <p:blipFill>
          <a:blip r:embed="rId1"/>
          <a:stretch/>
        </p:blipFill>
        <p:spPr>
          <a:xfrm>
            <a:off x="395280" y="2916360"/>
            <a:ext cx="3816360" cy="3020760"/>
          </a:xfrm>
          <a:prstGeom prst="rect">
            <a:avLst/>
          </a:prstGeom>
          <a:ln w="0">
            <a:noFill/>
          </a:ln>
        </p:spPr>
      </p:pic>
      <p:sp>
        <p:nvSpPr>
          <p:cNvPr id="336" name="WordArt 6"/>
          <p:cNvSpPr txBox="1"/>
          <p:nvPr/>
        </p:nvSpPr>
        <p:spPr>
          <a:xfrm>
            <a:off x="5940360" y="620640"/>
            <a:ext cx="266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у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7" name="Picture 7" descr="Кариотип (хромосомный набор) человека с синдромом Дауна. В 21-й паре три хромосомы вместо двух"/>
          <p:cNvPicPr/>
          <p:nvPr/>
        </p:nvPicPr>
        <p:blipFill>
          <a:blip r:embed="rId6"/>
          <a:stretch/>
        </p:blipFill>
        <p:spPr>
          <a:xfrm>
            <a:off x="5076720" y="2060640"/>
            <a:ext cx="3608640" cy="38894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8"/>
          <p:cNvSpPr/>
          <p:nvPr/>
        </p:nvSpPr>
        <p:spPr>
          <a:xfrm>
            <a:off x="4572000" y="6381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иотип бо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Управляющая кнопка: в начало 6">
            <a:hlinkClick r:id="rId7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Синдром Шерешевского-Терне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71680" y="1773000"/>
            <a:ext cx="81151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ндром Шереше́вского — Тернер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хромосомная болезн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сопровождающаяся характерными аномалиями физического развития, низкорослостью и половым 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инфантилизм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бенка еще в раннем возрасте характерен типичный внешний вид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орционально низкий рост (конечный рост больных не превышает 150 см.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орочение нижней челюс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топыренные низко расположенные уш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ткая шея с крыловидными складками, идущими от головы к плечам (шея сфинкса), на которой отмечается низкая граница роста волос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ая грудная клетка с далеко расставленными втянутыми соскам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о наблюдается искривление рук в области локтевых сустав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ороченные 4 и 5 пястные кости, что делает пальцы рук коротким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уклые ног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Синдром Шерешевского-Терне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57840" y="1981080"/>
            <a:ext cx="382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дром Шерешевского-Тернера (45; Х0) наблюдается у женщин. Он проявляется в замедлении полового созревания, недоразвитии половых желез,  беспло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1"/>
          <a:stretch/>
        </p:blipFill>
        <p:spPr>
          <a:xfrm>
            <a:off x="785880" y="1357200"/>
            <a:ext cx="2793960" cy="5143680"/>
          </a:xfrm>
          <a:prstGeom prst="rect">
            <a:avLst/>
          </a:prstGeom>
          <a:ln w="0">
            <a:noFill/>
          </a:ln>
        </p:spPr>
      </p:pic>
      <p:sp>
        <p:nvSpPr>
          <p:cNvPr id="346" name="Управляющая кнопка: в начало 4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9" descr="Файл:Criduchat.jpg"/>
          <p:cNvPicPr/>
          <p:nvPr/>
        </p:nvPicPr>
        <p:blipFill>
          <a:blip r:embed="rId1"/>
          <a:stretch/>
        </p:blipFill>
        <p:spPr>
          <a:xfrm>
            <a:off x="4608360" y="1214280"/>
            <a:ext cx="4321440" cy="468180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1"/>
          <p:cNvSpPr txBox="1"/>
          <p:nvPr/>
        </p:nvSpPr>
        <p:spPr>
          <a:xfrm>
            <a:off x="1500120" y="0"/>
            <a:ext cx="651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индром Кошачьего Кр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49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4"/>
          <p:cNvSpPr/>
          <p:nvPr/>
        </p:nvSpPr>
        <p:spPr>
          <a:xfrm>
            <a:off x="0" y="1428840"/>
            <a:ext cx="457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этом синдроме наблюд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е отставание в развит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зкая масса при рождении и мышечная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гипото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лунообраз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цо с широко расставленными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глаз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ный плач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ребён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поминающий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кошачь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яуканье, причиной которого является изменение гортани или недоразвитие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8"/>
              </a:rPr>
              <a:t>горта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ризнак исчезает к концу первого год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индром Клайнфельтер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71880" y="1500120"/>
            <a:ext cx="59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дром Клайнфельте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генетическое заболе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ника описана в 1942 году в работе Фуллера Олбрайта и Гарри Клайнфельтера. Генетической особенностью этого синдрома является разнообразие цитогенетических вариантов и их сочетаний (мозаицизм). Обнаружено несколько типов полисомии по хромосомам X и Y у лиц мужского пола: 47, XXY; 47, XYY; 48, XXXY; 48, XYYY; 48 XXYY; 49 XXXXY; 49 XXXYY. Наиболее распространен синдром Клайнфельтера (XXY). Общая частота его колеблется в пределах 1 на 500-700 новорожденных мальч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5" descr="20090315_xxy"/>
          <p:cNvPicPr/>
          <p:nvPr/>
        </p:nvPicPr>
        <p:blipFill>
          <a:blip r:embed="rId1"/>
          <a:stretch/>
        </p:blipFill>
        <p:spPr>
          <a:xfrm>
            <a:off x="250920" y="1628640"/>
            <a:ext cx="2774880" cy="43214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6"/>
          <p:cNvSpPr/>
          <p:nvPr/>
        </p:nvSpPr>
        <p:spPr>
          <a:xfrm>
            <a:off x="3214800" y="1643040"/>
            <a:ext cx="45720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у одного из 400-600 новорождённых мальчиков и проявляется в недоразвитии первичных и вторичных половых признаков, искажении пропорций тела. Для больных типичны высокий рост. Половое созревание наступает вовремя, однако рост волос на лице слабый. В редких случаях больные нуждаются в лечении тестостероном. Клинические проявления значительно варьируют: большинство мужчин 47ХХУ внешне нормальны, обладают нормальным интеллектом, но стерильны. У них нет задержки психического развития, но довольно часто больные имели невнятную речь и замедленное слуховое восприятие. Однако занятия с логопедом обычно оказывались эффективны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индром Клайнфельтер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28560" y="1981080"/>
            <a:ext cx="625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7 хромосом – лишняя Х-хромосома – Х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ается у юнош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ий р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е пропорций тела (длинные конечности, узкая грудная клет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талость в развит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пло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4" descr="Клайнфельтера"/>
          <p:cNvPicPr/>
          <p:nvPr/>
        </p:nvPicPr>
        <p:blipFill>
          <a:blip r:embed="rId1"/>
          <a:stretch/>
        </p:blipFill>
        <p:spPr>
          <a:xfrm>
            <a:off x="0" y="1401840"/>
            <a:ext cx="2286000" cy="5487840"/>
          </a:xfrm>
          <a:prstGeom prst="rect">
            <a:avLst/>
          </a:prstGeom>
          <a:ln w="0">
            <a:noFill/>
          </a:ln>
        </p:spPr>
      </p:pic>
      <p:sp>
        <p:nvSpPr>
          <p:cNvPr id="359" name="Управляющая кнопка: в начало 4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55280" y="198108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ют вследствие изменения числа или структуры хромос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каждом заболевании наблюдается типичный кариотип и фенотип (например, синдром Даун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мосомные болезни встречаются значительно чаще моногенных (6 -10 из 1000 новорожден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WordArt 4"/>
          <p:cNvSpPr txBox="1"/>
          <p:nvPr/>
        </p:nvSpPr>
        <p:spPr>
          <a:xfrm>
            <a:off x="1908000" y="692280"/>
            <a:ext cx="662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омосом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Управляющая кнопка: в начало 3"/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200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ы взаимодействием определенных комбинаций аллелей разных локусов и экзогенных факто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игенные болезни не наследуются по законам Менд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оценки генетического риска используют специальные таблиц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1908000" y="692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г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мультифакториальные)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некоторые злокачественные ново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пороки развития, а также предрасположенность к И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сахарному диабету и алкоголиз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расщепление губы и не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рожденный вывих бе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Шизоф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рожденные пороки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1908000" y="765000"/>
            <a:ext cx="655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ы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Управляющая кнопка: в начало 3"/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ожденный вывих бед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амая тяжелая форма дисплазии тазобедренных суставов. При нем кроме неправильной формы элементов сустава возникает полное разобщение суставных поверхностей, головка бедра выходит из суставной впадины и уходит в сторону и ввер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4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ожденный вывих бед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676520" y="1981080"/>
          <a:ext cx="7010280" cy="4114800"/>
        </p:xfrm>
        <a:graphic>
          <a:graphicData uri="http://schemas.openxmlformats.org/drawingml/2006/table">
            <a:tbl>
              <a:tblPr/>
              <a:tblGrid>
                <a:gridCol w="3956040"/>
                <a:gridCol w="3054240"/>
              </a:tblGrid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9933ff"/>
                          </a:solidFill>
                          <a:uFillTx/>
                          <a:latin typeface="Times New Roman"/>
                          <a:ea typeface="Times New Roman"/>
                        </a:rPr>
                        <a:t>Болезнь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9933ff"/>
                          </a:solidFill>
                          <a:uFillTx/>
                          <a:latin typeface="Times New Roman"/>
                          <a:ea typeface="Times New Roman"/>
                        </a:rPr>
                        <a:t>Наследуемость на 100 испытуемы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ный диабет (начало до 30 лет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шемическая болезнь сердца (раннее начало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зофрения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вматоидный артри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20" descr="picture-of-143"/>
          <p:cNvPicPr/>
          <p:nvPr/>
        </p:nvPicPr>
        <p:blipFill>
          <a:blip r:embed="rId1"/>
          <a:stretch/>
        </p:blipFill>
        <p:spPr>
          <a:xfrm>
            <a:off x="6588000" y="3284640"/>
            <a:ext cx="1675080" cy="2232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21"/>
          <p:cNvSpPr txBox="1"/>
          <p:nvPr/>
        </p:nvSpPr>
        <p:spPr>
          <a:xfrm>
            <a:off x="2124000" y="0"/>
            <a:ext cx="5041800" cy="28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эффициенты наследуемости болезне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Congenital_dislocation_of_the_hip"/>
          <p:cNvPicPr/>
          <p:nvPr/>
        </p:nvPicPr>
        <p:blipFill>
          <a:blip r:embed="rId1"/>
          <a:stretch/>
        </p:blipFill>
        <p:spPr>
          <a:xfrm>
            <a:off x="2268360" y="1341360"/>
            <a:ext cx="5348520" cy="4284720"/>
          </a:xfrm>
          <a:prstGeom prst="rect">
            <a:avLst/>
          </a:prstGeom>
          <a:ln w="0">
            <a:noFill/>
          </a:ln>
        </p:spPr>
      </p:pic>
      <p:sp>
        <p:nvSpPr>
          <p:cNvPr id="37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асимметрия кожных складо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WordArt 4"/>
          <p:cNvSpPr txBox="1"/>
          <p:nvPr/>
        </p:nvSpPr>
        <p:spPr>
          <a:xfrm>
            <a:off x="1763640" y="189000"/>
            <a:ext cx="6048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Picture 9" descr="Врожденный вывих бедра"/>
          <p:cNvPicPr/>
          <p:nvPr/>
        </p:nvPicPr>
        <p:blipFill>
          <a:blip r:embed="rId3"/>
          <a:stretch/>
        </p:blipFill>
        <p:spPr>
          <a:xfrm>
            <a:off x="3780000" y="2781360"/>
            <a:ext cx="1933560" cy="338436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очение ножки ребё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Врожденный вывих бедра"/>
          <p:cNvPicPr/>
          <p:nvPr/>
        </p:nvPicPr>
        <p:blipFill>
          <a:blip r:embed="rId1"/>
          <a:stretch/>
        </p:blipFill>
        <p:spPr>
          <a:xfrm>
            <a:off x="3635280" y="2637000"/>
            <a:ext cx="2332080" cy="2965320"/>
          </a:xfrm>
          <a:prstGeom prst="rect">
            <a:avLst/>
          </a:prstGeom>
          <a:ln w="0">
            <a:noFill/>
          </a:ln>
        </p:spPr>
      </p:pic>
      <p:sp>
        <p:nvSpPr>
          <p:cNvPr id="380" name="WordArt 5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граничение отведения одного или обоих бедер ребе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WordArt 4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4" name="Picture 7" descr="Врожденный вывих бедра"/>
          <p:cNvPicPr/>
          <p:nvPr/>
        </p:nvPicPr>
        <p:blipFill>
          <a:blip r:embed="rId3"/>
          <a:stretch/>
        </p:blipFill>
        <p:spPr>
          <a:xfrm>
            <a:off x="1908000" y="2997360"/>
            <a:ext cx="2195640" cy="244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http://kolesow.tltonline.ru/images/image005.jpg"/>
          <p:cNvPicPr/>
          <p:nvPr/>
        </p:nvPicPr>
        <p:blipFill>
          <a:blip r:embed="rId4"/>
          <a:stretch/>
        </p:blipFill>
        <p:spPr>
          <a:xfrm>
            <a:off x="4643280" y="2997360"/>
            <a:ext cx="1981440" cy="24476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имптом Маркса - Ортолани или симптом «щелчк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WordArt 4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0" name="Picture 5" descr="Врожденный вывих бедра"/>
          <p:cNvPicPr/>
          <p:nvPr/>
        </p:nvPicPr>
        <p:blipFill>
          <a:blip r:embed="rId3"/>
          <a:stretch/>
        </p:blipFill>
        <p:spPr>
          <a:xfrm>
            <a:off x="1979640" y="3068640"/>
            <a:ext cx="5832360" cy="2398680"/>
          </a:xfrm>
          <a:prstGeom prst="rect">
            <a:avLst/>
          </a:prstGeom>
          <a:ln w="0">
            <a:noFill/>
          </a:ln>
        </p:spPr>
      </p:pic>
      <p:sp>
        <p:nvSpPr>
          <p:cNvPr id="391" name="Управляющая кнопка: в начало 5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796000" y="1981080"/>
            <a:ext cx="289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щелины губы и неба составляют 86,9% от всех врожденных пороков развития л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5" descr="23260_foto1"/>
          <p:cNvPicPr/>
          <p:nvPr/>
        </p:nvPicPr>
        <p:blipFill>
          <a:blip r:embed="rId1"/>
          <a:stretch/>
        </p:blipFill>
        <p:spPr>
          <a:xfrm>
            <a:off x="65160" y="2133720"/>
            <a:ext cx="5683320" cy="4224240"/>
          </a:xfrm>
          <a:prstGeom prst="rect">
            <a:avLst/>
          </a:prstGeom>
          <a:ln w="0">
            <a:noFill/>
          </a:ln>
        </p:spPr>
      </p:pic>
      <p:sp>
        <p:nvSpPr>
          <p:cNvPr id="394" name="WordArt 7"/>
          <p:cNvSpPr txBox="1"/>
          <p:nvPr/>
        </p:nvSpPr>
        <p:spPr>
          <a:xfrm>
            <a:off x="1763640" y="69228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щелина губы и неб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Управляющая кнопка: в начало 4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4"/>
          <p:cNvSpPr txBox="1"/>
          <p:nvPr/>
        </p:nvSpPr>
        <p:spPr>
          <a:xfrm>
            <a:off x="3348000" y="476280"/>
            <a:ext cx="3816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езнь Гош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7" name="i-main-pic" descr="Картинка 1 из 2529"/>
          <p:cNvPicPr/>
          <p:nvPr/>
        </p:nvPicPr>
        <p:blipFill>
          <a:blip r:embed="rId1"/>
          <a:stretch/>
        </p:blipFill>
        <p:spPr>
          <a:xfrm>
            <a:off x="2438280" y="2133720"/>
            <a:ext cx="1905120" cy="3527280"/>
          </a:xfrm>
          <a:prstGeom prst="rect">
            <a:avLst/>
          </a:prstGeom>
          <a:ln w="0">
            <a:noFill/>
          </a:ln>
        </p:spPr>
      </p:pic>
      <p:pic>
        <p:nvPicPr>
          <p:cNvPr id="398" name="i-main-pic" descr="Картинка 1 из 2529"/>
          <p:cNvPicPr/>
          <p:nvPr/>
        </p:nvPicPr>
        <p:blipFill>
          <a:blip r:embed="rId2"/>
          <a:stretch/>
        </p:blipFill>
        <p:spPr>
          <a:xfrm>
            <a:off x="5889600" y="1981080"/>
            <a:ext cx="2211480" cy="33195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0"/>
          <p:cNvSpPr/>
          <p:nvPr/>
        </p:nvSpPr>
        <p:spPr>
          <a:xfrm>
            <a:off x="5508720" y="552384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струкция плечевой кости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з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ш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753080" cy="40323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5715000" y="1428840"/>
            <a:ext cx="285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льбиниз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едкая наследственная болезнь, характеризующаяся недостаточным содержанием пигмента мелан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WordArt 6"/>
          <p:cNvSpPr txBox="1"/>
          <p:nvPr/>
        </p:nvSpPr>
        <p:spPr>
          <a:xfrm>
            <a:off x="3419640" y="549360"/>
            <a:ext cx="2352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льбиниз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4" name="Управляющая кнопка: в начало 4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Физ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различные виды ионизирующей радиации, ультрафиолетовое излуч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Хим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инсектициды, гербициды, наркотики, алкоголь, некоторые лекарственные препараты и др.вещест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Биолог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ирусы оспы, ветряной оспы, эпидемического паротита, гриппа, кори, гепатита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4"/>
          <p:cNvSpPr txBox="1"/>
          <p:nvPr/>
        </p:nvSpPr>
        <p:spPr>
          <a:xfrm>
            <a:off x="1835280" y="76500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кторы рис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ко-генетическое консультирование при беременности в возрасте 35 лет и старше, наличии наследственных болезней в родосл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родственных бр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WordArt 4"/>
          <p:cNvSpPr txBox="1"/>
          <p:nvPr/>
        </p:nvSpPr>
        <p:spPr>
          <a:xfrm>
            <a:off x="1835280" y="907920"/>
            <a:ext cx="676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илак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1835280" y="620640"/>
            <a:ext cx="669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ых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95280" y="3645000"/>
            <a:ext cx="2664000" cy="57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Times New Roman"/>
                <a:hlinkClick r:id="rId5" action="ppaction://hlinksldjump"/>
              </a:rPr>
              <a:t>МОНОГ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03640" y="3645000"/>
            <a:ext cx="3097080" cy="57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Times New Roman"/>
                <a:hlinkClick r:id="rId6" action="ppaction://hlinksldjump"/>
              </a:rPr>
              <a:t>ХРОМОСОМ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516720" y="3645000"/>
            <a:ext cx="2232000" cy="57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Times New Roman"/>
                <a:hlinkClick r:id="rId7" action="ppaction://hlinksldjump"/>
              </a:rPr>
              <a:t>ПОЛИГ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619280" y="1989000"/>
            <a:ext cx="5904000" cy="936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БОЛЕ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2124000" y="292428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00720" y="292428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32720" y="292428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24000" y="4365720"/>
            <a:ext cx="2663640" cy="165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8" action="ppaction://hlinksldjump"/>
              </a:rPr>
              <a:t>Аутосомно-доминан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9" action="ppaction://hlinksldjump"/>
              </a:rPr>
              <a:t>Аутосомно-рецессив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10" action="ppaction://hlinksldjump"/>
              </a:rPr>
              <a:t>Сцепленные с по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203640" y="4365720"/>
            <a:ext cx="3097080" cy="165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11" action="ppaction://hlinksldjump"/>
              </a:rPr>
              <a:t>геномные му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омосомные му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Управляющая кнопка: сведения 11">
            <a:hlinkClick r:id="rId12" action="ppaction://hlinksldjump"/>
          </p:cNvPr>
          <p:cNvSpPr/>
          <p:nvPr/>
        </p:nvSpPr>
        <p:spPr>
          <a:xfrm>
            <a:off x="8286840" y="6429240"/>
            <a:ext cx="642960" cy="214560"/>
          </a:xfrm>
          <a:custGeom>
            <a:avLst/>
            <a:gdLst>
              <a:gd name="textAreaLeft" fmla="*/ 13680 w 642960"/>
              <a:gd name="textAreaRight" fmla="*/ 629280 w 64296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64655" h="21600">
                <a:moveTo>
                  <a:pt x="0" y="0"/>
                </a:moveTo>
                <a:lnTo>
                  <a:pt x="64655" y="0"/>
                </a:lnTo>
                <a:lnTo>
                  <a:pt x="64655" y="21600"/>
                </a:lnTo>
                <a:lnTo>
                  <a:pt x="0" y="21600"/>
                </a:lnTo>
                <a:close/>
              </a:path>
              <a:path fill="lightenLess" w="64655" h="21600">
                <a:moveTo>
                  <a:pt x="0" y="0"/>
                </a:moveTo>
                <a:lnTo>
                  <a:pt x="64655" y="0"/>
                </a:lnTo>
                <a:lnTo>
                  <a:pt x="63255" y="1400"/>
                </a:lnTo>
                <a:lnTo>
                  <a:pt x="1400" y="1400"/>
                </a:lnTo>
                <a:close/>
              </a:path>
              <a:path fill="darken" w="64655" h="21600">
                <a:moveTo>
                  <a:pt x="64655" y="0"/>
                </a:moveTo>
                <a:lnTo>
                  <a:pt x="64655" y="21600"/>
                </a:lnTo>
                <a:lnTo>
                  <a:pt x="63255" y="20200"/>
                </a:lnTo>
                <a:lnTo>
                  <a:pt x="63255" y="1400"/>
                </a:lnTo>
                <a:close/>
              </a:path>
              <a:path fill="darkenLess" w="64655" h="21600">
                <a:moveTo>
                  <a:pt x="64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55" y="20200"/>
                </a:lnTo>
                <a:close/>
              </a:path>
              <a:path fill="lighten" w="64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55" h="21600">
                <a:moveTo>
                  <a:pt x="3232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4655" h="21600">
                <a:moveTo>
                  <a:pt x="3232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4655" h="21600">
                <a:moveTo>
                  <a:pt x="29751" y="8224"/>
                </a:moveTo>
                <a:lnTo>
                  <a:pt x="33616" y="8224"/>
                </a:lnTo>
                <a:lnTo>
                  <a:pt x="33616" y="15221"/>
                </a:lnTo>
                <a:lnTo>
                  <a:pt x="34904" y="15221"/>
                </a:lnTo>
                <a:lnTo>
                  <a:pt x="34904" y="16144"/>
                </a:lnTo>
                <a:lnTo>
                  <a:pt x="29751" y="16144"/>
                </a:lnTo>
                <a:lnTo>
                  <a:pt x="29751" y="15221"/>
                </a:lnTo>
                <a:lnTo>
                  <a:pt x="31039" y="15221"/>
                </a:lnTo>
                <a:lnTo>
                  <a:pt x="31039" y="9129"/>
                </a:lnTo>
                <a:lnTo>
                  <a:pt x="29751" y="9129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Управляющая кнопка: фильм 12"/>
          <p:cNvSpPr/>
          <p:nvPr/>
        </p:nvSpPr>
        <p:spPr>
          <a:xfrm>
            <a:off x="714384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2503" y="7301"/>
                </a:moveTo>
                <a:lnTo>
                  <a:pt x="33417" y="7301"/>
                </a:lnTo>
                <a:lnTo>
                  <a:pt x="33800" y="7667"/>
                </a:lnTo>
                <a:lnTo>
                  <a:pt x="43008" y="7667"/>
                </a:lnTo>
                <a:lnTo>
                  <a:pt x="43565" y="8224"/>
                </a:lnTo>
                <a:lnTo>
                  <a:pt x="43565" y="8772"/>
                </a:lnTo>
                <a:lnTo>
                  <a:pt x="45411" y="8772"/>
                </a:lnTo>
                <a:lnTo>
                  <a:pt x="45776" y="8224"/>
                </a:lnTo>
                <a:lnTo>
                  <a:pt x="46516" y="8224"/>
                </a:lnTo>
                <a:lnTo>
                  <a:pt x="46516" y="13376"/>
                </a:lnTo>
                <a:lnTo>
                  <a:pt x="45776" y="13376"/>
                </a:lnTo>
                <a:lnTo>
                  <a:pt x="45411" y="12828"/>
                </a:lnTo>
                <a:lnTo>
                  <a:pt x="43565" y="12828"/>
                </a:lnTo>
                <a:lnTo>
                  <a:pt x="43565" y="14107"/>
                </a:lnTo>
                <a:lnTo>
                  <a:pt x="33983" y="14107"/>
                </a:lnTo>
                <a:lnTo>
                  <a:pt x="33983" y="9877"/>
                </a:lnTo>
                <a:lnTo>
                  <a:pt x="33800" y="9877"/>
                </a:lnTo>
                <a:lnTo>
                  <a:pt x="33417" y="10243"/>
                </a:lnTo>
                <a:lnTo>
                  <a:pt x="32503" y="10243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967280" y="981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ённым видом профилактики наследственных болезней является медико-генетическое консультирование. Суть заключается в прогнозировании рождения ребёнка с наследственной патолог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7" descr="Картинка 13 из 212"/>
          <p:cNvPicPr/>
          <p:nvPr/>
        </p:nvPicPr>
        <p:blipFill>
          <a:blip r:embed="rId1"/>
          <a:stretch/>
        </p:blipFill>
        <p:spPr>
          <a:xfrm>
            <a:off x="1835280" y="98100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ет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стительная 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ие токсических продуктов обмена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еометорное воздействие (на синтез фермент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некоторых лекарств (барбитуратов, сульфаниламидов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рургическое л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1908000" y="836640"/>
            <a:ext cx="395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Наследственные болез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85840" y="1857240"/>
          <a:ext cx="8429400" cy="4643640"/>
        </p:xfrm>
        <a:graphic>
          <a:graphicData uri="http://schemas.openxmlformats.org/drawingml/2006/table">
            <a:tbl>
              <a:tblPr/>
              <a:tblGrid>
                <a:gridCol w="2143080"/>
                <a:gridCol w="1857240"/>
                <a:gridCol w="1785960"/>
                <a:gridCol w="1357560"/>
                <a:gridCol w="128556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Наслед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заболева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Группы заболе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римеры болез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80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Моног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Аутосомно-доминан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Аутосомно-рецесс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Сцепленные с по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6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Хромосом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Геном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Хромосом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олиг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  <p:sp>
        <p:nvSpPr>
          <p:cNvPr id="415" name="Управляющая кнопка: домой 4"/>
          <p:cNvSpPr/>
          <p:nvPr/>
        </p:nvSpPr>
        <p:spPr>
          <a:xfrm>
            <a:off x="8715240" y="6429240"/>
            <a:ext cx="285840" cy="42876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428760"/>
              <a:gd name="textAreaBottom" fmla="*/ 410400 h 428760"/>
            </a:gdLst>
            <a:ahLst/>
            <a:rect l="textAreaLeft" t="textAreaTop" r="textAreaRight" b="textAreaBottom"/>
            <a:pathLst>
              <a:path w="21600" h="32386">
                <a:moveTo>
                  <a:pt x="0" y="0"/>
                </a:moveTo>
                <a:lnTo>
                  <a:pt x="21600" y="0"/>
                </a:lnTo>
                <a:lnTo>
                  <a:pt x="21600" y="32386"/>
                </a:lnTo>
                <a:lnTo>
                  <a:pt x="0" y="32386"/>
                </a:lnTo>
                <a:close/>
              </a:path>
              <a:path fill="lightenLess" w="21600" h="32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6">
                <a:moveTo>
                  <a:pt x="21600" y="0"/>
                </a:moveTo>
                <a:lnTo>
                  <a:pt x="21600" y="32386"/>
                </a:lnTo>
                <a:lnTo>
                  <a:pt x="20200" y="30986"/>
                </a:lnTo>
                <a:lnTo>
                  <a:pt x="20200" y="1400"/>
                </a:lnTo>
                <a:close/>
              </a:path>
              <a:path fill="darkenLess" w="21600" h="32386">
                <a:moveTo>
                  <a:pt x="21600" y="32386"/>
                </a:moveTo>
                <a:lnTo>
                  <a:pt x="0" y="32386"/>
                </a:lnTo>
                <a:lnTo>
                  <a:pt x="1400" y="30986"/>
                </a:lnTo>
                <a:lnTo>
                  <a:pt x="20200" y="30986"/>
                </a:lnTo>
                <a:close/>
              </a:path>
              <a:path fill="lighten" w="21600" h="32386">
                <a:moveTo>
                  <a:pt x="0" y="32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6"/>
                </a:lnTo>
                <a:close/>
              </a:path>
              <a:path fill="darken" w="21600" h="32386">
                <a:moveTo>
                  <a:pt x="10800" y="9230"/>
                </a:moveTo>
                <a:lnTo>
                  <a:pt x="13376" y="11841"/>
                </a:lnTo>
                <a:lnTo>
                  <a:pt x="13376" y="10101"/>
                </a:lnTo>
                <a:lnTo>
                  <a:pt x="15152" y="10101"/>
                </a:lnTo>
                <a:lnTo>
                  <a:pt x="15152" y="13617"/>
                </a:lnTo>
                <a:lnTo>
                  <a:pt x="17763" y="16193"/>
                </a:lnTo>
                <a:lnTo>
                  <a:pt x="16109" y="16193"/>
                </a:lnTo>
                <a:lnTo>
                  <a:pt x="16109" y="23382"/>
                </a:lnTo>
                <a:lnTo>
                  <a:pt x="5491" y="23382"/>
                </a:lnTo>
                <a:lnTo>
                  <a:pt x="5491" y="16193"/>
                </a:lnTo>
                <a:lnTo>
                  <a:pt x="3837" y="16193"/>
                </a:lnTo>
                <a:close/>
              </a:path>
              <a:path fill="darkenLess" w="21600" h="32386">
                <a:moveTo>
                  <a:pt x="13376" y="11841"/>
                </a:moveTo>
                <a:lnTo>
                  <a:pt x="13376" y="10101"/>
                </a:lnTo>
                <a:lnTo>
                  <a:pt x="15152" y="10101"/>
                </a:lnTo>
                <a:lnTo>
                  <a:pt x="15152" y="13617"/>
                </a:lnTo>
                <a:close/>
              </a:path>
              <a:path fill="darkenLess" w="21600" h="32386">
                <a:moveTo>
                  <a:pt x="9877" y="19692"/>
                </a:moveTo>
                <a:lnTo>
                  <a:pt x="11723" y="19692"/>
                </a:lnTo>
                <a:lnTo>
                  <a:pt x="11723" y="23382"/>
                </a:lnTo>
                <a:lnTo>
                  <a:pt x="16109" y="23382"/>
                </a:lnTo>
                <a:lnTo>
                  <a:pt x="16109" y="16193"/>
                </a:lnTo>
                <a:lnTo>
                  <a:pt x="5491" y="16193"/>
                </a:lnTo>
                <a:lnTo>
                  <a:pt x="5491" y="23382"/>
                </a:lnTo>
                <a:lnTo>
                  <a:pt x="9877" y="23382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ы мутациями или отсутствием отдельных генов и наследуются в полном соответствии с законами Менделя (аутосомное или сцепленное с X-хромосомой наследование, доминантное или рецессивное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тации могут захватывать как один, так и оба алл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835280" y="836640"/>
            <a:ext cx="626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ог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инические проявления возникают в результате отсутствия определенной генетической информации либо реализации дефект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тя распространенность моногенных болезней невысока, полностью они не исчезаю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моногенных болезней характерны «молчащие» гены, действие которых проявляется под влиянием окружающей сре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1835280" y="836640"/>
            <a:ext cx="626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ог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Управляющая кнопка: в начало 3">
            <a:hlinkClick r:id="rId3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е лежит нарушение синтеза структурных белков или белков, выполняющих специфические функции (например, гемоглоб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мутантного гена проявляется практически все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мальчики и девочки рождаются с одинаковой частот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оятность развития болезни в потомстве составляет 5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979640" y="62064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утосомно-доминант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6:49:00Z</dcterms:created>
  <dc:creator>Аца</dc:creator>
  <dc:description/>
  <dc:language>en-US</dc:language>
  <cp:lastModifiedBy>87463</cp:lastModifiedBy>
  <dcterms:modified xsi:type="dcterms:W3CDTF">2014-02-26T11:02:13Z</dcterms:modified>
  <cp:revision>53</cp:revision>
  <dc:subject/>
  <dc:title>Слайд 1</dc:title>
</cp:coreProperties>
</file>