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E94D-C536-458C-B08D-E7683CA9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1502-0CB7-421C-81ED-3E7642C3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753-E44F-4329-BD24-B83C8D0D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30B-E572-40F5-86D2-9E518B11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AFFD-59FF-430E-A9EB-535C8EAA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5075-4E91-419B-9A8B-BBB791CC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2CFA-012D-4D59-9CAE-2FDAE46E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30DA-03D9-4194-A47F-7410AFB5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39F5-9D62-4601-B7DE-8BE12F55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89F4-10DE-40A2-861E-EB412AF4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D489-12D6-4253-BDA3-D07FE45A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250-7A8C-4F52-99FA-C51E4F6A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F309-19C3-41D5-988C-54E71F46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C96A-94C4-44CC-A59D-C8AB58E7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2E77-9C2D-4EDD-86A5-A2567260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77CA-9B75-4AE0-8766-69120687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F181-A0A0-440A-81DF-1165E9F7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D5596-4820-4219-9164-123356E4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B75A6-2A1C-4065-A291-BB6C2855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159BD-75E6-49AF-917D-33D51D85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1F9F3-B264-484F-B566-B268BCDD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452EC-D21A-458F-9D03-791F48B7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2D6-9054-4BE8-8745-E1D94984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9DD8D-FE03-4103-8282-86DFB5D3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88869-6712-4FB1-8442-15B417E5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09D6D-3295-46F8-80BA-37CCCCDA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4B227-4063-47EF-A5DE-BD66E63F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BCE95-C45C-4F6D-A73D-DF700077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D9E1F-3386-4853-999D-886AFBD3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46215-9228-4EEF-914F-BCDB6F38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DAE26-6A32-4228-A1B8-6A1F2307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F49A7-BC8D-4DA2-AC17-09E7FF53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BAD2B-661F-46CC-AA43-9FEA2EF5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3EA-69D9-46D8-963D-1D0F2F13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9E1E7-6BC6-4A2B-99DF-227A1340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B6AF4-56A2-4962-96A9-52CDAC85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CD6F5-DA3E-4D97-A011-F6BFCCFA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2E833-382E-42CC-AD13-47A38E6D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DE952-B32D-4928-B615-A7997880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43AB6-5AA8-42D9-BFE1-6B73DBB0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C45A2-615E-445F-A36C-39743804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23E9A-16E2-47BE-B6E7-72CECE96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C59C2-184F-4C16-851F-3EEBD9FF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1C1FD-0760-4673-8DE2-0EDF2DC3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B7F7-084D-4EF5-A221-CB78A28C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21323-3CCC-4E8B-9613-A1780F4C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38B4B-7834-4485-8BA4-950F5E50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6A38B-173B-4C11-B1E9-BCD1BDF1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73E50-0751-4316-B6C3-84E895D3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00AB3-51E6-46C8-BC3D-2BC23027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6A8AB-C258-424F-9F63-8F627F6C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7B953-08CB-4346-A7DA-FE818475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B294E-76A6-48F7-AD33-DB1BE431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C4E0C-41B3-4110-B7B7-76F2D1C8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C808D-C85B-49FA-B718-624302B2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ACC-ACD6-4524-9B74-3E37F853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21307-9665-4F46-9C53-6BC5C278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CB8-3CCA-4A32-8CE8-9FFA1459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5395-222A-42BF-8D1D-0E47AD39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D38-053D-423A-A520-56352FA2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106E-6E9F-4475-B5FD-EB63996F4DF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2C60-0824-4CEF-8DF8-9BBB9E43BE9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0B50-63DE-4DE1-95A3-C591DC1522F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17CB-D309-46DA-96A7-044891F129C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8E58-A079-40E4-A9E4-530C2F9B13D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рганоиды цитоплазмы, их строение и функции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2880"/>
            <a:ext cx="1442880" cy="655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Ядро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2868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Cambria"/>
              </a:rPr>
              <a:t>Строение ядр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mbria"/>
              </a:rPr>
              <a:t>Ядерная оболочка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– состоит из двух мембран, внутренняя – гладкая, наружная в некоторых местах переходит в каналы ЭПР. Оболочка имеет пор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mbria"/>
              </a:rPr>
              <a:t>Кариоплазма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— внутреннее содержимое ядра, в котором располагаются </a:t>
            </a:r>
            <a:r>
              <a:rPr b="0" i="1" lang="ru-RU" sz="2000" spc="-1" strike="noStrike">
                <a:solidFill>
                  <a:srgbClr val="ff0000"/>
                </a:solidFill>
                <a:latin typeface="Cambria"/>
              </a:rPr>
              <a:t>хроматин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ретья, характерная для ядра клетки структура — </a:t>
            </a:r>
            <a:r>
              <a:rPr b="0" i="1" lang="ru-RU" sz="2000" spc="-1" strike="noStrike">
                <a:solidFill>
                  <a:srgbClr val="ff0000"/>
                </a:solidFill>
                <a:latin typeface="Cambria"/>
              </a:rPr>
              <a:t>ядрышко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428760" y="4000680"/>
            <a:ext cx="4330440" cy="23572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6"/>
          <p:cNvSpPr/>
          <p:nvPr/>
        </p:nvSpPr>
        <p:spPr>
          <a:xfrm>
            <a:off x="4929120" y="3214800"/>
            <a:ext cx="392904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онтролирует жизнедеятельность клетки, регулируя процессы синтеза белка, обмена веществ и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Хранит генетическую информацию, заключенную в ДНК, и передает ее дочерним клеткам в процессе клеточного 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272880"/>
            <a:ext cx="4157640" cy="655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Митохондрии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0" y="785880"/>
            <a:ext cx="42148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c00000"/>
                </a:solidFill>
                <a:latin typeface="Cambria"/>
              </a:rPr>
              <a:t>Строение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mbria"/>
              </a:rPr>
              <a:t>Органоиды двумембранного строения. Внешняя мембрана гладкая, а внутренняя образует различные выросты (кристы)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mbria"/>
              </a:rPr>
              <a:t>Митохондрии имеют собственные рибосомы и ДНК, поэтому способны самостоятельно синтезировать белки.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289" name="TextBox 5"/>
          <p:cNvSpPr/>
          <p:nvPr/>
        </p:nvSpPr>
        <p:spPr>
          <a:xfrm>
            <a:off x="642960" y="4714920"/>
            <a:ext cx="77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Фун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итохондрии – энергетические центры клетки, т.к. в них синтезируются молекулы АТФ с макроэргическими фосфатными связ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2371680" cy="584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Пластиды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071600" y="213840"/>
            <a:ext cx="47862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mbria"/>
              </a:rPr>
              <a:t>Строение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70c0"/>
                </a:solidFill>
                <a:latin typeface="Cambria"/>
              </a:rPr>
              <a:t>Хлоропласты</a:t>
            </a:r>
            <a:r>
              <a:rPr b="0" lang="ru-RU" sz="1600" spc="-1" strike="noStrike">
                <a:solidFill>
                  <a:srgbClr val="0070c0"/>
                </a:solidFill>
                <a:latin typeface="Cambri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по форме напоминают двояковыпуклую линзу. Наружная мембрана гладкая, а внутренняя имеет складчатую структуру. Внутренняя среда хлоропласта — </a:t>
            </a:r>
            <a:r>
              <a:rPr b="0" lang="ru-RU" sz="1600" spc="-1" strike="noStrike">
                <a:solidFill>
                  <a:srgbClr val="0000cc"/>
                </a:solidFill>
                <a:latin typeface="Cambria"/>
              </a:rPr>
              <a:t>строма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— содержит </a:t>
            </a:r>
            <a:r>
              <a:rPr b="0" lang="ru-RU" sz="1600" spc="-1" strike="noStrike">
                <a:solidFill>
                  <a:srgbClr val="0000cc"/>
                </a:solidFill>
                <a:latin typeface="Cambria"/>
              </a:rPr>
              <a:t>ДНК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0" lang="ru-RU" sz="1600" spc="-1" strike="noStrike">
                <a:solidFill>
                  <a:srgbClr val="0000cc"/>
                </a:solidFill>
                <a:latin typeface="Cambria"/>
              </a:rPr>
              <a:t>рибосомы прокариотического типа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, благодаря чему хлоропласт способен к автономному синтезу части белков и делению, как и митохондрии, но очень редко. Основные структурные элементы хлоропласта — </a:t>
            </a:r>
            <a:r>
              <a:rPr b="0" lang="ru-RU" sz="1600" spc="-1" strike="noStrike">
                <a:solidFill>
                  <a:srgbClr val="0000cc"/>
                </a:solidFill>
                <a:latin typeface="Cambria"/>
              </a:rPr>
              <a:t>тилакоиды, уложенные в граны.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ru-RU" sz="1600" spc="-1" strike="noStrike">
                <a:solidFill>
                  <a:srgbClr val="ff0000"/>
                </a:solidFill>
                <a:latin typeface="Cambria"/>
              </a:rPr>
              <a:t>Основная функция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– фотосинтез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70c0"/>
                </a:solidFill>
                <a:latin typeface="Cambria"/>
              </a:rPr>
              <a:t>Лейкопласты</a:t>
            </a:r>
            <a:r>
              <a:rPr b="0" lang="ru-RU" sz="1600" spc="-1" strike="noStrike">
                <a:solidFill>
                  <a:srgbClr val="0070c0"/>
                </a:solidFill>
                <a:latin typeface="Cambri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Бесцветные, обычно мелкие пластиды. Встречаются в клетках органов, скрытых от солнечного света — корнях, корневищах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mbria"/>
              </a:rPr>
              <a:t>Основная функция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— синтез и накопление запасных продуктов (в первую очередь крахмала, реже — белков и липидов)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i="1" lang="ru-RU" sz="1600" spc="-1" strike="noStrike">
                <a:solidFill>
                  <a:srgbClr val="0070c0"/>
                </a:solidFill>
                <a:latin typeface="Cambria"/>
              </a:rPr>
              <a:t>Хромопласты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стречаются в клетках лепестков многих растений, зрелых плодов, реже — корнеплодов, а также в осенних листьях.  Содержат пигменты, относящиеся к группе </a:t>
            </a:r>
            <a:r>
              <a:rPr b="0" lang="ru-RU" sz="1600" spc="-1" strike="noStrike">
                <a:solidFill>
                  <a:srgbClr val="0000cc"/>
                </a:solidFill>
                <a:latin typeface="Cambria"/>
              </a:rPr>
              <a:t>каротиноидов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mbria"/>
              </a:rPr>
              <a:t>Основная функция </a:t>
            </a:r>
            <a:r>
              <a:rPr b="0" lang="ru-RU" sz="1600" spc="-1" strike="noStrike">
                <a:solidFill>
                  <a:srgbClr val="0000cc"/>
                </a:solidFill>
                <a:latin typeface="Cambria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придавать различную окраску органам растений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250920" y="1071720"/>
            <a:ext cx="3654360" cy="1928520"/>
          </a:xfrm>
          <a:prstGeom prst="rect">
            <a:avLst/>
          </a:prstGeom>
          <a:ln w="0">
            <a:noFill/>
          </a:ln>
        </p:spPr>
      </p:pic>
      <p:sp>
        <p:nvSpPr>
          <p:cNvPr id="293" name="TextBox 7"/>
          <p:cNvSpPr/>
          <p:nvPr/>
        </p:nvSpPr>
        <p:spPr>
          <a:xfrm>
            <a:off x="4214880" y="71424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2"/>
          <a:stretch/>
        </p:blipFill>
        <p:spPr>
          <a:xfrm>
            <a:off x="285840" y="3500280"/>
            <a:ext cx="3782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2880"/>
            <a:ext cx="2657520" cy="655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mbria"/>
              </a:rPr>
              <a:t>Рибосомы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643280" y="571320"/>
            <a:ext cx="404352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Микроскопические тельца округлой формы, обычно состоят из двух, неодинаковых по размеру , частиц. В состав рибосом входят белки и РНК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Функция -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интез белк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97" name="Picture 20" descr=""/>
          <p:cNvPicPr/>
          <p:nvPr/>
        </p:nvPicPr>
        <p:blipFill>
          <a:blip r:embed="rId1"/>
          <a:srcRect l="8196" t="4770" r="-2449" b="0"/>
          <a:stretch/>
        </p:blipFill>
        <p:spPr>
          <a:xfrm>
            <a:off x="357120" y="3214800"/>
            <a:ext cx="3857760" cy="18748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21"/>
          <p:cNvSpPr/>
          <p:nvPr/>
        </p:nvSpPr>
        <p:spPr>
          <a:xfrm>
            <a:off x="3429000" y="5715000"/>
            <a:ext cx="108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4"/>
          <p:cNvSpPr/>
          <p:nvPr/>
        </p:nvSpPr>
        <p:spPr>
          <a:xfrm flipV="1">
            <a:off x="1428840" y="4500720"/>
            <a:ext cx="714240" cy="642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"/>
          <p:cNvSpPr/>
          <p:nvPr/>
        </p:nvSpPr>
        <p:spPr>
          <a:xfrm flipV="1">
            <a:off x="1428840" y="4286160"/>
            <a:ext cx="46080" cy="857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6"/>
          <p:cNvSpPr/>
          <p:nvPr/>
        </p:nvSpPr>
        <p:spPr>
          <a:xfrm flipH="1" flipV="1">
            <a:off x="3714840" y="4357800"/>
            <a:ext cx="357120" cy="13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7"/>
          <p:cNvSpPr/>
          <p:nvPr/>
        </p:nvSpPr>
        <p:spPr>
          <a:xfrm flipH="1" flipV="1">
            <a:off x="3285720" y="4857480"/>
            <a:ext cx="785880" cy="857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9"/>
          <p:cNvSpPr/>
          <p:nvPr/>
        </p:nvSpPr>
        <p:spPr>
          <a:xfrm flipH="1" flipV="1">
            <a:off x="571680" y="4857840"/>
            <a:ext cx="71280" cy="931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0"/>
          <p:cNvSpPr/>
          <p:nvPr/>
        </p:nvSpPr>
        <p:spPr>
          <a:xfrm flipV="1">
            <a:off x="642960" y="5143320"/>
            <a:ext cx="71280" cy="64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2"/>
          <p:cNvSpPr/>
          <p:nvPr/>
        </p:nvSpPr>
        <p:spPr>
          <a:xfrm>
            <a:off x="428760" y="5786280"/>
            <a:ext cx="128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бодные рибосо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928800" y="5143680"/>
            <a:ext cx="278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босомы, прикреплён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мембран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tretch/>
        </p:blipFill>
        <p:spPr>
          <a:xfrm>
            <a:off x="214200" y="857160"/>
            <a:ext cx="42436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040" y="272880"/>
            <a:ext cx="4086360" cy="655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Клеточный центр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1640" y="213840"/>
            <a:ext cx="41432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mbria"/>
              </a:rPr>
              <a:t>Строение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бразован </a:t>
            </a:r>
            <a:r>
              <a:rPr b="0" lang="ru-RU" sz="2000" spc="-1" strike="noStrike">
                <a:solidFill>
                  <a:srgbClr val="0000cc"/>
                </a:solidFill>
                <a:latin typeface="Cambria"/>
              </a:rPr>
              <a:t>двумя центриолями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и уплотненной цитоплазмой — </a:t>
            </a:r>
            <a:r>
              <a:rPr b="0" lang="ru-RU" sz="2000" spc="-1" strike="noStrike">
                <a:solidFill>
                  <a:srgbClr val="0000cc"/>
                </a:solidFill>
                <a:latin typeface="Cambria"/>
              </a:rPr>
              <a:t>центросферой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Центриоль –  цилиндр, стенка которого образована девятью группами из трех слившихся микротрубочек (9 триплетов), соединенных поперечными сшивками. </a:t>
            </a:r>
            <a:r>
              <a:rPr b="0" lang="ru-RU" sz="2000" spc="-1" strike="noStrike">
                <a:solidFill>
                  <a:srgbClr val="00b0f0"/>
                </a:solidFill>
                <a:latin typeface="Cambria"/>
              </a:rPr>
              <a:t>Центриоли отсутствуют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клетках высших растений, низших грибов и у некоторых простейших. Микротрубочки образует только материнская центриоль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mbria"/>
              </a:rPr>
              <a:t>Функция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Отвечает за образование цитоскелета и за расхождение хромосом при клеточном делении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428760" y="1285920"/>
            <a:ext cx="3563640" cy="25542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"/>
          <p:cNvPicPr/>
          <p:nvPr/>
        </p:nvPicPr>
        <p:blipFill>
          <a:blip r:embed="rId2"/>
          <a:stretch/>
        </p:blipFill>
        <p:spPr>
          <a:xfrm>
            <a:off x="357120" y="3857760"/>
            <a:ext cx="39718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2880"/>
            <a:ext cx="6657840" cy="1013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Клеточные включения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29040" y="1214280"/>
            <a:ext cx="4929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итательные вещества хранятся в клетке в виде </a:t>
            </a:r>
            <a:r>
              <a:rPr b="0" lang="ru-RU" sz="2400" spc="-1" strike="noStrike">
                <a:solidFill>
                  <a:srgbClr val="0070c0"/>
                </a:solidFill>
                <a:latin typeface="Cambria"/>
              </a:rPr>
              <a:t>включений,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а в растительной клетке накопление питательных веществ происходит в вакуолях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имеры клеточных включений: </a:t>
            </a:r>
            <a:r>
              <a:rPr b="0" lang="ru-RU" sz="2400" spc="-1" strike="noStrike">
                <a:solidFill>
                  <a:srgbClr val="0070c0"/>
                </a:solidFill>
                <a:latin typeface="Cambria"/>
              </a:rPr>
              <a:t>в растительной клетке –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рахмал, капли жира, белок, эфирные масла, органические кислоты;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Cambria"/>
              </a:rPr>
              <a:t>в животной клетке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– гликоген, капли жира; иногда  в клетках включения накапливаются в виде кристаллов солей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214200" y="21430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28760" y="272880"/>
            <a:ext cx="2714400" cy="72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Цитоскелет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571560" y="928800"/>
            <a:ext cx="53578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дной из отличительных особенностей эукариотической клетки является наличие в ее цитоплазме скелетных образований в виде микротрубочек и пучков белковых волокон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Цитоскелет образован </a:t>
            </a:r>
            <a:r>
              <a:rPr b="0" i="1" lang="ru-RU" sz="2400" spc="-1" strike="noStrike">
                <a:solidFill>
                  <a:srgbClr val="ff0000"/>
                </a:solidFill>
                <a:latin typeface="Cambria"/>
              </a:rPr>
              <a:t>микротрубочками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0" i="1" lang="ru-RU" sz="2400" spc="-1" strike="noStrike">
                <a:solidFill>
                  <a:srgbClr val="ff0000"/>
                </a:solidFill>
                <a:latin typeface="Cambria"/>
              </a:rPr>
              <a:t>микрофиламентами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, определяет форму клетки, участвует в ее движениях, в делении и внутриклеточном транспорт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ambria"/>
              </a:rPr>
              <a:t>Центром образования цитоскелета является клеточный центр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7" name="Picture 2" descr="0500209"/>
          <p:cNvPicPr/>
          <p:nvPr/>
        </p:nvPicPr>
        <p:blipFill>
          <a:blip r:embed="rId1"/>
          <a:stretch/>
        </p:blipFill>
        <p:spPr>
          <a:xfrm>
            <a:off x="285840" y="1143000"/>
            <a:ext cx="3143160" cy="25192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5"/>
          <p:cNvSpPr/>
          <p:nvPr/>
        </p:nvSpPr>
        <p:spPr>
          <a:xfrm>
            <a:off x="219240" y="3857760"/>
            <a:ext cx="358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 2, 3 – элементы цитоскеле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– мембра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– ЭП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- митохо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2014560" cy="511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Выводы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13840" y="713880"/>
            <a:ext cx="8472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основе строения клетки лежит мембранный принцип организаци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рганоиды являются структурными специализированными отделами клетк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яд органоидов клетки обладает способностью к самовоспроизведению, в основе которого лежит редупликация кольцевой молекулы ДНК, входящей в их состав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Центриоли, а также базальные тельца жгутиков и ресничек способны к воспроизведению путем самосборки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отличие от прокариот, у всех эукариотических клеток имеется цитоскелет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2728800" cy="654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Источники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856800"/>
            <a:ext cx="77724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Интерактивный курс для школьников «Биология. 10-11 класс». ЗАО «Образование -Медиа», 2008. Изд-во «Просвещение», 2008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Общая биология. Базовый уровень: учеб. для 10- 11 кл. общеобразовательных учреждений / В.И. Сивоглазов, И.Б. Агафонова, ЕЛ. Захарова. - М.: Дрофа, 2005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Общая биология: Учеб. для 10-11 кл. с углубл. изучением биологии в шк. /Л. В. Высоцкая, СМ. Глаголев, Г.М. Дымшиц и др.; под ред. В.К. Шумного и др. - М.: Просвещение, 2006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Пименов А.В. Биология. Электронные учебники. Диск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DVD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. – Саратов, 2007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483480" indent="-483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57120" y="64296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f497d"/>
                </a:solidFill>
                <a:latin typeface="Calibri"/>
                <a:ea typeface="Arial"/>
              </a:rPr>
              <a:t>Ответьте на вопросы</a:t>
            </a:r>
            <a:endParaRPr b="0" lang="en-US" sz="29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3008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428640" y="685800"/>
            <a:ext cx="5334120" cy="57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Что обозначено на рисунке цифрами 1-6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85000" indent="-58500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акие органоиды есть в бактериальной клетке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85000" indent="-58500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ак организован генетический материал бактериальной клетки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85000" indent="-58500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 какие группы делятся бактерии по способам питания?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85000" indent="-58500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ак осуществляется бесполое размножение бактерий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85000" indent="-585000">
              <a:spcBef>
                <a:spcPts val="575"/>
              </a:spcBef>
              <a:buClr>
                <a:srgbClr val="4f81bd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ак происходит рекомбинация генетического материала у бактерий?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585000" indent="-585000">
              <a:spcBef>
                <a:spcPts val="575"/>
              </a:spcBef>
              <a:buClr>
                <a:srgbClr val="4f81b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32860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85840" y="272880"/>
            <a:ext cx="5000400" cy="72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1f497d"/>
                </a:solidFill>
                <a:latin typeface="Cambria"/>
              </a:rPr>
              <a:t>Клеточная оболочка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840" y="857160"/>
            <a:ext cx="73580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исутствует </a:t>
            </a: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только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клетках 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растений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(пропитанная целлюлозой)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клетках 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грибов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полимер пектин, похожий на клетчатку, содержащий азот, близок к хитину)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меет поры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428800" y="2714760"/>
            <a:ext cx="32576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Защищает внутреннее содержимое клетк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меет избирательную проницаемост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охраняет форму клетк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беспечивает связь между клеткам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6" name="Picture 3" descr="H:\ЦИФРОВЫЕ ТАБЛИЦЫ\рис.общ.биол\{6B5CB257-C00E-4957-B7FE-FD5CC371DA1E}.gif"/>
          <p:cNvPicPr/>
          <p:nvPr/>
        </p:nvPicPr>
        <p:blipFill>
          <a:blip r:embed="rId1"/>
          <a:stretch/>
        </p:blipFill>
        <p:spPr>
          <a:xfrm>
            <a:off x="214200" y="3500280"/>
            <a:ext cx="500076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mbria"/>
              </a:rPr>
              <a:t>Цитоплазматическая мембрана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14920" y="571320"/>
            <a:ext cx="421488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7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троени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сновой любой мембраны является двойной слой фосфолипидов; в нем гидрофобные остатки жирных кислот обращены внутрь, а гидрофильные головки  - наружу. С липидным бислоем связаны молекулы белков, которые пронизывают его насквозь, погружаются в него или примыкают с наружной или внутренней стороны. Имеет поры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7120" y="3786120"/>
            <a:ext cx="750096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40" name="Скругленный прямоугольник 17"/>
          <p:cNvSpPr/>
          <p:nvPr/>
        </p:nvSpPr>
        <p:spPr>
          <a:xfrm>
            <a:off x="642960" y="3786120"/>
            <a:ext cx="66438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Функции цитоплазматической мемб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18"/>
          <p:cNvSpPr/>
          <p:nvPr/>
        </p:nvSpPr>
        <p:spPr>
          <a:xfrm>
            <a:off x="642960" y="4643280"/>
            <a:ext cx="228600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Рецепторная фун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19"/>
          <p:cNvSpPr/>
          <p:nvPr/>
        </p:nvSpPr>
        <p:spPr>
          <a:xfrm>
            <a:off x="5214960" y="4643280"/>
            <a:ext cx="2143080" cy="50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Барьер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фун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20"/>
          <p:cNvSpPr/>
          <p:nvPr/>
        </p:nvSpPr>
        <p:spPr>
          <a:xfrm>
            <a:off x="1214280" y="5357880"/>
            <a:ext cx="22860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Транспортная фун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21"/>
          <p:cNvSpPr/>
          <p:nvPr/>
        </p:nvSpPr>
        <p:spPr>
          <a:xfrm>
            <a:off x="4500720" y="5357880"/>
            <a:ext cx="21430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Избирательная проницаем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22"/>
          <p:cNvSpPr/>
          <p:nvPr/>
        </p:nvSpPr>
        <p:spPr>
          <a:xfrm>
            <a:off x="2786040" y="6000840"/>
            <a:ext cx="25002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онтактная фун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24"/>
          <p:cNvSpPr/>
          <p:nvPr/>
        </p:nvSpPr>
        <p:spPr>
          <a:xfrm flipH="1">
            <a:off x="1642680" y="4428360"/>
            <a:ext cx="78588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26"/>
          <p:cNvSpPr/>
          <p:nvPr/>
        </p:nvSpPr>
        <p:spPr>
          <a:xfrm flipH="1">
            <a:off x="3927600" y="4502160"/>
            <a:ext cx="1440" cy="1571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28"/>
          <p:cNvSpPr/>
          <p:nvPr/>
        </p:nvSpPr>
        <p:spPr>
          <a:xfrm flipH="1">
            <a:off x="2928600" y="4429080"/>
            <a:ext cx="428760" cy="928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30"/>
          <p:cNvSpPr/>
          <p:nvPr/>
        </p:nvSpPr>
        <p:spPr>
          <a:xfrm>
            <a:off x="4428360" y="4500720"/>
            <a:ext cx="500040" cy="857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32"/>
          <p:cNvSpPr/>
          <p:nvPr/>
        </p:nvSpPr>
        <p:spPr>
          <a:xfrm>
            <a:off x="5643720" y="4429080"/>
            <a:ext cx="64296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4429080" cy="27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Скругленный прямоугольник 2"/>
          <p:cNvSpPr/>
          <p:nvPr/>
        </p:nvSpPr>
        <p:spPr>
          <a:xfrm>
            <a:off x="857160" y="214200"/>
            <a:ext cx="70725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Транспорт веществ через мембра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3"/>
          <p:cNvSpPr/>
          <p:nvPr/>
        </p:nvSpPr>
        <p:spPr>
          <a:xfrm>
            <a:off x="1000080" y="928800"/>
            <a:ext cx="292896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1. Пассивный спосо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(энергия практ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не затрачиваетс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4"/>
          <p:cNvSpPr/>
          <p:nvPr/>
        </p:nvSpPr>
        <p:spPr>
          <a:xfrm>
            <a:off x="5072040" y="928800"/>
            <a:ext cx="38577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2. Активный способ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(затрачивается значительное количество энергии на транспорт веществ через мембран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13"/>
          <p:cNvSpPr/>
          <p:nvPr/>
        </p:nvSpPr>
        <p:spPr>
          <a:xfrm>
            <a:off x="214200" y="2000160"/>
            <a:ext cx="450072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иффузия.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Этим способом проходят вещества, способные растворяться в липидах (например, эфиры, жирные кисл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14"/>
          <p:cNvSpPr/>
          <p:nvPr/>
        </p:nvSpPr>
        <p:spPr>
          <a:xfrm>
            <a:off x="214200" y="3286080"/>
            <a:ext cx="4572000" cy="164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Облегчённая диффузия.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 этом случае белок-переносчик, находящийся в мембране, делает её проницаемой. Идёт не против градиента концентрации. Так транспортируется 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15"/>
          <p:cNvSpPr/>
          <p:nvPr/>
        </p:nvSpPr>
        <p:spPr>
          <a:xfrm>
            <a:off x="214200" y="5143680"/>
            <a:ext cx="4572000" cy="121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Осмос.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Это прохождение воды через избирательно проницаемую мембрану (она проходит из более разбавленного раствора в более концентрирован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17"/>
          <p:cNvSpPr/>
          <p:nvPr/>
        </p:nvSpPr>
        <p:spPr>
          <a:xfrm>
            <a:off x="5214960" y="2571840"/>
            <a:ext cx="3714840" cy="1428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Эндоцито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Фагоцитоз -  захват твердых част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иноцитоз - захват жидких част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кругленный прямоугольник 20"/>
          <p:cNvSpPr/>
          <p:nvPr/>
        </p:nvSpPr>
        <p:spPr>
          <a:xfrm>
            <a:off x="5286240" y="4500720"/>
            <a:ext cx="3643560" cy="1857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атрий-калиевый насос –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еренос трех катионов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Na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⁺ из клетки на каждые два катиона К⁺ в клетку против градиента концентрации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Табличка 2"/>
          <p:cNvSpPr/>
          <p:nvPr/>
        </p:nvSpPr>
        <p:spPr>
          <a:xfrm>
            <a:off x="214200" y="1785960"/>
            <a:ext cx="2857680" cy="4572000"/>
          </a:xfrm>
          <a:custGeom>
            <a:avLst/>
            <a:gdLst>
              <a:gd name="textAreaLeft" fmla="*/ 100800 w 2857680"/>
              <a:gd name="textAreaRight" fmla="*/ 2756880 w 2857680"/>
              <a:gd name="textAreaTop" fmla="*/ 100800 h 4572000"/>
              <a:gd name="textAreaBottom" fmla="*/ 4471200 h 4572000"/>
            </a:gdLst>
            <a:ahLst/>
            <a:rect l="textAreaLeft" t="textAreaTop" r="textAreaRight" b="textAreaBottom"/>
            <a:pathLst>
              <a:path w="21600" h="34556">
                <a:moveTo>
                  <a:pt x="1081" y="0"/>
                </a:moveTo>
                <a:arcTo wR="1081" hR="1081" stAng="0" swAng="5400000"/>
                <a:lnTo>
                  <a:pt x="0" y="33475"/>
                </a:lnTo>
                <a:arcTo wR="1081" hR="1081" stAng="16200000" swAng="5400000"/>
                <a:lnTo>
                  <a:pt x="20519" y="34556"/>
                </a:lnTo>
                <a:arcTo wR="1081" hR="1081" stAng="10800000" swAng="5400000"/>
                <a:lnTo>
                  <a:pt x="21600" y="1081"/>
                </a:lnTo>
                <a:arcTo wR="1081" hR="1081" stAng="5400000" swAng="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 Энд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лазма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е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) глад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б) шерохова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 Аппа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Гольд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изос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акуо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еснички и жгутики эукари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Табличка 3"/>
          <p:cNvSpPr/>
          <p:nvPr/>
        </p:nvSpPr>
        <p:spPr>
          <a:xfrm>
            <a:off x="3357720" y="2786040"/>
            <a:ext cx="2786040" cy="3571920"/>
          </a:xfrm>
          <a:custGeom>
            <a:avLst/>
            <a:gdLst>
              <a:gd name="textAreaLeft" fmla="*/ 109080 w 2786040"/>
              <a:gd name="textAreaRight" fmla="*/ 2676960 w 2786040"/>
              <a:gd name="textAreaTop" fmla="*/ 109080 h 3571920"/>
              <a:gd name="textAreaBottom" fmla="*/ 3462840 h 3571920"/>
            </a:gdLst>
            <a:ahLst/>
            <a:rect l="textAreaLeft" t="textAreaTop" r="textAreaRight" b="textAreaBottom"/>
            <a:pathLst>
              <a:path w="21600" h="27692">
                <a:moveTo>
                  <a:pt x="1199" y="0"/>
                </a:moveTo>
                <a:arcTo wR="1199" hR="1199" stAng="0" swAng="5400000"/>
                <a:lnTo>
                  <a:pt x="0" y="26493"/>
                </a:lnTo>
                <a:arcTo wR="1199" hR="1199" stAng="16200000" swAng="5400000"/>
                <a:lnTo>
                  <a:pt x="20401" y="27692"/>
                </a:lnTo>
                <a:arcTo wR="1199" hR="1199" stAng="10800000" swAng="5400000"/>
                <a:lnTo>
                  <a:pt x="21600" y="1199"/>
                </a:lnTo>
                <a:arcTo wR="1199" hR="1199" stAng="5400000" swAng="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 Ядр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 Митохонд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 Пластиды (в растительной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) хлор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б) лейк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) хромопла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Табличка 4"/>
          <p:cNvSpPr/>
          <p:nvPr/>
        </p:nvSpPr>
        <p:spPr>
          <a:xfrm>
            <a:off x="6286680" y="3500280"/>
            <a:ext cx="2571480" cy="2786400"/>
          </a:xfrm>
          <a:custGeom>
            <a:avLst/>
            <a:gdLst>
              <a:gd name="textAreaLeft" fmla="*/ 86760 w 2571480"/>
              <a:gd name="textAreaRight" fmla="*/ 2484720 w 2571480"/>
              <a:gd name="textAreaTop" fmla="*/ 86760 h 2786400"/>
              <a:gd name="textAreaBottom" fmla="*/ 2699640 h 2786400"/>
            </a:gdLst>
            <a:ahLst/>
            <a:rect l="textAreaLeft" t="textAreaTop" r="textAreaRight" b="textAreaBottom"/>
            <a:pathLst>
              <a:path w="21600" h="23405">
                <a:moveTo>
                  <a:pt x="1034" y="0"/>
                </a:moveTo>
                <a:arcTo wR="1034" hR="1034" stAng="0" swAng="5400000"/>
                <a:lnTo>
                  <a:pt x="0" y="22371"/>
                </a:lnTo>
                <a:arcTo wR="1034" hR="1034" stAng="16200000" swAng="5400000"/>
                <a:lnTo>
                  <a:pt x="20566" y="23405"/>
                </a:lnTo>
                <a:arcTo wR="1034" hR="1034" stAng="10800000" swAng="5400000"/>
                <a:lnTo>
                  <a:pt x="21600" y="1034"/>
                </a:lnTo>
                <a:arcTo wR="1034" hR="1034" stAng="5400000" swAng="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  Рибос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- Клеточный цен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клю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Цитоске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иофибри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Табличка 5"/>
          <p:cNvSpPr/>
          <p:nvPr/>
        </p:nvSpPr>
        <p:spPr>
          <a:xfrm>
            <a:off x="3000240" y="285840"/>
            <a:ext cx="2928960" cy="571320"/>
          </a:xfrm>
          <a:custGeom>
            <a:avLst/>
            <a:gdLst>
              <a:gd name="textAreaLeft" fmla="*/ 67320 w 2928960"/>
              <a:gd name="textAreaRight" fmla="*/ 2861640 w 2928960"/>
              <a:gd name="textAreaTop" fmla="*/ 67320 h 571320"/>
              <a:gd name="textAreaBottom" fmla="*/ 504000 h 571320"/>
            </a:gdLst>
            <a:ahLst/>
            <a:rect l="textAreaLeft" t="textAreaTop" r="textAreaRight" b="textAreaBottom"/>
            <a:pathLst>
              <a:path w="11068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7080" y="21600"/>
                </a:lnTo>
                <a:arcTo wR="3600" hR="3600" stAng="10800000" swAng="5400000"/>
                <a:lnTo>
                  <a:pt x="11068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Органои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7"/>
          <p:cNvSpPr/>
          <p:nvPr/>
        </p:nvSpPr>
        <p:spPr>
          <a:xfrm>
            <a:off x="214200" y="1071720"/>
            <a:ext cx="2857680" cy="428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дномембр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8"/>
          <p:cNvSpPr/>
          <p:nvPr/>
        </p:nvSpPr>
        <p:spPr>
          <a:xfrm>
            <a:off x="3357720" y="2000160"/>
            <a:ext cx="2857320" cy="4287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вумембр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9"/>
          <p:cNvSpPr/>
          <p:nvPr/>
        </p:nvSpPr>
        <p:spPr>
          <a:xfrm>
            <a:off x="6286680" y="2714760"/>
            <a:ext cx="2571480" cy="428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мембр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трелка углом вверх 15"/>
          <p:cNvSpPr/>
          <p:nvPr/>
        </p:nvSpPr>
        <p:spPr>
          <a:xfrm flipH="1" rot="10800000">
            <a:off x="6000840" y="571680"/>
            <a:ext cx="1928880" cy="2071440"/>
          </a:xfrm>
          <a:custGeom>
            <a:avLst/>
            <a:gdLst/>
            <a:ahLst/>
            <a:rect l="l" t="t" r="r" b="b"/>
            <a:pathLst>
              <a:path w="1928813" h="2071688">
                <a:moveTo>
                  <a:pt x="0" y="1940008"/>
                </a:moveTo>
                <a:lnTo>
                  <a:pt x="1660544" y="1940008"/>
                </a:lnTo>
                <a:lnTo>
                  <a:pt x="1660544" y="131699"/>
                </a:lnTo>
                <a:lnTo>
                  <a:pt x="1523955" y="131699"/>
                </a:lnTo>
                <a:lnTo>
                  <a:pt x="1726384" y="0"/>
                </a:lnTo>
                <a:lnTo>
                  <a:pt x="1928813" y="131699"/>
                </a:lnTo>
                <a:lnTo>
                  <a:pt x="1792224" y="131699"/>
                </a:lnTo>
                <a:lnTo>
                  <a:pt x="1792224" y="2071688"/>
                </a:lnTo>
                <a:lnTo>
                  <a:pt x="0" y="2071688"/>
                </a:lnTo>
                <a:lnTo>
                  <a:pt x="0" y="1940008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Стрелка углом вверх 18"/>
          <p:cNvSpPr/>
          <p:nvPr/>
        </p:nvSpPr>
        <p:spPr>
          <a:xfrm rot="10800000">
            <a:off x="1357200" y="571320"/>
            <a:ext cx="1571760" cy="428400"/>
          </a:xfrm>
          <a:custGeom>
            <a:avLst/>
            <a:gdLst/>
            <a:ahLst/>
            <a:rect l="l" t="t" r="r" b="b"/>
            <a:pathLst>
              <a:path w="1571625" h="428625">
                <a:moveTo>
                  <a:pt x="0" y="321469"/>
                </a:moveTo>
                <a:lnTo>
                  <a:pt x="1410891" y="321469"/>
                </a:lnTo>
                <a:lnTo>
                  <a:pt x="1410891" y="107156"/>
                </a:lnTo>
                <a:lnTo>
                  <a:pt x="1357313" y="107156"/>
                </a:lnTo>
                <a:lnTo>
                  <a:pt x="1464469" y="0"/>
                </a:lnTo>
                <a:lnTo>
                  <a:pt x="1571625" y="107156"/>
                </a:lnTo>
                <a:lnTo>
                  <a:pt x="1518047" y="107156"/>
                </a:lnTo>
                <a:lnTo>
                  <a:pt x="1518047" y="428625"/>
                </a:lnTo>
                <a:lnTo>
                  <a:pt x="0" y="428625"/>
                </a:lnTo>
                <a:lnTo>
                  <a:pt x="0" y="321469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Стрелка вниз 19"/>
          <p:cNvSpPr/>
          <p:nvPr/>
        </p:nvSpPr>
        <p:spPr>
          <a:xfrm>
            <a:off x="4357800" y="928800"/>
            <a:ext cx="214200" cy="1000080"/>
          </a:xfrm>
          <a:prstGeom prst="downArrow">
            <a:avLst>
              <a:gd name="adj1" fmla="val 50000"/>
              <a:gd name="adj2" fmla="val 50018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929800" cy="655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Эндоплазматическая сеть или ретикулум(ЭПС или ЭПР)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57120" y="856800"/>
            <a:ext cx="24624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Строение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истема мембран, формирующих цистерны и каналы, соединенных друг с другом и отграничивающих единое внутреннее пространство — </a:t>
            </a:r>
            <a:r>
              <a:rPr b="0" i="1" lang="ru-RU" sz="2000" spc="-1" strike="noStrike">
                <a:solidFill>
                  <a:srgbClr val="0000ff"/>
                </a:solidFill>
                <a:latin typeface="Cambria"/>
              </a:rPr>
              <a:t>полость ЭПР</a:t>
            </a:r>
            <a:r>
              <a:rPr b="0" lang="ru-RU" sz="2000" spc="-1" strike="noStrike">
                <a:solidFill>
                  <a:srgbClr val="0000ff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азличают три вида ЭПР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Cambria"/>
              </a:rPr>
              <a:t>шероховатый</a:t>
            </a:r>
            <a:r>
              <a:rPr b="0" lang="ru-RU" sz="2000" spc="-1" strike="noStrike">
                <a:solidFill>
                  <a:srgbClr val="0000ff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Cambria"/>
              </a:rPr>
              <a:t>гладкий</a:t>
            </a:r>
            <a:r>
              <a:rPr b="0" lang="ru-RU" sz="2000" spc="-1" strike="noStrike">
                <a:solidFill>
                  <a:srgbClr val="0000ff"/>
                </a:solidFill>
                <a:latin typeface="Cambri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Cambria"/>
              </a:rPr>
              <a:t>промежуточный</a:t>
            </a:r>
            <a:r>
              <a:rPr b="0" lang="ru-RU" sz="2000" spc="-1" strike="noStrike">
                <a:solidFill>
                  <a:srgbClr val="0000ff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2971800" y="1071720"/>
            <a:ext cx="5600880" cy="23572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5"/>
          <p:cNvSpPr/>
          <p:nvPr/>
        </p:nvSpPr>
        <p:spPr>
          <a:xfrm>
            <a:off x="2857680" y="3500280"/>
            <a:ext cx="6072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Мембраны шероховатой или гранулярной ЭПС синтезируют белки, которые накапливаются в ее каналах и полос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 мембранах гладкой ЭПС синтезируются липиды и углеводы, которые поступают в каналы ЭП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ЭПС осуществляет транспорт синтезированных веществ к органоидам клетки, напр., к комплексу Гольджи, или в другие кле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2880"/>
            <a:ext cx="7943760" cy="72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mbria"/>
              </a:rPr>
              <a:t>Комплекс (аппарат) Гольджи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5480" y="4000680"/>
            <a:ext cx="82868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mbria"/>
              </a:rPr>
              <a:t>Функции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Хранение и транспортировка веществ по клетке, поступающих из ЭПС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а его мембранах происходит синтез жиров и углеводов, входящих  в состав мембран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Благодаря деятельности комплекса Гольджи происходит обновление и рост мембран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5273640" cy="29289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5643360" y="1143000"/>
            <a:ext cx="321444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Строение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Группы полостей, ограниченные мембранами. На концах полостей находятся мелкие и крупные пузырьк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040" y="272520"/>
            <a:ext cx="2871720" cy="584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Лизосомы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56760" y="4000680"/>
            <a:ext cx="33577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mbria"/>
              </a:rPr>
              <a:t>Функции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одержит ферменты, расщепляющие белки, жиры, углеводы и нуклеиновые кислоты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buClr>
                <a:srgbClr val="4f81bd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Участвует в удалении отмирающих частей клеток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0" name="Picture 6" descr=""/>
          <p:cNvPicPr/>
          <p:nvPr/>
        </p:nvPicPr>
        <p:blipFill>
          <a:blip r:embed="rId1"/>
          <a:stretch/>
        </p:blipFill>
        <p:spPr>
          <a:xfrm>
            <a:off x="3929040" y="4286160"/>
            <a:ext cx="5000760" cy="22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1" name="Прямоугольник 7"/>
          <p:cNvSpPr/>
          <p:nvPr/>
        </p:nvSpPr>
        <p:spPr>
          <a:xfrm>
            <a:off x="357120" y="642960"/>
            <a:ext cx="85010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00000"/>
                </a:solidFill>
                <a:latin typeface="Cambria"/>
              </a:rPr>
              <a:t>Стро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ебольшие округлые тельца, которые отпочковываются от цистерн комплекса Гольдж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Различают </a:t>
            </a:r>
            <a:r>
              <a:rPr b="0" i="1" lang="ru-RU" sz="2200" spc="-1" strike="noStrike">
                <a:solidFill>
                  <a:srgbClr val="0000ff"/>
                </a:solidFill>
                <a:latin typeface="Cambria"/>
              </a:rPr>
              <a:t>первичные</a:t>
            </a:r>
            <a:r>
              <a:rPr b="0" lang="ru-RU" sz="22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i="1" lang="ru-RU" sz="2200" spc="-1" strike="noStrike">
                <a:solidFill>
                  <a:srgbClr val="0000ff"/>
                </a:solidFill>
                <a:latin typeface="Cambria"/>
              </a:rPr>
              <a:t>лизосомы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— лизосомы, отшнуровавшиеся от аппарата Гольджи и содержащие ферменты в неактивной форм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ff"/>
                </a:solidFill>
                <a:latin typeface="Cambria"/>
              </a:rPr>
              <a:t>вторичные</a:t>
            </a:r>
            <a:r>
              <a:rPr b="0" lang="ru-RU" sz="22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i="1" lang="ru-RU" sz="2200" spc="-1" strike="noStrike">
                <a:solidFill>
                  <a:srgbClr val="0000ff"/>
                </a:solidFill>
                <a:latin typeface="Cambria"/>
              </a:rPr>
              <a:t>лизосомы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— лизосомы, образовавшиеся в результате слияния первичных лизосом с пиноцитозными или фагоцитозными вакуолями (часто их называют пищеварительными вакуолям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етная запись Майкрософт</cp:lastModifiedBy>
  <dcterms:modified xsi:type="dcterms:W3CDTF">2022-09-30T13:43:46Z</dcterms:modified>
  <cp:revision>61</cp:revision>
  <dc:subject/>
  <dc:title>Слайд 1</dc:title>
</cp:coreProperties>
</file>