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5549-0518-45CE-926A-E8AA55E9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66EF-FCC5-46A3-B6E4-CA2408B4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E4FC-4B1F-4E07-8319-C494B115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4420-FB70-4FB1-B491-E32B590F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6787-4949-43AC-87BC-233F514E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2CA7-54DB-417D-AC72-9C7190AF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B6EE-6638-400D-A1A9-40FA97CC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3D3C-8021-4ABF-A983-B5305D0A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F7DB-F8B9-4F9D-AEBE-2538F9E2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ECE5-E6FE-4750-8249-A2195CAB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E0F7-0EE3-41A1-89EA-BEAB735F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79E1-1A62-419D-BAD9-E2F788F1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0D59-0149-4308-B4EC-D4C3AA0C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58F3-23B9-49B0-831A-D7AC1AF1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22E0-768A-4B95-AB81-FB4AD47A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CFC7-58E2-40C6-9AFA-A879289A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467B-E2ED-4340-9B95-525F6E5E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32B0D-2D9A-496C-9409-B606AFD1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433DE-BFBA-4117-B142-C889E74B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E62B5-CAE6-4998-8E37-3D96BDCB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784FC-44B4-41E9-B88B-BE8DB45E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D772F-D8AF-454E-8E1F-82C45625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D2A3-976A-47BC-9398-481FB2E4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D8C5E-5A10-4F1B-9403-BB295299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323DB-D007-417B-85BD-61070685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FE83D-249E-4B53-945F-FDC5342F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5EA14-8470-423F-8B24-60C718AF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CA8BC-E687-42F2-A613-8EF0A49F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26578-F1B1-48C1-9873-C60C6853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F3065-6642-4252-83B0-6C1BFCC5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DACD5-213C-4E29-95F9-3A2AD669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534E9-317A-4B61-82C2-D344F48D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66C92-30B3-4929-BB63-54DEAC18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F11D-0931-4DC0-8AA6-5C8B6D4C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DE797-CCD9-4CC5-8236-DF288DAF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3E0A3-A477-4A2B-8A83-6D69C572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D7B9C-B3ED-40B1-BC78-7DD850B5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90185-7018-4C7F-9C2B-E37D20BB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7F228-F8CF-47ED-9709-0BE9F2F2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3E03B-845D-4834-BD05-07909817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9DC0E-B271-427B-825E-1916052A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4C9B2-E9A2-4818-8EA1-13C6BF85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D10C4-6A14-4D08-838E-E60B79D0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34AF9-5A52-4469-9EFD-449A1C94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A7ED-9AA0-4EBA-872A-4402A5FC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B5E7A-B6D2-474F-ABA1-5CF2730C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7A7A0-AE85-4245-855A-921A6845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C8DB2-49CB-4DFC-91A6-8264D132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C77BA-3E80-4A8B-82A7-5CECCB94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47AAC-F0EC-4650-81A8-CB853E9C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F7100-E55F-4320-A555-6C1FD024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8739C-E229-470A-83D2-50A1B432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9D44B-2163-47D5-BD3F-C95FAAB4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C9468-84EE-4A1B-AA3A-A8707FDF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8507D-FA67-4915-99CE-34B85816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830F-E7E6-40B3-A9B5-259E001F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3AB1D-0193-4246-BC25-C0AE891A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B387-C5F9-45B9-BB5F-B06B4CC6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884-56E4-458D-BA8C-6866DE6C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DEB6-B0BE-48DF-9607-CDB65BC9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0C12-C6FA-4FE6-BCC0-7DA9B6D0274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0858-2E18-4906-B113-A2CAC7F18F5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3D41-BE07-4D4D-AAF8-321A031F49E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5CCB-7F3D-4AD0-B0C6-BE475E968B3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0086-2431-4F38-9215-4738C3B3D68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рганоиды цитоплазмы, их строение и функции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2880"/>
            <a:ext cx="1442880" cy="655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Ядро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2868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Cambria"/>
              </a:rPr>
              <a:t>Строение ядр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mbria"/>
              </a:rPr>
              <a:t>Ядерная оболочка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– состоит из двух мембран, внутренняя – гладкая, наружная в некоторых местах переходит в каналы ЭПР. Оболочка имеет поры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mbria"/>
              </a:rPr>
              <a:t>Кариоплазма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— внутреннее содержимое ядра, в котором располагаются </a:t>
            </a:r>
            <a:r>
              <a:rPr b="0" i="1" lang="ru-RU" sz="2000" spc="-1" strike="noStrike">
                <a:solidFill>
                  <a:srgbClr val="ff0000"/>
                </a:solidFill>
                <a:latin typeface="Cambria"/>
              </a:rPr>
              <a:t>хроматин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ретья, характерная для ядра клетки структура — </a:t>
            </a:r>
            <a:r>
              <a:rPr b="0" i="1" lang="ru-RU" sz="2000" spc="-1" strike="noStrike">
                <a:solidFill>
                  <a:srgbClr val="ff0000"/>
                </a:solidFill>
                <a:latin typeface="Cambria"/>
              </a:rPr>
              <a:t>ядрышко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428760" y="4000680"/>
            <a:ext cx="4330440" cy="23572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6"/>
          <p:cNvSpPr/>
          <p:nvPr/>
        </p:nvSpPr>
        <p:spPr>
          <a:xfrm>
            <a:off x="4929120" y="3214800"/>
            <a:ext cx="392904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онтролирует жизнедеятельность клетки, регулируя процессы синтеза белка, обмена веществ и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Хранит генетическую информацию, заключенную в ДНК, и передает ее дочерним клеткам в процессе клеточного 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272880"/>
            <a:ext cx="4157640" cy="655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Митохондрии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0" y="785880"/>
            <a:ext cx="42148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c00000"/>
                </a:solidFill>
                <a:latin typeface="Cambria"/>
              </a:rPr>
              <a:t>Строение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mbria"/>
              </a:rPr>
              <a:t>Органоиды двумембранного строения. Внешняя мембрана гладкая, а внутренняя образует различные выросты (кристы)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mbria"/>
              </a:rPr>
              <a:t>Митохондрии имеют собственные рибосомы и ДНК, поэтому способны самостоятельно синтезировать белки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357120" y="1000080"/>
            <a:ext cx="4114800" cy="2971800"/>
          </a:xfrm>
          <a:prstGeom prst="rect">
            <a:avLst/>
          </a:prstGeom>
          <a:ln w="0">
            <a:noFill/>
          </a:ln>
        </p:spPr>
      </p:pic>
      <p:sp>
        <p:nvSpPr>
          <p:cNvPr id="289" name="TextBox 5"/>
          <p:cNvSpPr/>
          <p:nvPr/>
        </p:nvSpPr>
        <p:spPr>
          <a:xfrm>
            <a:off x="642960" y="4714920"/>
            <a:ext cx="77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Фун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итохондрии – энергетические центры клетки, т.к. в них синтезируются молекулы АТФ с макроэргическими фосфатными связя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2371680" cy="584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Пластиды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071600" y="213840"/>
            <a:ext cx="47862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mbria"/>
              </a:rPr>
              <a:t>Строение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70c0"/>
                </a:solidFill>
                <a:latin typeface="Cambria"/>
              </a:rPr>
              <a:t>Хлоропласты</a:t>
            </a:r>
            <a:r>
              <a:rPr b="0" lang="ru-RU" sz="1600" spc="-1" strike="noStrike">
                <a:solidFill>
                  <a:srgbClr val="0070c0"/>
                </a:solidFill>
                <a:latin typeface="Cambri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по форме напоминают двояковыпуклую линзу. Наружная мембрана гладкая, а внутренняя имеет складчатую структуру. Внутренняя среда хлоропласта — </a:t>
            </a:r>
            <a:r>
              <a:rPr b="0" lang="ru-RU" sz="1600" spc="-1" strike="noStrike">
                <a:solidFill>
                  <a:srgbClr val="0000cc"/>
                </a:solidFill>
                <a:latin typeface="Cambria"/>
              </a:rPr>
              <a:t>строма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— содержит </a:t>
            </a:r>
            <a:r>
              <a:rPr b="0" lang="ru-RU" sz="1600" spc="-1" strike="noStrike">
                <a:solidFill>
                  <a:srgbClr val="0000cc"/>
                </a:solidFill>
                <a:latin typeface="Cambria"/>
              </a:rPr>
              <a:t>ДНК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и </a:t>
            </a:r>
            <a:r>
              <a:rPr b="0" lang="ru-RU" sz="1600" spc="-1" strike="noStrike">
                <a:solidFill>
                  <a:srgbClr val="0000cc"/>
                </a:solidFill>
                <a:latin typeface="Cambria"/>
              </a:rPr>
              <a:t>рибосомы прокариотического типа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, благодаря чему хлоропласт способен к автономному синтезу части белков и делению, как и митохондрии, но очень редко. Основные структурные элементы хлоропласта — </a:t>
            </a:r>
            <a:r>
              <a:rPr b="0" lang="ru-RU" sz="1600" spc="-1" strike="noStrike">
                <a:solidFill>
                  <a:srgbClr val="0000cc"/>
                </a:solidFill>
                <a:latin typeface="Cambria"/>
              </a:rPr>
              <a:t>тилакоиды, уложенные в граны.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1600" spc="-1" strike="noStrike">
                <a:solidFill>
                  <a:srgbClr val="ff0000"/>
                </a:solidFill>
                <a:latin typeface="Cambria"/>
              </a:rPr>
              <a:t>Основная функция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– фотосинтез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70c0"/>
                </a:solidFill>
                <a:latin typeface="Cambria"/>
              </a:rPr>
              <a:t>Лейкопласты</a:t>
            </a:r>
            <a:r>
              <a:rPr b="0" lang="ru-RU" sz="1600" spc="-1" strike="noStrike">
                <a:solidFill>
                  <a:srgbClr val="0070c0"/>
                </a:solidFill>
                <a:latin typeface="Cambr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Бесцветные, обычно мелкие пластиды. Встречаются в клетках органов, скрытых от солнечного света — корнях, корневищах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mbria"/>
              </a:rPr>
              <a:t>Основная функция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— синтез и накопление запасных продуктов (в первую очередь крахмала, реже — белков и липидов)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0" i="1" lang="ru-RU" sz="1600" spc="-1" strike="noStrike">
                <a:solidFill>
                  <a:srgbClr val="0070c0"/>
                </a:solidFill>
                <a:latin typeface="Cambria"/>
              </a:rPr>
              <a:t>Хромопласты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Встречаются в клетках лепестков многих растений, зрелых плодов, реже — корнеплодов, а также в осенних листьях.  Содержат пигменты, относящиеся к группе </a:t>
            </a:r>
            <a:r>
              <a:rPr b="0" lang="ru-RU" sz="1600" spc="-1" strike="noStrike">
                <a:solidFill>
                  <a:srgbClr val="0000cc"/>
                </a:solidFill>
                <a:latin typeface="Cambria"/>
              </a:rPr>
              <a:t>каротиноидов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mbria"/>
              </a:rPr>
              <a:t>Основная функция </a:t>
            </a:r>
            <a:r>
              <a:rPr b="0" lang="ru-RU" sz="1600" spc="-1" strike="noStrike">
                <a:solidFill>
                  <a:srgbClr val="0000cc"/>
                </a:solidFill>
                <a:latin typeface="Cambria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придавать различную окраску органам растений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1"/>
          <a:stretch/>
        </p:blipFill>
        <p:spPr>
          <a:xfrm>
            <a:off x="250920" y="1071720"/>
            <a:ext cx="3654360" cy="1928520"/>
          </a:xfrm>
          <a:prstGeom prst="rect">
            <a:avLst/>
          </a:prstGeom>
          <a:ln w="0">
            <a:noFill/>
          </a:ln>
        </p:spPr>
      </p:pic>
      <p:sp>
        <p:nvSpPr>
          <p:cNvPr id="293" name="TextBox 7"/>
          <p:cNvSpPr/>
          <p:nvPr/>
        </p:nvSpPr>
        <p:spPr>
          <a:xfrm>
            <a:off x="4214880" y="71424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2"/>
          <a:stretch/>
        </p:blipFill>
        <p:spPr>
          <a:xfrm>
            <a:off x="285840" y="3500280"/>
            <a:ext cx="3782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2880"/>
            <a:ext cx="2657520" cy="655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mbria"/>
              </a:rPr>
              <a:t>Рибосомы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643280" y="571320"/>
            <a:ext cx="404352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икроскопические тельца округлой формы, обычно состоят из двух, неодинаковых по размеру , частиц. В состав рибосом входят белки и РНК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Функция -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интез белк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97" name="Picture 20" descr=""/>
          <p:cNvPicPr/>
          <p:nvPr/>
        </p:nvPicPr>
        <p:blipFill>
          <a:blip r:embed="rId1"/>
          <a:srcRect l="8196" t="4770" r="-2449" b="0"/>
          <a:stretch/>
        </p:blipFill>
        <p:spPr>
          <a:xfrm>
            <a:off x="357120" y="3214800"/>
            <a:ext cx="3857760" cy="18748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21"/>
          <p:cNvSpPr/>
          <p:nvPr/>
        </p:nvSpPr>
        <p:spPr>
          <a:xfrm>
            <a:off x="3429000" y="5715000"/>
            <a:ext cx="108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4"/>
          <p:cNvSpPr/>
          <p:nvPr/>
        </p:nvSpPr>
        <p:spPr>
          <a:xfrm flipV="1">
            <a:off x="1428840" y="4500720"/>
            <a:ext cx="714240" cy="642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"/>
          <p:cNvSpPr/>
          <p:nvPr/>
        </p:nvSpPr>
        <p:spPr>
          <a:xfrm flipV="1">
            <a:off x="1428840" y="4286160"/>
            <a:ext cx="46080" cy="857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6"/>
          <p:cNvSpPr/>
          <p:nvPr/>
        </p:nvSpPr>
        <p:spPr>
          <a:xfrm flipH="1" flipV="1">
            <a:off x="3714840" y="4357800"/>
            <a:ext cx="357120" cy="13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7"/>
          <p:cNvSpPr/>
          <p:nvPr/>
        </p:nvSpPr>
        <p:spPr>
          <a:xfrm flipH="1" flipV="1">
            <a:off x="3285720" y="4857480"/>
            <a:ext cx="785880" cy="857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9"/>
          <p:cNvSpPr/>
          <p:nvPr/>
        </p:nvSpPr>
        <p:spPr>
          <a:xfrm flipH="1" flipV="1">
            <a:off x="571680" y="4857840"/>
            <a:ext cx="71280" cy="931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0"/>
          <p:cNvSpPr/>
          <p:nvPr/>
        </p:nvSpPr>
        <p:spPr>
          <a:xfrm flipV="1">
            <a:off x="642960" y="5143320"/>
            <a:ext cx="71280" cy="64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2"/>
          <p:cNvSpPr/>
          <p:nvPr/>
        </p:nvSpPr>
        <p:spPr>
          <a:xfrm>
            <a:off x="428760" y="5786280"/>
            <a:ext cx="128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бодные рибосо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3"/>
          <p:cNvSpPr/>
          <p:nvPr/>
        </p:nvSpPr>
        <p:spPr>
          <a:xfrm>
            <a:off x="928800" y="5143680"/>
            <a:ext cx="278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босомы, прикреплён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мембран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2"/>
          <a:stretch/>
        </p:blipFill>
        <p:spPr>
          <a:xfrm>
            <a:off x="214200" y="857160"/>
            <a:ext cx="42436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040" y="272880"/>
            <a:ext cx="4086360" cy="655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Клеточный центр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1640" y="213840"/>
            <a:ext cx="41432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mbria"/>
              </a:rPr>
              <a:t>Строение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бразован </a:t>
            </a:r>
            <a:r>
              <a:rPr b="0" lang="ru-RU" sz="2000" spc="-1" strike="noStrike">
                <a:solidFill>
                  <a:srgbClr val="0000cc"/>
                </a:solidFill>
                <a:latin typeface="Cambria"/>
              </a:rPr>
              <a:t>двумя центриолями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и уплотненной цитоплазмой — </a:t>
            </a:r>
            <a:r>
              <a:rPr b="0" lang="ru-RU" sz="2000" spc="-1" strike="noStrike">
                <a:solidFill>
                  <a:srgbClr val="0000cc"/>
                </a:solidFill>
                <a:latin typeface="Cambria"/>
              </a:rPr>
              <a:t>центросферой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Центриоль –  цилиндр, стенка которого образована девятью группами из трех слившихся микротрубочек (9 триплетов), соединенных поперечными сшивками. </a:t>
            </a:r>
            <a:r>
              <a:rPr b="0" lang="ru-RU" sz="2000" spc="-1" strike="noStrike">
                <a:solidFill>
                  <a:srgbClr val="00b0f0"/>
                </a:solidFill>
                <a:latin typeface="Cambria"/>
              </a:rPr>
              <a:t>Центриоли отсутствуют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клетках высших растений, низших грибов и у некоторых простейших. Микротрубочки образует только материнская центриоль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mbria"/>
              </a:rPr>
              <a:t>Функция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твечает за образование цитоскелета и за расхождение хромосом при клеточном делении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428760" y="1285920"/>
            <a:ext cx="3563640" cy="25542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"/>
          <p:cNvPicPr/>
          <p:nvPr/>
        </p:nvPicPr>
        <p:blipFill>
          <a:blip r:embed="rId2"/>
          <a:stretch/>
        </p:blipFill>
        <p:spPr>
          <a:xfrm>
            <a:off x="357120" y="3857760"/>
            <a:ext cx="39718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2880"/>
            <a:ext cx="6657840" cy="1013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Клеточные включения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929040" y="1214280"/>
            <a:ext cx="4929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итательные вещества хранятся в клетке в виде </a:t>
            </a:r>
            <a:r>
              <a:rPr b="0" lang="ru-RU" sz="2400" spc="-1" strike="noStrike">
                <a:solidFill>
                  <a:srgbClr val="0070c0"/>
                </a:solidFill>
                <a:latin typeface="Cambria"/>
              </a:rPr>
              <a:t>включений,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а в растительной клетке накопление питательных веществ происходит в вакуолях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имеры клеточных включений: </a:t>
            </a:r>
            <a:r>
              <a:rPr b="0" lang="ru-RU" sz="2400" spc="-1" strike="noStrike">
                <a:solidFill>
                  <a:srgbClr val="0070c0"/>
                </a:solidFill>
                <a:latin typeface="Cambria"/>
              </a:rPr>
              <a:t>в растительной клетке –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рахмал, капли жира, белок, эфирные масла, органические кислоты;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mbria"/>
              </a:rPr>
              <a:t>в животной клетке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– гликоген, капли жира; иногда  в клетках включения накапливаются в виде кристаллов солей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214200" y="2143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28760" y="272880"/>
            <a:ext cx="2714400" cy="727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Цитоскелет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571560" y="928800"/>
            <a:ext cx="53578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дной из отличительных особенностей эукариотической клетки является наличие в ее цитоплазме скелетных образований в виде микротрубочек и пучков белковых волокон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Цитоскелет образован </a:t>
            </a:r>
            <a:r>
              <a:rPr b="0" i="1" lang="ru-RU" sz="2400" spc="-1" strike="noStrike">
                <a:solidFill>
                  <a:srgbClr val="ff0000"/>
                </a:solidFill>
                <a:latin typeface="Cambria"/>
              </a:rPr>
              <a:t>микротрубочками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и </a:t>
            </a:r>
            <a:r>
              <a:rPr b="0" i="1" lang="ru-RU" sz="2400" spc="-1" strike="noStrike">
                <a:solidFill>
                  <a:srgbClr val="ff0000"/>
                </a:solidFill>
                <a:latin typeface="Cambria"/>
              </a:rPr>
              <a:t>микрофиламентами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, определяет форму клетки, участвует в ее движениях, в делении и внутриклеточном транспорте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ambria"/>
              </a:rPr>
              <a:t>Центром образования цитоскелета является клеточный центр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17" name="Picture 2" descr="0500209"/>
          <p:cNvPicPr/>
          <p:nvPr/>
        </p:nvPicPr>
        <p:blipFill>
          <a:blip r:embed="rId1"/>
          <a:stretch/>
        </p:blipFill>
        <p:spPr>
          <a:xfrm>
            <a:off x="285840" y="1143000"/>
            <a:ext cx="3143160" cy="2519280"/>
          </a:xfrm>
          <a:prstGeom prst="rect">
            <a:avLst/>
          </a:prstGeom>
          <a:ln w="0">
            <a:noFill/>
          </a:ln>
        </p:spPr>
      </p:pic>
      <p:sp>
        <p:nvSpPr>
          <p:cNvPr id="318" name="TextBox 5"/>
          <p:cNvSpPr/>
          <p:nvPr/>
        </p:nvSpPr>
        <p:spPr>
          <a:xfrm>
            <a:off x="219240" y="3857760"/>
            <a:ext cx="358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 2, 3 – элементы цитоскеле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– мембра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– ЭП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- митохонд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2014560" cy="511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Выводы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13840" y="713880"/>
            <a:ext cx="8472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основе строения клетки лежит мембранный принцип организаци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рганоиды являются структурными специализированными отделами клетк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яд органоидов клетки обладает способностью к самовоспроизведению, в основе которого лежит редупликация кольцевой молекулы ДНК, входящей в их соста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Центриоли, а также базальные тельца жгутиков и ресничек способны к воспроизведению путем самосборк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отличие от прокариот, у всех эукариотических клеток имеется цитоскелет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2728800" cy="654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14400" y="856800"/>
            <a:ext cx="77724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575"/>
              </a:spcBef>
              <a:buClr>
                <a:srgbClr val="4f81bd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Интерактивный курс для школьников «Биология. 10-11 класс». ЗАО «Образование -Медиа», 2008. Изд-во «Просвещение», 2008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>
              <a:spcBef>
                <a:spcPts val="575"/>
              </a:spcBef>
              <a:buClr>
                <a:srgbClr val="4f81bd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Общая биология. Базовый уровень: учеб. для 10- 11 кл. общеобразовательных учреждений / В.И. Сивоглазов, И.Б. Агафонова, ЕЛ. Захарова. - М.: Дрофа, 2005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>
              <a:spcBef>
                <a:spcPts val="575"/>
              </a:spcBef>
              <a:buClr>
                <a:srgbClr val="4f81bd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Общая биология: Учеб. для 10-11 кл. с углубл. изучением биологии в шк. /Л. В. Высоцкая, СМ. Глаголев, Г.М. Дымшиц и др.; под ред. В.К. Шумного и др. - М.: Просвещение, 2006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>
              <a:spcBef>
                <a:spcPts val="575"/>
              </a:spcBef>
              <a:buClr>
                <a:srgbClr val="4f81bd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Пименов А.В. Биология. Электронные учебники. Диск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DVD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. – Саратов, 2007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57120" y="64296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f497d"/>
                </a:solidFill>
                <a:latin typeface="Calibri"/>
                <a:ea typeface="Arial"/>
              </a:rPr>
              <a:t>Ответьте на вопросы</a:t>
            </a:r>
            <a:endParaRPr b="0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3008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428640" y="685800"/>
            <a:ext cx="5334120" cy="57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575"/>
              </a:spcBef>
              <a:buClr>
                <a:srgbClr val="4f81bd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Что обозначено на рисунке цифрами 1-6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85000" indent="-585000">
              <a:spcBef>
                <a:spcPts val="575"/>
              </a:spcBef>
              <a:buClr>
                <a:srgbClr val="4f81bd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акие органоиды есть в бактериальной клетке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85000" indent="-585000">
              <a:spcBef>
                <a:spcPts val="575"/>
              </a:spcBef>
              <a:buClr>
                <a:srgbClr val="4f81bd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ак организован генетический материал бактериальной клетки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85000" indent="-585000">
              <a:spcBef>
                <a:spcPts val="575"/>
              </a:spcBef>
              <a:buClr>
                <a:srgbClr val="4f81bd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а какие группы делятся бактерии по способам питания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85000" indent="-585000">
              <a:spcBef>
                <a:spcPts val="575"/>
              </a:spcBef>
              <a:buClr>
                <a:srgbClr val="4f81bd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ак осуществляется бесполое размножение бактерий?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85000" indent="-585000">
              <a:spcBef>
                <a:spcPts val="575"/>
              </a:spcBef>
              <a:buClr>
                <a:srgbClr val="4f81bd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ак происходит рекомбинация генетического материала у бактерий?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85000" indent="-585000">
              <a:spcBef>
                <a:spcPts val="5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32860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85840" y="272880"/>
            <a:ext cx="5000400" cy="727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1f497d"/>
                </a:solidFill>
                <a:latin typeface="Cambria"/>
              </a:rPr>
              <a:t>Клеточная оболочка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840" y="857160"/>
            <a:ext cx="73580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исутствует </a:t>
            </a: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только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клетках 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растений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(пропитанная целлюлозой)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клетках 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грибов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(полимер пектин, похожий на клетчатку, содержащий азот, близок к хитину)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меет поры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428800" y="2714760"/>
            <a:ext cx="32576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Защищает внутреннее содержимое клетк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меет избирательную проницаем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охраняет форму клетк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беспечивает связь между клеткам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6" name="Picture 3" descr="H:\ЦИФРОВЫЕ ТАБЛИЦЫ\рис.общ.биол\{6B5CB257-C00E-4957-B7FE-FD5CC371DA1E}.gif"/>
          <p:cNvPicPr/>
          <p:nvPr/>
        </p:nvPicPr>
        <p:blipFill>
          <a:blip r:embed="rId1"/>
          <a:stretch/>
        </p:blipFill>
        <p:spPr>
          <a:xfrm>
            <a:off x="214200" y="3500280"/>
            <a:ext cx="500076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142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mbria"/>
              </a:rPr>
              <a:t>Цитоплазматическая мембрана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714920" y="571320"/>
            <a:ext cx="4214880" cy="31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7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троени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сновой любой мембраны является двойной слой фосфолипидов; в нем гидрофобные остатки жирных кислот обращены внутрь, а гидрофильные головки  - наружу. С липидным бислоем связаны молекулы белков, которые пронизывают его насквозь, погружаются в него или примыкают с наружной или внутренней стороны. Имеет поры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7120" y="3786120"/>
            <a:ext cx="750096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40" name="Скругленный прямоугольник 17"/>
          <p:cNvSpPr/>
          <p:nvPr/>
        </p:nvSpPr>
        <p:spPr>
          <a:xfrm>
            <a:off x="642960" y="3786120"/>
            <a:ext cx="66438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Функции цитоплазматической мемб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ый прямоугольник 18"/>
          <p:cNvSpPr/>
          <p:nvPr/>
        </p:nvSpPr>
        <p:spPr>
          <a:xfrm>
            <a:off x="642960" y="4643280"/>
            <a:ext cx="2286000" cy="50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Рецепторная фун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19"/>
          <p:cNvSpPr/>
          <p:nvPr/>
        </p:nvSpPr>
        <p:spPr>
          <a:xfrm>
            <a:off x="5214960" y="4643280"/>
            <a:ext cx="2143080" cy="50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Барьер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фун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кругленный прямоугольник 20"/>
          <p:cNvSpPr/>
          <p:nvPr/>
        </p:nvSpPr>
        <p:spPr>
          <a:xfrm>
            <a:off x="1214280" y="5357880"/>
            <a:ext cx="22860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Транспортная фун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кругленный прямоугольник 21"/>
          <p:cNvSpPr/>
          <p:nvPr/>
        </p:nvSpPr>
        <p:spPr>
          <a:xfrm>
            <a:off x="4500720" y="5357880"/>
            <a:ext cx="214308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Избирательная проницаем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кругленный прямоугольник 22"/>
          <p:cNvSpPr/>
          <p:nvPr/>
        </p:nvSpPr>
        <p:spPr>
          <a:xfrm>
            <a:off x="2786040" y="6000840"/>
            <a:ext cx="25002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Контактная фун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24"/>
          <p:cNvSpPr/>
          <p:nvPr/>
        </p:nvSpPr>
        <p:spPr>
          <a:xfrm flipH="1">
            <a:off x="1642680" y="4428360"/>
            <a:ext cx="78588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26"/>
          <p:cNvSpPr/>
          <p:nvPr/>
        </p:nvSpPr>
        <p:spPr>
          <a:xfrm flipH="1">
            <a:off x="3927600" y="4502160"/>
            <a:ext cx="1440" cy="1571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28"/>
          <p:cNvSpPr/>
          <p:nvPr/>
        </p:nvSpPr>
        <p:spPr>
          <a:xfrm flipH="1">
            <a:off x="2928600" y="4429080"/>
            <a:ext cx="428760" cy="928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30"/>
          <p:cNvSpPr/>
          <p:nvPr/>
        </p:nvSpPr>
        <p:spPr>
          <a:xfrm>
            <a:off x="4428360" y="4500720"/>
            <a:ext cx="500040" cy="857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32"/>
          <p:cNvSpPr/>
          <p:nvPr/>
        </p:nvSpPr>
        <p:spPr>
          <a:xfrm>
            <a:off x="5643720" y="4429080"/>
            <a:ext cx="64296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4429080" cy="27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Скругленный прямоугольник 2"/>
          <p:cNvSpPr/>
          <p:nvPr/>
        </p:nvSpPr>
        <p:spPr>
          <a:xfrm>
            <a:off x="857160" y="214200"/>
            <a:ext cx="707256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Транспорт веществ через мембра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3"/>
          <p:cNvSpPr/>
          <p:nvPr/>
        </p:nvSpPr>
        <p:spPr>
          <a:xfrm>
            <a:off x="1000080" y="928800"/>
            <a:ext cx="292896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1. Пассивный спосо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(энергия практ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не затрачиваетс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4"/>
          <p:cNvSpPr/>
          <p:nvPr/>
        </p:nvSpPr>
        <p:spPr>
          <a:xfrm>
            <a:off x="5072040" y="928800"/>
            <a:ext cx="38577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2. Активный способ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(затрачивается значительное количество энергии на транспорт веществ через мембран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кругленный прямоугольник 13"/>
          <p:cNvSpPr/>
          <p:nvPr/>
        </p:nvSpPr>
        <p:spPr>
          <a:xfrm>
            <a:off x="214200" y="2000160"/>
            <a:ext cx="450072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иффузия.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Этим способом проходят вещества, способные растворяться в липидах (например, эфиры, жирные кисл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кругленный прямоугольник 14"/>
          <p:cNvSpPr/>
          <p:nvPr/>
        </p:nvSpPr>
        <p:spPr>
          <a:xfrm>
            <a:off x="214200" y="3286080"/>
            <a:ext cx="4572000" cy="164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Облегчённая диффузия.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 этом случае белок-переносчик, находящийся в мембране, делает её проницаемой. Идёт не против градиента концентрации. Так транспортируется глю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кругленный прямоугольник 15"/>
          <p:cNvSpPr/>
          <p:nvPr/>
        </p:nvSpPr>
        <p:spPr>
          <a:xfrm>
            <a:off x="214200" y="5143680"/>
            <a:ext cx="457200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Осмос.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Это прохождение воды через избирательно проницаемую мембрану (она проходит из более разбавленного раствора в более концентрирован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кругленный прямоугольник 17"/>
          <p:cNvSpPr/>
          <p:nvPr/>
        </p:nvSpPr>
        <p:spPr>
          <a:xfrm>
            <a:off x="5214960" y="2571840"/>
            <a:ext cx="3714840" cy="1428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Эндоцито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Фагоцитоз -  захват твердых част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иноцитоз - захват жидких част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кругленный прямоугольник 20"/>
          <p:cNvSpPr/>
          <p:nvPr/>
        </p:nvSpPr>
        <p:spPr>
          <a:xfrm>
            <a:off x="5286240" y="4500720"/>
            <a:ext cx="3643560" cy="1857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атрий-калиевый насос –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еренос трех катионов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Na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⁺ из клетки на каждые два катиона К⁺ в клетку против градиента концентрации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Табличка 2"/>
          <p:cNvSpPr/>
          <p:nvPr/>
        </p:nvSpPr>
        <p:spPr>
          <a:xfrm>
            <a:off x="214200" y="1785960"/>
            <a:ext cx="2857680" cy="4572000"/>
          </a:xfrm>
          <a:custGeom>
            <a:avLst/>
            <a:gdLst>
              <a:gd name="textAreaLeft" fmla="*/ 100800 w 2857680"/>
              <a:gd name="textAreaRight" fmla="*/ 2756880 w 2857680"/>
              <a:gd name="textAreaTop" fmla="*/ 100800 h 4572000"/>
              <a:gd name="textAreaBottom" fmla="*/ 4471200 h 4572000"/>
            </a:gdLst>
            <a:ahLst/>
            <a:rect l="textAreaLeft" t="textAreaTop" r="textAreaRight" b="textAreaBottom"/>
            <a:pathLst>
              <a:path w="21600" h="34556">
                <a:moveTo>
                  <a:pt x="1081" y="0"/>
                </a:moveTo>
                <a:arcTo wR="1081" hR="1081" stAng="0" swAng="5400000"/>
                <a:lnTo>
                  <a:pt x="0" y="33475"/>
                </a:lnTo>
                <a:arcTo wR="1081" hR="1081" stAng="16200000" swAng="5400000"/>
                <a:lnTo>
                  <a:pt x="20519" y="34556"/>
                </a:lnTo>
                <a:arcTo wR="1081" hR="1081" stAng="10800000" swAng="5400000"/>
                <a:lnTo>
                  <a:pt x="21600" y="1081"/>
                </a:lnTo>
                <a:arcTo wR="1081" hR="1081" stAng="5400000" swAng="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 Энд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лазма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е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а) глад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б) шерохова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 Аппа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Гольд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Лизос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акуо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еснички и жгутики эукари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Табличка 3"/>
          <p:cNvSpPr/>
          <p:nvPr/>
        </p:nvSpPr>
        <p:spPr>
          <a:xfrm>
            <a:off x="3357720" y="2786040"/>
            <a:ext cx="2786040" cy="3571920"/>
          </a:xfrm>
          <a:custGeom>
            <a:avLst/>
            <a:gdLst>
              <a:gd name="textAreaLeft" fmla="*/ 109080 w 2786040"/>
              <a:gd name="textAreaRight" fmla="*/ 2676960 w 2786040"/>
              <a:gd name="textAreaTop" fmla="*/ 109080 h 3571920"/>
              <a:gd name="textAreaBottom" fmla="*/ 3462840 h 3571920"/>
            </a:gdLst>
            <a:ahLst/>
            <a:rect l="textAreaLeft" t="textAreaTop" r="textAreaRight" b="textAreaBottom"/>
            <a:pathLst>
              <a:path w="21600" h="27692">
                <a:moveTo>
                  <a:pt x="1199" y="0"/>
                </a:moveTo>
                <a:arcTo wR="1199" hR="1199" stAng="0" swAng="5400000"/>
                <a:lnTo>
                  <a:pt x="0" y="26493"/>
                </a:lnTo>
                <a:arcTo wR="1199" hR="1199" stAng="16200000" swAng="5400000"/>
                <a:lnTo>
                  <a:pt x="20401" y="27692"/>
                </a:lnTo>
                <a:arcTo wR="1199" hR="1199" stAng="10800000" swAng="5400000"/>
                <a:lnTo>
                  <a:pt x="21600" y="1199"/>
                </a:lnTo>
                <a:arcTo wR="1199" hR="1199" stAng="5400000" swAng="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 Ядр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 Митохонд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 Пластиды (в растительной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а) хлор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б) лейк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) хром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Табличка 4"/>
          <p:cNvSpPr/>
          <p:nvPr/>
        </p:nvSpPr>
        <p:spPr>
          <a:xfrm>
            <a:off x="6286680" y="3500280"/>
            <a:ext cx="2571480" cy="2786400"/>
          </a:xfrm>
          <a:custGeom>
            <a:avLst/>
            <a:gdLst>
              <a:gd name="textAreaLeft" fmla="*/ 86760 w 2571480"/>
              <a:gd name="textAreaRight" fmla="*/ 2484720 w 2571480"/>
              <a:gd name="textAreaTop" fmla="*/ 86760 h 2786400"/>
              <a:gd name="textAreaBottom" fmla="*/ 2699640 h 2786400"/>
            </a:gdLst>
            <a:ahLst/>
            <a:rect l="textAreaLeft" t="textAreaTop" r="textAreaRight" b="textAreaBottom"/>
            <a:pathLst>
              <a:path w="21600" h="23405">
                <a:moveTo>
                  <a:pt x="1034" y="0"/>
                </a:moveTo>
                <a:arcTo wR="1034" hR="1034" stAng="0" swAng="5400000"/>
                <a:lnTo>
                  <a:pt x="0" y="22371"/>
                </a:lnTo>
                <a:arcTo wR="1034" hR="1034" stAng="16200000" swAng="5400000"/>
                <a:lnTo>
                  <a:pt x="20566" y="23405"/>
                </a:lnTo>
                <a:arcTo wR="1034" hR="1034" stAng="10800000" swAng="5400000"/>
                <a:lnTo>
                  <a:pt x="21600" y="1034"/>
                </a:lnTo>
                <a:arcTo wR="1034" hR="1034" stAng="5400000" swAng="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  Рибос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Клеточный цен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клю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Цитоске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иофибри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Табличка 5"/>
          <p:cNvSpPr/>
          <p:nvPr/>
        </p:nvSpPr>
        <p:spPr>
          <a:xfrm>
            <a:off x="3000240" y="285840"/>
            <a:ext cx="2928960" cy="571320"/>
          </a:xfrm>
          <a:custGeom>
            <a:avLst/>
            <a:gdLst>
              <a:gd name="textAreaLeft" fmla="*/ 67320 w 2928960"/>
              <a:gd name="textAreaRight" fmla="*/ 2861640 w 2928960"/>
              <a:gd name="textAreaTop" fmla="*/ 67320 h 571320"/>
              <a:gd name="textAreaBottom" fmla="*/ 504000 h 571320"/>
            </a:gdLst>
            <a:ahLst/>
            <a:rect l="textAreaLeft" t="textAreaTop" r="textAreaRight" b="textAreaBottom"/>
            <a:pathLst>
              <a:path w="11068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7080" y="21600"/>
                </a:lnTo>
                <a:arcTo wR="3600" hR="3600" stAng="10800000" swAng="5400000"/>
                <a:lnTo>
                  <a:pt x="11068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Органои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7"/>
          <p:cNvSpPr/>
          <p:nvPr/>
        </p:nvSpPr>
        <p:spPr>
          <a:xfrm>
            <a:off x="214200" y="1071720"/>
            <a:ext cx="2857680" cy="428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дномембр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8"/>
          <p:cNvSpPr/>
          <p:nvPr/>
        </p:nvSpPr>
        <p:spPr>
          <a:xfrm>
            <a:off x="3357720" y="2000160"/>
            <a:ext cx="2857320" cy="4287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Двумембр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9"/>
          <p:cNvSpPr/>
          <p:nvPr/>
        </p:nvSpPr>
        <p:spPr>
          <a:xfrm>
            <a:off x="6286680" y="2714760"/>
            <a:ext cx="2571480" cy="428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мембр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Стрелка углом вверх 15"/>
          <p:cNvSpPr/>
          <p:nvPr/>
        </p:nvSpPr>
        <p:spPr>
          <a:xfrm flipH="1" rot="10800000">
            <a:off x="6000840" y="571680"/>
            <a:ext cx="1928880" cy="2071440"/>
          </a:xfrm>
          <a:custGeom>
            <a:avLst/>
            <a:gdLst/>
            <a:ahLst/>
            <a:rect l="l" t="t" r="r" b="b"/>
            <a:pathLst>
              <a:path w="1928813" h="2071688">
                <a:moveTo>
                  <a:pt x="0" y="1940008"/>
                </a:moveTo>
                <a:lnTo>
                  <a:pt x="1660544" y="1940008"/>
                </a:lnTo>
                <a:lnTo>
                  <a:pt x="1660544" y="131699"/>
                </a:lnTo>
                <a:lnTo>
                  <a:pt x="1523955" y="131699"/>
                </a:lnTo>
                <a:lnTo>
                  <a:pt x="1726384" y="0"/>
                </a:lnTo>
                <a:lnTo>
                  <a:pt x="1928813" y="131699"/>
                </a:lnTo>
                <a:lnTo>
                  <a:pt x="1792224" y="131699"/>
                </a:lnTo>
                <a:lnTo>
                  <a:pt x="1792224" y="2071688"/>
                </a:lnTo>
                <a:lnTo>
                  <a:pt x="0" y="2071688"/>
                </a:lnTo>
                <a:lnTo>
                  <a:pt x="0" y="1940008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Стрелка углом вверх 18"/>
          <p:cNvSpPr/>
          <p:nvPr/>
        </p:nvSpPr>
        <p:spPr>
          <a:xfrm rot="10800000">
            <a:off x="1357200" y="571320"/>
            <a:ext cx="1571760" cy="428400"/>
          </a:xfrm>
          <a:custGeom>
            <a:avLst/>
            <a:gdLst/>
            <a:ahLst/>
            <a:rect l="l" t="t" r="r" b="b"/>
            <a:pathLst>
              <a:path w="1571625" h="428625">
                <a:moveTo>
                  <a:pt x="0" y="321469"/>
                </a:moveTo>
                <a:lnTo>
                  <a:pt x="1410891" y="321469"/>
                </a:lnTo>
                <a:lnTo>
                  <a:pt x="1410891" y="107156"/>
                </a:lnTo>
                <a:lnTo>
                  <a:pt x="1357313" y="107156"/>
                </a:lnTo>
                <a:lnTo>
                  <a:pt x="1464469" y="0"/>
                </a:lnTo>
                <a:lnTo>
                  <a:pt x="1571625" y="107156"/>
                </a:lnTo>
                <a:lnTo>
                  <a:pt x="1518047" y="107156"/>
                </a:lnTo>
                <a:lnTo>
                  <a:pt x="1518047" y="428625"/>
                </a:lnTo>
                <a:lnTo>
                  <a:pt x="0" y="428625"/>
                </a:lnTo>
                <a:lnTo>
                  <a:pt x="0" y="321469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Стрелка вниз 19"/>
          <p:cNvSpPr/>
          <p:nvPr/>
        </p:nvSpPr>
        <p:spPr>
          <a:xfrm>
            <a:off x="4357800" y="928800"/>
            <a:ext cx="214200" cy="1000080"/>
          </a:xfrm>
          <a:prstGeom prst="downArrow">
            <a:avLst>
              <a:gd name="adj1" fmla="val 50000"/>
              <a:gd name="adj2" fmla="val 50018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929800" cy="6555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Эндоплазматическая сеть или ретикулум(ЭПС или ЭПР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57120" y="856800"/>
            <a:ext cx="24624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Строение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истема мембран, формирующих цистерны и каналы, соединенных друг с другом и отграничивающих единое внутреннее пространство — </a:t>
            </a:r>
            <a:r>
              <a:rPr b="0" i="1" lang="ru-RU" sz="2000" spc="-1" strike="noStrike">
                <a:solidFill>
                  <a:srgbClr val="0000ff"/>
                </a:solidFill>
                <a:latin typeface="Cambria"/>
              </a:rPr>
              <a:t>полость ЭПР</a:t>
            </a:r>
            <a:r>
              <a:rPr b="0" lang="ru-RU" sz="2000" spc="-1" strike="noStrike">
                <a:solidFill>
                  <a:srgbClr val="0000ff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азличают три вида ЭПР: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Cambria"/>
              </a:rPr>
              <a:t>шероховатый</a:t>
            </a:r>
            <a:r>
              <a:rPr b="0" lang="ru-RU" sz="2000" spc="-1" strike="noStrike">
                <a:solidFill>
                  <a:srgbClr val="0000ff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Cambria"/>
              </a:rPr>
              <a:t>гладкий</a:t>
            </a:r>
            <a:r>
              <a:rPr b="0" lang="ru-RU" sz="2000" spc="-1" strike="noStrike">
                <a:solidFill>
                  <a:srgbClr val="0000ff"/>
                </a:solidFill>
                <a:latin typeface="Cambria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Cambria"/>
              </a:rPr>
              <a:t>промежуточный</a:t>
            </a:r>
            <a:r>
              <a:rPr b="0" lang="ru-RU" sz="2000" spc="-1" strike="noStrike">
                <a:solidFill>
                  <a:srgbClr val="0000ff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2971800" y="1071720"/>
            <a:ext cx="5600880" cy="23572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5"/>
          <p:cNvSpPr/>
          <p:nvPr/>
        </p:nvSpPr>
        <p:spPr>
          <a:xfrm>
            <a:off x="2857680" y="3500280"/>
            <a:ext cx="6072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Мембраны шероховатой или гранулярной ЭПС синтезируют белки, которые накапливаются в ее каналах и полост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а мембранах гладкой ЭПС синтезируются липиды и углеводы, которые поступают в каналы ЭП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ЭПС осуществляет транспорт синтезированных веществ к органоидам клетки, напр., к комплексу Гольджи, или в другие кле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2880"/>
            <a:ext cx="7943760" cy="727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mbria"/>
              </a:rPr>
              <a:t>Комплекс (аппарат) Гольджи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5480" y="4000680"/>
            <a:ext cx="828684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mbria"/>
              </a:rPr>
              <a:t>Функции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Хранение и транспортировка веществ по клетке, поступающих из ЭПС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На его мембранах происходит синтез жиров и углеводов, входящих  в состав мембран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Благодаря деятельности комплекса Гольджи происходит обновление и рост мембран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357120" y="1071720"/>
            <a:ext cx="5273640" cy="29289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5643360" y="1143000"/>
            <a:ext cx="321444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Строени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Группы полостей, ограниченные мембранами. На концах полостей находятся мелкие и крупные пузырьк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040" y="272520"/>
            <a:ext cx="2871720" cy="584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Лизосомы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56760" y="4000680"/>
            <a:ext cx="33577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mbria"/>
              </a:rPr>
              <a:t>Функции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держит ферменты, расщепляющие белки, жиры, углеводы и нуклеиновые кислоты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частвует в удалении отмирающих частей клеток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0" name="Picture 6" descr=""/>
          <p:cNvPicPr/>
          <p:nvPr/>
        </p:nvPicPr>
        <p:blipFill>
          <a:blip r:embed="rId1"/>
          <a:stretch/>
        </p:blipFill>
        <p:spPr>
          <a:xfrm>
            <a:off x="3929040" y="4286160"/>
            <a:ext cx="5000760" cy="221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1" name="Прямоугольник 7"/>
          <p:cNvSpPr/>
          <p:nvPr/>
        </p:nvSpPr>
        <p:spPr>
          <a:xfrm>
            <a:off x="357120" y="642960"/>
            <a:ext cx="85010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mbria"/>
              </a:rPr>
              <a:t>Стро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Небольшие округлые тельца, которые отпочковываются от цистерн комплекса Гольдж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Различают </a:t>
            </a:r>
            <a:r>
              <a:rPr b="0" i="1" lang="ru-RU" sz="2200" spc="-1" strike="noStrike">
                <a:solidFill>
                  <a:srgbClr val="0000ff"/>
                </a:solidFill>
                <a:latin typeface="Cambria"/>
              </a:rPr>
              <a:t>первичные</a:t>
            </a:r>
            <a:r>
              <a:rPr b="0" lang="ru-RU" sz="2200" spc="-1" strike="noStrike">
                <a:solidFill>
                  <a:srgbClr val="0000ff"/>
                </a:solidFill>
                <a:latin typeface="Cambria"/>
              </a:rPr>
              <a:t> </a:t>
            </a:r>
            <a:r>
              <a:rPr b="0" i="1" lang="ru-RU" sz="2200" spc="-1" strike="noStrike">
                <a:solidFill>
                  <a:srgbClr val="0000ff"/>
                </a:solidFill>
                <a:latin typeface="Cambria"/>
              </a:rPr>
              <a:t>лизосомы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— лизосомы, отшнуровавшиеся от аппарата Гольджи и содержащие ферменты в неактивной форме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ff"/>
                </a:solidFill>
                <a:latin typeface="Cambria"/>
              </a:rPr>
              <a:t>вторичные</a:t>
            </a:r>
            <a:r>
              <a:rPr b="0" lang="ru-RU" sz="2200" spc="-1" strike="noStrike">
                <a:solidFill>
                  <a:srgbClr val="0000ff"/>
                </a:solidFill>
                <a:latin typeface="Cambria"/>
              </a:rPr>
              <a:t> </a:t>
            </a:r>
            <a:r>
              <a:rPr b="0" i="1" lang="ru-RU" sz="2200" spc="-1" strike="noStrike">
                <a:solidFill>
                  <a:srgbClr val="0000ff"/>
                </a:solidFill>
                <a:latin typeface="Cambria"/>
              </a:rPr>
              <a:t>лизосомы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— лизосомы, образовавшиеся в результате слияния первичных лизосом с пиноцитозными или фагоцитозными вакуолями (часто их называют пищеварительными вакуолям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тная запись Майкрософт</cp:lastModifiedBy>
  <dcterms:modified xsi:type="dcterms:W3CDTF">2022-09-30T13:43:46Z</dcterms:modified>
  <cp:revision>61</cp:revision>
  <dc:subject/>
  <dc:title>Слайд 1</dc:title>
</cp:coreProperties>
</file>