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DF59-E0C1-4C71-BEA2-621040B3DB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E567-AB25-4A6E-80DA-1CA7B53B7C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A2A6-EF63-4549-AE30-DA896FDEFC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3A6F-09D2-4372-9FBC-FED5BECD83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9D56-29D5-4605-BBEF-7B62FF047A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57A2-E807-4F6D-A03D-14C852D8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BBF-9D94-4DE0-B6F2-51C9BB4B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B24F-F6BF-45D2-8BEB-CB66C1D9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F60-6290-449D-B091-7A6558A5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C4A94-2A73-417D-BBB4-49DA05CF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E2839-CAEA-40BF-BABF-7B0686A7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0B62D-2C64-4902-984F-495F57A6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711DF-46D2-4895-A32B-DE58CC54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F8BD1-A6C1-4091-9F50-93EEB43E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9621C-D414-470B-A560-28B64F96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F1B3D-3F54-44C5-BDA7-59D97525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D879-8C4C-4C2D-BAEF-654E1F83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13430-2A2C-4F72-AA1F-81D0AA1D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630DC-DFD7-4CCE-963A-884489B9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D517B-6D25-4F76-9201-386C2EA8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E6134-A215-40C6-9732-68F51704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D8B31-1E03-47FB-BB32-F46E576A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B7616-0862-4246-9650-96A709AA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FA1699-1676-4BC1-9303-CF18EAF3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7894D-E0D3-4C4D-89A9-4B93E878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10A1F-4C42-40C5-B1B4-9EFA2198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187BA0-CB2B-4B46-855D-8CA4A700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6DC-8906-49BD-A463-193473BD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F93D92-E563-41D6-9B8D-A32C58F6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73103B-5A39-4B4E-96D0-9709EE8C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7CC2EA-E260-4209-8E12-6A091634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B3CD7D-7118-45DF-927E-CA7D85EF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6B7C1-9549-4730-88D8-19A5CF66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D027DB-3F30-474E-BCCE-12495353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E5FFD-D8A4-4DA8-9A14-90BD0601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7102-63AC-4F8C-8C38-F83D2F66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B0A8-05D5-48D5-9F9A-BB651932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5D50-831F-47B9-8E46-44A3E9FB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5247-7C37-4817-97E4-680C21D3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028D-1AEF-4CB5-B979-6938B727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347-2CBE-416F-B893-CA88B6E6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71EC-19DA-4902-A8D2-904FBD37D9F1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6D78-AC7E-4E52-B42F-4FEC766E7501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FDAB-6C63-4C76-BFB6-0500034F16AD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203640" y="549360"/>
            <a:ext cx="496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aramond"/>
              </a:rPr>
              <a:t>Смысловое чтение. 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Garamond"/>
              </a:rPr>
              <a:t>Приемы и методы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aramond"/>
              </a:rPr>
              <a:t>эффективного обучения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68360" y="3933720"/>
            <a:ext cx="6551640" cy="2819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Helvetica Neue"/>
              </a:rPr>
              <a:t>2. Приём «Составление краткой записи задачи и ее инсценировк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572000" y="4292640"/>
            <a:ext cx="3456000" cy="2201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Helvetica Neue"/>
              </a:rPr>
              <a:t>3. Приём «Составление вопросов к задаче и задачи по вопросам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240360" cy="2262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3200" y="33300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4. Внимание!</a:t>
            </a:r>
            <a:br>
              <a:rPr sz="6000"/>
            </a:br>
            <a:r>
              <a:rPr b="0" lang="ru-RU" sz="4400" spc="-1" strike="noStrike">
                <a:solidFill>
                  <a:srgbClr val="333333"/>
                </a:solidFill>
                <a:latin typeface="Helvetica Neue"/>
              </a:rPr>
              <a:t>Уже знал (V)</a:t>
            </a:r>
            <a:br>
              <a:rPr sz="4400"/>
            </a:br>
            <a:r>
              <a:rPr b="0" lang="ru-RU" sz="4400" spc="-1" strike="noStrike">
                <a:solidFill>
                  <a:srgbClr val="333333"/>
                </a:solidFill>
                <a:latin typeface="Helvetica Neue"/>
              </a:rPr>
              <a:t>Узнал новое (+)</a:t>
            </a:r>
            <a:br>
              <a:rPr sz="4400"/>
            </a:br>
            <a:r>
              <a:rPr b="0" lang="ru-RU" sz="4400" spc="-1" strike="noStrike">
                <a:solidFill>
                  <a:srgbClr val="333333"/>
                </a:solidFill>
                <a:latin typeface="Helvetica Neue"/>
              </a:rPr>
              <a:t>Думал иначе (-)</a:t>
            </a:r>
            <a:br>
              <a:rPr sz="4400"/>
            </a:br>
            <a:r>
              <a:rPr b="0" lang="ru-RU" sz="4400" spc="-1" strike="noStrike">
                <a:solidFill>
                  <a:srgbClr val="333333"/>
                </a:solidFill>
                <a:latin typeface="Helvetica Neue"/>
              </a:rPr>
              <a:t>Есть вопросы (?)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5796000" y="3789360"/>
            <a:ext cx="3106800" cy="2592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ru-RU" sz="4400" spc="-1" strike="noStrike">
                <a:solidFill>
                  <a:srgbClr val="333333"/>
                </a:solidFill>
                <a:latin typeface="Helvetica Neue"/>
              </a:rPr>
              <a:t> «Ключевые сло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324000" y="1305000"/>
            <a:ext cx="2735280" cy="2376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3276720" y="1844640"/>
            <a:ext cx="2447640" cy="3960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3"/>
          <a:srcRect l="0" t="0" r="0" b="9914"/>
          <a:stretch/>
        </p:blipFill>
        <p:spPr>
          <a:xfrm>
            <a:off x="5940360" y="2492280"/>
            <a:ext cx="2889360" cy="3745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. «Верные и неверные утвержден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281240" y="4653000"/>
            <a:ext cx="6553080" cy="1649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7.  «Класте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8.Видео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826240" cy="4480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258920" y="222120"/>
            <a:ext cx="6913440" cy="6231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404640"/>
            <a:ext cx="7238880" cy="60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мысловое чтени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это вид чтения,  когда нужно не только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рочита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кст, но и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дать оценку информации, откликнуться на содержани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3255840" y="418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9685440" y="2862360"/>
            <a:ext cx="8313480" cy="134136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1"/>
          <p:cNvSpPr/>
          <p:nvPr/>
        </p:nvSpPr>
        <p:spPr>
          <a:xfrm>
            <a:off x="324000" y="333360"/>
            <a:ext cx="65340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  <a:ea typeface="Arial"/>
              </a:rPr>
              <a:t>Цель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  <a:ea typeface="Arial"/>
              </a:rPr>
              <a:t>нашего сегодняшнего методического объединения - выявить наиболее эффективные технологии формирования смыслового чтения у младших школьнико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  <a:ea typeface="Arial"/>
              </a:rPr>
              <a:t>Отсюда вытекают следующие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  <a:ea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  <a:ea typeface="Arial"/>
              </a:rPr>
              <a:t>1.Определить эффективные методы и приемы работы по формированию смыслового чтени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  <a:ea typeface="Arial"/>
              </a:rPr>
              <a:t>2.Раскрыть некоторые приемы работы на уроках литературного чтения, математики, окружающего мир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Helvetica Neue"/>
              </a:rPr>
              <a:t>Одной из технологий смыслового чтения является - технология продуктивного чт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924280"/>
            <a:ext cx="821844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Helvetica Neue"/>
              </a:rPr>
              <a:t>Сама технология включает в себя 3 этапа работы с текстом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1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085000" cy="3325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457200" y="476280"/>
            <a:ext cx="7238880" cy="59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Прямоугольник 1"/>
          <p:cNvSpPr/>
          <p:nvPr/>
        </p:nvSpPr>
        <p:spPr>
          <a:xfrm>
            <a:off x="2124000" y="441360"/>
            <a:ext cx="506880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333333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Helvetica Neue"/>
              </a:rPr>
              <a:t>Приём «Ассоциация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buClr>
                <a:srgbClr val="333333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buClr>
                <a:srgbClr val="333333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buClr>
                <a:srgbClr val="333333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33"/>
                </a:solidFill>
                <a:latin typeface="Helvetica Neue"/>
              </a:rPr>
              <a:t>МЯЧ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33"/>
                </a:solidFill>
                <a:latin typeface="Helvetica Neue"/>
              </a:rPr>
              <a:t>Барто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Диалог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а Таня громко плач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нила в речку мяч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ше Танечка не пл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утонет в речке мя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540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ворческие задания</a:t>
            </a:r>
            <a:br>
              <a:rPr sz="4400"/>
            </a:br>
            <a:r>
              <a:rPr b="0" lang="ru-RU" sz="3600" spc="-1" strike="noStrike">
                <a:solidFill>
                  <a:srgbClr val="333333"/>
                </a:solidFill>
                <a:latin typeface="Helvetica Neue"/>
              </a:rPr>
              <a:t>Придумай</a:t>
            </a: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Helvetica Neue"/>
              </a:rPr>
              <a:t>Назови</a:t>
            </a: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Helvetica Neue"/>
              </a:rPr>
              <a:t>Предложи</a:t>
            </a: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Helvetica Neue"/>
              </a:rPr>
              <a:t>Почему</a:t>
            </a: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Helvetica Neue"/>
              </a:rPr>
              <a:t>Объясни</a:t>
            </a: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Helvetica Neue"/>
              </a:rPr>
              <a:t>Поделись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Куб 3"/>
          <p:cNvSpPr/>
          <p:nvPr/>
        </p:nvSpPr>
        <p:spPr>
          <a:xfrm>
            <a:off x="4427640" y="2847960"/>
            <a:ext cx="2944800" cy="288468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Helvetica Neue"/>
              </a:rPr>
              <a:t>Методы и приемы формирования смыслового чтения в начальной шко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Вопросы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а « Перестрелк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987640" y="3573360"/>
            <a:ext cx="4032360" cy="2583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7:39:45Z</dcterms:created>
  <dc:creator>Эля</dc:creator>
  <dc:description/>
  <dc:language>en-US</dc:language>
  <cp:lastModifiedBy>007</cp:lastModifiedBy>
  <dcterms:modified xsi:type="dcterms:W3CDTF">2022-04-18T17:45:20Z</dcterms:modified>
  <cp:revision>108</cp:revision>
  <dc:subject/>
  <dc:title>Образовательная технология</dc:title>
</cp:coreProperties>
</file>