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8A1-6E79-400D-A586-F7BB1DA2C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C251-BB48-4EC3-98EF-855FC0C53E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135-FBFB-4D08-9352-C9DE1CCE26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A15-38B4-4164-90BA-59063502E6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D6B-6094-4976-9797-AB49D7214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929-7730-4C37-A121-94791DE2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E36-2D4D-4EAB-90B2-2E3A58A4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FC6-06EE-4EE4-BD67-E65FE96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F80-2C49-4036-A16A-0B9EB0B0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9AA1A-2A30-4712-A82E-8B090CC0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D51D4-240A-4143-8333-B08656F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2ACD-E6D1-420B-8549-384AB6D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10ED2-D0D2-4180-9422-25D212DB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57D35-8F5C-4E73-9CCD-B1E289D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0E788-7CE3-454F-B01A-26E182A0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AC329-C51F-4DA2-96C6-28EEA90C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972-6D7F-4BC8-8785-AA2213DD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1DCA7-46A5-43C3-AF89-27C16CD2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A05B5-D2A9-4358-8247-22A0756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630D8-D8DF-4E4E-84D0-58679E6C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2E0DB-928C-4C05-8B7A-33AACB49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F59BA-17ED-4B3F-A466-B18DFEE3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641D0-9078-44D9-BC9E-F0E29F98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00BE5-F2CE-4381-8E89-C1C6EC7E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920DB5-7B34-486F-B75C-2EB1D2F4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28398-61A4-4A36-A78A-5F17182F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089CF-1BCD-4FA0-B1BA-93356FA9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D44-2D06-4178-92E8-407EE12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81DBA-8DD4-4C66-98E8-2E31DCCB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792537-94C0-4419-9492-7C2E6B3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B5F3BA-7D00-4A52-81C2-2743DC6E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32F72-B786-4063-801C-31F115F7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21132-65F4-4E47-947F-1360F512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D3624-1DE5-425E-AE94-6477847B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2A28E-FB2C-44D9-9E0F-87F289F9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225-B53A-466F-8CCF-ECCFC444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499-52A9-4BE9-A78F-B3A7E14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E36-3FD1-4A44-837C-6805B7D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1E0-EA52-416B-92D0-745697B1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767-F941-4997-982D-59D92BC7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A68-D43E-42FD-BEEB-705B11B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9E3D-58CC-4E29-A346-E6B4C077E82A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B27C-CB13-4165-AA40-6C29A11E8887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8F0-9F2E-4E2E-A630-CB0A1D3EDE07}" type="slidenum">
              <a:rPr b="0" lang="ru-RU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203640" y="549360"/>
            <a:ext cx="496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Смысловое чтение. </a:t>
            </a: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Приемы и методы 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эффективного обучения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6551640" cy="281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Helvetica Neue"/>
              </a:rPr>
              <a:t>2. Приём «Составление краткой записи задачи и ее инсценировк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572000" y="4292640"/>
            <a:ext cx="3456000" cy="2201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Helvetica Neue"/>
              </a:rPr>
              <a:t>3. Приём «Составление вопросов к задаче и задачи по вопросам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40360" cy="2262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73200" y="33300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4. Внимание!</a:t>
            </a:r>
            <a:br>
              <a:rPr sz="60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Уже знал (V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Узнал новое (+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Думал иначе (-)</a:t>
            </a:r>
            <a:br>
              <a:rPr sz="4400"/>
            </a:br>
            <a:r>
              <a:rPr b="0" lang="ru-RU" sz="4400" spc="-1" strike="noStrike">
                <a:solidFill>
                  <a:srgbClr val="333333"/>
                </a:solidFill>
                <a:latin typeface="Helvetica Neue"/>
              </a:rPr>
              <a:t>Есть вопросы (?)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5796000" y="3789360"/>
            <a:ext cx="3106800" cy="2592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ru-RU" sz="4400" spc="-1" strike="noStrike">
                <a:solidFill>
                  <a:srgbClr val="333333"/>
                </a:solidFill>
                <a:latin typeface="Helvetica Neue"/>
              </a:rPr>
              <a:t> «Ключевые слов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24000" y="1305000"/>
            <a:ext cx="2735280" cy="2376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2447640" cy="396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3"/>
          <a:srcRect l="0" t="0" r="0" b="9914"/>
          <a:stretch/>
        </p:blipFill>
        <p:spPr>
          <a:xfrm>
            <a:off x="5940360" y="2492280"/>
            <a:ext cx="2889360" cy="374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. «Верные и неверные утвер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81240" y="4653000"/>
            <a:ext cx="6553080" cy="1649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7.  «Класте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8.Видеовопр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826240" cy="4480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58920" y="222120"/>
            <a:ext cx="6913440" cy="6231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404640"/>
            <a:ext cx="7238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овое чте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это вид чтения,  когда нужно не только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очита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ст, но 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ать оценку информации, откликнуться на содержа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9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255840" y="418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9685440" y="2862360"/>
            <a:ext cx="8313480" cy="1341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324000" y="333360"/>
            <a:ext cx="653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Цель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нашего сегодняшнего методического объединения - выявить наиболее эффективные технологии формирования смыслового чтения у младших школьни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Отсюда вытекают следующие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1.Определить эффективные методы и приемы работы по формированию смыслового чтен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  <a:ea typeface="Arial"/>
              </a:rPr>
              <a:t>2.Раскрыть некоторые приемы работы на уроках литературного чтения, математики, окружающего мир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Helvetica Neue"/>
              </a:rPr>
              <a:t>Одной из технологий смыслового чтения является - технология продуктив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924280"/>
            <a:ext cx="821844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Helvetica Neue"/>
              </a:rPr>
              <a:t>Сама технология включает в себя 3 этапа работы с тексто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1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085000" cy="3325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457200" y="476280"/>
            <a:ext cx="7238880" cy="59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2124000" y="441360"/>
            <a:ext cx="506880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Helvetica Neue"/>
              </a:rPr>
              <a:t>Приём «Ассоциация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buClr>
                <a:srgbClr val="333333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Helvetica Neue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33"/>
                </a:solidFill>
                <a:latin typeface="Helvetica Neue"/>
              </a:rPr>
              <a:t>Барто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Диалог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Таня громко плач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нила в речку мяч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ше Танечка не пл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утонет в речке мя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540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ворческие задания</a:t>
            </a:r>
            <a:br>
              <a:rPr sz="44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ридумай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Назов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редлож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очему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Объясни</a:t>
            </a:r>
            <a:br>
              <a:rPr sz="3600"/>
            </a:br>
            <a:r>
              <a:rPr b="0" lang="ru-RU" sz="3600" spc="-1" strike="noStrike">
                <a:solidFill>
                  <a:srgbClr val="333333"/>
                </a:solidFill>
                <a:latin typeface="Helvetica Neue"/>
              </a:rPr>
              <a:t>Поделись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Куб 3"/>
          <p:cNvSpPr/>
          <p:nvPr/>
        </p:nvSpPr>
        <p:spPr>
          <a:xfrm>
            <a:off x="4427640" y="2847960"/>
            <a:ext cx="2944800" cy="28846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Helvetica Neue"/>
              </a:rPr>
              <a:t>Методы и приемы формирования смыслового чтения в начальной школ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Вопросы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 Перестрелк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987640" y="3573360"/>
            <a:ext cx="4032360" cy="258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7:39:45Z</dcterms:created>
  <dc:creator>Эля</dc:creator>
  <dc:description/>
  <dc:language>en-US</dc:language>
  <cp:lastModifiedBy>007</cp:lastModifiedBy>
  <dcterms:modified xsi:type="dcterms:W3CDTF">2022-04-18T17:45:20Z</dcterms:modified>
  <cp:revision>108</cp:revision>
  <dc:subject/>
  <dc:title>Образовательная технология</dc:title>
</cp:coreProperties>
</file>