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6.png" ContentType="image/png"/>
  <Override PartName="/ppt/media/image3.gif" ContentType="image/gif"/>
  <Override PartName="/ppt/media/image29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7.png" ContentType="image/png"/>
  <Override PartName="/ppt/media/image1.jpeg" ContentType="image/jpeg"/>
  <Override PartName="/ppt/media/image25.jpeg" ContentType="image/jpeg"/>
  <Override PartName="/ppt/media/image2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20.png" ContentType="image/png"/>
  <Override PartName="/ppt/media/image28.jpeg" ContentType="image/jpeg"/>
  <Override PartName="/ppt/media/image21.png" ContentType="image/png"/>
  <Override PartName="/ppt/media/image19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E9FC-9B11-46B1-B337-ABEEEDCEA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F284-EFD5-4BD2-AFCB-6D6E4B3D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94E9-D852-4F6E-9F06-3F9ED5DCD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79BC-66B4-48D3-818A-F117A1A71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82B4-CB70-48A4-8077-79F9F45D2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EBB9-71A3-4004-B8CB-B5C29E00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7F786-E152-48C4-8E1C-D6286550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9B37-0512-45A5-B0F0-5983E73C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306C-8D75-443A-AD41-FDB2995D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68B4-EF22-4AED-B9BA-3000111A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67D3-8FF6-465A-A984-B34613BB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00A9-1D1B-48EE-88A0-D0B33DEC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2E23-4E94-4F1D-9411-ECF7697C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02B8-A124-4F7F-864B-356F09A1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A9437-79D6-4C4D-B3C9-DECA0CDF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7EBA-9BE8-4776-961A-5BFB9C778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1607A-FAB8-4BBD-A4B4-D302ADB8D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51A0A-4024-45F7-984E-5AE4F7EB5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BE7D2-2764-4217-87BF-5DECDB18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B5D90-4558-48E6-A59C-857C70AD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87792-C96E-4999-9B52-AAD3904A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B6C2C-4147-49B5-BCED-3F8C7C73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0E5A-32B0-4DE9-B15E-AFD719B4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A970C-1C57-4D4F-8E62-C9B94350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C0DBA-DD7E-43CF-A4DE-359E2784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F0D92-F8DE-450C-BC34-60A8D62C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39D06-487C-4D43-9B4C-F9758AD7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6E3B6-4E1B-43B3-8FDC-F44103B1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B7CE4-79B2-4409-BC3C-CCD915744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1CE80-45AA-4D88-B8B9-2D8BCDF60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15E6F-7A90-4529-9452-2FF80A27F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9EF9C-1644-48F3-8A6B-5A5AABAC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1EE9D-BD07-459B-84D6-D4365011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A902-A9FB-4716-921F-E04733B3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A915C-15EB-40B2-9E98-6D71DFBC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604FF-C0B8-41BA-B7A4-5A20D358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8E0D3-787F-4BD8-BD3A-93072241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76898-FB24-4725-9475-C0780420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A69B2-1164-4370-9253-021C1BEA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1566F-CFB9-4E32-A49B-6E4CF12D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01457-D642-4481-A4C0-92784E10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ED5DC-031E-486B-8AB2-AE52F405C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96CE2-92F9-4073-94AE-003B963DB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8E22-00AD-4774-B7ED-130F004F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8FAD-0DD4-44DE-996A-19E4CD94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35FF-7FDE-4271-B593-F18BF644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B66C-646A-4E8D-A9F9-313FD346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1357-8EF8-4AAE-80D7-1FC1DED3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9456-2B2C-4C93-83BC-49E373A382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Рамка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79611" y="179611"/>
                </a:moveTo>
                <a:lnTo>
                  <a:pt x="179611" y="6678389"/>
                </a:lnTo>
                <a:lnTo>
                  <a:pt x="8964389" y="6678389"/>
                </a:lnTo>
                <a:lnTo>
                  <a:pt x="8964389" y="179611"/>
                </a:lnTo>
                <a:lnTo>
                  <a:pt x="179611" y="179611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Рамка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79611" y="179611"/>
                </a:moveTo>
                <a:lnTo>
                  <a:pt x="179611" y="6678389"/>
                </a:lnTo>
                <a:lnTo>
                  <a:pt x="8964389" y="6678389"/>
                </a:lnTo>
                <a:lnTo>
                  <a:pt x="8964389" y="179611"/>
                </a:lnTo>
                <a:lnTo>
                  <a:pt x="179611" y="179611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7" descr="blestiashka-467.gif"/>
          <p:cNvPicPr/>
          <p:nvPr/>
        </p:nvPicPr>
        <p:blipFill>
          <a:blip r:embed="rId3"/>
          <a:stretch/>
        </p:blipFill>
        <p:spPr>
          <a:xfrm>
            <a:off x="7164360" y="5950080"/>
            <a:ext cx="708120" cy="70776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7" descr="9146060.png"/>
          <p:cNvPicPr/>
          <p:nvPr/>
        </p:nvPicPr>
        <p:blipFill>
          <a:blip r:embed="rId4"/>
          <a:stretch/>
        </p:blipFill>
        <p:spPr>
          <a:xfrm>
            <a:off x="900000" y="476280"/>
            <a:ext cx="1630440" cy="7509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8" descr="9146060.png"/>
          <p:cNvPicPr/>
          <p:nvPr/>
        </p:nvPicPr>
        <p:blipFill>
          <a:blip r:embed="rId5"/>
          <a:stretch/>
        </p:blipFill>
        <p:spPr>
          <a:xfrm>
            <a:off x="2916360" y="1484280"/>
            <a:ext cx="1630080" cy="7509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9" descr="9146060.png"/>
          <p:cNvPicPr/>
          <p:nvPr/>
        </p:nvPicPr>
        <p:blipFill>
          <a:blip r:embed="rId6"/>
          <a:stretch/>
        </p:blipFill>
        <p:spPr>
          <a:xfrm>
            <a:off x="5219640" y="1484280"/>
            <a:ext cx="1630440" cy="7509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0" descr="9146060.png"/>
          <p:cNvPicPr/>
          <p:nvPr/>
        </p:nvPicPr>
        <p:blipFill>
          <a:blip r:embed="rId7"/>
          <a:stretch/>
        </p:blipFill>
        <p:spPr>
          <a:xfrm>
            <a:off x="6948360" y="549360"/>
            <a:ext cx="1630440" cy="7491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2" descr="0_12dd95_dd8a87ca_L.png"/>
          <p:cNvPicPr/>
          <p:nvPr/>
        </p:nvPicPr>
        <p:blipFill>
          <a:blip r:embed="rId8"/>
          <a:stretch/>
        </p:blipFill>
        <p:spPr>
          <a:xfrm>
            <a:off x="755640" y="4724280"/>
            <a:ext cx="1440000" cy="17193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3" descr="58784833074576221343.png"/>
          <p:cNvPicPr/>
          <p:nvPr/>
        </p:nvPicPr>
        <p:blipFill>
          <a:blip r:embed="rId9"/>
          <a:stretch/>
        </p:blipFill>
        <p:spPr>
          <a:xfrm>
            <a:off x="179280" y="5661000"/>
            <a:ext cx="1013040" cy="10126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EB89-CF63-460C-9A40-AAB9B4D034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Рамка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79611" y="179611"/>
                </a:moveTo>
                <a:lnTo>
                  <a:pt x="179611" y="6678389"/>
                </a:lnTo>
                <a:lnTo>
                  <a:pt x="8964389" y="6678389"/>
                </a:lnTo>
                <a:lnTo>
                  <a:pt x="8964389" y="179611"/>
                </a:lnTo>
                <a:lnTo>
                  <a:pt x="179611" y="179611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7" descr="12916792.png"/>
          <p:cNvPicPr/>
          <p:nvPr/>
        </p:nvPicPr>
        <p:blipFill>
          <a:blip r:embed="rId3"/>
          <a:stretch/>
        </p:blipFill>
        <p:spPr>
          <a:xfrm>
            <a:off x="179280" y="472428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8" descr="blestiashka-467.gif"/>
          <p:cNvPicPr/>
          <p:nvPr/>
        </p:nvPicPr>
        <p:blipFill>
          <a:blip r:embed="rId4"/>
          <a:stretch/>
        </p:blipFill>
        <p:spPr>
          <a:xfrm>
            <a:off x="755640" y="5877000"/>
            <a:ext cx="785880" cy="7873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F44F-8EB5-43C2-8089-85CD14C090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Рамка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79611" y="179611"/>
                </a:moveTo>
                <a:lnTo>
                  <a:pt x="179611" y="6678389"/>
                </a:lnTo>
                <a:lnTo>
                  <a:pt x="8964389" y="6678389"/>
                </a:lnTo>
                <a:lnTo>
                  <a:pt x="8964389" y="179611"/>
                </a:lnTo>
                <a:lnTo>
                  <a:pt x="179611" y="179611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7" descr="12916792.png"/>
          <p:cNvPicPr/>
          <p:nvPr/>
        </p:nvPicPr>
        <p:blipFill>
          <a:blip r:embed="rId3"/>
          <a:stretch/>
        </p:blipFill>
        <p:spPr>
          <a:xfrm>
            <a:off x="179280" y="443700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8" descr="58784833074576221343.png"/>
          <p:cNvPicPr/>
          <p:nvPr/>
        </p:nvPicPr>
        <p:blipFill>
          <a:blip r:embed="rId4"/>
          <a:stretch/>
        </p:blipFill>
        <p:spPr>
          <a:xfrm>
            <a:off x="539640" y="5732640"/>
            <a:ext cx="936720" cy="93636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9" descr="0_12dd95_dd8a87ca_L.png"/>
          <p:cNvPicPr/>
          <p:nvPr/>
        </p:nvPicPr>
        <p:blipFill>
          <a:blip r:embed="rId5"/>
          <a:stretch/>
        </p:blipFill>
        <p:spPr>
          <a:xfrm>
            <a:off x="1332000" y="5084640"/>
            <a:ext cx="1276200" cy="15242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0907-AD7E-4087-AEA0-DE56895D39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Рисунок 5" descr="Картинки по запросу сова полярная фото"/>
          <p:cNvPicPr/>
          <p:nvPr/>
        </p:nvPicPr>
        <p:blipFill>
          <a:blip r:embed="rId1"/>
          <a:srcRect l="22754" t="0" r="25004" b="2561"/>
          <a:stretch/>
        </p:blipFill>
        <p:spPr>
          <a:xfrm>
            <a:off x="111240" y="1822320"/>
            <a:ext cx="1512720" cy="16430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Calibri"/>
              </a:rPr>
              <a:t>Проект</a:t>
            </a:r>
            <a:br>
              <a:rPr sz="4800"/>
            </a:br>
            <a:r>
              <a:rPr b="1" lang="ru-RU" sz="4800" spc="-1" strike="noStrike">
                <a:solidFill>
                  <a:srgbClr val="000099"/>
                </a:solidFill>
                <a:latin typeface="Calibri"/>
              </a:rPr>
              <a:t> «</a:t>
            </a:r>
            <a:r>
              <a:rPr b="1" lang="ru-RU" sz="4400" spc="-1" strike="noStrike">
                <a:solidFill>
                  <a:srgbClr val="000099"/>
                </a:solidFill>
                <a:latin typeface="Calibri"/>
              </a:rPr>
              <a:t>Что вы знаете об острове Врангеля? </a:t>
            </a:r>
            <a:r>
              <a:rPr b="1" lang="ru-RU" sz="4800" spc="-1" strike="noStrike">
                <a:solidFill>
                  <a:srgbClr val="000099"/>
                </a:solidFill>
                <a:latin typeface="Calibri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79280" y="33300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alibri"/>
              </a:rPr>
              <a:t>МУНИЦИПАЛЬНОЕ  БЮДЖЕТНОЕ ОБЩЕОБРАЗОВАТЕЛЬНОЕ УЧРЕЖДЕНИЕ «СРЕДНЯЯ ОБЩЕОБРАЗОВАТЕЛЬНАЯ ШКОЛА №1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alibri"/>
              </a:rPr>
              <a:t>Г. ТАРКО- САЛЕ   ПУРОВСКОГО РАЙО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Заголовок 8"/>
          <p:cNvSpPr/>
          <p:nvPr/>
        </p:nvSpPr>
        <p:spPr>
          <a:xfrm>
            <a:off x="755640" y="53802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50920" y="1125360"/>
          <a:ext cx="8713800" cy="5481720"/>
        </p:xfrm>
        <a:graphic>
          <a:graphicData uri="http://schemas.openxmlformats.org/drawingml/2006/table">
            <a:tbl>
              <a:tblPr/>
              <a:tblGrid>
                <a:gridCol w="1717560"/>
                <a:gridCol w="1717560"/>
                <a:gridCol w="1758960"/>
                <a:gridCol w="1760760"/>
                <a:gridCol w="1758960"/>
              </a:tblGrid>
              <a:tr h="66204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ся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ор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сячный миниму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сячный максиму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уточный максиму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2228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январ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84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евра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84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р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48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пр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540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48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ю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84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ю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48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вгу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84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ентябр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84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ктябр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504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оябр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84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кабр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48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06" name="Rectangle 3"/>
          <p:cNvSpPr/>
          <p:nvPr/>
        </p:nvSpPr>
        <p:spPr>
          <a:xfrm>
            <a:off x="3389760" y="-34560"/>
            <a:ext cx="257040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Осад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Рисунок 2" descr="http://www.pogodaiklimat.ru/climate/21982_t.png"/>
          <p:cNvPicPr/>
          <p:nvPr/>
        </p:nvPicPr>
        <p:blipFill>
          <a:blip r:embed="rId1"/>
          <a:stretch/>
        </p:blipFill>
        <p:spPr>
          <a:xfrm>
            <a:off x="179280" y="333360"/>
            <a:ext cx="864072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Рисунок 2" descr="http://www.pogodaiklimat.ru/climate/21982_p.png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250920" y="1628640"/>
          <a:ext cx="8743680" cy="5000760"/>
        </p:xfrm>
        <a:graphic>
          <a:graphicData uri="http://schemas.openxmlformats.org/drawingml/2006/table">
            <a:tbl>
              <a:tblPr/>
              <a:tblGrid>
                <a:gridCol w="1160280"/>
                <a:gridCol w="581040"/>
                <a:gridCol w="579600"/>
                <a:gridCol w="581040"/>
                <a:gridCol w="579240"/>
                <a:gridCol w="581040"/>
                <a:gridCol w="581040"/>
                <a:gridCol w="579600"/>
                <a:gridCol w="581040"/>
                <a:gridCol w="579240"/>
                <a:gridCol w="581040"/>
                <a:gridCol w="579600"/>
                <a:gridCol w="581040"/>
                <a:gridCol w="618840"/>
              </a:tblGrid>
              <a:tr h="61776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явл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ян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е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п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ю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ю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в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о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8088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жд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088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не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944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ум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124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г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088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ро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088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124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ололё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944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змороз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6996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липание м.с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816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ложное от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12" name="Rectangle 1"/>
          <p:cNvSpPr/>
          <p:nvPr/>
        </p:nvSpPr>
        <p:spPr>
          <a:xfrm>
            <a:off x="650880" y="101880"/>
            <a:ext cx="8181720" cy="20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Число дней с различным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явления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63440" y="2133720"/>
          <a:ext cx="8729640" cy="4414680"/>
        </p:xfrm>
        <a:graphic>
          <a:graphicData uri="http://schemas.openxmlformats.org/drawingml/2006/table">
            <a:tbl>
              <a:tblPr/>
              <a:tblGrid>
                <a:gridCol w="1158840"/>
                <a:gridCol w="579600"/>
                <a:gridCol w="579240"/>
                <a:gridCol w="579600"/>
                <a:gridCol w="579240"/>
                <a:gridCol w="579600"/>
                <a:gridCol w="579600"/>
                <a:gridCol w="579240"/>
                <a:gridCol w="579600"/>
                <a:gridCol w="579240"/>
                <a:gridCol w="579600"/>
                <a:gridCol w="579240"/>
                <a:gridCol w="579600"/>
                <a:gridCol w="617400"/>
              </a:tblGrid>
              <a:tr h="140652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ид осад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ян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е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п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ю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ю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в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о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0172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верд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0652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мешан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9992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жид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15" name="Rectangle 1"/>
          <p:cNvSpPr/>
          <p:nvPr/>
        </p:nvSpPr>
        <p:spPr>
          <a:xfrm>
            <a:off x="163440" y="145080"/>
            <a:ext cx="8964720" cy="16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Число дней с твердыми, жидкими и смешанными осадк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179280" y="1628640"/>
          <a:ext cx="8713800" cy="2252880"/>
        </p:xfrm>
        <a:graphic>
          <a:graphicData uri="http://schemas.openxmlformats.org/drawingml/2006/table">
            <a:tbl>
              <a:tblPr/>
              <a:tblGrid>
                <a:gridCol w="666720"/>
                <a:gridCol w="666720"/>
                <a:gridCol w="667080"/>
                <a:gridCol w="666720"/>
                <a:gridCol w="666720"/>
                <a:gridCol w="666720"/>
                <a:gridCol w="668160"/>
                <a:gridCol w="666720"/>
                <a:gridCol w="666720"/>
                <a:gridCol w="667080"/>
                <a:gridCol w="666720"/>
                <a:gridCol w="666720"/>
                <a:gridCol w="711000"/>
              </a:tblGrid>
              <a:tr h="128268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ян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е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п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ю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ю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в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к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о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70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.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.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.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.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.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.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.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.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.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.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6.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6.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.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7" name="Rectangle 1"/>
          <p:cNvSpPr/>
          <p:nvPr/>
        </p:nvSpPr>
        <p:spPr>
          <a:xfrm>
            <a:off x="1116000" y="252720"/>
            <a:ext cx="705636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Ветер, м/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24000" y="1492200"/>
          <a:ext cx="8569080" cy="4168800"/>
        </p:xfrm>
        <a:graphic>
          <a:graphicData uri="http://schemas.openxmlformats.org/drawingml/2006/table">
            <a:tbl>
              <a:tblPr/>
              <a:tblGrid>
                <a:gridCol w="1137960"/>
                <a:gridCol w="568440"/>
                <a:gridCol w="568440"/>
                <a:gridCol w="568080"/>
                <a:gridCol w="569880"/>
                <a:gridCol w="568440"/>
                <a:gridCol w="568440"/>
                <a:gridCol w="568440"/>
                <a:gridCol w="569880"/>
                <a:gridCol w="568080"/>
                <a:gridCol w="568440"/>
                <a:gridCol w="569880"/>
                <a:gridCol w="568440"/>
                <a:gridCol w="606240"/>
              </a:tblGrid>
              <a:tr h="63648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прав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ян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е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п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ю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ю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в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о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240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204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348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240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Ю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204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204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Ю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384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204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204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шти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20" name="Rectangle 1"/>
          <p:cNvSpPr/>
          <p:nvPr/>
        </p:nvSpPr>
        <p:spPr>
          <a:xfrm>
            <a:off x="179280" y="-69480"/>
            <a:ext cx="8785440" cy="16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Повторяемость различных направлений ветра, 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50920" y="1641600"/>
          <a:ext cx="8642160" cy="687240"/>
        </p:xfrm>
        <a:graphic>
          <a:graphicData uri="http://schemas.openxmlformats.org/drawingml/2006/table">
            <a:tbl>
              <a:tblPr/>
              <a:tblGrid>
                <a:gridCol w="2160360"/>
                <a:gridCol w="2160720"/>
                <a:gridCol w="2160720"/>
                <a:gridCol w="2160360"/>
              </a:tblGrid>
              <a:tr h="68796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январ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апрел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июл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октябр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223" name="Рисунок 56" descr="http://www.pogodaiklimat.ru/climate/21982_w1.png"/>
          <p:cNvPicPr/>
          <p:nvPr/>
        </p:nvPicPr>
        <p:blipFill>
          <a:blip r:embed="rId1"/>
          <a:stretch/>
        </p:blipFill>
        <p:spPr>
          <a:xfrm>
            <a:off x="271440" y="2349360"/>
            <a:ext cx="2068560" cy="206712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55" descr="http://www.pogodaiklimat.ru/climate/21982_w2.png"/>
          <p:cNvPicPr/>
          <p:nvPr/>
        </p:nvPicPr>
        <p:blipFill>
          <a:blip r:embed="rId2"/>
          <a:stretch/>
        </p:blipFill>
        <p:spPr>
          <a:xfrm>
            <a:off x="2451240" y="2349360"/>
            <a:ext cx="2066760" cy="206712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5"/>
          <p:cNvSpPr/>
          <p:nvPr/>
        </p:nvSpPr>
        <p:spPr>
          <a:xfrm>
            <a:off x="250920" y="1413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Рисунок 8" descr="http://www.pogodaiklimat.ru/climate/21982_w3.png"/>
          <p:cNvPicPr/>
          <p:nvPr/>
        </p:nvPicPr>
        <p:blipFill>
          <a:blip r:embed="rId3"/>
          <a:stretch/>
        </p:blipFill>
        <p:spPr>
          <a:xfrm>
            <a:off x="4643280" y="2349360"/>
            <a:ext cx="2068560" cy="206712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9" descr="http://www.pogodaiklimat.ru/climate/21982_w4.png"/>
          <p:cNvPicPr/>
          <p:nvPr/>
        </p:nvPicPr>
        <p:blipFill>
          <a:blip r:embed="rId4"/>
          <a:stretch/>
        </p:blipFill>
        <p:spPr>
          <a:xfrm>
            <a:off x="6804000" y="2349360"/>
            <a:ext cx="206856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79280" y="1700280"/>
          <a:ext cx="8707680" cy="2233440"/>
        </p:xfrm>
        <a:graphic>
          <a:graphicData uri="http://schemas.openxmlformats.org/drawingml/2006/table">
            <a:tbl>
              <a:tblPr/>
              <a:tblGrid>
                <a:gridCol w="666720"/>
                <a:gridCol w="666720"/>
                <a:gridCol w="665280"/>
                <a:gridCol w="666720"/>
                <a:gridCol w="666720"/>
                <a:gridCol w="666720"/>
                <a:gridCol w="665280"/>
                <a:gridCol w="666720"/>
                <a:gridCol w="666720"/>
                <a:gridCol w="666720"/>
                <a:gridCol w="665280"/>
                <a:gridCol w="666720"/>
                <a:gridCol w="711360"/>
              </a:tblGrid>
              <a:tr h="1271520">
                <a:tc>
                  <a:txBody>
                    <a:bodyPr lIns="28440" rIns="28440" tIns="28800" bIns="2880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ян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800" bIns="2880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е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800" bIns="2880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800" bIns="2880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п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800" bIns="2880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800" bIns="2880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ю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800" bIns="2880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ю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800" bIns="2880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в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800" bIns="2880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800" bIns="2880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к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800" bIns="2880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о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800" bIns="2880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800" bIns="2880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61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30" name="Rectangle 1"/>
          <p:cNvSpPr/>
          <p:nvPr/>
        </p:nvSpPr>
        <p:spPr>
          <a:xfrm>
            <a:off x="468360" y="94680"/>
            <a:ext cx="820728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Влажность воздуха, 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179280" y="1341360"/>
          <a:ext cx="8713800" cy="3672000"/>
        </p:xfrm>
        <a:graphic>
          <a:graphicData uri="http://schemas.openxmlformats.org/drawingml/2006/table">
            <a:tbl>
              <a:tblPr/>
              <a:tblGrid>
                <a:gridCol w="1157400"/>
                <a:gridCol w="577800"/>
                <a:gridCol w="577800"/>
                <a:gridCol w="579600"/>
                <a:gridCol w="577800"/>
                <a:gridCol w="577800"/>
                <a:gridCol w="579600"/>
                <a:gridCol w="577800"/>
                <a:gridCol w="577800"/>
                <a:gridCol w="577800"/>
                <a:gridCol w="579600"/>
                <a:gridCol w="577800"/>
                <a:gridCol w="577800"/>
                <a:gridCol w="617400"/>
              </a:tblGrid>
              <a:tr h="58572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ся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ю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в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о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ян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е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п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ю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888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исло дн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852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ысота (с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2888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кс.выс. (с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32" name="Rectangle 1"/>
          <p:cNvSpPr/>
          <p:nvPr/>
        </p:nvSpPr>
        <p:spPr>
          <a:xfrm>
            <a:off x="268200" y="3960"/>
            <a:ext cx="871236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Снежный покр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99"/>
              </a:solidFill>
              <a:latin typeface="바탕"/>
              <a:ea typeface="바탕"/>
            </a:endParaRPr>
          </a:p>
        </p:txBody>
      </p:sp>
      <p:sp>
        <p:nvSpPr>
          <p:cNvPr id="185" name="Заголовок 3"/>
          <p:cNvSpPr/>
          <p:nvPr/>
        </p:nvSpPr>
        <p:spPr>
          <a:xfrm>
            <a:off x="585720" y="1440000"/>
            <a:ext cx="82296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C:\Users\Алексей\Desktop\-2-638.jpg"/>
          <p:cNvPicPr/>
          <p:nvPr/>
        </p:nvPicPr>
        <p:blipFill>
          <a:blip r:embed="rId1"/>
          <a:stretch/>
        </p:blipFill>
        <p:spPr>
          <a:xfrm>
            <a:off x="1332000" y="765000"/>
            <a:ext cx="6854760" cy="51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108000" y="1773360"/>
          <a:ext cx="8785080" cy="4824360"/>
        </p:xfrm>
        <a:graphic>
          <a:graphicData uri="http://schemas.openxmlformats.org/drawingml/2006/table">
            <a:tbl>
              <a:tblPr/>
              <a:tblGrid>
                <a:gridCol w="936720"/>
                <a:gridCol w="718920"/>
                <a:gridCol w="649440"/>
                <a:gridCol w="647640"/>
                <a:gridCol w="576360"/>
                <a:gridCol w="647640"/>
                <a:gridCol w="647640"/>
                <a:gridCol w="576360"/>
                <a:gridCol w="504720"/>
                <a:gridCol w="574560"/>
                <a:gridCol w="649440"/>
                <a:gridCol w="576360"/>
                <a:gridCol w="574560"/>
                <a:gridCol w="504720"/>
              </a:tblGrid>
              <a:tr h="123660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ся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ян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е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п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ю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ю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в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о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60812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щ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97964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ижня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34" name="Rectangle 1"/>
          <p:cNvSpPr/>
          <p:nvPr/>
        </p:nvSpPr>
        <p:spPr>
          <a:xfrm>
            <a:off x="179280" y="-48960"/>
            <a:ext cx="871380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Облачность, балл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250920" y="1484280"/>
          <a:ext cx="8642160" cy="5113440"/>
        </p:xfrm>
        <a:graphic>
          <a:graphicData uri="http://schemas.openxmlformats.org/drawingml/2006/table">
            <a:tbl>
              <a:tblPr/>
              <a:tblGrid>
                <a:gridCol w="1147680"/>
                <a:gridCol w="573120"/>
                <a:gridCol w="573120"/>
                <a:gridCol w="574560"/>
                <a:gridCol w="573120"/>
                <a:gridCol w="573120"/>
                <a:gridCol w="574560"/>
                <a:gridCol w="573120"/>
                <a:gridCol w="573120"/>
                <a:gridCol w="574560"/>
                <a:gridCol w="573120"/>
                <a:gridCol w="573120"/>
                <a:gridCol w="574920"/>
                <a:gridCol w="610920"/>
              </a:tblGrid>
              <a:tr h="5396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ян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е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п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ю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ю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в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о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82680">
                <a:tc gridSpan="1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щая облач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652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яс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796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лач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884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асмур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4480">
                <a:tc gridSpan="1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ижняя облач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616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яс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652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лач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9064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асмур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36" name="Rectangle 1"/>
          <p:cNvSpPr/>
          <p:nvPr/>
        </p:nvSpPr>
        <p:spPr>
          <a:xfrm>
            <a:off x="179280" y="-213840"/>
            <a:ext cx="8785440" cy="20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Число ясных, облачных 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пасмурных дн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2" descr="C:\Users\Алексей\Desktop\морда3.jpg"/>
          <p:cNvPicPr/>
          <p:nvPr/>
        </p:nvPicPr>
        <p:blipFill>
          <a:blip r:embed="rId1"/>
          <a:stretch/>
        </p:blipFill>
        <p:spPr>
          <a:xfrm>
            <a:off x="684360" y="333360"/>
            <a:ext cx="799128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581760" y="260280"/>
            <a:ext cx="798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Bookman Old Style"/>
                <a:ea typeface="Arial"/>
              </a:rPr>
              <a:t>ЗАПОВЕДНИК ОСТРОВ ВРАНГЕ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0" y="10515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99"/>
                </a:solidFill>
                <a:latin typeface="Bookman Old Style"/>
                <a:ea typeface="Arial"/>
              </a:rPr>
              <a:t>Статус природного заповедника остров Врангеля и соседний   с ним остров Геральд получили в 1976 год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rcRect l="4491" t="0" r="4491" b="0"/>
          <a:stretch/>
        </p:blipFill>
        <p:spPr>
          <a:xfrm>
            <a:off x="179280" y="2133720"/>
            <a:ext cx="2252880" cy="3024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7" descr=""/>
          <p:cNvPicPr/>
          <p:nvPr/>
        </p:nvPicPr>
        <p:blipFill>
          <a:blip r:embed="rId2"/>
          <a:stretch/>
        </p:blipFill>
        <p:spPr>
          <a:xfrm>
            <a:off x="5508720" y="2160720"/>
            <a:ext cx="3384360" cy="3213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"/>
          <p:cNvPicPr/>
          <p:nvPr/>
        </p:nvPicPr>
        <p:blipFill>
          <a:blip r:embed="rId3"/>
          <a:stretch/>
        </p:blipFill>
        <p:spPr>
          <a:xfrm>
            <a:off x="2124000" y="3789360"/>
            <a:ext cx="367344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79360" y="-5140440"/>
          <a:ext cx="8209080" cy="12719160"/>
        </p:xfrm>
        <a:graphic>
          <a:graphicData uri="http://schemas.openxmlformats.org/drawingml/2006/table">
            <a:tbl>
              <a:tblPr/>
              <a:tblGrid>
                <a:gridCol w="1500120"/>
                <a:gridCol w="1325520"/>
                <a:gridCol w="1324080"/>
                <a:gridCol w="1324080"/>
                <a:gridCol w="1235160"/>
                <a:gridCol w="1500120"/>
              </a:tblGrid>
              <a:tr h="193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21960" rIns="21960" tIns="11160" bIns="11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1960" rIns="21960" tIns="11160" bIns="11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960" marR="21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 rowSpan="2"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пература воздуха, 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адки, 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38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миниму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редня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ксиму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клонение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нор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1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8560"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9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1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8560"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6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4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6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7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8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7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5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8560"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9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3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1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14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1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1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+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8560"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1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9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1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8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1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6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2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18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7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8560"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1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4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12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1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8560"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1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3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1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11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3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1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1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6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5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3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9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8560"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6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1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6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7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1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8560"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1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6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13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5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1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+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1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17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15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6" name="Rectangle 1"/>
          <p:cNvSpPr/>
          <p:nvPr/>
        </p:nvSpPr>
        <p:spPr>
          <a:xfrm>
            <a:off x="8398080" y="410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1"/>
          <p:cNvSpPr/>
          <p:nvPr/>
        </p:nvSpPr>
        <p:spPr>
          <a:xfrm>
            <a:off x="2884320" y="859320"/>
            <a:ext cx="3375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Температура воздуха на Острове Врангеля. Ноябрь 2016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282828"/>
                </a:solidFill>
                <a:latin typeface="Arial"/>
                <a:ea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http://www.pogodaiklimat.ru/graf/rus/2016/21982_201611.gif"/>
          <p:cNvPicPr/>
          <p:nvPr/>
        </p:nvPicPr>
        <p:blipFill>
          <a:blip r:embed="rId1"/>
          <a:stretch/>
        </p:blipFill>
        <p:spPr>
          <a:xfrm>
            <a:off x="1835280" y="2349360"/>
            <a:ext cx="57150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Рисунок 2" descr=""/>
          <p:cNvPicPr/>
          <p:nvPr/>
        </p:nvPicPr>
        <p:blipFill>
          <a:blip r:embed="rId1"/>
          <a:stretch/>
        </p:blipFill>
        <p:spPr>
          <a:xfrm>
            <a:off x="2916360" y="1773360"/>
            <a:ext cx="4322520" cy="48243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4"/>
          <p:cNvSpPr/>
          <p:nvPr/>
        </p:nvSpPr>
        <p:spPr>
          <a:xfrm>
            <a:off x="395280" y="233280"/>
            <a:ext cx="87487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99"/>
                </a:solidFill>
                <a:latin typeface="Bookman Old Style"/>
                <a:ea typeface="Arial"/>
              </a:rPr>
              <a:t>ОСТРОВ НАЗВАН В ЧЕСТЬ РОССИЙСКОГО МОРЕПЛАВАТЕЛЯ И ГОСУДАРСТВЕННОГ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99"/>
                </a:solidFill>
                <a:latin typeface="Bookman Old Style"/>
                <a:ea typeface="Arial"/>
              </a:rPr>
              <a:t>ДЕЯТЕЛЯ XΙX ВЕК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Bookman Old Style"/>
                <a:ea typeface="Arial"/>
              </a:rPr>
              <a:t>ФЕРДИНАНДА ПЕТРОВИЧА ВРАНГ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5" descr="C:\Users\Алексей\Desktop\284_3.jpg"/>
          <p:cNvPicPr/>
          <p:nvPr/>
        </p:nvPicPr>
        <p:blipFill>
          <a:blip r:embed="rId1"/>
          <a:stretch/>
        </p:blipFill>
        <p:spPr>
          <a:xfrm>
            <a:off x="179280" y="260280"/>
            <a:ext cx="87138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2060"/>
              </a:solidFill>
              <a:latin typeface="Calibri"/>
            </a:endParaRPr>
          </a:p>
        </p:txBody>
      </p:sp>
      <p:pic>
        <p:nvPicPr>
          <p:cNvPr id="192" name="Picture 4" descr="C:\Users\Алексей\Desktop\slide_13.jpg"/>
          <p:cNvPicPr/>
          <p:nvPr/>
        </p:nvPicPr>
        <p:blipFill>
          <a:blip r:embed="rId1"/>
          <a:stretch/>
        </p:blipFill>
        <p:spPr>
          <a:xfrm>
            <a:off x="395280" y="260280"/>
            <a:ext cx="8412120" cy="63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Рисунок 2" descr=""/>
          <p:cNvPicPr/>
          <p:nvPr/>
        </p:nvPicPr>
        <p:blipFill>
          <a:blip r:embed="rId1">
            <a:lum bright="-6000"/>
          </a:blip>
          <a:srcRect l="0" t="0" r="5125" b="0"/>
          <a:stretch/>
        </p:blipFill>
        <p:spPr>
          <a:xfrm>
            <a:off x="250920" y="404640"/>
            <a:ext cx="4098960" cy="360072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3" descr=""/>
          <p:cNvPicPr/>
          <p:nvPr/>
        </p:nvPicPr>
        <p:blipFill>
          <a:blip r:embed="rId2">
            <a:lum bright="-6000"/>
          </a:blip>
          <a:srcRect l="9561" t="0" r="0" b="0"/>
          <a:stretch/>
        </p:blipFill>
        <p:spPr>
          <a:xfrm>
            <a:off x="4427640" y="1052640"/>
            <a:ext cx="4491000" cy="360036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7"/>
          <p:cNvSpPr/>
          <p:nvPr/>
        </p:nvSpPr>
        <p:spPr>
          <a:xfrm>
            <a:off x="108000" y="5157720"/>
            <a:ext cx="892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Bookman Old Style"/>
                <a:ea typeface="Arial"/>
              </a:rPr>
              <a:t>Климат арктический, чрезвычайно суровый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Bookman Old Style"/>
                <a:ea typeface="Arial"/>
              </a:rPr>
              <a:t>Зима продолжительная (с сентября по май) с сильными  северными ветрами, морозы часто достигают 30 – 40° С. Почти круглый год остров скован льд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1"/>
          <p:cNvSpPr/>
          <p:nvPr/>
        </p:nvSpPr>
        <p:spPr>
          <a:xfrm flipV="1">
            <a:off x="2771640" y="845280"/>
            <a:ext cx="833400" cy="135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Рисунок 3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7775280" cy="528156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5"/>
          <p:cNvSpPr/>
          <p:nvPr/>
        </p:nvSpPr>
        <p:spPr>
          <a:xfrm>
            <a:off x="250920" y="5805360"/>
            <a:ext cx="86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Bookman Old Style"/>
                <a:ea typeface="Arial"/>
              </a:rPr>
              <a:t>Лето прохладное, случаются  заморозки и снегопады. Самый тёплый месяц – июль (+2°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4" descr="C:\Users\Алексей\Desktop\large_17b7ebd6b4.jpg"/>
          <p:cNvPicPr/>
          <p:nvPr/>
        </p:nvPicPr>
        <p:blipFill>
          <a:blip r:embed="rId1"/>
          <a:stretch/>
        </p:blipFill>
        <p:spPr>
          <a:xfrm>
            <a:off x="333360" y="469800"/>
            <a:ext cx="8486640" cy="59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52360" y="1200240"/>
          <a:ext cx="8639280" cy="5543640"/>
        </p:xfrm>
        <a:graphic>
          <a:graphicData uri="http://schemas.openxmlformats.org/drawingml/2006/table">
            <a:tbl>
              <a:tblPr/>
              <a:tblGrid>
                <a:gridCol w="1413000"/>
                <a:gridCol w="1452600"/>
                <a:gridCol w="1280880"/>
                <a:gridCol w="1627200"/>
                <a:gridCol w="1452600"/>
                <a:gridCol w="1413000"/>
              </a:tblGrid>
              <a:tr h="67608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ся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бсолют. миниму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едний миниму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едня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едний максиму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бсолют. максиму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476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январ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9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476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евра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4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2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2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19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296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р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6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476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пр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440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476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ю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476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ю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8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440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вгу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476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ентябр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296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ктябр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9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476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оябр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4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5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476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кабр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5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9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476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5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8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203" name="Rectangle 4"/>
          <p:cNvSpPr/>
          <p:nvPr/>
        </p:nvSpPr>
        <p:spPr>
          <a:xfrm>
            <a:off x="468360" y="-223200"/>
            <a:ext cx="8207280" cy="16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ru-RU" sz="48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Температура воздух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6T17:46:57Z</dcterms:created>
  <dc:creator>DNA7 X86</dc:creator>
  <dc:description/>
  <dc:language>en-US</dc:language>
  <cp:lastModifiedBy>Алексей</cp:lastModifiedBy>
  <cp:lastPrinted>2017-01-11T08:44:18Z</cp:lastPrinted>
  <dcterms:modified xsi:type="dcterms:W3CDTF">2022-09-29T03:00:39Z</dcterms:modified>
  <cp:revision>34</cp:revision>
  <dc:subject/>
  <dc:title>Слайд 1</dc:title>
</cp:coreProperties>
</file>