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20.png" ContentType="image/png"/>
  <Override PartName="/ppt/media/image28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3F6-436A-4B27-AC68-3D7B84D7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9DA-AB3C-4FF4-B403-469A3E72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611-C1A7-441C-BDC4-CEC2278E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42B-2F39-46E6-A230-9AE4871A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8FF4-3A3F-41FD-8AA4-F8E2FFAF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DEF1-99CB-4911-97D5-8F3EBBAC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988F-C52F-433D-880C-0D406B05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2903-986E-46D1-AC1B-BD29D40D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9521-D23B-4295-A834-52B318A8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1340-F796-4421-A1DD-E8962EAD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A898-630E-4554-968B-39218883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D80-138F-4D2D-AF8F-C4612323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ED87-B22F-485F-97B8-BDE87AF0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4D23-CBA5-4AB1-A335-37DDD69B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499-D3A9-497E-B459-6D60F8D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191F-2720-4C81-A08F-9D6EB298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1DF3-265C-4DF0-996E-8DCD8D78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8FC5-88B0-4E0F-A348-A5788E6D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4A30-A3F0-4BEF-AD77-A0A1F10F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5EB4-79BF-43BD-9D19-6800FBD0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FF71-4416-4203-95BA-95DEFDAF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9E99-E2CD-47B2-A35D-B6FB883C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5BA-B54A-4195-9A86-5189D436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E23A-820B-4C57-A45F-33B6B356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8BBD-D9A2-40BF-9CB2-EBDBA161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DA98-1343-46A7-AEDB-AF8A10F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5056-7A1D-4CE6-BC3E-D0D22BAD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04F63-6564-4149-9190-0E3AC945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27E1-AA29-4027-8432-F21F166B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FD55-984E-45A3-92D5-8D2B7AC7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685D-3B0C-4B61-B508-E44EEF88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876D-E57A-4093-BF18-B04A00D7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900C-0DFF-4EEB-A114-8E753D08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F07-1446-46F9-9AD7-7CDCC097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9D4C-0CD3-4AA2-AF5A-59437A72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18669-05FB-41F0-B580-616439DF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02CD-3588-43A5-950E-9076102B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1D5AB-D20B-40E6-95DC-5F67C9A1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4832-5958-41FC-89D2-876CBF3A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072B-5DDE-4C29-A75B-7F2DD31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FC2B5-ECB0-44FD-BBDF-3DDE481C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E99F-0A9A-4FB8-8FDF-918CD348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A949-F233-4609-B467-059B6CFE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296-6CFE-4CF7-8819-664ABA5D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EDC-9A2A-48A1-8326-7F6DD429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E26-5AE8-4533-85A8-A1B2721C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2B9-A817-4E02-B2C0-78474A47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3F9-A399-47D2-BDF1-1A7B2D3C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C719-1A23-4148-A04E-CCB15160C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9611" y="179611"/>
                </a:moveTo>
                <a:lnTo>
                  <a:pt x="179611" y="6678389"/>
                </a:lnTo>
                <a:lnTo>
                  <a:pt x="8964389" y="6678389"/>
                </a:lnTo>
                <a:lnTo>
                  <a:pt x="8964389" y="179611"/>
                </a:lnTo>
                <a:lnTo>
                  <a:pt x="179611" y="179611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9611" y="179611"/>
                </a:moveTo>
                <a:lnTo>
                  <a:pt x="179611" y="6678389"/>
                </a:lnTo>
                <a:lnTo>
                  <a:pt x="8964389" y="6678389"/>
                </a:lnTo>
                <a:lnTo>
                  <a:pt x="8964389" y="179611"/>
                </a:lnTo>
                <a:lnTo>
                  <a:pt x="179611" y="179611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blestiashka-467.gif"/>
          <p:cNvPicPr/>
          <p:nvPr/>
        </p:nvPicPr>
        <p:blipFill>
          <a:blip r:embed="rId3"/>
          <a:stretch/>
        </p:blipFill>
        <p:spPr>
          <a:xfrm>
            <a:off x="7164360" y="5950080"/>
            <a:ext cx="708120" cy="707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9146060.png"/>
          <p:cNvPicPr/>
          <p:nvPr/>
        </p:nvPicPr>
        <p:blipFill>
          <a:blip r:embed="rId4"/>
          <a:stretch/>
        </p:blipFill>
        <p:spPr>
          <a:xfrm>
            <a:off x="900000" y="476280"/>
            <a:ext cx="1630440" cy="750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9146060.png"/>
          <p:cNvPicPr/>
          <p:nvPr/>
        </p:nvPicPr>
        <p:blipFill>
          <a:blip r:embed="rId5"/>
          <a:stretch/>
        </p:blipFill>
        <p:spPr>
          <a:xfrm>
            <a:off x="2916360" y="1484280"/>
            <a:ext cx="1630080" cy="750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9146060.png"/>
          <p:cNvPicPr/>
          <p:nvPr/>
        </p:nvPicPr>
        <p:blipFill>
          <a:blip r:embed="rId6"/>
          <a:stretch/>
        </p:blipFill>
        <p:spPr>
          <a:xfrm>
            <a:off x="5219640" y="1484280"/>
            <a:ext cx="1630440" cy="750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9146060.png"/>
          <p:cNvPicPr/>
          <p:nvPr/>
        </p:nvPicPr>
        <p:blipFill>
          <a:blip r:embed="rId7"/>
          <a:stretch/>
        </p:blipFill>
        <p:spPr>
          <a:xfrm>
            <a:off x="6948360" y="549360"/>
            <a:ext cx="163044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0_12dd95_dd8a87ca_L.png"/>
          <p:cNvPicPr/>
          <p:nvPr/>
        </p:nvPicPr>
        <p:blipFill>
          <a:blip r:embed="rId8"/>
          <a:stretch/>
        </p:blipFill>
        <p:spPr>
          <a:xfrm>
            <a:off x="755640" y="4724280"/>
            <a:ext cx="144000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58784833074576221343.png"/>
          <p:cNvPicPr/>
          <p:nvPr/>
        </p:nvPicPr>
        <p:blipFill>
          <a:blip r:embed="rId9"/>
          <a:stretch/>
        </p:blipFill>
        <p:spPr>
          <a:xfrm>
            <a:off x="179280" y="5661000"/>
            <a:ext cx="1013040" cy="1012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7501-8960-420B-BE77-D9911EF91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9611" y="179611"/>
                </a:moveTo>
                <a:lnTo>
                  <a:pt x="179611" y="6678389"/>
                </a:lnTo>
                <a:lnTo>
                  <a:pt x="8964389" y="6678389"/>
                </a:lnTo>
                <a:lnTo>
                  <a:pt x="8964389" y="179611"/>
                </a:lnTo>
                <a:lnTo>
                  <a:pt x="179611" y="179611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7" descr="12916792.png"/>
          <p:cNvPicPr/>
          <p:nvPr/>
        </p:nvPicPr>
        <p:blipFill>
          <a:blip r:embed="rId3"/>
          <a:stretch/>
        </p:blipFill>
        <p:spPr>
          <a:xfrm>
            <a:off x="179280" y="4724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blestiashka-467.gif"/>
          <p:cNvPicPr/>
          <p:nvPr/>
        </p:nvPicPr>
        <p:blipFill>
          <a:blip r:embed="rId4"/>
          <a:stretch/>
        </p:blipFill>
        <p:spPr>
          <a:xfrm>
            <a:off x="755640" y="5877000"/>
            <a:ext cx="785880" cy="787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F9AD-AA1C-4B61-A20A-358B68953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9611" y="179611"/>
                </a:moveTo>
                <a:lnTo>
                  <a:pt x="179611" y="6678389"/>
                </a:lnTo>
                <a:lnTo>
                  <a:pt x="8964389" y="6678389"/>
                </a:lnTo>
                <a:lnTo>
                  <a:pt x="8964389" y="179611"/>
                </a:lnTo>
                <a:lnTo>
                  <a:pt x="179611" y="179611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7" descr="12916792.png"/>
          <p:cNvPicPr/>
          <p:nvPr/>
        </p:nvPicPr>
        <p:blipFill>
          <a:blip r:embed="rId3"/>
          <a:stretch/>
        </p:blipFill>
        <p:spPr>
          <a:xfrm>
            <a:off x="179280" y="4437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58784833074576221343.png"/>
          <p:cNvPicPr/>
          <p:nvPr/>
        </p:nvPicPr>
        <p:blipFill>
          <a:blip r:embed="rId4"/>
          <a:stretch/>
        </p:blipFill>
        <p:spPr>
          <a:xfrm>
            <a:off x="539640" y="5732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9" descr="0_12dd95_dd8a87ca_L.png"/>
          <p:cNvPicPr/>
          <p:nvPr/>
        </p:nvPicPr>
        <p:blipFill>
          <a:blip r:embed="rId5"/>
          <a:stretch/>
        </p:blipFill>
        <p:spPr>
          <a:xfrm>
            <a:off x="1332000" y="5084640"/>
            <a:ext cx="1276200" cy="1524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7127-825A-40C0-AE4B-4374FB7CD5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5" descr="Картинки по запросу сова полярная фото"/>
          <p:cNvPicPr/>
          <p:nvPr/>
        </p:nvPicPr>
        <p:blipFill>
          <a:blip r:embed="rId1"/>
          <a:srcRect l="22754" t="0" r="25004" b="2561"/>
          <a:stretch/>
        </p:blipFill>
        <p:spPr>
          <a:xfrm>
            <a:off x="111240" y="1822320"/>
            <a:ext cx="1512720" cy="1643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«</a:t>
            </a: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то вы знаете об острове Врангеля? 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9280" y="33300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МУНИЦИПАЛЬНОЕ  БЮДЖЕТНОЕ ОБЩЕОБРАЗОВАТЕЛЬНОЕ УЧРЕЖДЕНИЕ «СРЕДНЯЯ ОБЩЕОБРАЗОВАТЕЛЬНАЯ ШКОЛА №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Г. ТАРКО- САЛЕ   ПУРОВ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Заголовок 8"/>
          <p:cNvSpPr/>
          <p:nvPr/>
        </p:nvSpPr>
        <p:spPr>
          <a:xfrm>
            <a:off x="755640" y="5380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50920" y="1125360"/>
          <a:ext cx="8713800" cy="5481720"/>
        </p:xfrm>
        <a:graphic>
          <a:graphicData uri="http://schemas.openxmlformats.org/drawingml/2006/table">
            <a:tbl>
              <a:tblPr/>
              <a:tblGrid>
                <a:gridCol w="1717560"/>
                <a:gridCol w="1717560"/>
                <a:gridCol w="1758960"/>
                <a:gridCol w="1760760"/>
                <a:gridCol w="1758960"/>
              </a:tblGrid>
              <a:tr h="66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чный мин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чный макс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точный макс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22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у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3"/>
          <p:cNvSpPr/>
          <p:nvPr/>
        </p:nvSpPr>
        <p:spPr>
          <a:xfrm>
            <a:off x="3389760" y="-34560"/>
            <a:ext cx="25704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Осад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Рисунок 2" descr="http://www.pogodaiklimat.ru/climate/21982_t.png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2" descr="http://www.pogodaiklimat.ru/climate/21982_p.pn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50920" y="1628640"/>
          <a:ext cx="8743680" cy="5000760"/>
        </p:xfrm>
        <a:graphic>
          <a:graphicData uri="http://schemas.openxmlformats.org/drawingml/2006/table">
            <a:tbl>
              <a:tblPr/>
              <a:tblGrid>
                <a:gridCol w="1160280"/>
                <a:gridCol w="581040"/>
                <a:gridCol w="579600"/>
                <a:gridCol w="581040"/>
                <a:gridCol w="579240"/>
                <a:gridCol w="581040"/>
                <a:gridCol w="581040"/>
                <a:gridCol w="579600"/>
                <a:gridCol w="581040"/>
                <a:gridCol w="579240"/>
                <a:gridCol w="581040"/>
                <a:gridCol w="579600"/>
                <a:gridCol w="581040"/>
                <a:gridCol w="618840"/>
              </a:tblGrid>
              <a:tr h="617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0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ж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н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у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г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0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12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лолё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94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моро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9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ипание м.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1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ожное от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650880" y="101880"/>
            <a:ext cx="818172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Число дней с различны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явлен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3440" y="2133720"/>
          <a:ext cx="8729640" cy="4414680"/>
        </p:xfrm>
        <a:graphic>
          <a:graphicData uri="http://schemas.openxmlformats.org/drawingml/2006/table">
            <a:tbl>
              <a:tblPr/>
              <a:tblGrid>
                <a:gridCol w="1158840"/>
                <a:gridCol w="579600"/>
                <a:gridCol w="579240"/>
                <a:gridCol w="579600"/>
                <a:gridCol w="579240"/>
                <a:gridCol w="57960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  <a:gridCol w="617400"/>
              </a:tblGrid>
              <a:tr h="1406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осад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верд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06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еш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99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д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15" name="Rectangle 1"/>
          <p:cNvSpPr/>
          <p:nvPr/>
        </p:nvSpPr>
        <p:spPr>
          <a:xfrm>
            <a:off x="163440" y="145080"/>
            <a:ext cx="89647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Число дней с твердыми, жидкими и смешанными осад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79280" y="1628640"/>
          <a:ext cx="8713800" cy="225288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7080"/>
                <a:gridCol w="666720"/>
                <a:gridCol w="666720"/>
                <a:gridCol w="666720"/>
                <a:gridCol w="668160"/>
                <a:gridCol w="666720"/>
                <a:gridCol w="666720"/>
                <a:gridCol w="667080"/>
                <a:gridCol w="666720"/>
                <a:gridCol w="666720"/>
                <a:gridCol w="711000"/>
              </a:tblGrid>
              <a:tr h="12826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.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6.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6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7" name="Rectangle 1"/>
          <p:cNvSpPr/>
          <p:nvPr/>
        </p:nvSpPr>
        <p:spPr>
          <a:xfrm>
            <a:off x="1116000" y="252720"/>
            <a:ext cx="705636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Ветер, м/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24000" y="1492200"/>
          <a:ext cx="8569080" cy="4168800"/>
        </p:xfrm>
        <a:graphic>
          <a:graphicData uri="http://schemas.openxmlformats.org/drawingml/2006/table">
            <a:tbl>
              <a:tblPr/>
              <a:tblGrid>
                <a:gridCol w="1137960"/>
                <a:gridCol w="568440"/>
                <a:gridCol w="568440"/>
                <a:gridCol w="568080"/>
                <a:gridCol w="569880"/>
                <a:gridCol w="568440"/>
                <a:gridCol w="568440"/>
                <a:gridCol w="568440"/>
                <a:gridCol w="569880"/>
                <a:gridCol w="568080"/>
                <a:gridCol w="568440"/>
                <a:gridCol w="569880"/>
                <a:gridCol w="568440"/>
                <a:gridCol w="606240"/>
              </a:tblGrid>
              <a:tr h="63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Ю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Ю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т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20" name="Rectangle 1"/>
          <p:cNvSpPr/>
          <p:nvPr/>
        </p:nvSpPr>
        <p:spPr>
          <a:xfrm>
            <a:off x="179280" y="-69480"/>
            <a:ext cx="878544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Повторяемость различных направлений ветра,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641600"/>
          <a:ext cx="8642160" cy="6872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720"/>
                <a:gridCol w="2160360"/>
              </a:tblGrid>
              <a:tr h="687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январ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апр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ю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октябр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223" name="Рисунок 56" descr="http://www.pogodaiklimat.ru/climate/21982_w1.png"/>
          <p:cNvPicPr/>
          <p:nvPr/>
        </p:nvPicPr>
        <p:blipFill>
          <a:blip r:embed="rId1"/>
          <a:stretch/>
        </p:blipFill>
        <p:spPr>
          <a:xfrm>
            <a:off x="271440" y="2349360"/>
            <a:ext cx="2068560" cy="2067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5" descr="http://www.pogodaiklimat.ru/climate/21982_w2.png"/>
          <p:cNvPicPr/>
          <p:nvPr/>
        </p:nvPicPr>
        <p:blipFill>
          <a:blip r:embed="rId2"/>
          <a:stretch/>
        </p:blipFill>
        <p:spPr>
          <a:xfrm>
            <a:off x="2451240" y="2349360"/>
            <a:ext cx="2066760" cy="20671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250920" y="141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8" descr="http://www.pogodaiklimat.ru/climate/21982_w3.png"/>
          <p:cNvPicPr/>
          <p:nvPr/>
        </p:nvPicPr>
        <p:blipFill>
          <a:blip r:embed="rId3"/>
          <a:stretch/>
        </p:blipFill>
        <p:spPr>
          <a:xfrm>
            <a:off x="4643280" y="2349360"/>
            <a:ext cx="2068560" cy="20671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9" descr="http://www.pogodaiklimat.ru/climate/21982_w4.png"/>
          <p:cNvPicPr/>
          <p:nvPr/>
        </p:nvPicPr>
        <p:blipFill>
          <a:blip r:embed="rId4"/>
          <a:stretch/>
        </p:blipFill>
        <p:spPr>
          <a:xfrm>
            <a:off x="6804000" y="2349360"/>
            <a:ext cx="20685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1700280"/>
          <a:ext cx="8707680" cy="223344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5280"/>
                <a:gridCol w="666720"/>
                <a:gridCol w="666720"/>
                <a:gridCol w="666720"/>
                <a:gridCol w="665280"/>
                <a:gridCol w="666720"/>
                <a:gridCol w="666720"/>
                <a:gridCol w="666720"/>
                <a:gridCol w="665280"/>
                <a:gridCol w="666720"/>
                <a:gridCol w="711360"/>
              </a:tblGrid>
              <a:tr h="1271520"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0" name="Rectangle 1"/>
          <p:cNvSpPr/>
          <p:nvPr/>
        </p:nvSpPr>
        <p:spPr>
          <a:xfrm>
            <a:off x="468360" y="94680"/>
            <a:ext cx="82072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Влажность воздуха,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79280" y="1341360"/>
          <a:ext cx="8713800" cy="3672000"/>
        </p:xfrm>
        <a:graphic>
          <a:graphicData uri="http://schemas.openxmlformats.org/drawingml/2006/table">
            <a:tbl>
              <a:tblPr/>
              <a:tblGrid>
                <a:gridCol w="1157400"/>
                <a:gridCol w="577800"/>
                <a:gridCol w="577800"/>
                <a:gridCol w="579600"/>
                <a:gridCol w="577800"/>
                <a:gridCol w="577800"/>
                <a:gridCol w="579600"/>
                <a:gridCol w="577800"/>
                <a:gridCol w="577800"/>
                <a:gridCol w="577800"/>
                <a:gridCol w="579600"/>
                <a:gridCol w="577800"/>
                <a:gridCol w="577800"/>
                <a:gridCol w="617400"/>
              </a:tblGrid>
              <a:tr h="585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8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8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сота (с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28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кс.выс. (с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2" name="Rectangle 1"/>
          <p:cNvSpPr/>
          <p:nvPr/>
        </p:nvSpPr>
        <p:spPr>
          <a:xfrm>
            <a:off x="268200" y="3960"/>
            <a:ext cx="871236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Снежный пок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바탕"/>
              <a:ea typeface="바탕"/>
            </a:endParaRPr>
          </a:p>
        </p:txBody>
      </p:sp>
      <p:sp>
        <p:nvSpPr>
          <p:cNvPr id="185" name="Заголовок 3"/>
          <p:cNvSpPr/>
          <p:nvPr/>
        </p:nvSpPr>
        <p:spPr>
          <a:xfrm>
            <a:off x="585720" y="1440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C:\Users\Алексей\Desktop\-2-638.jpg"/>
          <p:cNvPicPr/>
          <p:nvPr/>
        </p:nvPicPr>
        <p:blipFill>
          <a:blip r:embed="rId1"/>
          <a:stretch/>
        </p:blipFill>
        <p:spPr>
          <a:xfrm>
            <a:off x="1332000" y="765000"/>
            <a:ext cx="685476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08000" y="1773360"/>
          <a:ext cx="8785080" cy="4824360"/>
        </p:xfrm>
        <a:graphic>
          <a:graphicData uri="http://schemas.openxmlformats.org/drawingml/2006/table">
            <a:tbl>
              <a:tblPr/>
              <a:tblGrid>
                <a:gridCol w="936720"/>
                <a:gridCol w="718920"/>
                <a:gridCol w="649440"/>
                <a:gridCol w="647640"/>
                <a:gridCol w="576360"/>
                <a:gridCol w="647640"/>
                <a:gridCol w="647640"/>
                <a:gridCol w="576360"/>
                <a:gridCol w="504720"/>
                <a:gridCol w="574560"/>
                <a:gridCol w="649440"/>
                <a:gridCol w="576360"/>
                <a:gridCol w="574560"/>
                <a:gridCol w="504720"/>
              </a:tblGrid>
              <a:tr h="12366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081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796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ж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1"/>
          <p:cNvSpPr/>
          <p:nvPr/>
        </p:nvSpPr>
        <p:spPr>
          <a:xfrm>
            <a:off x="179280" y="-48960"/>
            <a:ext cx="87138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Облачность, бал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50920" y="1484280"/>
          <a:ext cx="8642160" cy="5113440"/>
        </p:xfrm>
        <a:graphic>
          <a:graphicData uri="http://schemas.openxmlformats.org/drawingml/2006/table">
            <a:tbl>
              <a:tblPr/>
              <a:tblGrid>
                <a:gridCol w="1147680"/>
                <a:gridCol w="573120"/>
                <a:gridCol w="573120"/>
                <a:gridCol w="574560"/>
                <a:gridCol w="573120"/>
                <a:gridCol w="573120"/>
                <a:gridCol w="574560"/>
                <a:gridCol w="573120"/>
                <a:gridCol w="573120"/>
                <a:gridCol w="574560"/>
                <a:gridCol w="573120"/>
                <a:gridCol w="573120"/>
                <a:gridCol w="574920"/>
                <a:gridCol w="610920"/>
              </a:tblGrid>
              <a:tr h="539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2680">
                <a:tc gridSpan="1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 обла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с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7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смур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480">
                <a:tc gridSpan="1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жняя обла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с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06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смур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1"/>
          <p:cNvSpPr/>
          <p:nvPr/>
        </p:nvSpPr>
        <p:spPr>
          <a:xfrm>
            <a:off x="179280" y="-213840"/>
            <a:ext cx="878544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Число ясных, облачных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пасмурных д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Алексей\Desktop\морда3.jpg"/>
          <p:cNvPicPr/>
          <p:nvPr/>
        </p:nvPicPr>
        <p:blipFill>
          <a:blip r:embed="rId1"/>
          <a:stretch/>
        </p:blipFill>
        <p:spPr>
          <a:xfrm>
            <a:off x="684360" y="333360"/>
            <a:ext cx="79912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581760" y="26028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ЗАПОВЕДНИК ОСТРОВ ВРАНГ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0" y="1051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Статус природного заповедника остров Врангеля и соседний   с ним остров Геральд получили в 1976 год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4491" t="0" r="4491" b="0"/>
          <a:stretch/>
        </p:blipFill>
        <p:spPr>
          <a:xfrm>
            <a:off x="179280" y="2133720"/>
            <a:ext cx="2252880" cy="302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2"/>
          <a:stretch/>
        </p:blipFill>
        <p:spPr>
          <a:xfrm>
            <a:off x="5508720" y="2160720"/>
            <a:ext cx="3384360" cy="321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3"/>
          <a:stretch/>
        </p:blipFill>
        <p:spPr>
          <a:xfrm>
            <a:off x="2124000" y="3789360"/>
            <a:ext cx="36734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79360" y="-5140440"/>
          <a:ext cx="8209080" cy="12719160"/>
        </p:xfrm>
        <a:graphic>
          <a:graphicData uri="http://schemas.openxmlformats.org/drawingml/2006/table">
            <a:tbl>
              <a:tblPr/>
              <a:tblGrid>
                <a:gridCol w="1500120"/>
                <a:gridCol w="1325520"/>
                <a:gridCol w="1324080"/>
                <a:gridCol w="1324080"/>
                <a:gridCol w="1235160"/>
                <a:gridCol w="1500120"/>
              </a:tblGrid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 воздуха, 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адки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8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иним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ред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ксим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лоне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+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+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Rectangle 1"/>
          <p:cNvSpPr/>
          <p:nvPr/>
        </p:nvSpPr>
        <p:spPr>
          <a:xfrm>
            <a:off x="8398080" y="410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2884320" y="859320"/>
            <a:ext cx="3375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воздуха на Острове Врангеля. Ноябрь 2016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82828"/>
                </a:solidFill>
                <a:latin typeface="Arial"/>
                <a:ea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www.pogodaiklimat.ru/graf/rus/2016/21982_201611.gif"/>
          <p:cNvPicPr/>
          <p:nvPr/>
        </p:nvPicPr>
        <p:blipFill>
          <a:blip r:embed="rId1"/>
          <a:stretch/>
        </p:blipFill>
        <p:spPr>
          <a:xfrm>
            <a:off x="1835280" y="2349360"/>
            <a:ext cx="5715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2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4322520" cy="4824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395280" y="233280"/>
            <a:ext cx="8748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ОСТРОВ НАЗВАН В ЧЕСТЬ РОССИЙСКОГО МОРЕПЛАВАТЕЛЯ И ГОСУДАРСТВЕНН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ДЕЯТЕЛЯ XΙX ВЕ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  <a:ea typeface="Arial"/>
              </a:rPr>
              <a:t>ФЕРДИНАНДА ПЕТРОВИЧА ВРАН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C:\Users\Алексей\Desktop\284_3.jpg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192" name="Picture 4" descr="C:\Users\Алексей\Desktop\slide_13.jpg"/>
          <p:cNvPicPr/>
          <p:nvPr/>
        </p:nvPicPr>
        <p:blipFill>
          <a:blip r:embed="rId1"/>
          <a:stretch/>
        </p:blipFill>
        <p:spPr>
          <a:xfrm>
            <a:off x="395280" y="260280"/>
            <a:ext cx="841212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2" descr=""/>
          <p:cNvPicPr/>
          <p:nvPr/>
        </p:nvPicPr>
        <p:blipFill>
          <a:blip r:embed="rId1">
            <a:lum bright="-6000"/>
          </a:blip>
          <a:srcRect l="0" t="0" r="5125" b="0"/>
          <a:stretch/>
        </p:blipFill>
        <p:spPr>
          <a:xfrm>
            <a:off x="250920" y="404640"/>
            <a:ext cx="4098960" cy="36007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3" descr=""/>
          <p:cNvPicPr/>
          <p:nvPr/>
        </p:nvPicPr>
        <p:blipFill>
          <a:blip r:embed="rId2">
            <a:lum bright="-6000"/>
          </a:blip>
          <a:srcRect l="9561" t="0" r="0" b="0"/>
          <a:stretch/>
        </p:blipFill>
        <p:spPr>
          <a:xfrm>
            <a:off x="4427640" y="1052640"/>
            <a:ext cx="4491000" cy="36003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"/>
          <p:cNvSpPr/>
          <p:nvPr/>
        </p:nvSpPr>
        <p:spPr>
          <a:xfrm>
            <a:off x="108000" y="5157720"/>
            <a:ext cx="89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Климат арктический, чрезвычайно суровый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Зима продолжительная (с сентября по май) с сильными  северными ветрами, морозы часто достигают 30 – 40° С. Почти круглый год остров скован ль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 flipV="1">
            <a:off x="2771640" y="845280"/>
            <a:ext cx="833400" cy="13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5281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250920" y="5805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Лето прохладное, случаются  заморозки и снегопады. Самый тёплый месяц – июль (+2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C:\Users\Алексей\Desktop\large_17b7ebd6b4.jpg"/>
          <p:cNvPicPr/>
          <p:nvPr/>
        </p:nvPicPr>
        <p:blipFill>
          <a:blip r:embed="rId1"/>
          <a:stretch/>
        </p:blipFill>
        <p:spPr>
          <a:xfrm>
            <a:off x="333360" y="469800"/>
            <a:ext cx="848664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2360" y="1200240"/>
          <a:ext cx="8639280" cy="5543640"/>
        </p:xfrm>
        <a:graphic>
          <a:graphicData uri="http://schemas.openxmlformats.org/drawingml/2006/table">
            <a:tbl>
              <a:tblPr/>
              <a:tblGrid>
                <a:gridCol w="1413000"/>
                <a:gridCol w="1452600"/>
                <a:gridCol w="1280880"/>
                <a:gridCol w="1627200"/>
                <a:gridCol w="1452600"/>
                <a:gridCol w="1413000"/>
              </a:tblGrid>
              <a:tr h="676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бсолют. мин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мин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макс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бсолют. макс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2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2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9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4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у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4"/>
          <p:cNvSpPr/>
          <p:nvPr/>
        </p:nvSpPr>
        <p:spPr>
          <a:xfrm>
            <a:off x="468360" y="-223200"/>
            <a:ext cx="820728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Температура возду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17:46:57Z</dcterms:created>
  <dc:creator>DNA7 X86</dc:creator>
  <dc:description/>
  <dc:language>en-US</dc:language>
  <cp:lastModifiedBy>Алексей</cp:lastModifiedBy>
  <cp:lastPrinted>2017-01-11T08:44:18Z</cp:lastPrinted>
  <dcterms:modified xsi:type="dcterms:W3CDTF">2022-09-29T03:00:39Z</dcterms:modified>
  <cp:revision>34</cp:revision>
  <dc:subject/>
  <dc:title>Слайд 1</dc:title>
</cp:coreProperties>
</file>