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574A-8B7D-4490-BC79-5D36A478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B4DD-48DE-46CB-8DFC-ED9525B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9B3B-AC0C-4DC5-B463-2374DE21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AADA-B723-4B1A-8983-64B5FA4C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FEB-1C04-4362-8893-38B1296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467E-7394-40D0-8284-4CA55ED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9025-8BEB-445F-994A-89BFAD39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064C-AD43-40A6-90A7-3DA730B4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015-2A16-46FB-A0D6-E060E1A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EB65-1D16-4E21-8D13-B2BCFAC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E07-78B9-4820-8B06-BAD0672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D014-6349-45A2-A19F-D4D7F7ED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E93-0683-4DE8-81DF-E8B22E86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23E-2F40-477F-A4FB-FF32604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789-84F9-42B3-BC30-4E8CBC9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647E-C769-403B-A304-1494BFD1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7A6-73A9-4BFB-9BEA-C4FA7306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B4B0-088A-45BB-9C3E-89A99412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7385-538C-42DA-8C33-5ABBC933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5786-16DF-432C-90A3-84C375A6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2762-93CE-4467-9DE2-94DD5D5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C451-1F06-436D-B2C9-E98686B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E577-3826-45AA-95AE-961EDFF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59AF-53D0-4102-A3E5-AAD73DD3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299E-7FEA-40B3-AB4E-742721ABA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825-5A46-45C3-A60E-8A18658D37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3;&#1083;&#1072;&#1073;&#1080;&#1095;&#1077;&#1089;&#1082;&#1080;&#1081;_&#1089;&#1090;&#1080;&#1093;" TargetMode="External"/><Relationship Id="rId2" Type="http://schemas.openxmlformats.org/officeDocument/2006/relationships/hyperlink" Target="http://ru.wikipedia.org/wiki/&#1057;&#1080;&#1083;&#1083;&#1072;&#1073;&#1086;-&#1090;&#1086;&#1085;&#1080;&#1095;&#1077;&#1089;&#1082;&#1086;&#1077;_&#1089;&#1090;&#1080;&#1093;&#1086;&#1089;&#1083;&#1086;&#1078;&#1077;&#1085;&#1080;&#1077;" TargetMode="External"/><Relationship Id="rId3" Type="http://schemas.openxmlformats.org/officeDocument/2006/relationships/hyperlink" Target="http://ru.wikipedia.org/wiki/1743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spu.net/fileadmin/library/books/2/web/other/jazykovedy/bus.htm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yrillic_alphabet_world_distribution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5e5ff"/>
                </a:solidFill>
                <a:latin typeface="Garamond"/>
              </a:rPr>
              <a:t>Экологический кризис русского языка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Язык и книга ед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живёт по всей Росс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81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еличие Ро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8480" y="2590920"/>
            <a:ext cx="2817720" cy="2966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5120" y="2670120"/>
            <a:ext cx="312588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ихаил Васильевич Ломоно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ольшое значение имело произведенное Ломоносовым стилистическое нормирование русского языка. Идеи о стилях русского языка Ломоносов впервые высказал в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Кратком руководстве к красноречию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1748); позднее писал об этом в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Российской грамматике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и более детально в сочинении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О пользе книг церковных в российском языке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1758). Здесь Ломоносов создает получившую широкую известность концепцию «трех штилей» русского языка, призванную обосновать возможность и необходимость и при этом кодифицировать использование русского языка во всех функциональных стилях языкового общ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руд М.В.Ломонос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1674720"/>
            <a:ext cx="365904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тфрид Вильгельм Лейбни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языкознании он создал теорию исторического происхождения языков, дал их генеалогическую классификацию, развил учение о происхождении названий. Лейбниц явился одним из создателей немецкого философского и научного лексико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1720" y="1674720"/>
            <a:ext cx="3888000" cy="43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ладимир Иванович Да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звестный лексикограф. Родился 10 ноября 1801 г. в Екатеринославской губернии, в Луганском заводе (отсюда псевдоним Даля: Казак Луганский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тиох Дмитриевич Кантеми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своих произведениях Кантемир использовал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силлабический стих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, который после работы Ломоносова «Письмо о правилах российского стихотворства» (1739) постепенно уступил место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иллабо-тоническому стихосложению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. Кантемир активно участвовал в дискуссиях о методах стихосложения, написав в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1743 году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 «Письмо Харитона Макентина к приятелю о сложении стихов русских», в котором он защищал силлабическое стихосложен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липп Фёдорович Фортуна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ыдающийся русский языковед, академик Петербургской академии наук (с 1902 г.), профессор Московского университета, ученик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Ф. И. Буслаева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Фортунатов много занимался также теорией правописания. Он внес большой вклад в подготовку реформы русской орфографии, которая была осуществлена уже после его смерти. Идеи Фортунатова продолжили развивать его ученики - М. Н. Петерсон, А. М. Пешковский, Д. Н. Ушаков и др. (первое поколение Московской лингвистической школы) и ученики его учеников - Р. И. Аванесов, А. А. Реформатский, П. С. Кузнецов, Г. О. Винокур и др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ергей Иванович Оже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дактор «Орфографического словаря русского языка» (1956, 5 изд., 1963), словарей-справочников «Русское литературное произношение и ударение» (1955), «Правильность русской речи» (1962). Основатель и главный редактор сборников «Вопросы культуры речи» (1955—65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ександр Александрович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фоматорск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сийский языковед, доктор филологических наук , профессор. Работы в области теории языка, фонологии и фонетики, орфографии, топонимики, терминоведения, поэтики. Автор популярного, выдержавшего пять изданий учебника для филологических факультетов «Введение в языковедение» , а также ряда научных трудов, собранных в книгах «Из истории отечественной фонологии» , «Фонологические этюды» ,  «Лингвистика и поэтика»  и др. Один из основателей  Московской фонологической школ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7407" t="0" r="5556" b="0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Русь, куда же несёшься ты? Дай ответ! Не даёт ответа…»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Н.В.Гог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ев Владимирович Щерб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усский советский языковед, академик, внёсший большой вклад в развитие психолингвистики, лексикографии и фонологии. Один из создателей теории фон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хаил Николаевич Петерс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"Нельзя быть равнодушным при выборе профессии или руководствоваться расчетом. Надо выбрать для себя дело, которое бы вы действительно любили. Тогда, работая, вы будете считать часы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ександр Афанасьевич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тебн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лияние его как человека и профессора было глубоко и благотворно. В его лекциях заключался богатый запас сведений, тщательно продуманных и критически проверенных, слышалось живо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оциалема (коллектив активных носителей) русского литературного язык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1876 по 1880 г. Бодуэн де Куртенэ состоял также преподавателем русского языка и славянских наречий в Казанской духовной академ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дающиеся просвет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эты Ро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иколай Васильевич Гог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Русский национальный поэт во всём пространстве этого слова».В.Г.Белин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Язык Пушкина и Достоевск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рина Родионов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колько ею рассказано сказок, спето колыбельных песен – это всё есть великий русский язы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086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временная азбу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кология природы-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экология языка –экология души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экологическое воспитание и образование средствами родн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орис Пастерна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анял в русской поэзии место значительного и оригинального лирика, замечательного певца русской природы. Его ритмы, образы и метафоры влияли на творчество многих советских поэт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ингиз Айтматов «Плах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94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едственное положение экологической среды давно является одной их актуальнейших тем современных писателей. Ч. Айтматов в своем знаменитом романе “Плаха” тоже обращается к этой проблеме. Этот роман — призыв одуматься,  осознать свою ответственность за все, что беспечно разрушено человеком в природе. Примечательно, что проблемы экологии писатель рассматривает в романе неразрывно с проблемами разрушения человеческой лич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ы обязаны знать русский язы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казки, прочитанные на ноч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55160" cy="50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авай поговорим на русском язы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тоги анкетирования учащихся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-4 класс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Часто ли вы ссоритесь с друзья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Когда ссоритесь, говорите грубые сло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А какие эти слов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рубые - обзывал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матер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какие то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Ругаются ли ваши родители нехорошими слова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Приятно ли когда вас обзывают друг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Стоит других обиж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1             - 5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5-7 классы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частовало-50 челове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Что такое экология русского язы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знают-29 чел.,   хорошее общение -1., чистота языка- 4 ., мат –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Засорён ли наш русский язык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 47 чел., нет – 3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Чем он засорён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) грубыми словами- обзывалками-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) матерными словами- 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) какими - то другими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А вы часто употребляете эти сло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49              нет-2         иногда-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.Хотите вы избавиться от этих слов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35    нет-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.Что для этого нужно сдел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употреблять-44      не знаю-1         молчать-2     забыть о них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8-11 классы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участвовало 44 челове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 такое молодёжный сленг?  Не понимают значение слова сленг-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знаю-24   ненормативная лексика-  7       подростковая речь-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Как вы общаетесь между собой?   Не смогли ответить-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ычными словами- 30    как все-  7      матерными словами-2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Часто употребляете в своей речи слова молодежного сленг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 - 28                 нет- 5                 по-разному-9              редко-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Почему их употребляете?    Не употребляю-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 говорят все- 33    не знаю-3                 это круто- 3       без них нельзя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. На каком языке общаетесь дома с родителя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) молодежном сленге-1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) жаргонами-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) русским литературным языком -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.Пенза центр эколог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русского язы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ш язык заполнен иностранными слов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100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кадемик Д.С.Лихач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ширил понятие экологии, дал понятие проблемы экологии духовной культу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Бесспорно, существует и проблемы экологии язы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т такие сейчас уче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09840" y="1600200"/>
            <a:ext cx="43243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 вам обращается наш родит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бята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а может быть лучше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будем говорить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на человеческом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языке?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1752480"/>
          <a:ext cx="8381520" cy="4647960"/>
        </p:xfrm>
        <a:graphic>
          <a:graphicData uri="http://schemas.openxmlformats.org/drawingml/2006/table">
            <a:tbl>
              <a:tblPr/>
              <a:tblGrid>
                <a:gridCol w="2338920"/>
                <a:gridCol w="6042600"/>
              </a:tblGrid>
              <a:tr h="31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ммуникат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средство связи между людь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формат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средство сообщения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ультурно-историческ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хранитель исторической памяти нар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тническ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для этноса (народа) – объединяющий фактор, знак национально-культурной идентич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кспресс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служит для передачи чувств и эмо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флекс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чь для человека – это и средство разговора с самим собой, инструмент рефлек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 Функции языка и речи»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русском языке и ненормативной лексике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6160" y="1755720"/>
            <a:ext cx="4040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Cколько слов было о защите культуры – водопад! Инфляция слова, забалтывание высоких понятий – это же не менее пагубно для души и русского языка, чем партийная цензура. И результат тот же – немота. Тогда сказать было нельзя, а сейчас – нечего. Мне кажется даже, что люди в автобусе не общаются, а мычат друг на друг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ы страна без обращения к другому. Вот что я слышал от одного эмигранта, приезжавшего в Россию: «Вы знаете, что у вас заменило обращение к другому человеку? Слово «ну». Всегда к нам обращается экскурсовод и говорит: «Ну, пойдем...», «Ну, сейчас будем обедать...» Постоянное «ну», привычка обращаться с понуканием вошла в язык. Помню, как в 37-м году, когда начались массовые аресты в Петербурге, вдруг я услышал, что на почте мне говорят «гражданин», милиционер говорит «гражданин», кондуктор в трамвае говорит «граждане», а говорили всегда «товарищ». А случилось то, что каждый человек был подозреваем. Как же сказать «товарищ» – а может быть, он шпион в пользу какой-нибудь Исландии?      </a:t>
            </a:r>
            <a:r>
              <a:rPr b="0" lang="ru-RU" sz="1400" spc="-1" strike="noStrike">
                <a:solidFill>
                  <a:srgbClr val="ffff66"/>
                </a:solidFill>
                <a:latin typeface="Garamond"/>
              </a:rPr>
              <a:t>Дмитрий Лихаче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оминания Д.С.Лихачё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рань вторгается в литератур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а стала появляться в журналах, газетах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телевиден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щё 100 лет тому назад в   словаре русского языке было 287 слов начинающихся со с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Благо», сейчас они почти исчезли из нашей реч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митрий Сергеевич Лихач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сторик древнерусской литературы, академик, первый кавалер восстановленного ордена Андрея Первозванного.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Родился в семье инженера. В 1923 окончил трудовую школу и поступил в Петроградский университет на отделение языкознания и литературы факультета общественных наук. В 1928 окончил университет, защитив два диплома - по романо-германской и славяно-русской филологии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108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28 за участие в научном студенческом кружке Лихачев был арестован и сидел в Соловецком лаге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31 - 1932 находился на строительстве Беломорско-Балтийского канала и был освобожден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"ударник Белбалтлага с правом проживания по всей территории СССР"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6974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В 1934 - 1938 Лихачев работал в Ленинградском отделении издательства АН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Обратил на себя внимание при редактировании книги А.А. Шахматова "Обозрение русских летописных сводов" и был приглашен на работу в отдел древнерусской литературы Пушкинского Дома, где прошел путь от младшего научного сотрудника до действительного члена Академии наук (197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777240"/>
            <a:ext cx="76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41 Лихачев защитил кандидатскую диссертацию "Новгородские летописные своды XII ве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осажденном фашистами Ленинграде Лихачев в соавторстве с археологом М.А. Тиановой написал брошюру "Оборона древнерусских городов", которая появилась в блокадном 1942. В 1947 Лихачев защитил докторскую диссертацию "Очерки по истории литературных форм летописания XI - XVI вв."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22840"/>
            <a:ext cx="7467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Лихачев получил мировую известность как литературовед, историк культуры, текстолог, популяризатор науки, публиц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Его фундаментальное исследование "Слово о полку Игореве", многочисленные статьи и комментарии составили целый раздел отечественной медиевистики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Много удалось сделать Лихачеву, как преподавателю и организатору науки; он являлся членом многих иностранных академий, дважды удостаивался Государственной премии (1952, 1969), в 1986 стал Героем Социалистического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выразителен, свободен и гармоничен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к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Эко» - среда обит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лого» -слово, понятие, мысль, определение, речь, уч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– один из славянских язы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аких результатов ожидали Мы от Года русского языка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интересных, ярких теле- и радиопередач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перемен в политике СМИ: пусть никакие коммерческие интересы не заставят пропустить к читателю или зрителю ту или иную ошиб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пусть будет много познавательных конкурсов, олимпиад, викторин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было бы полезно, если бы в школы выезжали на встречи с учащимися специалисты по разным вопросам русского язы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неплохо было бы, если бы в городе повесили несколько рекламных щитов, пропагандирующих соблюдение норм русского язы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ограничить доступ на телевидение лиц, плохо владеющих нормами словоупотребления, ввести контроль за использованием слов-паразитов в речи ди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Борцы за красоту языка и тум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1 % россиян используют  в повседневной жизни ненормативную лексику. И эти люди не исключ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05920" cy="4495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: красота и пошлость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991800"/>
            <a:ext cx="80773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Русский язык еще совсем недавно считался одним из самых красивых языков ми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Если не самым красивым. Многие отечественные и зарубежные писатели восхищались нашим языком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В учебных пособиях для школ и ВУЗов в предисловиях всегда описывается богатство, красота, культура русского язы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еужели новое поколение выбирает ненормативную лекси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едки, не парьте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чем прико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Шнурки в стак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ормо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 го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ик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веча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езжа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11041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Русский язык – один из ведущих мировых языков, один из шести рабочих языков ОО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государственный язык для 145 миллионов россия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жизни для 15 миллионов приехавших в Россию гастарбайтер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связи с родиной для 30 миллионов наших соотечественников за рубежо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Русский – язык Пушкина, Толстого, Бродского и Пастернака, язык национальной гордости и достоинств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Он является родным для 170 миллионов и 350 миллионов его понимаю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межнационального общения, для Чувашии - это второй язы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овладения знания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Один из самых развитых и богатых языков ми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для Вас значит русский язык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Юридическая информация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оссийском государстве использование мата (ненормативной лексики) ограничено. У нас существует административная ответственность за нецензурную брань, ст. 158 “мелкое хулиганство”: нецензурная брань в общественном месте, оскорбительные приставания к гражданам и иные действия, нарушающие общественный порядок, подвергаются административной ответственности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штраф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задержание до суток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суд или определяется начальником райотдел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Хулиганство от мелкого хулиганства отличается продолжительностью и тяжестью последств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Привести к ответственности обидчика можно, если есть обидчик, потерпевший и два свидетеля. Но это по закону, а в действитель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-96480"/>
            <a:ext cx="82296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Я не верю, что все уже потеряно. Я не верю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что Россия, такая великая держава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утратила свои традиции, свои богатства, свой язык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ужно только вместе, объединившись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хотя бы постепенно восстанавливать все, что потерял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ужно быть добрее, внимательнее друг к другу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проявлять понимание и поддержку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говорить на общем язык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Только так мы сможем вернуть себе свои традиции, обычаи, которыми мы говорим испокон веков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Только так мы сможем сохранить самое главное, самое дорогое богатство, которое у нас было, есть, и, несмотря ни на что, обязательно будет — наш язык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аш родной, самый богатый, самый красивый, самый культурный в мире язык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125136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Берегите наш язык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Наш прекрасный русский язык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Этот клад -достояние переда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нам нашими предшественник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И.С.Тургене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рилл и Мефод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еликие просветители, создатели первой славянской азбуки. Их заслуги в истории культуры огромны. Именно создание славянской азбуки положило начало широкому развитию славянской письм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спространение в мир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схеме показана распространённость кириллицы в мире. Зелёный — кириллица как официальный алфавит, Светло-зеленый — один из алфави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25T17:25:4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