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1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13.png" ContentType="image/png"/>
  <Override PartName="/ppt/media/image44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2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A6FB-BC55-4D70-9101-FB456F17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C150A-3348-48F8-8852-1CDC7131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EFDD-70B8-4D01-88D3-A3B34B6E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B871-C067-4309-91AF-6D44D809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3915-A102-4908-A5BA-4E9D73E8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D195-E7A0-4BAA-BB25-B530084D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F82-B5AB-40ED-8730-B763E49C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08CD-ACB6-4AF9-994C-A53A36F8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9600-8F19-4AC6-8900-5B3AE6BF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381B-0191-4300-A93C-C4B1E0DB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AB74-3848-48A9-8E9F-86E0CA89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C799B-3D34-4337-AB71-12D0AB7E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00CE-818E-476B-BE91-A47268E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CAF-07E8-4884-8DDE-2A07A65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52A6-25A6-40EE-8555-13E3F9A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EDDB-B882-44EB-A6B7-10AAF480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7ABE-E5CE-4391-96F3-E0FC1FD0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A5C0F-AABA-46CD-8618-763499A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5186-5A98-452B-A299-277DE046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AF37-F224-489F-9735-E1EA0DF5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9581-B57E-4B1B-8904-1238EBE2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CA31-20A5-4EED-8555-AE514F3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88D4-7EE4-4476-AEBA-4CB50A5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EFDC-2F29-48D4-9521-20BA8E0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C8F6-8E42-43DF-BB44-8F863E7342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3643-ACA2-4ECD-AE7F-78A1ACF68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0;&#1083;&#1083;&#1072;&#1073;&#1080;&#1095;&#1077;&#1089;&#1082;&#1080;&#1081;_&#1089;&#1090;&#1080;&#1093;" TargetMode="External"/><Relationship Id="rId2" Type="http://schemas.openxmlformats.org/officeDocument/2006/relationships/hyperlink" Target="http://ru.wikipedia.org/wiki/&#1057;&#1080;&#1083;&#1083;&#1072;&#1073;&#1086;-&#1090;&#1086;&#1085;&#1080;&#1095;&#1077;&#1089;&#1082;&#1086;&#1077;_&#1089;&#1090;&#1080;&#1093;&#1086;&#1089;&#1083;&#1086;&#1078;&#1077;&#1085;&#1080;&#1077;" TargetMode="External"/><Relationship Id="rId3" Type="http://schemas.openxmlformats.org/officeDocument/2006/relationships/hyperlink" Target="http://ru.wikipedia.org/wiki/1743_&#1075;&#1086;&#1076;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spu.net/fileadmin/library/books/2/web/other/jazykovedy/bus.htm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yrillic_alphabet_world_distribution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e5e5ff"/>
                </a:solidFill>
                <a:latin typeface="Garamond"/>
              </a:rPr>
              <a:t>Экологический кризис русского языка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Язык и книга ед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живёт по всей Росс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8188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еличие Ро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8480" y="2590920"/>
            <a:ext cx="2817720" cy="2966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75120" y="2670120"/>
            <a:ext cx="312588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ихаил Васильевич Ломоно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Большое значение имело произведенное Ломоносовым стилистическое нормирование русского языка. Идеи о стилях русского языка Ломоносов впервые высказал в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Кратком руководстве к красноречию..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1748); позднее писал об этом в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Российской грамматике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и более детально в сочинении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О пользе книг церковных в российском языке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1758). Здесь Ломоносов создает получившую широкую известность концепцию «трех штилей» русского языка, призванную обосновать возможность и необходимость и при этом кодифицировать использование русского языка во всех функциональных стилях языкового общ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114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руд М.В.Ломонос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19520" y="1674720"/>
            <a:ext cx="365904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Готфрид Вильгельм Лейбни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языкознании он создал теорию исторического происхождения языков, дал их генеалогическую классификацию, развил учение о происхождении названий. Лейбниц явился одним из создателей немецкого философского и научного лексико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1720" y="1674720"/>
            <a:ext cx="3888000" cy="43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ладимир Иванович Да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звестный лексикограф. Родился 10 ноября 1801 г. в Екатеринославской губернии, в Луганском заводе (отсюда псевдоним Даля: Казак Луганский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тиох Дмитриевич Кантеми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 своих произведениях Кантемир использовал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силлабический стих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, который после работы Ломоносова «Письмо о правилах российского стихотворства» (1739) постепенно уступил место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иллабо-тоническому стихосложению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. Кантемир активно участвовал в дискуссиях о методах стихосложения, написав в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1743 году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 «Письмо Харитона Макентина к приятелю о сложении стихов русских», в котором он защищал силлабическое стихосложен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Филипп Фёдорович Фортунат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ыдающийся русский языковед, академик Петербургской академии наук (с 1902 г.), профессор Московского университета, ученик </a:t>
            </a:r>
            <a:r>
              <a:rPr b="0" lang="ru-RU" sz="1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Ф. И. Буслаева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Фортунатов много занимался также теорией правописания. Он внес большой вклад в подготовку реформы русской орфографии, которая была осуществлена уже после его смерти. Идеи Фортунатова продолжили развивать его ученики - М. Н. Петерсон, А. М. Пешковский, Д. Н. Ушаков и др. (первое поколение Московской лингвистической школы) и ученики его учеников - Р. И. Аванесов, А. А. Реформатский, П. С. Кузнецов, Г. О. Винокур и др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ергей Иванович Оже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6765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дактор «Орфографического словаря русского языка» (1956, 5 изд., 1963), словарей-справочников «Русское литературное произношение и ударение» (1955), «Правильность русской речи» (1962). Основатель и главный редактор сборников «Вопросы культуры речи» (1955—65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ександр Александрович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фоматорск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сийский языковед, доктор филологических наук , профессор. Работы в области теории языка, фонологии и фонетики, орфографии, топонимики, терминоведения, поэтики. Автор популярного, выдержавшего пять изданий учебника для филологических факультетов «Введение в языковедение» , а также ряда научных трудов, собранных в книгах «Из истории отечественной фонологии» , «Фонологические этюды» ,  «Лингвистика и поэтика»  и др. Один из основателей  Московской фонологической школ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7407" t="0" r="5556" b="0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Русь, куда же несёшься ты? Дай ответ! Не даёт ответа…»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                              Н.В.Гог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ев Владимирович Щерб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усский советский языковед, академик, внёсший большой вклад в развитие психолингвистики, лексикографии и фонологии. Один из создателей теории фоне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хаил Николаевич Петерс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"Нельзя быть равнодушным при выборе профессии или руководствоваться расчетом. Надо выбрать для себя дело, которое бы вы действительно любили. Тогда, работая, вы будете считать часы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лександр Афанасьевич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тебн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лияние его как человека и профессора было глубоко и благотворно. В его лекциях заключался богатый запас сведений, тщательно продуманных и критически проверенных, слышалось живо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Социалема (коллектив активных носителей) русского литературного языка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1876 по 1880 г. Бодуэн де Куртенэ состоял также преподавателем русского языка и славянских наречий в Казанской духовной академ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дающиеся просвет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эты Росс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Николай Васильевич Гог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«Русский национальный поэт во всём пространстве этого слова».В.Г.Белин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Язык Пушкина и Достоевск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рина Родионов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колько ею рассказано сказок, спето колыбельных песен – это всё есть великий русский язы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086"/>
          <a:stretch/>
        </p:blipFill>
        <p:spPr>
          <a:xfrm>
            <a:off x="48006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овременная азбу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29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Экология природы-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экология языка –экология души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экологическое воспитание и образование средствами родн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Борис Пастерна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анял в русской поэзии место значительного и оригинального лирика, замечательного певца русской природы. Его ритмы, образы и метафоры влияли на творчество многих советских поэтов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ингиз Айтматов «Плаха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394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едственное положение экологической среды давно является одной их актуальнейших тем современных писателей. Ч. Айтматов в своем знаменитом романе “Плаха” тоже обращается к этой проблеме. Этот роман — призыв одуматься,  осознать свою ответственность за все, что беспечно разрушено человеком в природе. Примечательно, что проблемы экологии писатель рассматривает в романе неразрывно с проблемами разрушения человеческой личност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Мы обязаны знать русский язы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казки, прочитанные на ноч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255160" cy="50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авай поговорим на русском язык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тоги анкетирования учащихся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1-4 класс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Часто ли вы ссоритесь с друзья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Когда ссоритесь, говорите грубые сло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А какие эти слова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) грубые - обзывал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) матерны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) какие то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Ругаются ли ваши родители нехорошими слова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5.Приятно ли когда вас обзывают друг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                 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6.Стоит других обиж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+1             - 5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5-7 классы 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частовало-50 челове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. Что такое экология русского язык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знают-29 чел.,   хорошее общение -1., чистота языка- 4 ., мат – 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Засорён ли наш русский язык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 47 чел., нет – 3 че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Чем он засорён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) грубыми словами- обзывалками-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) матерными словами- 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) какими - то другими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А вы часто употребляете эти сло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49              нет-2         иногда- 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.Хотите вы избавиться от этих слов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-35    нет-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6.Что для этого нужно сдел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употреблять-44      не знаю-1         молчать-2     забыть о них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8-11 классы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участвовало 44 человек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то такое молодёжный сленг?  Не понимают значение слова сленг-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Не знаю-24   ненормативная лексика-  7       подростковая речь-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. Как вы общаетесь между собой?   Не смогли ответить- 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Обычными словами- 30    как все-  7      матерными словами-2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3. Часто употребляете в своей речи слова молодежного сленг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Да  - 28                 нет- 5                 по-разному-9              редко-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4. Почему их употребляете?    Не употребляю-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Так говорят все- 33    не знаю-3                 это круто- 3       без них нельзя-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. На каком языке общаетесь дома с родителя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А) молодежном сленге-1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Б) жаргонами-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) русским литературным языком -3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г.Пенза центр экологии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русского язы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аш язык заполнен иностранными слова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100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кадемик Д.С.Лихач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ширил понятие экологии, дал понятие проблемы экологии духовной культу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Бесспорно, существует и проблемы экологии язы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т такие сейчас уче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09840" y="1600200"/>
            <a:ext cx="43243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 вам обращается наш родител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Ребята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а может быть лучше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будем говорить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на человеческом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  языке?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1752480"/>
          <a:ext cx="8381520" cy="4647960"/>
        </p:xfrm>
        <a:graphic>
          <a:graphicData uri="http://schemas.openxmlformats.org/drawingml/2006/table">
            <a:tbl>
              <a:tblPr/>
              <a:tblGrid>
                <a:gridCol w="2338920"/>
                <a:gridCol w="6042600"/>
              </a:tblGrid>
              <a:tr h="31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ммуникат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средство связи между людь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формат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средство сообщения информ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ультурно-историческ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– хранитель исторической памяти нар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тническ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для этноса (народа) – объединяющий фактор, знак национально-культурной идентич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кспресс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Язык служит для передачи чувств и эмо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флексивная 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ечь для человека – это и средство разговора с самим собой, инструмент рефлек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« Функции языка и речи»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 русском языке и ненормативной лексике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46160" y="1755720"/>
            <a:ext cx="40402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Cколько слов было о защите культуры – водопад! Инфляция слова, забалтывание высоких понятий – это же не менее пагубно для души и русского языка, чем партийная цензура. И результат тот же – немота. Тогда сказать было нельзя, а сейчас – нечего. Мне кажется даже, что люди в автобусе не общаются, а мычат друг на друга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Мы страна без обращения к другому. Вот что я слышал от одного эмигранта, приезжавшего в Россию: «Вы знаете, что у вас заменило обращение к другому человеку? Слово «ну». Всегда к нам обращается экскурсовод и говорит: «Ну, пойдем...», «Ну, сейчас будем обедать...» Постоянное «ну», привычка обращаться с понуканием вошла в язык. Помню, как в 37-м году, когда начались массовые аресты в Петербурге, вдруг я услышал, что на почте мне говорят «гражданин», милиционер говорит «гражданин», кондуктор в трамвае говорит «граждане», а говорили всегда «товарищ». А случилось то, что каждый человек был подозреваем. Как же сказать «товарищ» – а может быть, он шпион в пользу какой-нибудь Исландии?      </a:t>
            </a:r>
            <a:r>
              <a:rPr b="0" lang="ru-RU" sz="1400" spc="-1" strike="noStrike">
                <a:solidFill>
                  <a:srgbClr val="ffff66"/>
                </a:solidFill>
                <a:latin typeface="Garamond"/>
              </a:rPr>
              <a:t>Дмитрий Лихачев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3434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оминания Д.С.Лихачё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рань вторгается в литератур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на стала появляться в журналах, газетах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 телевиден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Ещё 100 лет тому назад в   словаре русского языке было 287 слов начинающихся со сл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Благо», сейчас они почти исчезли из нашей реч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8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3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митрий Сергеевич Лихаче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и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сторик древнерусской литературы, академик, первый кавалер восстановленного ордена Андрея Первозванного.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 Родился в семье инженера. В 1923 окончил трудовую школу и поступил в Петроградский университет на отделение языкознания и литературы факультета общественных наук. В 1928 окончил университет, защитив два диплома - по романо-германской и славяно-русской филологии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108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28 за участие в научном студенческом кружке Лихачев был арестован и сидел в Соловецком лаге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31 - 1932 находился на строительстве Беломорско-Балтийского канала и был освобожден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"ударник Белбалтлага с правом проживания по всей территории СССР"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26974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В 1934 - 1938 Лихачев работал в Ленинградском отделении издательства АН ССС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Обратил на себя внимание при редактировании книги А.А. Шахматова "Обозрение русских летописных сводов" и был приглашен на работу в отдел древнерусской литературы Пушкинского Дома, где прошел путь от младшего научного сотрудника до действительного члена Академии наук (197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777240"/>
            <a:ext cx="76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1941 Лихачев защитил кандидатскую диссертацию "Новгородские летописные своды XII века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 осажденном фашистами Ленинграде Лихачев в соавторстве с археологом М.А. Тиановой написал брошюру "Оборона древнерусских городов", которая появилась в блокадном 1942. В 1947 Лихачев защитил докторскую диссертацию "Очерки по истории литературных форм летописания XI - XVI вв."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2922840"/>
            <a:ext cx="7467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Лихачев получил мировую известность как литературовед, историк культуры, текстолог, популяризатор науки, публиц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Его фундаментальное исследование "Слово о полку Игореве", многочисленные статьи и комментарии составили целый раздел отечественной медиевистики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Много удалось сделать Лихачеву, как преподавателю и организатору науки; он являлся членом многих иностранных академий, дважды удостаивался Государственной премии (1952, 1969), в 1986 стал Героем Социалистического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выразителен, свободен и гармоничен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эк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Эко» - среда обит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лого» -слово, понятие, мысль, определение, речь, учени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 – один из славянских язык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Каких результатов ожидали Мы от Года русского языка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интересных, ярких теле- и радиопередач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перемен в политике СМИ: пусть никакие коммерческие интересы не заставят пропустить к читателю или зрителю ту или иную ошибку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пусть будет много познавательных конкурсов, олимпиад, викторин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было бы полезно, если бы в школы выезжали на встречи с учащимися специалисты по разным вопросам русского язы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неплохо было бы, если бы в городе повесили несколько рекламных щитов, пропагандирующих соблюдение норм русского языка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 ограничить доступ на телевидение лиц, плохо владеющих нормами словоупотребления, ввести контроль за использованием слов-паразитов в речи ди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Борцы за красоту языка и тума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1 % россиян используют  в повседневной жизни ненормативную лексику. И эти люди не исключ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05920" cy="44956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ий язык: красота и пошлость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0880" y="991800"/>
            <a:ext cx="80773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Русский язык еще совсем недавно считался одним из самых красивых языков мир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Если не самым красивым. Многие отечественные и зарубежные писатели восхищались нашим языком. 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В учебных пособиях для школ и ВУЗов в предисловиях всегда описывается богатство, красота, культура русского язык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еужели новое поколение выбирает ненормативную лексику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едки, не парьтесь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чем прико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Шнурки в стак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Тормо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е го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ик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твеча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Наезжа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1104120"/>
            <a:ext cx="7315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Русский язык – один из ведущих мировых языков, один из шести рабочих языков ОО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государственный язык для 145 миллионов россия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жизни для 15 миллионов приехавших в Россию гастарбайтер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связи с родиной для 30 миллионов наших соотечественников за рубежом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Русский – язык Пушкина, Толстого, Бродского и Пастернака, язык национальной гордости и достоинств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Он является родным для 170 миллионов и 350 миллионов его понимают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межнационального общения, для Чувашии - это второй язык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Это язык овладения знаниям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 Один из самых развитых и богатых языков ми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Что для Вас значит русский язык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Юридическая информация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оссийском государстве использование мата (ненормативной лексики) ограничено. У нас существует административная ответственность за нецензурную брань, ст. 158 “мелкое хулиганство”: нецензурная брань в общественном месте, оскорбительные приставания к гражданам и иные действия, нарушающие общественный порядок, подвергаются административной ответственности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штраф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задержание до суток;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- суд или определяется начальником райотдел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Хулиганство от мелкого хулиганства отличается продолжительностью и тяжестью последстви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      Привести к ответственности обидчика можно, если есть обидчик, потерпевший и два свидетеля. Но это по закону, а в действительн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33520" y="-96480"/>
            <a:ext cx="8229600" cy="73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Я не верю, что все уже потеряно. Я не верю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что Россия, такая великая держава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утратила свои традиции, свои богатства, свой язык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ужно только вместе, объединившись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хотя бы постепенно восстанавливать все, что потерял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ужно быть добрее, внимательнее друг к другу,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проявлять понимание и поддержку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говорить на общем язык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Только так мы сможем вернуть себе свои традиции, обычаи, которыми мы говорим испокон веков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Только так мы сможем сохранить самое главное, самое дорогое богатство, которое у нас было, есть, и, несмотря ни на что, обязательно будет — наш язык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Garamond"/>
              </a:rPr>
              <a:t>Наш родной, самый богатый, самый красивый, самый культурный в мире язык…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125136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Берегите наш язык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Наш прекрасный русский язык.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Этот клад -достояние переданно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нам нашими предшественникам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И.С.Тургенев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рилл и Мефод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еликие просветители, создатели первой славянской азбуки. Их заслуги в истории культуры огромны. Именно создание славянской азбуки положило начало широкому развитию славянской письменност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аспространение в мир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На схеме показана распространённость кириллицы в мире. Зелёный — кириллица как официальный алфавит, Светло-зеленый — один из алфавит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295280"/>
            <a:ext cx="8001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25T17:25:4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