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583-1B6F-4464-BD62-410FF12E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9FA-3201-4782-A4DD-9A812AB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9D4-A598-4AC1-A9BB-C0BEBB0C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FBB-27C2-4CAF-9232-D1D41FB6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FA1-96E4-43A9-952C-452B8B34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36D4-D115-4A99-B654-53AEF892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4FC9-F4DA-4CF6-9FD2-2535A6B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1E20-98E3-4201-AD7E-F0BCFAD2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C07B-9799-4CD4-BAFD-6155F6EA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A48-316B-4F7E-80D5-DB4BF323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025-A15C-49DE-A0A3-5C5CC12C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4AC-866B-4C47-B273-863F8AFC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FE11-889C-433F-9125-CC4FBA88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7CFB-DF5E-4B72-9A3B-0B76C5A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41BB-C977-4ADC-8084-3B6A143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6C29-70AC-44B6-B2E9-4FA9D4B1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44AD-2667-4594-9B29-6B6BE615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7A6-5B3D-4587-96FF-ACA149A4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05D-3034-4AD5-9B1A-1D1F5F3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7FE-E824-4388-B4E2-906DF2B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968-B4F9-4D9B-AD13-4830EEC9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D40-9D3C-44E9-BF9B-68C7267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C44-7512-4377-A6F6-809F3D5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08D-C38F-437F-A8DB-2325C16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53B0-044E-41B9-87EB-C87011F2F1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BD87-E356-46FB-AA9D-3E3764E00A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ЗЕНТАЦ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МК «Полярная звезда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к средство реализации принципов ФГ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разовательном процесс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24000" y="4149360"/>
            <a:ext cx="4917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у выполн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ржемская Л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Свердловского лицея №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Свердловс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ганской Народной Республ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ПРИМЕР ИСПОЛЬЗОВАНИЯ УМК В ОБРАЗОВАТЕЛЬНОМ ПРОЦЕССЕ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 класс Тема:  Биосфера- сфера жиз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ние 1 Ответить на вопросы, опираясь на текст учебника. (Взаимопроверк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царства вместе образуют ……….. мир(органическ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олько процентов от общего числа видов организмов приходится на растения ______%(2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м животные отличаются от растений? (способностью свободно передвигатьс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называются животные поедающие органические вещества, произведенные растен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называют животных, поедающие других животных? Хищ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е животные (кроме бактерий) преобладают на земле? насеко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называют группу животных (киты, рыбы, морские черепахи) живущих в толще воды? нек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е названия группы организмов, обитающих на дне океана? Бент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льчайшие океанические обитатели, которые переносятся течением? Лак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акой глубине в океане живёт основная масса организмов?200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ние 2 Опираясь на текст учебника стр.157, составить схему «Круговорот веществ в биосфере» на ватмане (групповая работ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ние 3 Написать эссе «Если погибнет биосфера, то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c9900"/>
                </a:solidFill>
                <a:latin typeface="Tahoma"/>
              </a:rPr>
              <a:t>Линия учебно-методических комплексов (УМК) по географии «Полярная звезда» под ред. А. И. Алексеева. 5-9 классы. 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щая цель географического образования, реализуемая в учебниках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воспитание у учащихся географической культуры как части общей культуры растущей личности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ека, основанной на гармоничном взаимодействии всех сфер сознания личности , использовании средств содержания географического образования  и расширениям образовательной среды , в которых социализируется и идентифицируется личность уче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rcRect l="0" t="0" r="0" b="40173"/>
          <a:stretch/>
        </p:blipFill>
        <p:spPr>
          <a:xfrm>
            <a:off x="1258920" y="4869000"/>
            <a:ext cx="604836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58560" y="126792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еремены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оисходящие в современном обществе, требуют совершенствования образовательного пространства, четкого определения целей образования, учитывающих как государственные, социальные, так и личностные интересы.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Государственный стандарт нового поко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риентирует учителя на деятельностный характер обучения: образование должно быть направлено, в первую очередь, на формирование общих умений и навыков, обобщенных способов учебной, познавательной, коммуникативной, практической, творческой деятельности, поэтому и от учебно-методических комплектов (УМК) нового поколения требуются новые подходы к овладению материалом обучающимися и его примен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НОВЫЕ УЧЕБНИКИ: ЗАЧЕМ ОНИ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6021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Новые це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Стрелка вниз 10"/>
          <p:cNvGrpSpPr/>
          <p:nvPr/>
        </p:nvGrpSpPr>
        <p:grpSpPr>
          <a:xfrm>
            <a:off x="3924360" y="5950080"/>
            <a:ext cx="1078920" cy="571320"/>
            <a:chOff x="3924360" y="5950080"/>
            <a:chExt cx="1078920" cy="571320"/>
          </a:xfrm>
        </p:grpSpPr>
        <p:pic>
          <p:nvPicPr>
            <p:cNvPr id="392" name="Стрелка вниз 10" descr=""/>
            <p:cNvPicPr/>
            <p:nvPr/>
          </p:nvPicPr>
          <p:blipFill>
            <a:blip r:embed="rId1"/>
            <a:stretch/>
          </p:blipFill>
          <p:spPr>
            <a:xfrm>
              <a:off x="3924360" y="5950080"/>
              <a:ext cx="1078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16200000">
              <a:off x="4267080" y="5881320"/>
              <a:ext cx="209520" cy="6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940360" y="60357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ahoma"/>
              </a:rPr>
              <a:t>Нов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я уче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-Учеб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-Рабочая тетрадь «Мой тренаже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-Задач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я учи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Авторская програм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Поурочные разрабо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Конструктор текуще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В УЧЕБНО - МЕТОДИЧЕСКОМ КОМПЛЕКТЕ 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 rot="21175200">
            <a:off x="4859280" y="1699920"/>
            <a:ext cx="1658880" cy="2089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 rot="282000">
            <a:off x="7380360" y="1699920"/>
            <a:ext cx="1557360" cy="2016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 rot="20970000">
            <a:off x="5219280" y="4292280"/>
            <a:ext cx="1341360" cy="1584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6443640" y="4221000"/>
            <a:ext cx="1243080" cy="15084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 rot="780600">
            <a:off x="7524720" y="4292280"/>
            <a:ext cx="1243080" cy="15080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География 5-6 классы Мой тренажер Николина"/>
          <p:cNvPicPr/>
          <p:nvPr/>
        </p:nvPicPr>
        <p:blipFill>
          <a:blip r:embed="rId6"/>
          <a:stretch/>
        </p:blipFill>
        <p:spPr>
          <a:xfrm>
            <a:off x="6516720" y="206064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 : ПРИОРИТЕТ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2276280"/>
            <a:ext cx="854064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еографическая грамо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ути индивидуального прогресса Работа с информацией разных видов и ст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ути индивидуального прогре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: МЕТОДИ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реориентация с передачи знаний на формирование ключевых компетен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хнология самостоятельной работы, алгоритмы действ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а инструментов учебной деятельности, нацеленная на результ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ступность для детей разных способностей и возмож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 : ХАРАКТЕРИСТИКА ЛИН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 rot="19137600">
            <a:off x="3951360" y="4984560"/>
            <a:ext cx="749160" cy="226800"/>
          </a:xfrm>
          <a:prstGeom prst="rightArrow">
            <a:avLst>
              <a:gd name="adj1" fmla="val 50000"/>
              <a:gd name="adj2" fmla="val 82579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1628640"/>
            <a:ext cx="3816360" cy="1440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йствующ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разовательный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анда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4724280"/>
            <a:ext cx="3816360" cy="12258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нстру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чебной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19640" y="2708280"/>
            <a:ext cx="369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Все необходимое – в учебн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Модели учебной деятельности и аппарат ориентир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Сквозной маршрут «Легкий экзаме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ОСОБЕННОСТИ СОДЕРЖАН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1204920" cy="237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979640" y="2637000"/>
            <a:ext cx="1147680" cy="2592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1218960" cy="2755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rcRect l="0" t="0" r="0" b="43500"/>
          <a:stretch/>
        </p:blipFill>
        <p:spPr>
          <a:xfrm>
            <a:off x="2050920" y="4292640"/>
            <a:ext cx="120996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301680" y="1125360"/>
          <a:ext cx="8540640" cy="5434200"/>
        </p:xfrm>
        <a:graphic>
          <a:graphicData uri="http://schemas.openxmlformats.org/drawingml/2006/table">
            <a:tbl>
              <a:tblPr/>
              <a:tblGrid>
                <a:gridCol w="2975040"/>
                <a:gridCol w="556560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6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рода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 часов-1 час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7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аны и контин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 часов-2 часа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8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ссия. Общий обз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 часов-2 часа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9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ссия. Географические районы. 70 часов-2 часа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 : РЕАЛИЗАЦ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Содержимое 9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48200" cy="4402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92200" y="2043000"/>
            <a:ext cx="34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стран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4360" y="4724280"/>
            <a:ext cx="33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азовое яд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19T12:41:22Z</dcterms:created>
  <dc:creator>Людмила</dc:creator>
  <dc:description/>
  <dc:language>en-US</dc:language>
  <cp:lastModifiedBy>Людмила</cp:lastModifiedBy>
  <dcterms:modified xsi:type="dcterms:W3CDTF">2022-06-19T16:10:30Z</dcterms:modified>
  <cp:revision>4</cp:revision>
  <dc:subject/>
  <dc:title>Слайд 1</dc:title>
</cp:coreProperties>
</file>