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9DA-5B76-4D4F-97D4-64F94FB6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A9E8-4C4C-48AA-8C38-37DA6B6C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FA3E-7CD3-454C-836B-CA059158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28FD-3FB3-4B87-B7AF-4B09A7EF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9337-F9D9-4D83-A9D1-CA253393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86C2-DE58-4DCB-A17B-F3EC5820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13CB-F836-4BDC-B32F-3AD16D45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E7FB-268B-4B30-A43B-D188B7ED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B8D4-04CE-40D1-A667-044804A9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AB27-360C-45A2-85B9-34E31CC3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6CF3-B884-4B91-87EF-10423A4D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687E-4917-4C6C-8E1E-60219F81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C2D6-B80B-4682-9F13-244218CF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CBDE-6934-4314-8BF5-9A39C623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6DAC-117B-4060-8C32-05933D04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7E9D-060F-4593-9245-E46024F2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E4DF-EC6D-4C19-B5FE-B6797914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67A6-9C43-4C04-92AE-9097F424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8738-0F08-4F83-81A3-7A5FCCBA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0DE-9440-485D-AF82-2D702853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0C40-84A5-40B9-8190-213C51DA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B8BA-5B0D-4571-9DB0-ED686D9E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0083-A104-4345-9451-D3C84CB9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0101-E7E6-431A-85DF-A3DECC67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A0CF-4BC6-4BE0-8EDE-96F77B51415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1862-4F10-460B-AE90-DD2A7FC6975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ЕЗЕНТАЦИЯ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МК «Полярная звезда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ак средство реализации принципов ФГО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образовательном процесс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924000" y="4149360"/>
            <a:ext cx="491796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боту выполни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Боржемская Л.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итель географ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«Свердловского лицея №1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г.Свердловс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уганской Народной Республи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ПРИМЕР ИСПОЛЬЗОВАНИЯ УМК В ОБРАЗОВАТЕЛЬНОМ ПРОЦЕССЕ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680" y="1196640"/>
            <a:ext cx="85406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6 класс Тема:  Биосфера- сфера жизн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дание 1 Ответить на вопросы, опираясь на текст учебника. (Взаимопроверк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 царства вместе образуют ……….. мир(органически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колько процентов от общего числа видов организмов приходится на растения ______%(21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Чем животные отличаются от растений? (способностью свободно передвигатьс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 называются животные поедающие органические вещества, произведенные растения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 называют животных, поедающие других животных? Хищ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ие животные (кроме бактерий) преобладают на земле? насеком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к называют группу животных (киты, рыбы, морские черепахи) живущих в толще воды? нект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щее названия группы организмов, обитающих на дне океана? Бенто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ельчайшие океанические обитатели, которые переносятся течением? Лакт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а какой глубине в океане живёт основная масса организмов?200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дание 2 Опираясь на текст учебника стр.157, составить схему «Круговорот веществ в биосфере» на ватмане (групповая работа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дание 3 Написать эссе «Если погибнет биосфера, то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cc9900"/>
                </a:solidFill>
                <a:latin typeface="Tahoma"/>
              </a:rPr>
              <a:t>Линия учебно-методических комплексов (УМК) по географии «Полярная звезда» под ред. А. И. Алексеева. 5-9 классы. 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4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699920"/>
            <a:ext cx="854064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щая цель географического образования, реализуемая в учебниках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воспитание у учащихся географической культуры как части общей культуры растущей личности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XX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века, основанной на гармоничном взаимодействии всех сфер сознания личности , использовании средств содержания географического образования  и расширениям образовательной среды , в которых социализируется и идентифицируется личность учени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rcRect l="0" t="0" r="0" b="40173"/>
          <a:stretch/>
        </p:blipFill>
        <p:spPr>
          <a:xfrm>
            <a:off x="1258920" y="4869000"/>
            <a:ext cx="6048360" cy="16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58560" y="1267920"/>
            <a:ext cx="8785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Перемены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оисходящие в современном обществе, требуют совершенствования образовательного пространства, четкого определения целей образования, учитывающих как государственные, социальные, так и личностные интересы. </a:t>
            </a:r>
            <a:r>
              <a:rPr b="1" lang="ru-RU" sz="2400" spc="-1" strike="noStrike">
                <a:solidFill>
                  <a:srgbClr val="cc9900"/>
                </a:solidFill>
                <a:latin typeface="Arial"/>
              </a:rPr>
              <a:t>Государственный стандарт нового покол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риентирует учителя на деятельностный характер обучения: образование должно быть направлено, в первую очередь, на формирование общих умений и навыков, обобщенных способов учебной, познавательной, коммуникативной, практической, творческой деятельности, поэтому и от учебно-методических комплектов (УМК) нового поколения требуются новые подходы к овладению материалом обучающимися и его примене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НОВЫЕ УЧЕБНИКИ: ЗАЧЕМ ОНИ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684360" y="60213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Новые цел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Стрелка вниз 10"/>
          <p:cNvGrpSpPr/>
          <p:nvPr/>
        </p:nvGrpSpPr>
        <p:grpSpPr>
          <a:xfrm>
            <a:off x="3924360" y="5950080"/>
            <a:ext cx="1078920" cy="571320"/>
            <a:chOff x="3924360" y="5950080"/>
            <a:chExt cx="1078920" cy="571320"/>
          </a:xfrm>
        </p:grpSpPr>
        <p:pic>
          <p:nvPicPr>
            <p:cNvPr id="392" name="Стрелка вниз 10" descr=""/>
            <p:cNvPicPr/>
            <p:nvPr/>
          </p:nvPicPr>
          <p:blipFill>
            <a:blip r:embed="rId1"/>
            <a:stretch/>
          </p:blipFill>
          <p:spPr>
            <a:xfrm>
              <a:off x="3924360" y="5950080"/>
              <a:ext cx="107892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 rot="16200000">
              <a:off x="4267080" y="5881320"/>
              <a:ext cx="209520" cy="63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5940360" y="60357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Tahoma"/>
              </a:rPr>
              <a:t>Новые сре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ля учен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Tahoma"/>
              </a:rPr>
              <a:t>-Учебн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Tahoma"/>
              </a:rPr>
              <a:t>-Рабочая тетрадь «Мой тренажер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Tahoma"/>
              </a:rPr>
              <a:t>-Задачн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Для учите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Tahoma"/>
              </a:rPr>
              <a:t>Авторская програм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Tahoma"/>
              </a:rPr>
              <a:t>Поурочные разработ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Tahoma"/>
              </a:rPr>
              <a:t>Конструктор текуще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Tahoma"/>
              </a:rPr>
              <a:t>контро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В УЧЕБНО - МЕТОДИЧЕСКОМ КОМПЛЕКТЕ …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 rot="21175200">
            <a:off x="4859280" y="1699920"/>
            <a:ext cx="1658880" cy="2089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 rot="282000">
            <a:off x="7380360" y="1699920"/>
            <a:ext cx="1557360" cy="2016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 rot="20970000">
            <a:off x="5219280" y="4292280"/>
            <a:ext cx="1341360" cy="15843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6443640" y="4221000"/>
            <a:ext cx="1243080" cy="15084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 rot="780600">
            <a:off x="7524720" y="4292280"/>
            <a:ext cx="1243080" cy="15080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География 5-6 классы Мой тренажер Николина"/>
          <p:cNvPicPr/>
          <p:nvPr/>
        </p:nvPicPr>
        <p:blipFill>
          <a:blip r:embed="rId6"/>
          <a:stretch/>
        </p:blipFill>
        <p:spPr>
          <a:xfrm>
            <a:off x="6516720" y="2060640"/>
            <a:ext cx="1143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АВТОРСКАЯ КОНЦЕПЦИЯ : ПРИОРИТЕТЫ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2276280"/>
            <a:ext cx="854064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Географическая грамот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ути индивидуального прогресса Работа с информацией разных видов и стил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ути индивидуального прогре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АВТОРСКАЯ КОНЦЕПЦИЯ: МЕТОДИК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ереориентация с передачи знаний на формирование ключевых компетенц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ехнология самостоятельной работы, алгоритмы действ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истема инструментов учебной деятельности, нацеленная на результа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оступность для детей разных способностей и возможнос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АВТОРСКАЯ КОНЦЕПЦИЯ : ХАРАКТЕРИСТИКА ЛИНИ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 rot="19137600">
            <a:off x="3951360" y="4984560"/>
            <a:ext cx="749160" cy="226800"/>
          </a:xfrm>
          <a:prstGeom prst="rightArrow">
            <a:avLst>
              <a:gd name="adj1" fmla="val 50000"/>
              <a:gd name="adj2" fmla="val 82579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0920" y="1628640"/>
            <a:ext cx="3816360" cy="14400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ействующ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бразовательный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тандар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4724280"/>
            <a:ext cx="3816360" cy="12258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онстру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чебной кни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219640" y="2708280"/>
            <a:ext cx="369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* Все необходимое – в учебни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* Модели учебной деятельности и аппарат ориентиро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* Сквозной маршрут «Легкий экзаме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ОСОБЕННОСТИ СОДЕРЖАНИ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1204920" cy="23767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1979640" y="2637000"/>
            <a:ext cx="1147680" cy="25923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684360" y="3284640"/>
            <a:ext cx="1218960" cy="27558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rcRect l="0" t="0" r="0" b="43500"/>
          <a:stretch/>
        </p:blipFill>
        <p:spPr>
          <a:xfrm>
            <a:off x="2050920" y="4292640"/>
            <a:ext cx="120996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8" name=""/>
          <p:cNvGraphicFramePr/>
          <p:nvPr/>
        </p:nvGraphicFramePr>
        <p:xfrm>
          <a:off x="301680" y="1125360"/>
          <a:ext cx="8540640" cy="5434200"/>
        </p:xfrm>
        <a:graphic>
          <a:graphicData uri="http://schemas.openxmlformats.org/drawingml/2006/table">
            <a:tbl>
              <a:tblPr/>
              <a:tblGrid>
                <a:gridCol w="2975040"/>
                <a:gridCol w="556560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еография 6 клас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рода Земл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 часов-1 час в недел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еография 7 клас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раны и континен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0 часов-2 часа в недел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еография 8 клас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ссия. Общий обзо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0 часов-2 часа в недел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еография 9 клас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оссия. Географические районы. 70 часов-2 часа в недел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АВТОРСКАЯ КОНЦЕПЦИЯ : РЕАЛИЗАЦИ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0" name="Содержимое 9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4048200" cy="44024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592200" y="2043000"/>
            <a:ext cx="340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остранств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разви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84360" y="4724280"/>
            <a:ext cx="33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Базовое яд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6-19T12:41:22Z</dcterms:created>
  <dc:creator>Людмила</dc:creator>
  <dc:description/>
  <dc:language>en-US</dc:language>
  <cp:lastModifiedBy>Людмила</cp:lastModifiedBy>
  <dcterms:modified xsi:type="dcterms:W3CDTF">2022-06-19T16:10:30Z</dcterms:modified>
  <cp:revision>4</cp:revision>
  <dc:subject/>
  <dc:title>Слайд 1</dc:title>
</cp:coreProperties>
</file>