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BD24-E978-4398-B081-49E9486A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C33B-ECD6-4BF4-94D4-F23FCA3A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B9B-524B-4B6A-939B-FD68BD46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78D5-E55F-49C8-956F-C1504778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9CE7-E888-4A40-A73A-AB568FAE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D6DA-29B6-433D-B2A5-C6D291BD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95D7-D9A3-4F12-976C-0A19C880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52DF-2B90-4CBF-9769-ACEAAF29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E2AE-3051-464B-81D7-C9E83ECC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CDD6-CFF2-4EFC-8C22-98F55A12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DB18-FF26-49C2-B85E-C9CAE732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546F-0A0F-4FDA-84E7-B72EC40A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95B7-3FEA-4DC8-89F6-B8B23417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4746-928B-4676-BE9A-B9104360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8DFB-5CCE-4CA7-8B58-682C29A3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070C-DCFC-4139-B8A2-5271D2F2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93FC-6CD2-4F77-B31E-7A690FEB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B0753-55D2-437E-8CD8-D8ED3610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59E34-1D61-44B5-8181-969360D8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EF6E8-638A-428A-9A26-77553572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2F117-E54D-4FED-80E5-8AF08BA6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018BA-9F66-4799-AA8C-F9D94790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7F8-782B-4F8B-A11C-D239AA9C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4B93D-3693-45C6-B0EE-F92A0C52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595B6-80CD-419F-9B18-B436F2D9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F9FFD-E18D-4B0A-AFB6-DBB194A5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074D0-9705-4785-9644-116C6F4E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5DEAD-B554-41F2-A5BA-F6E32205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07D91-D381-499D-B23F-CD60889B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54DAA-9A9E-4FC6-95EA-D71EB19C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7F22A-86A5-45AE-B5D1-4A60A385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49833-A752-47B6-906E-F436D269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FCC60-008D-4D62-9DF8-55855D04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0037-69A8-4F96-AF88-E07F94B8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7EF28-B20C-4F05-BAFE-887E908D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D8AD4-0A65-47A4-804F-319FA9AD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E85F8-DEBF-4363-B9F3-7C71CC9C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88809-3C8A-4312-8AAC-D5B261A5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ED5B5-C88C-4308-8163-16A80C05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E5D0F-47E3-48BE-9964-F79988F5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DB92D-11BF-422E-B6D8-CBA5B7F2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B0889-339D-478C-A0E9-2401D446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0BF2E-9CBF-49B4-99A9-EF2672F8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99D-FE52-4047-873A-67FFF1B9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5DC-F010-4ED0-B600-5CF82ACA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97D-31EE-4A81-B7A8-51138DFB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A22-A1FE-4A1F-AAD1-E87A629E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D56C-39A3-4041-B43B-667496C3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9000-D727-413E-A061-DCD2797C4535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59D1-3EDD-4E41-9907-04155B591204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4A19-C08A-433B-A179-782D7E9CB249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2C65-2230-4AD9-A128-554FEAADBD5D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639720" y="404640"/>
            <a:ext cx="80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шите примеры и прочитайте слово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1557360"/>
          <a:ext cx="1127160" cy="701640"/>
        </p:xfrm>
        <a:graphic>
          <a:graphicData uri="http://schemas.openxmlformats.org/drawingml/2006/table">
            <a:tbl>
              <a:tblPr/>
              <a:tblGrid>
                <a:gridCol w="112716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Прямоугольник 6"/>
          <p:cNvSpPr/>
          <p:nvPr/>
        </p:nvSpPr>
        <p:spPr>
          <a:xfrm>
            <a:off x="1911240" y="1557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6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Прямоугольник 7"/>
          <p:cNvSpPr/>
          <p:nvPr/>
        </p:nvSpPr>
        <p:spPr>
          <a:xfrm>
            <a:off x="1911240" y="19256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2441520" y="1557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Прямоугольник 9"/>
          <p:cNvSpPr/>
          <p:nvPr/>
        </p:nvSpPr>
        <p:spPr>
          <a:xfrm>
            <a:off x="2464200" y="1925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348000" y="1603440"/>
          <a:ext cx="1919160" cy="701640"/>
        </p:xfrm>
        <a:graphic>
          <a:graphicData uri="http://schemas.openxmlformats.org/drawingml/2006/table">
            <a:tbl>
              <a:tblPr/>
              <a:tblGrid>
                <a:gridCol w="191916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16 + 12)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Прямоугольник 11"/>
          <p:cNvSpPr/>
          <p:nvPr/>
        </p:nvSpPr>
        <p:spPr>
          <a:xfrm>
            <a:off x="5295960" y="1557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Прямоугольник 12"/>
          <p:cNvSpPr/>
          <p:nvPr/>
        </p:nvSpPr>
        <p:spPr>
          <a:xfrm>
            <a:off x="5296680" y="1925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80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Прямоугольник 13"/>
          <p:cNvSpPr/>
          <p:nvPr/>
        </p:nvSpPr>
        <p:spPr>
          <a:xfrm>
            <a:off x="6139080" y="1557360"/>
            <a:ext cx="3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Прямоугольник 14"/>
          <p:cNvSpPr/>
          <p:nvPr/>
        </p:nvSpPr>
        <p:spPr>
          <a:xfrm>
            <a:off x="6125760" y="192564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Прямоугольник 16"/>
          <p:cNvSpPr/>
          <p:nvPr/>
        </p:nvSpPr>
        <p:spPr>
          <a:xfrm>
            <a:off x="2466000" y="3260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Прямоугольник 17"/>
          <p:cNvSpPr/>
          <p:nvPr/>
        </p:nvSpPr>
        <p:spPr>
          <a:xfrm>
            <a:off x="2466000" y="36734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60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Прямоугольник 18"/>
          <p:cNvSpPr/>
          <p:nvPr/>
        </p:nvSpPr>
        <p:spPr>
          <a:xfrm>
            <a:off x="2523240" y="40435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Прямоугольник 19"/>
          <p:cNvSpPr/>
          <p:nvPr/>
        </p:nvSpPr>
        <p:spPr>
          <a:xfrm>
            <a:off x="3350160" y="3260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Прямоугольник 20"/>
          <p:cNvSpPr/>
          <p:nvPr/>
        </p:nvSpPr>
        <p:spPr>
          <a:xfrm>
            <a:off x="3312000" y="36734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Прямоугольник 21"/>
          <p:cNvSpPr/>
          <p:nvPr/>
        </p:nvSpPr>
        <p:spPr>
          <a:xfrm>
            <a:off x="3350160" y="4048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476360" y="5084640"/>
          <a:ext cx="6076800" cy="701640"/>
        </p:xfrm>
        <a:graphic>
          <a:graphicData uri="http://schemas.openxmlformats.org/drawingml/2006/table">
            <a:tbl>
              <a:tblPr/>
              <a:tblGrid>
                <a:gridCol w="868320"/>
                <a:gridCol w="868320"/>
                <a:gridCol w="866880"/>
                <a:gridCol w="868320"/>
                <a:gridCol w="868320"/>
                <a:gridCol w="868320"/>
                <a:gridCol w="8683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473120" y="5084640"/>
          <a:ext cx="868320" cy="716040"/>
        </p:xfrm>
        <a:graphic>
          <a:graphicData uri="http://schemas.openxmlformats.org/drawingml/2006/table">
            <a:tbl>
              <a:tblPr/>
              <a:tblGrid>
                <a:gridCol w="868320"/>
              </a:tblGrid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00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351160" y="5084640"/>
          <a:ext cx="868320" cy="716040"/>
        </p:xfrm>
        <a:graphic>
          <a:graphicData uri="http://schemas.openxmlformats.org/drawingml/2006/table">
            <a:tbl>
              <a:tblPr/>
              <a:tblGrid>
                <a:gridCol w="868320"/>
              </a:tblGrid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0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203640" y="5084640"/>
          <a:ext cx="942840" cy="716040"/>
        </p:xfrm>
        <a:graphic>
          <a:graphicData uri="http://schemas.openxmlformats.org/drawingml/2006/table">
            <a:tbl>
              <a:tblPr/>
              <a:tblGrid>
                <a:gridCol w="942840"/>
              </a:tblGrid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00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067280" y="5084640"/>
          <a:ext cx="868320" cy="716040"/>
        </p:xfrm>
        <a:graphic>
          <a:graphicData uri="http://schemas.openxmlformats.org/drawingml/2006/table">
            <a:tbl>
              <a:tblPr/>
              <a:tblGrid>
                <a:gridCol w="868320"/>
              </a:tblGrid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0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954680" y="5084640"/>
          <a:ext cx="868320" cy="716040"/>
        </p:xfrm>
        <a:graphic>
          <a:graphicData uri="http://schemas.openxmlformats.org/drawingml/2006/table">
            <a:tbl>
              <a:tblPr/>
              <a:tblGrid>
                <a:gridCol w="868320"/>
              </a:tblGrid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0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50000" y="5084640"/>
          <a:ext cx="868320" cy="716040"/>
        </p:xfrm>
        <a:graphic>
          <a:graphicData uri="http://schemas.openxmlformats.org/drawingml/2006/table">
            <a:tbl>
              <a:tblPr/>
              <a:tblGrid>
                <a:gridCol w="868320"/>
              </a:tblGrid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0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659640" y="5084640"/>
          <a:ext cx="863640" cy="716040"/>
        </p:xfrm>
        <a:graphic>
          <a:graphicData uri="http://schemas.openxmlformats.org/drawingml/2006/table">
            <a:tbl>
              <a:tblPr/>
              <a:tblGrid>
                <a:gridCol w="863640"/>
              </a:tblGrid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0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Ы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6960" y="3352680"/>
          <a:ext cx="1741320" cy="1051200"/>
        </p:xfrm>
        <a:graphic>
          <a:graphicData uri="http://schemas.openxmlformats.org/drawingml/2006/table">
            <a:tbl>
              <a:tblPr/>
              <a:tblGrid>
                <a:gridCol w="17413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10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0)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X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395280" y="476280"/>
            <a:ext cx="8353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Распределительное свойство умножения относительно сложения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539640" y="2746440"/>
            <a:ext cx="8136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ы сумму двух чисел умножить на какое-нибудь число, можно каждое из них умножить на это число и результаты сложить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399960" y="620640"/>
            <a:ext cx="82044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Сочетательное  свойство умножения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399960" y="2276640"/>
            <a:ext cx="80596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ы произведение двух чисел умножить на третье  число, можно первое число умножить на произведение второго и третьего чисел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"/>
          <p:cNvSpPr/>
          <p:nvPr/>
        </p:nvSpPr>
        <p:spPr>
          <a:xfrm>
            <a:off x="3139560" y="692280"/>
            <a:ext cx="30186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оверь себ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900000" y="1844640"/>
          <a:ext cx="2171880" cy="1471680"/>
        </p:xfrm>
        <a:graphic>
          <a:graphicData uri="http://schemas.openxmlformats.org/drawingml/2006/table">
            <a:tbl>
              <a:tblPr/>
              <a:tblGrid>
                <a:gridCol w="217188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X 1000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X 10 000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 X 20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4786200" y="1785960"/>
          <a:ext cx="2428920" cy="147168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X 100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000 X 100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 0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 4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Прямоугольник 5"/>
          <p:cNvSpPr/>
          <p:nvPr/>
        </p:nvSpPr>
        <p:spPr>
          <a:xfrm>
            <a:off x="2719440" y="178596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 00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Прямоугольник 6"/>
          <p:cNvSpPr/>
          <p:nvPr/>
        </p:nvSpPr>
        <p:spPr>
          <a:xfrm>
            <a:off x="2934360" y="228600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0 00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Прямоугольник 7"/>
          <p:cNvSpPr/>
          <p:nvPr/>
        </p:nvSpPr>
        <p:spPr>
          <a:xfrm>
            <a:off x="2791440" y="278604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0 00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Прямоугольник 8"/>
          <p:cNvSpPr/>
          <p:nvPr/>
        </p:nvSpPr>
        <p:spPr>
          <a:xfrm>
            <a:off x="6577920" y="171468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0 00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Прямоугольник 9"/>
          <p:cNvSpPr/>
          <p:nvPr/>
        </p:nvSpPr>
        <p:spPr>
          <a:xfrm>
            <a:off x="6929280" y="221472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00 00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Прямоугольник 10"/>
          <p:cNvSpPr/>
          <p:nvPr/>
        </p:nvSpPr>
        <p:spPr>
          <a:xfrm>
            <a:off x="6364080" y="2714760"/>
            <a:ext cx="24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 000 00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1500120" y="50184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Алгоритм решения задачи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142920" y="1287000"/>
            <a:ext cx="89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задачу и представьте себе то, о чем в ней говоритс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78596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задачу кратко или составьте схем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42920" y="2145240"/>
            <a:ext cx="90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2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, что показывает каждое число, и повторите вопрос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42920" y="293112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2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, можно ли сразу ответить на вопрос задач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— нельзя, то почему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42920" y="3715920"/>
            <a:ext cx="49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2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решение с пояснение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160920" y="4215960"/>
            <a:ext cx="67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2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те решение и ответьте на вопрос задач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"/>
          <p:cNvSpPr/>
          <p:nvPr/>
        </p:nvSpPr>
        <p:spPr>
          <a:xfrm>
            <a:off x="2214720" y="4302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Вырази в метрах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Прямоугольник 2"/>
          <p:cNvSpPr/>
          <p:nvPr/>
        </p:nvSpPr>
        <p:spPr>
          <a:xfrm>
            <a:off x="1008720" y="171468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км =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Прямоугольник 3"/>
          <p:cNvSpPr/>
          <p:nvPr/>
        </p:nvSpPr>
        <p:spPr>
          <a:xfrm>
            <a:off x="1000080" y="235728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км =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Прямоугольник 4"/>
          <p:cNvSpPr/>
          <p:nvPr/>
        </p:nvSpPr>
        <p:spPr>
          <a:xfrm>
            <a:off x="1009440" y="314316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 км =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Прямоугольник 5"/>
          <p:cNvSpPr/>
          <p:nvPr/>
        </p:nvSpPr>
        <p:spPr>
          <a:xfrm>
            <a:off x="5013000" y="1714680"/>
            <a:ext cx="21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км 300 м =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Прямоугольник 6"/>
          <p:cNvSpPr/>
          <p:nvPr/>
        </p:nvSpPr>
        <p:spPr>
          <a:xfrm>
            <a:off x="5013000" y="2357280"/>
            <a:ext cx="21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 км 50 м =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Прямоугольник 7"/>
          <p:cNvSpPr/>
          <p:nvPr/>
        </p:nvSpPr>
        <p:spPr>
          <a:xfrm>
            <a:off x="2150280" y="1714680"/>
            <a:ext cx="13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 000 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Прямоугольник 8"/>
          <p:cNvSpPr/>
          <p:nvPr/>
        </p:nvSpPr>
        <p:spPr>
          <a:xfrm>
            <a:off x="2284200" y="23572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000 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Прямоугольник 9"/>
          <p:cNvSpPr/>
          <p:nvPr/>
        </p:nvSpPr>
        <p:spPr>
          <a:xfrm>
            <a:off x="2436840" y="3143160"/>
            <a:ext cx="16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 000 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Прямоугольник 10"/>
          <p:cNvSpPr/>
          <p:nvPr/>
        </p:nvSpPr>
        <p:spPr>
          <a:xfrm>
            <a:off x="7079400" y="1714680"/>
            <a:ext cx="13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 300 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Прямоугольник 11"/>
          <p:cNvSpPr/>
          <p:nvPr/>
        </p:nvSpPr>
        <p:spPr>
          <a:xfrm>
            <a:off x="7079760" y="23572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 050 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592360" y="500040"/>
            <a:ext cx="41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Вырази в граммах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864720" y="1785960"/>
            <a:ext cx="11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кг =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Прямоугольник 3"/>
          <p:cNvSpPr/>
          <p:nvPr/>
        </p:nvSpPr>
        <p:spPr>
          <a:xfrm>
            <a:off x="793800" y="2428920"/>
            <a:ext cx="12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кг =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785880" y="307332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 кг =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Прямоугольник 5"/>
          <p:cNvSpPr/>
          <p:nvPr/>
        </p:nvSpPr>
        <p:spPr>
          <a:xfrm>
            <a:off x="4440240" y="1785960"/>
            <a:ext cx="19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г 200 г =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Прямоугольник 6"/>
          <p:cNvSpPr/>
          <p:nvPr/>
        </p:nvSpPr>
        <p:spPr>
          <a:xfrm>
            <a:off x="4439880" y="2357280"/>
            <a:ext cx="17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кг 7 г =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1928880" y="17874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г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2000160" y="24303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г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2143080" y="30733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г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Прямоугольник 10"/>
          <p:cNvSpPr/>
          <p:nvPr/>
        </p:nvSpPr>
        <p:spPr>
          <a:xfrm>
            <a:off x="6293520" y="1785960"/>
            <a:ext cx="12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 200 г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Прямоугольник 11"/>
          <p:cNvSpPr/>
          <p:nvPr/>
        </p:nvSpPr>
        <p:spPr>
          <a:xfrm>
            <a:off x="6151320" y="235728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 007 г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07:08:28Z</dcterms:created>
  <dc:creator>ЗоринаСП</dc:creator>
  <dc:description/>
  <dc:language>en-US</dc:language>
  <cp:lastModifiedBy>Максим</cp:lastModifiedBy>
  <dcterms:modified xsi:type="dcterms:W3CDTF">2012-11-18T11:08:10Z</dcterms:modified>
  <cp:revision>16</cp:revision>
  <dc:subject/>
  <dc:title>Презентация PowerPoint</dc:title>
</cp:coreProperties>
</file>