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814B-B418-487E-A4E1-0ECE8AD6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1467-AF13-48A8-B3F5-B7A8E003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0509-4BB4-48AF-B0B0-5452DE63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FCC7-4DA2-4A72-BC5F-E5019F08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01EE-D593-4FE7-914F-7E219A37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1D2C-F599-4BD3-8316-77612DFA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C9FF-3050-4542-974B-5F89D726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F86C-3DF1-440A-A261-C99E1875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0C1E-C795-4A38-AAE8-DE546A52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64AC-DF9C-4167-8464-F6A96466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28EF-C8D2-48DF-90D1-364FAF33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127A-37A3-4057-B1A0-0572EB4A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F02C-76D9-4B76-8B64-2EBC8D38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4325-3845-411D-A42B-28021CD0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3302-82E4-4674-9453-C0F42A82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74CD-0C91-4D55-9FCA-BF325EAF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6641-C062-405E-B0E9-82E6DC59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B4EDF-0722-4353-BB5B-A080F961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77BDA-4AF4-4788-973B-63D4C34A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55F01-8618-48AE-BBE2-4E2C2DF6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325A1-2B36-4328-B499-7D5C02AC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3F149-C890-49AC-B384-10681F3D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F7C1-B0CD-46BA-9C81-17873EBC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9F17D-A90E-427B-9A57-F3930EA5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5A865-53BA-4874-BCA5-C0B09B6E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0D3AD-0A47-4274-8E3E-C4897904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F0FE6-3B8D-4FEA-BB55-84CAF2F6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D3E5F-AB5D-446B-9C6C-B9989A41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41DB5-CB00-4071-B547-F2EA87C6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DA6DA-27A7-4419-A0AA-3280E65C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A23A2-5362-48A3-B005-57AC5F9F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87769-F4F0-4CF8-9BBB-57306E24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87097-CA6E-43E6-94E2-94BED8C7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5538-7FF9-4487-AB13-9E9C4B84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03E80-57BA-44BB-9B7D-A0059605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D679D-AA74-491F-85FF-407A4021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DE0D9-4AC1-4D90-9F56-D7661FAD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25384-B027-4859-9F7C-8B509291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6C07F-2B89-439B-BDE9-114790F1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A7A05-A074-49FE-9401-8ED09AF2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5518D-1A1B-4A0B-A6C3-2B623338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BC381-6DD6-4433-988B-D1C87652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4A4B9-2881-4FFB-B9C9-C487C08D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F76D0-8832-4A32-A320-9C7AB78F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CD96-C7F3-457A-B803-F2A9EDBD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50238-68B4-450A-8FDD-F1115C4C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60848-27C6-4F4E-82DF-B09FA0A1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5D888-9F95-479E-A691-CA14DF48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0C49D-7031-44E0-AEED-4DAE1AE4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A6DEA-ECF7-44A8-A10B-84114278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8FD18-3C4D-4945-A76D-A73509E4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5954A-57F4-4B34-87B9-E1D5BAA0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38648-6964-40D7-A0D9-995DA232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8DCC4-C353-4E50-AA65-CA6205A6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DE900-D3AB-4451-BCEF-9A9FF499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B8F2-4796-4D4C-9717-AB08044B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D4D9C-0A4C-46BF-9A60-83ABB07D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6E7B1-18AA-4613-AF11-6F18DCFE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05E63-E7D7-4B04-B325-0211EB81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1A158-D75C-4606-8454-CD0F00B1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9C8E8-4267-4219-849A-E56B341D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9352A-2F1C-4D7C-99DD-C1842F04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4A98C-D53D-4B3E-92B7-57160143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1A7DA-05D5-4BF1-BC66-DCDE16F1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C36E1-A954-413B-A435-BD1EB694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4D3D7-487F-44D8-91C2-373415C5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806-9353-409B-8CA1-C09C1765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3A110-D834-4F0D-BDE7-F20DA04D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3DB1D-7FAF-4B2B-A9C1-DD5F3849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B7CE7-FABE-463F-BCA8-576CEAE5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9442D-63D6-4D4C-B54C-73C89E14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D79AA-EF59-4679-AE6F-8E191494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50E19-D057-43B4-9765-96AF0BF4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FAD3F-070C-46E1-B7B9-9D05A164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E5289-C37E-4981-BFB3-58EC6FE8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F0AB8-8D3F-42CD-8487-D3164A11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DA40E-33AD-4975-BD85-41590BA0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41F1-2C6C-432A-9855-80DF95F5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6A82C-A8B6-4001-8EF3-5E65A671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1ED30-F740-4723-838B-8C21C40C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CD10F-0F83-4F12-8212-FD691CC0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9349B-9894-4D21-A927-FB208EB6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76557-9B36-4F67-A67F-15CFDCF8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5A1D-9590-479A-A9CB-8EFCC3BA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159F-2277-4F23-A32C-52A54AE275B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2255-FFBC-4EFC-9CB8-66EDD01C5D9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0162-2A66-4686-B14D-63D939F29C1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4C78-3581-4572-96F8-C3D0E23BD6B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B85C-415F-4515-9CDB-C90F1E34469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47EE-E8C9-4485-88EA-2EF98694237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FE38-F7F2-48F3-AE2A-40110368EBB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920" y="352224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orbel"/>
              </a:rPr>
              <a:t>Белое Море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547640" y="4941360"/>
            <a:ext cx="6400800" cy="1528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a6d7d"/>
                </a:solidFill>
                <a:latin typeface="Times New Roman"/>
                <a:ea typeface="Times New Roman"/>
              </a:rPr>
              <a:t>Работу выполнили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a6d7d"/>
                </a:solidFill>
                <a:latin typeface="Times New Roman"/>
                <a:ea typeface="Times New Roman"/>
              </a:rPr>
              <a:t>Ученики  З «В»  класса гимназии №3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Николаева Екатерина и Харкавая Олеся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2" descr="C:\Users\Пользователь\Videos\Pictures\5096.jpg"/>
          <p:cNvPicPr/>
          <p:nvPr/>
        </p:nvPicPr>
        <p:blipFill>
          <a:blip r:embed="rId1"/>
          <a:stretch/>
        </p:blipFill>
        <p:spPr>
          <a:xfrm>
            <a:off x="1619280" y="324000"/>
            <a:ext cx="6337440" cy="38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4"/>
          <p:cNvSpPr/>
          <p:nvPr/>
        </p:nvSpPr>
        <p:spPr>
          <a:xfrm>
            <a:off x="228600" y="0"/>
            <a:ext cx="8915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Белое море — важный транспортный бассейн страны со значительным объемом грузоперевозок.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5" descr="5df64066bd71d025e5b984d917c"/>
          <p:cNvPicPr/>
          <p:nvPr/>
        </p:nvPicPr>
        <p:blipFill>
          <a:blip r:embed="rId1"/>
          <a:stretch/>
        </p:blipFill>
        <p:spPr>
          <a:xfrm>
            <a:off x="1258920" y="1600200"/>
            <a:ext cx="739152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-69516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2" descr="C:\Users\Пользователь\Videos\Pictures\800PX-~2.JPG"/>
          <p:cNvPicPr/>
          <p:nvPr/>
        </p:nvPicPr>
        <p:blipFill>
          <a:blip r:embed="rId1"/>
          <a:stretch/>
        </p:blipFill>
        <p:spPr>
          <a:xfrm>
            <a:off x="1258920" y="2565360"/>
            <a:ext cx="76928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35436a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989000"/>
            <a:ext cx="7499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морей, омывающих Россию, Белое море — одно из самых маленьких . Площадь его поверхности 90 тыс. кв. км (с многочисленными мелкими островами, среди которых наиболее известны Соловецкие острова.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ьшая глубина моря 340 метров, средняя — 67 метров.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елое море впадают реки Северная Двина, Онега, Мезень.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рты: Архангельск, Северодвинск, Онега, Беломорск, Кандалакша, Кемь, Мезень.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5" descr="бел"/>
          <p:cNvPicPr/>
          <p:nvPr/>
        </p:nvPicPr>
        <p:blipFill>
          <a:blip r:embed="rId1"/>
          <a:stretch/>
        </p:blipFill>
        <p:spPr>
          <a:xfrm>
            <a:off x="1258920" y="115920"/>
            <a:ext cx="7561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58560" y="-100440"/>
            <a:ext cx="77058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и исследователи высказывают предположение о том, что море названо Белым потому, что оно покрыто льдом большую часть года. Другие полагают, что название происходит от беловатого цвета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ды, отражающей северное небо. И действительно, в любое время года оно остаётся белым: то снег, то дождь,то туман.</a:t>
            </a:r>
            <a:endParaRPr b="0" lang="en-US" sz="27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Picture 4" descr="zakat"/>
          <p:cNvPicPr/>
          <p:nvPr/>
        </p:nvPicPr>
        <p:blipFill>
          <a:blip r:embed="rId1"/>
          <a:stretch/>
        </p:blipFill>
        <p:spPr>
          <a:xfrm>
            <a:off x="1619280" y="3068640"/>
            <a:ext cx="69134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обережье Белого моря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Picture 4" descr="пещеры 054"/>
          <p:cNvPicPr/>
          <p:nvPr/>
        </p:nvPicPr>
        <p:blipFill>
          <a:blip r:embed="rId1"/>
          <a:stretch/>
        </p:blipFill>
        <p:spPr>
          <a:xfrm>
            <a:off x="1547640" y="1268280"/>
            <a:ext cx="69120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Содержимое 4" descr="777211.jpg"/>
          <p:cNvPicPr/>
          <p:nvPr/>
        </p:nvPicPr>
        <p:blipFill>
          <a:blip r:embed="rId1"/>
          <a:stretch/>
        </p:blipFill>
        <p:spPr>
          <a:xfrm>
            <a:off x="1258920" y="260280"/>
            <a:ext cx="7705800" cy="598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0" name="Прямоугольник 2"/>
          <p:cNvSpPr/>
          <p:nvPr/>
        </p:nvSpPr>
        <p:spPr>
          <a:xfrm>
            <a:off x="1403280" y="1859040"/>
            <a:ext cx="748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Температура воды моря сильно меняется в зависимости от времени года. Летом вода  моря прогреваются до 15-16 °C. Зимой температура воды понижается до −1,3…-1,7 °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лое Море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Picture 2" descr="C:\Users\Пользователь\Videos\Pictures\800PX-~1.JPG"/>
          <p:cNvPicPr/>
          <p:nvPr/>
        </p:nvPicPr>
        <p:blipFill>
          <a:blip r:embed="rId1"/>
          <a:stretch/>
        </p:blipFill>
        <p:spPr>
          <a:xfrm>
            <a:off x="1547640" y="148428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Многообразие рыб Белого моря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5" name="Picture 6" descr="сканирование0003"/>
          <p:cNvPicPr/>
          <p:nvPr/>
        </p:nvPicPr>
        <p:blipFill>
          <a:blip r:embed="rId1"/>
          <a:stretch/>
        </p:blipFill>
        <p:spPr>
          <a:xfrm>
            <a:off x="1547640" y="1484280"/>
            <a:ext cx="7201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0000" y="404640"/>
            <a:ext cx="7704000" cy="11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тения Белого моря насчитывает 500 видов водорослей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58560" y="5589720"/>
            <a:ext cx="74278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Ламинария (морская капуста), фукус, бурые, красные и зеленые водоросли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70344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огообразие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ивотного мира Белого моря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7129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6:08:17Z</dcterms:created>
  <dc:creator>Пользователь</dc:creator>
  <dc:description/>
  <dc:language>en-US</dc:language>
  <cp:lastModifiedBy>Учитель</cp:lastModifiedBy>
  <dcterms:modified xsi:type="dcterms:W3CDTF">2022-09-30T09:40:58Z</dcterms:modified>
  <cp:revision>15</cp:revision>
  <dc:subject/>
  <dc:title>Белое Море</dc:title>
</cp:coreProperties>
</file>