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8C1E-7845-45F0-81D2-5784BD062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19DA-C1A5-4859-9C06-5B2E854C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6DE0-DC26-4DF6-9883-97520AC98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6119-D239-483A-9DF2-DF1D0579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FB8E-7187-417C-86C6-C2D16AA74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E9EC-A6E8-44A9-964E-2F0CA22C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C4DE-008A-45BB-BD49-0A12126B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DF2E-6ED7-4BEF-82DA-E96740D1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6DF2-0B28-460A-8692-BA63AA32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B6D6-0805-496F-84E8-F6868C12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0503-42B9-4267-8B9C-9158242C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2264-E611-4C31-9C97-DBC669F4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0FD6-5B75-40C7-A419-A38B0920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6A1F-E380-45F3-92C1-E0CE9D03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5D73-B753-477D-ACF1-65A293E2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7EA5-9309-4DD7-A5C1-62E0BB307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4136-D5C4-4EDB-9099-F8B415DF6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DA76B-710D-4841-BC3E-EB1CCF66E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FF1F2-DC9E-4A8C-B842-066CE902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61F51-41AC-4173-8BC9-F8BA8F95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5AFB3-C41A-4D85-B430-3115666E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00909-2AA9-42B1-AEA5-A98A905C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6BC7-5F56-4F2C-8438-EC3BDDA8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CE9CE-33A2-4600-B831-E0498E59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391A5-D678-43AC-BA95-9C02A30E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F9C89-5031-410F-9E7D-1F954AE9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D1DF5-B1FB-487F-8D2D-DBD3E09D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E74FA-2D72-4872-A0D7-2FAF5E0F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3049D-3F4E-4ED7-8A92-3EA51924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D9E41-E3A4-4331-A160-63029BAE7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00FC4-574D-4898-BB8F-C2F8CC5AB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B5AD5-BFC6-40BC-B2F6-0D2F6192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1C29F-B0AC-4090-83A1-638D8C9E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987F-82A7-4A14-91F2-B2691EEF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F9D4E-4268-45C9-B654-E49423FE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8C1B5-CD6E-417C-9A0E-6E668B0D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9674E-A888-456B-8931-6C568DBF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94AFD-392D-4AF8-87FE-3E6ED0D7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8D05B-98F4-4C59-A638-47933B78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B31B1-BED3-4C54-9363-B35DBD7D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DE9EC-7BD3-4976-85F0-8E752B21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66875-3B0A-4173-B81B-610E25528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BE582-62B2-4668-A9EB-BD255972F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B5588-6057-44EC-9B1A-DC20EAC7F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2889-7116-49FA-9424-BDB090F2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0816B-02EF-413F-ACCA-449320B8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8E79E-B711-480D-9E7C-33D10493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2437A-B995-4BC2-937A-3AA9402A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871D0-FC1F-4BE7-AE76-46ADC8D4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9C237-E360-4558-9B83-1A1EB160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EA9CA-A990-4A43-ADB4-396C12F4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0F966-D1CC-4529-BBB5-13BE9E8F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6BDE8-EC73-460A-8F07-058AF639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811DD-1C5C-45C9-8A02-4910C97C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4D968-1C1C-469C-A58A-C0A67691E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1FDA-0B5E-4ACB-8240-F3132806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E663D-21F0-441D-9C92-F5C4684D8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3C96F-06A1-4048-8153-067955A3B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4CF99-7D8F-4361-BAD0-9307D9BB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33551-8BE5-4861-8F83-82CA7C7D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25F28-E9FD-450F-BD2E-A1771A87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B13D3-4B68-45B6-B672-BD46AC78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89CC7-3DBB-4C80-B2DA-2E4A9DFC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69BC3-4E88-442D-9F78-2463F4BD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0881C-9459-4E18-B016-C2A97AA3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432D1-85CD-43D1-8653-62ED0E74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1930-61FE-4342-8D48-A17DFC3A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EEF1F-CB21-4FB3-819E-A6A82748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7A6B6-9D7D-4EFC-BACE-E0115D8FF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2AC3D-90B0-4C27-98CF-B1FCB94CC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080D8-8711-413E-9D39-8EC84D90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1782A-7F95-47B6-95AD-00CA4DED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3C282-A405-400C-A689-F16E4EAC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E0701-0CA1-45C6-830D-402F09B4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A2203-AA2D-4EE6-963D-9ED67DD7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EEDF8-EE3B-42A9-B421-62F7D399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27E10-B089-431C-A525-CBA5B918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AAC4-2DDD-4DCF-89D2-81851788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3E11E-0D81-4EC3-A764-90DEB9CB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D7EB5-495C-4486-9920-6F992240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82831-544D-435C-A265-3E311D45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89761-2A6F-44A8-9D54-53D08596D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04143-FD35-4CD0-9347-E0315AB92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F9D6-8F6A-4E12-AC67-9B02CEA1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177C-C968-410F-87A1-5B1DA69FD1E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A235-37CF-427B-9CF8-8E80FEB631E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F8A2-0D14-4D9E-98AD-992D5B3C911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14B6-6246-4F9E-A0CB-D352F0151F1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4923-23B1-4BB6-92CF-B730E779599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FED6-65A4-4F0A-8E7A-E385822394B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8B99-6B3E-4299-BD99-D342BA833A1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6920" y="352224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orbel"/>
              </a:rPr>
              <a:t>Белое Море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547640" y="4941360"/>
            <a:ext cx="6400800" cy="1528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a6d7d"/>
                </a:solidFill>
                <a:latin typeface="Times New Roman"/>
                <a:ea typeface="Times New Roman"/>
              </a:rPr>
              <a:t>Работу выполнили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a6d7d"/>
                </a:solidFill>
                <a:latin typeface="Times New Roman"/>
                <a:ea typeface="Times New Roman"/>
              </a:rPr>
              <a:t>Ученики  З «В»  класса гимназии №3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Николаева Екатерина и Харкавая Олеся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2" descr="C:\Users\Пользователь\Videos\Pictures\5096.jpg"/>
          <p:cNvPicPr/>
          <p:nvPr/>
        </p:nvPicPr>
        <p:blipFill>
          <a:blip r:embed="rId1"/>
          <a:stretch/>
        </p:blipFill>
        <p:spPr>
          <a:xfrm>
            <a:off x="1619280" y="324000"/>
            <a:ext cx="6337440" cy="38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4"/>
          <p:cNvSpPr/>
          <p:nvPr/>
        </p:nvSpPr>
        <p:spPr>
          <a:xfrm>
            <a:off x="228600" y="0"/>
            <a:ext cx="8915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Белое море — важный транспортный бассейн страны со значительным объемом грузоперевозок.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5" descr="5df64066bd71d025e5b984d917c"/>
          <p:cNvPicPr/>
          <p:nvPr/>
        </p:nvPicPr>
        <p:blipFill>
          <a:blip r:embed="rId1"/>
          <a:stretch/>
        </p:blipFill>
        <p:spPr>
          <a:xfrm>
            <a:off x="1258920" y="1600200"/>
            <a:ext cx="739152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-695160"/>
            <a:ext cx="74995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5" name="Picture 2" descr="C:\Users\Пользователь\Videos\Pictures\800PX-~2.JPG"/>
          <p:cNvPicPr/>
          <p:nvPr/>
        </p:nvPicPr>
        <p:blipFill>
          <a:blip r:embed="rId1"/>
          <a:stretch/>
        </p:blipFill>
        <p:spPr>
          <a:xfrm>
            <a:off x="1258920" y="2565360"/>
            <a:ext cx="76928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35436a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989000"/>
            <a:ext cx="7499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морей, омывающих Россию, Белое море — одно из самых маленьких . Площадь его поверхности 90 тыс. кв. км (с многочисленными мелкими островами, среди которых наиболее известны Соловецкие острова.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ьшая глубина моря 340 метров, средняя — 67 метров.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елое море впадают реки Северная Двина, Онега, Мезень.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рты: Архангельск, Северодвинск, Онега, Беломорск, Кандалакша, Кемь, Мезень.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Picture 5" descr="бел"/>
          <p:cNvPicPr/>
          <p:nvPr/>
        </p:nvPicPr>
        <p:blipFill>
          <a:blip r:embed="rId1"/>
          <a:stretch/>
        </p:blipFill>
        <p:spPr>
          <a:xfrm>
            <a:off x="1258920" y="115920"/>
            <a:ext cx="75610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58560" y="-100440"/>
            <a:ext cx="77058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ни исследователи высказывают предположение о том, что море названо Белым потому, что оно покрыто льдом большую часть года. Другие полагают, что название происходит от беловатого цвета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ды, отражающей северное небо. И действительно, в любое время года оно остаётся белым: то снег, то дождь,то туман.</a:t>
            </a:r>
            <a:endParaRPr b="0" lang="en-US" sz="27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5" name="Picture 4" descr="zakat"/>
          <p:cNvPicPr/>
          <p:nvPr/>
        </p:nvPicPr>
        <p:blipFill>
          <a:blip r:embed="rId1"/>
          <a:stretch/>
        </p:blipFill>
        <p:spPr>
          <a:xfrm>
            <a:off x="1619280" y="3068640"/>
            <a:ext cx="69134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бережье Белого моря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7" name="Picture 4" descr="пещеры 054"/>
          <p:cNvPicPr/>
          <p:nvPr/>
        </p:nvPicPr>
        <p:blipFill>
          <a:blip r:embed="rId1"/>
          <a:stretch/>
        </p:blipFill>
        <p:spPr>
          <a:xfrm>
            <a:off x="1547640" y="1268280"/>
            <a:ext cx="69120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9" name="Содержимое 4" descr="777211.jpg"/>
          <p:cNvPicPr/>
          <p:nvPr/>
        </p:nvPicPr>
        <p:blipFill>
          <a:blip r:embed="rId1"/>
          <a:stretch/>
        </p:blipFill>
        <p:spPr>
          <a:xfrm>
            <a:off x="1258920" y="260280"/>
            <a:ext cx="7705800" cy="598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30" name="Прямоугольник 2"/>
          <p:cNvSpPr/>
          <p:nvPr/>
        </p:nvSpPr>
        <p:spPr>
          <a:xfrm>
            <a:off x="1403280" y="1859040"/>
            <a:ext cx="7489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Температура воды моря сильно меняется в зависимости от времени года. Летом вода  моря прогреваются до 15-16 °C. Зимой температура воды понижается до −1,3…-1,7 °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лое Море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Picture 2" descr="C:\Users\Пользователь\Videos\Pictures\800PX-~1.JPG"/>
          <p:cNvPicPr/>
          <p:nvPr/>
        </p:nvPicPr>
        <p:blipFill>
          <a:blip r:embed="rId1"/>
          <a:stretch/>
        </p:blipFill>
        <p:spPr>
          <a:xfrm>
            <a:off x="1547640" y="148428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Многообразие рыб Белого моря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5" name="Picture 6" descr="сканирование0003"/>
          <p:cNvPicPr/>
          <p:nvPr/>
        </p:nvPicPr>
        <p:blipFill>
          <a:blip r:embed="rId1"/>
          <a:stretch/>
        </p:blipFill>
        <p:spPr>
          <a:xfrm>
            <a:off x="1547640" y="1484280"/>
            <a:ext cx="7201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0000" y="404640"/>
            <a:ext cx="770400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тения Белого моря насчитывает 500 видов водорослей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58560" y="5589720"/>
            <a:ext cx="74278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Ламинария (морская капуста), фукус, бурые, красные и зеленые водоросли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70344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ногообразие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ивотного мира Белого моря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7129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6:08:17Z</dcterms:created>
  <dc:creator>Пользователь</dc:creator>
  <dc:description/>
  <dc:language>en-US</dc:language>
  <cp:lastModifiedBy>Учитель</cp:lastModifiedBy>
  <dcterms:modified xsi:type="dcterms:W3CDTF">2022-09-30T09:40:58Z</dcterms:modified>
  <cp:revision>15</cp:revision>
  <dc:subject/>
  <dc:title>Белое Море</dc:title>
</cp:coreProperties>
</file>