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24.png" ContentType="image/png"/>
  <Override PartName="/ppt/media/image2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gif" ContentType="image/gif"/>
  <Override PartName="/ppt/media/image19.jpeg" ContentType="image/jpeg"/>
  <Override PartName="/ppt/media/image21.jpeg" ContentType="image/jpeg"/>
  <Override PartName="/ppt/media/image36.gif" ContentType="image/gif"/>
  <Override PartName="/ppt/media/image64.jpeg" ContentType="image/jpeg"/>
  <Override PartName="/ppt/media/image7.jpeg" ContentType="image/jpeg"/>
  <Override PartName="/ppt/media/image20.jpeg" ContentType="image/jpeg"/>
  <Override PartName="/ppt/media/image6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54.jpeg" ContentType="image/jpe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1.jpeg" ContentType="image/jpeg"/>
  <Override PartName="/ppt/media/image57.jpeg" ContentType="image/jpeg"/>
  <Override PartName="/ppt/media/image55.jpeg" ContentType="image/jpeg"/>
  <Override PartName="/ppt/media/image43.png" ContentType="image/pn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BC0-9A21-4FF5-B7BE-CC2832A4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351-2FD5-4DF0-A3F6-5D32D0E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2A5-B5D4-4CF9-99A2-E4680FC6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AC5-739F-4791-9EED-7D4C0CF9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2398-584A-480A-8CBE-86AFE58D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12E3-0C92-4E53-A172-FF9EB0C9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FCB4-10B7-4F91-B769-6FDC34E8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4DE6-3C6C-4018-8352-074EA619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638A-659F-4C84-BD64-FE9E63AD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940B-FD9B-436B-ABEE-FA0EF5DF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54C-0430-4564-A462-1A5BB68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8A3-03E7-4C7B-A1F9-48B93D0D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8C68-CD69-4201-9DCD-DFB47E9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6B77-03A3-4F7F-AB94-FC7BA27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4396-611B-4EBE-B6EB-CAF1734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19FF-B25A-4FB3-B7EA-90E7F7F2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346-D3A2-4FCE-BE37-5E415EC2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4511-BFC9-45C7-9652-56F04306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F7A-BD1F-4B1A-8676-B25258F2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773-3EC2-40DF-905A-E7B030AC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8EC-0262-45AB-8CA9-07E9BF0A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FEF-4EBF-4AE2-959D-6ADE9FB4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7FE-8FDB-4517-ABEC-CFA743CD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124-1393-45A4-BD75-772E9EFF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0D4-AFD4-4129-8DEF-F2B0246F73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DDFF-6AF8-4428-BE43-AEB99FDECE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pochenskayashkola-ru.tut.su/images/page/image007.jpg" TargetMode="External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salvi.ru/wp-content/uploads/2008/06/0017.jpg" TargetMode="External"/><Relationship Id="rId2" Type="http://schemas.openxmlformats.org/officeDocument/2006/relationships/image" Target="../media/image6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ogicweb.ru/img1/fot83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7"/>
          <p:cNvSpPr txBox="1"/>
          <p:nvPr/>
        </p:nvSpPr>
        <p:spPr>
          <a:xfrm>
            <a:off x="1042920" y="2133720"/>
            <a:ext cx="6553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Великая война 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еликая Победа!"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Волосы сожженных в крематориях  женщин упаковывали в мешки и отправляли на мебельные фабрики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3" descr="в"/>
          <p:cNvPicPr/>
          <p:nvPr/>
        </p:nvPicPr>
        <p:blipFill>
          <a:blip r:embed="rId1"/>
          <a:stretch/>
        </p:blipFill>
        <p:spPr>
          <a:xfrm>
            <a:off x="900000" y="2708280"/>
            <a:ext cx="6913800" cy="378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Следы фашистских палачей в концлагере Освенци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3" descr="в"/>
          <p:cNvPicPr/>
          <p:nvPr/>
        </p:nvPicPr>
        <p:blipFill>
          <a:blip r:embed="rId1"/>
          <a:stretch/>
        </p:blipFill>
        <p:spPr>
          <a:xfrm>
            <a:off x="826920" y="1600200"/>
            <a:ext cx="7274160" cy="50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65360" cy="3024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789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28472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Юные узники Освенц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4067280" y="260280"/>
            <a:ext cx="2611440" cy="2735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804000" y="5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зники фашизма в Карелии, г.Петрозавод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зники Бухенва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8" descr="0658"/>
          <p:cNvPicPr/>
          <p:nvPr/>
        </p:nvPicPr>
        <p:blipFill>
          <a:blip r:embed="rId4"/>
          <a:stretch/>
        </p:blipFill>
        <p:spPr>
          <a:xfrm>
            <a:off x="179280" y="4221000"/>
            <a:ext cx="357516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9"/>
          <p:cNvSpPr txBox="1"/>
          <p:nvPr/>
        </p:nvSpPr>
        <p:spPr>
          <a:xfrm rot="20953800">
            <a:off x="3924360" y="3428640"/>
            <a:ext cx="4968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6648000"/>
                </a:gradFill>
                <a:latin typeface="Times New Roman"/>
              </a:rPr>
              <a:t>Ужасы концлаге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6648000"/>
              </a:gradFill>
              <a:latin typeface="Times New Roman"/>
              <a:ea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04292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агерь Аушви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Освобожденные из концлагеря Освенци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3" name="Picture 3" descr="в"/>
          <p:cNvPicPr/>
          <p:nvPr/>
        </p:nvPicPr>
        <p:blipFill>
          <a:blip r:embed="rId1"/>
          <a:stretch/>
        </p:blipFill>
        <p:spPr>
          <a:xfrm>
            <a:off x="2306520" y="1600200"/>
            <a:ext cx="4530960" cy="4495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450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о и в эти тяжелые месяцы советские воины героически сражались с врагом. Защитники Брестской крепости держались целый месяц уже после того, как линия фронта передвинулась далеко на восто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IMG2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600200" y="685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щитники Брестской креп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Битва за Москву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 rot="20493000">
            <a:off x="406440" y="1990440"/>
            <a:ext cx="4724280" cy="28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Москва 41"/>
          <p:cNvPicPr/>
          <p:nvPr/>
        </p:nvPicPr>
        <p:blipFill>
          <a:blip r:embed="rId2"/>
          <a:stretch/>
        </p:blipFill>
        <p:spPr>
          <a:xfrm rot="931200">
            <a:off x="4829040" y="2619000"/>
            <a:ext cx="39816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43280" y="475920"/>
            <a:ext cx="417672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конце 1941 года враг стоял в нескольких десятках километрах от Москвы, а Ленинград был полностью окружен. Но немецкий план закончить войну осенью был сорван. В результате контрнаступления Красной Армии под Москвой в декабре 1941 года немцы были отброшен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3" descr="Москва"/>
          <p:cNvPicPr/>
          <p:nvPr/>
        </p:nvPicPr>
        <p:blipFill>
          <a:blip r:embed="rId1"/>
          <a:stretch/>
        </p:blipFill>
        <p:spPr>
          <a:xfrm>
            <a:off x="533520" y="304920"/>
            <a:ext cx="420192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i-main-pic" descr="Картинка 2 из 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22200" y="6093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локада Ленингра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енинград, находящийся в блокаде, мужественно держался — несмотря на то, что самой страшной блокадной зимой 1941-42 гг. от голода и холода погибли сотни тысяч мирных ленинградц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Ленинград блокада"/>
          <p:cNvPicPr/>
          <p:nvPr/>
        </p:nvPicPr>
        <p:blipFill>
          <a:blip r:embed="rId1"/>
          <a:stretch/>
        </p:blipFill>
        <p:spPr>
          <a:xfrm>
            <a:off x="0" y="0"/>
            <a:ext cx="91440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gradFill rotWithShape="0">
            <a:gsLst>
              <a:gs pos="0">
                <a:srgbClr val="720000">
                  <a:alpha val="76078"/>
                </a:srgbClr>
              </a:gs>
              <a:gs pos="50000">
                <a:srgbClr val="ff3300">
                  <a:alpha val="67058"/>
                </a:srgbClr>
              </a:gs>
              <a:gs pos="100000">
                <a:srgbClr val="720000">
                  <a:alpha val="76078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Отцы на фронт, дети на завод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380880" y="762120"/>
            <a:ext cx="8534520" cy="6494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Tahoma"/>
              </a:rPr>
              <a:t>22 июня 1941 год</a:t>
            </a:r>
            <a:br>
              <a:rPr sz="6000"/>
            </a:br>
            <a:r>
              <a:rPr b="1" lang="en-US" sz="6000" spc="-1" strike="noStrike">
                <a:solidFill>
                  <a:srgbClr val="ff6600"/>
                </a:solidFill>
                <a:latin typeface="Tahoma"/>
              </a:rPr>
              <a:t>4 часа утра,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без объявления войны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германские войска напали на нашу страну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2_Левитан_начало_войны.mp3" descr=""/>
          <p:cNvPicPr/>
          <p:nvPr/>
        </p:nvPicPr>
        <p:blipFill>
          <a:blip r:embed="rId1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6238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Сталинградская битва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3600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44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том 1942 года началось наступление немецких частей на Сталинград. Несколько месяцев отборные части вермахта штурмовали город. Сталинград был превращен в руины, но сражавшиеся за каждый дом советские солдаты выстояли и перешли в наступл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Со  второго полугодия 1941 года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стали больше выпускать военной техни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Picture 3" descr="в"/>
          <p:cNvPicPr/>
          <p:nvPr/>
        </p:nvPicPr>
        <p:blipFill>
          <a:blip r:embed="rId1"/>
          <a:stretch/>
        </p:blipFill>
        <p:spPr>
          <a:xfrm>
            <a:off x="1258920" y="1700280"/>
            <a:ext cx="6767640" cy="48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Учащиеся ремесленных училищ выпускали вооружение и боеприпа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3" name="Picture 3" descr="в"/>
          <p:cNvPicPr/>
          <p:nvPr/>
        </p:nvPicPr>
        <p:blipFill>
          <a:blip r:embed="rId1"/>
          <a:stretch/>
        </p:blipFill>
        <p:spPr>
          <a:xfrm>
            <a:off x="1547640" y="1989000"/>
            <a:ext cx="6553440" cy="4530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Tahoma"/>
              </a:rPr>
              <a:t>На многих предприятиях основную рабочую силу составляли девушки- подростк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3" descr="в"/>
          <p:cNvPicPr/>
          <p:nvPr/>
        </p:nvPicPr>
        <p:blipFill>
          <a:blip r:embed="rId1"/>
          <a:stretch/>
        </p:blipFill>
        <p:spPr>
          <a:xfrm>
            <a:off x="1332000" y="1989000"/>
            <a:ext cx="6419880" cy="45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Историческое :: Фотографии Великой Отечественной Войны фото 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4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219640" y="549360"/>
            <a:ext cx="3673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в немецком тылу разгорелась партизанская война. Летели под откос вражеские эшелоны, уничтожались отряды карателей и предатели-полицаи. На действия партизан фашисты ответили террором против мирного населения, но исход войны уже был предреше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Партизаны"/>
          <p:cNvPicPr/>
          <p:nvPr/>
        </p:nvPicPr>
        <p:blipFill>
          <a:blip r:embed="rId1"/>
          <a:stretch/>
        </p:blipFill>
        <p:spPr>
          <a:xfrm>
            <a:off x="250920" y="333360"/>
            <a:ext cx="4819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50036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29.12.41 г. Я чувствую себя хорошо, здоров и силен. Можешь меня поздрави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Я сейчас майор, по работе имею большое повышение -- зам командира бриг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До того времени командовал полком. Не один полк немцев разгроми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со своими бойцами. Особенно это было на своей родине (Белоруссия. -- Ю.Л.)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Но это все только ягодки. Мы им сейчас основательно даем, недалек тот день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когда так дадим, что им места не будет в своем зверинце. Разгромим бандитов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легче жить будем. Отомстим им за все то, что они сделали над нашим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городами и народом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Крепко целую своих милых детей, милую Зиночку. Твой Ян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Мой адрес: Действующая Красная Армия, ППС №127, часть Радкевича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Berlin Sans FB"/>
              </a:rPr>
              <a:t>майору И.И. Якубовскому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ИТАР-ТАСС"/>
          <p:cNvPicPr/>
          <p:nvPr/>
        </p:nvPicPr>
        <p:blipFill>
          <a:blip r:embed="rId1"/>
          <a:stretch/>
        </p:blipFill>
        <p:spPr>
          <a:xfrm>
            <a:off x="5076720" y="189000"/>
            <a:ext cx="3872160" cy="39607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5356080" y="4876920"/>
            <a:ext cx="325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5003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1200"/>
            </a:br>
            <a:br>
              <a:rPr sz="1200"/>
            </a:b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05.03.42 г. Шлю вам свой сердечный отцовский привет с фронта Великой  Отечественной и желаю счастливой жизни. Я здоров и чувствую себя хорош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Громлю германских бандитов. Милые детки пусть растут такие же сильны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как их папа. Работаю на совесть, сама знаешь мою прилежность к работ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Занимаю должность такую, как занимал тов. Лазаре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(командир 91-й танковой бригады. -- Ю.Л.). Дорогая Зиночка, послал теб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erlin Sans FB"/>
              </a:rPr>
              <a:t>справку и аттестат на 1500 руб. по адресу: горвоенкомат города Намангана.</a:t>
            </a:r>
            <a:br>
              <a:rPr sz="2000"/>
            </a:br>
            <a:br>
              <a:rPr sz="12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ИТАР-ТАСС"/>
          <p:cNvPicPr/>
          <p:nvPr/>
        </p:nvPicPr>
        <p:blipFill>
          <a:blip r:embed="rId1"/>
          <a:stretch/>
        </p:blipFill>
        <p:spPr>
          <a:xfrm>
            <a:off x="5076720" y="189000"/>
            <a:ext cx="3872160" cy="3960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356080" y="4876920"/>
            <a:ext cx="325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:\Documents and Settings\Ada.nEt.naT\Рабочий стол\мой кл. час\candle.gif"/>
          <p:cNvPicPr/>
          <p:nvPr/>
        </p:nvPicPr>
        <p:blipFill>
          <a:blip r:embed="rId1"/>
          <a:stretch/>
        </p:blipFill>
        <p:spPr>
          <a:xfrm>
            <a:off x="0" y="1429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Ada.nEt.naT\Рабочий стол\мой кл. час\candle.gif"/>
          <p:cNvPicPr/>
          <p:nvPr/>
        </p:nvPicPr>
        <p:blipFill>
          <a:blip r:embed="rId2"/>
          <a:stretch/>
        </p:blipFill>
        <p:spPr>
          <a:xfrm>
            <a:off x="7905600" y="142920"/>
            <a:ext cx="1238400" cy="1238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285840"/>
            <a:ext cx="6324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Пионеры- герои в годы Великой Отечественной войн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2" descr="C:\Documents and Settings\Ada.nEt.naT\Рабочий стол\классный\11091016224061625367.jpeg"/>
          <p:cNvPicPr/>
          <p:nvPr/>
        </p:nvPicPr>
        <p:blipFill>
          <a:blip r:embed="rId3"/>
          <a:stretch/>
        </p:blipFill>
        <p:spPr>
          <a:xfrm>
            <a:off x="3643200" y="2643120"/>
            <a:ext cx="5500800" cy="350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Ada.nEt.naT\Рабочий стол\классный\post-3185-1169164033_thumb.jpg"/>
          <p:cNvPicPr/>
          <p:nvPr/>
        </p:nvPicPr>
        <p:blipFill>
          <a:blip r:embed="rId4"/>
          <a:stretch/>
        </p:blipFill>
        <p:spPr>
          <a:xfrm rot="20614200">
            <a:off x="271440" y="1875960"/>
            <a:ext cx="3000240" cy="235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Ada.nEt.naT\Рабочий стол\мой кл. час\1069.jpg"/>
          <p:cNvPicPr/>
          <p:nvPr/>
        </p:nvPicPr>
        <p:blipFill>
          <a:blip r:embed="rId5"/>
          <a:stretch/>
        </p:blipFill>
        <p:spPr>
          <a:xfrm rot="20871000">
            <a:off x="1214280" y="4500360"/>
            <a:ext cx="196056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4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4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Ada.nEt.naT\Рабочий стол\мой кл. час\0_1568e_4b63846d_X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Documents and Settings\Ada.nEt.naT\Рабочий стол\мой кл. час\109572_image_large.jpg"/>
          <p:cNvPicPr/>
          <p:nvPr/>
        </p:nvPicPr>
        <p:blipFill>
          <a:blip r:embed="rId2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838080" y="3048120"/>
            <a:ext cx="1524240" cy="20574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83808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ёня Гол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4"/>
          <a:stretch/>
        </p:blipFill>
        <p:spPr>
          <a:xfrm>
            <a:off x="2057400" y="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9"/>
          <p:cNvSpPr/>
          <p:nvPr/>
        </p:nvSpPr>
        <p:spPr>
          <a:xfrm>
            <a:off x="22096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ся Коробк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5"/>
          <a:stretch/>
        </p:blipFill>
        <p:spPr>
          <a:xfrm>
            <a:off x="4952880" y="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5029200" y="20574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0000"/>
                </a:solidFill>
                <a:latin typeface="Tahoma"/>
              </a:rPr>
              <a:t>Валя Кот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6"/>
          <a:stretch/>
        </p:blipFill>
        <p:spPr>
          <a:xfrm>
            <a:off x="7238880" y="0"/>
            <a:ext cx="190512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3"/>
          <p:cNvSpPr/>
          <p:nvPr/>
        </p:nvSpPr>
        <p:spPr>
          <a:xfrm>
            <a:off x="7391520" y="21337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рат Каз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11" descr=""/>
          <p:cNvPicPr/>
          <p:nvPr/>
        </p:nvPicPr>
        <p:blipFill>
          <a:blip r:embed="rId7"/>
          <a:stretch/>
        </p:blipFill>
        <p:spPr>
          <a:xfrm>
            <a:off x="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5"/>
          <p:cNvSpPr/>
          <p:nvPr/>
        </p:nvSpPr>
        <p:spPr>
          <a:xfrm>
            <a:off x="0" y="2209680"/>
            <a:ext cx="1981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ш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одул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1524240" cy="2210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7"/>
          <p:cNvSpPr/>
          <p:nvPr/>
        </p:nvSpPr>
        <p:spPr>
          <a:xfrm>
            <a:off x="7315200" y="5257800"/>
            <a:ext cx="1371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и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но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сторическое :: Фотографии Великой Отечественной Войны фото 2"/>
          <p:cNvPicPr/>
          <p:nvPr/>
        </p:nvPicPr>
        <p:blipFill>
          <a:blip r:embed="rId1"/>
          <a:stretch/>
        </p:blipFill>
        <p:spPr>
          <a:xfrm rot="256800">
            <a:off x="5148000" y="1557360"/>
            <a:ext cx="356868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304920" y="304920"/>
            <a:ext cx="8534160" cy="19220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22 июня 1941 год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4 часа утра, </a:t>
            </a:r>
            <a:br>
              <a:rPr sz="32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без объявления войны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германские войска напали на нашу стра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5" descr="вулкан 003"/>
          <p:cNvPicPr/>
          <p:nvPr/>
        </p:nvPicPr>
        <p:blipFill>
          <a:blip r:embed="rId2"/>
          <a:stretch/>
        </p:blipFill>
        <p:spPr>
          <a:xfrm rot="21234600">
            <a:off x="761760" y="2514240"/>
            <a:ext cx="3497040" cy="4343400"/>
          </a:xfrm>
          <a:prstGeom prst="rect">
            <a:avLst/>
          </a:prstGeom>
          <a:ln w="0">
            <a:noFill/>
          </a:ln>
        </p:spPr>
      </p:pic>
      <p:pic>
        <p:nvPicPr>
          <p:cNvPr id="95" name="Minusovki.MpTri.Net voennie_-_svyashennaya_voyna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-main-pic" descr="Картинка 6 из 5406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1295280" y="19051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914400" y="1447920"/>
            <a:ext cx="7696080" cy="3429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553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есни военных л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i-main-pic" descr="Картинка 126 из 533"/>
          <p:cNvPicPr/>
          <p:nvPr/>
        </p:nvPicPr>
        <p:blipFill>
          <a:blip r:embed="rId1"/>
          <a:stretch/>
        </p:blipFill>
        <p:spPr>
          <a:xfrm>
            <a:off x="324000" y="189000"/>
            <a:ext cx="5079960" cy="378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Историческое :: Фотографии Великой Отечественной Войны фото 72"/>
          <p:cNvPicPr/>
          <p:nvPr/>
        </p:nvPicPr>
        <p:blipFill>
          <a:blip r:embed="rId2"/>
          <a:stretch/>
        </p:blipFill>
        <p:spPr>
          <a:xfrm>
            <a:off x="4822920" y="3619440"/>
            <a:ext cx="4321080" cy="323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703101492"/>
          <p:cNvPicPr/>
          <p:nvPr/>
        </p:nvPicPr>
        <p:blipFill>
          <a:blip r:embed="rId3"/>
          <a:stretch/>
        </p:blipFill>
        <p:spPr>
          <a:xfrm rot="340800">
            <a:off x="5364000" y="476280"/>
            <a:ext cx="3529080" cy="2754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pic4"/>
          <p:cNvPicPr/>
          <p:nvPr/>
        </p:nvPicPr>
        <p:blipFill>
          <a:blip r:embed="rId4"/>
          <a:stretch/>
        </p:blipFill>
        <p:spPr>
          <a:xfrm>
            <a:off x="611280" y="414972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Историческое :: Фотографии Великой Отечественной Войны фото 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Историческое :: Фотографии Великой Отечественной Войны фото 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Весной 1945 года советские и союзнические войска вступили на территорию Германии. Началась завершающая Берлинская операция, в которой советскими войсками командовал маршал Г.К. Жуков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Picture 4" descr="Военнопленные нем"/>
          <p:cNvPicPr/>
          <p:nvPr/>
        </p:nvPicPr>
        <p:blipFill>
          <a:blip r:embed="rId1"/>
          <a:stretch/>
        </p:blipFill>
        <p:spPr>
          <a:xfrm>
            <a:off x="1219320" y="24382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86" name="kapitulyacia_germany.mp3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50247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За свою победу страна заплатила огромную цену: около 27 млн. человек погибло, миллионы остались калеками и инвалидами, была уничтожена треть национального достояния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8" name="Picture 4" descr="3d1b51d0d22f"/>
          <p:cNvPicPr/>
          <p:nvPr/>
        </p:nvPicPr>
        <p:blipFill>
          <a:blip r:embed="rId1"/>
          <a:stretch/>
        </p:blipFill>
        <p:spPr>
          <a:xfrm>
            <a:off x="1295280" y="2209680"/>
            <a:ext cx="678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Удар по улицам Берл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4" descr="в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Автографы победителей на стенах рейхстаг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" name="Picture 4" descr="в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алют Победы в Москве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9 мая 1945 г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в"/>
          <p:cNvPicPr/>
          <p:nvPr/>
        </p:nvPicPr>
        <p:blipFill>
          <a:blip r:embed="rId1"/>
          <a:stretch/>
        </p:blipFill>
        <p:spPr>
          <a:xfrm>
            <a:off x="17524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Победа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6" name="Picture 8" descr="0_27e55_64f69746_L"/>
          <p:cNvPicPr/>
          <p:nvPr/>
        </p:nvPicPr>
        <p:blipFill>
          <a:blip r:embed="rId1"/>
          <a:stretch/>
        </p:blipFill>
        <p:spPr>
          <a:xfrm rot="20784600">
            <a:off x="533160" y="1599840"/>
            <a:ext cx="3973320" cy="4851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_55389_6361bd61_XL"/>
          <p:cNvPicPr/>
          <p:nvPr/>
        </p:nvPicPr>
        <p:blipFill>
          <a:blip r:embed="rId2"/>
          <a:stretch/>
        </p:blipFill>
        <p:spPr>
          <a:xfrm rot="652200">
            <a:off x="4223880" y="1606320"/>
            <a:ext cx="49165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59.jpg"/>
          <p:cNvPicPr/>
          <p:nvPr/>
        </p:nvPicPr>
        <p:blipFill>
          <a:blip r:embed="rId1"/>
          <a:stretch/>
        </p:blipFill>
        <p:spPr>
          <a:xfrm>
            <a:off x="1905120" y="380880"/>
            <a:ext cx="5364000" cy="3962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4402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Начало войн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4495680"/>
            <a:ext cx="822960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 4 часа утра 22 июня 1941 года войска фашистской Германии (5,5 миллионов человек) перешли границы Советского Союза, немецкие самолеты (5 тысяч) начали бомбить советские города, воинские части и аэродромы. На первом этапе Великой Отечественной войны (1941-1942 гг.) Красная Армия терпела одно поражение за другим, отходя все дальше в глубь страны. Около двух миллионов советских солдат попало в плен или погибл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етераны Великой Отечественной вой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9" name="Picture 4" descr="9%20may"/>
          <p:cNvPicPr/>
          <p:nvPr/>
        </p:nvPicPr>
        <p:blipFill>
          <a:blip r:embed="rId1"/>
          <a:stretch/>
        </p:blipFill>
        <p:spPr>
          <a:xfrm>
            <a:off x="2895480" y="144792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200" name="ПЕСНИ_ПОБЕДЫ_-_Песня_из_к_ф_Офицеры_(mp3ostrov.com).mp3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ahoma"/>
              </a:rPr>
              <a:t>Могила Неизвестного солдата в Москв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2" name="Picture 4" descr="в"/>
          <p:cNvPicPr/>
          <p:nvPr/>
        </p:nvPicPr>
        <p:blipFill>
          <a:blip r:embed="rId1"/>
          <a:stretch/>
        </p:blipFill>
        <p:spPr>
          <a:xfrm>
            <a:off x="1828800" y="1981080"/>
            <a:ext cx="5494320" cy="4496040"/>
          </a:xfrm>
          <a:prstGeom prst="rect">
            <a:avLst/>
          </a:prstGeom>
          <a:ln w="0">
            <a:noFill/>
          </a:ln>
        </p:spPr>
      </p:pic>
      <p:pic>
        <p:nvPicPr>
          <p:cNvPr id="203" name="ПЕСНИ_ПОБЕДЫ_-_Песня_из_к_ф_Офицеры_(mp3ostrov.com).mp3" descr=""/>
          <p:cNvPicPr/>
          <p:nvPr/>
        </p:nvPicPr>
        <p:blipFill>
          <a:blip r:embed="rId2"/>
          <a:stretch/>
        </p:blipFill>
        <p:spPr>
          <a:xfrm>
            <a:off x="8839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ahoma"/>
              </a:rPr>
              <a:t>Мемориал на Мамаевом кургане в Волгоград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5" name="Picture 4" descr="в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ahoma"/>
              </a:rPr>
              <a:t>Курган Слав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Picture 4" descr="в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Картинка 50 из 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0"/>
            <a:ext cx="337176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i-main-pic" descr="Картинка 414 из 532"/>
          <p:cNvPicPr/>
          <p:nvPr/>
        </p:nvPicPr>
        <p:blipFill>
          <a:blip r:embed="rId3"/>
          <a:stretch/>
        </p:blipFill>
        <p:spPr>
          <a:xfrm>
            <a:off x="5219640" y="0"/>
            <a:ext cx="36864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Картинка 24 из 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533520"/>
            <a:ext cx="7696440" cy="5943600"/>
          </a:xfrm>
          <a:prstGeom prst="rect">
            <a:avLst/>
          </a:prstGeom>
          <a:ln w="0">
            <a:noFill/>
          </a:ln>
        </p:spPr>
      </p:pic>
      <p:pic>
        <p:nvPicPr>
          <p:cNvPr id="211" name="Музыка_из_кино_-_От_героев_былых_времён...(из_кинофильма_ОФИЦЕРЫ)_(mp3ostrov.com)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9760"/>
          </a:xfrm>
          <a:prstGeom prst="rect">
            <a:avLst/>
          </a:prstGeom>
          <a:noFill/>
          <a:ln w="9360">
            <a:solidFill>
              <a:srgbClr val="ffffff"/>
            </a:solidFill>
            <a:prstDash val="lgDashDotDot"/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« Русский должен умереть, чтоб мы жили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3" descr="в"/>
          <p:cNvPicPr/>
          <p:nvPr/>
        </p:nvPicPr>
        <p:blipFill>
          <a:blip r:embed="rId1"/>
          <a:stretch/>
        </p:blipFill>
        <p:spPr>
          <a:xfrm>
            <a:off x="1692360" y="1746360"/>
            <a:ext cx="662472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Людоедские действия фашисто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3" descr="в"/>
          <p:cNvPicPr/>
          <p:nvPr/>
        </p:nvPicPr>
        <p:blipFill>
          <a:blip r:embed="rId1"/>
          <a:stretch/>
        </p:blipFill>
        <p:spPr>
          <a:xfrm>
            <a:off x="611280" y="1413000"/>
            <a:ext cx="81374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3" descr="в"/>
          <p:cNvPicPr/>
          <p:nvPr/>
        </p:nvPicPr>
        <p:blipFill>
          <a:blip r:embed="rId1"/>
          <a:stretch/>
        </p:blipFill>
        <p:spPr>
          <a:xfrm>
            <a:off x="0" y="-950760"/>
            <a:ext cx="9144000" cy="7808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Горели города, села, деревн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3" descr="в"/>
          <p:cNvPicPr/>
          <p:nvPr/>
        </p:nvPicPr>
        <p:blipFill>
          <a:blip r:embed="rId1"/>
          <a:stretch/>
        </p:blipFill>
        <p:spPr>
          <a:xfrm>
            <a:off x="1550880" y="1600200"/>
            <a:ext cx="603900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Картинка 83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523880"/>
            <a:ext cx="7162920" cy="4929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380880" y="2286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Тысячи советских граждан были угнаны в концлаге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2-01-09T18:32:11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