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F3D2-C3CB-476B-8939-BD415B085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992F-F74E-44BF-9BB3-5104286D40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FEB4-2172-48A8-BD88-E7AA86BB2F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0D5-6F12-4813-99FD-9B093793A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2ED1-64D7-42D6-9191-B61D1DC20B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05CC-D755-495B-8F86-CC5DACCF12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9819-A2AB-4FD8-B59D-1A3206F03D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A8DC-DBA2-4024-94E7-EAAF615D1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DE5D-C50A-4813-B45B-7E9D30152A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57B-FF92-492B-A52C-5E3C177D4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51ED-3AEA-4AFE-AC5E-358CDDC2F9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2C0-D4F1-401E-AB4D-A1F4A91B6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9FC5-3FEE-4C48-B5A2-324815EF5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FC4-80ED-4B7D-AF9C-DA8B4516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43D-2020-4762-8FF5-DFD6B28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401-A4B3-4CFC-B7C2-7FDDC020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45F-285A-4718-8B76-BEC1E98D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2D9B-9DF6-4113-9F42-350DE2DD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3F71-6A14-4DD2-A843-C045345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3B59-F887-445E-8547-ADA2C0EF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891A-FDC2-4A1C-8B8F-7ED86E5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4F93-BAB2-4286-8352-CC534763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EFED-928F-48B8-8A4E-B9E6976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12C7-9DB2-4B91-9DE5-43A9F227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10E-E873-46FA-9225-4D36FFC8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9B4B-6E37-4E98-A94C-4AA100B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4291-112D-4A25-8341-C44C0866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69CC-1A72-429D-A867-92DA2210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37D5-C46E-4CBB-880B-31F7E10A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458-31CA-4E4F-920B-19FE3AF5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93313-6380-438A-B178-58B95975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8A62C-066A-4059-9285-D1F9FD6C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4F69-4B6F-48BA-85F0-98D578A2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0D1AE-C04D-43E2-8BD8-82AD3837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578F-FBA0-47DE-AE86-6EBA7C9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B58-9390-427C-8D45-613E1F8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ABCA-A81C-4D8D-9719-D944D48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23B1-24B1-4F28-A082-111181F4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3FC2E-AC12-472C-BF9A-62387CFA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17AF-E2C6-4675-95BE-144093B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9178-685C-4996-9628-BC59E672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BB4E-0F89-4077-881D-15898F5E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7A4A-6657-4F3F-A2B4-65D4A839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951D3-D014-419A-BFC7-A332E673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D692-8F7D-498C-9709-7C2DBA0F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58D3-D151-4652-980C-0E112A0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F00-4732-4E3D-B81E-6010CE4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98D1B-4F0D-4B51-8888-6333274D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2AAA5-E06B-4504-B00A-A184CF42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B9D16-E780-4C4C-9CE9-D2C251B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E2D09-21E8-466E-A5A8-734D749A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0F155-76A0-49C3-A25D-117BD33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6DED4-41F5-4655-B674-C822B348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3A78-AE99-4161-BCF5-CB5F4533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5F710-21E4-4A3C-B9EC-26F37139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AADF-95FF-41C1-8176-C9A6FBEF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37C9-28D7-4982-888E-34CC879A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381-F871-4C04-856D-1DC7B741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F5B9B-3F7B-433D-829E-818F692A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3EB6-5A40-4DA0-8C61-7181B062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8E860-2FC9-4A9A-8C9D-D0AFC95B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0D886-6CAD-441F-A4C6-2ABF347D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6BB5-6A5C-45E8-AED7-1BE676AB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487E-1D3A-415F-B6D2-5D4B6DBF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A210-266B-4278-8BFC-A9E2039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9FC62-C4C1-46CE-B44E-6519C9B5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CD5E8-8602-471C-8E64-E3AA1D68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6739-F24F-4628-8517-953764BB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11D5-A2E4-4999-9DB3-EB36F443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199CD-A7D5-4661-97CF-78829D66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B5A9-FEEC-4980-8050-0C351F07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3DFC-44AB-4CD6-AB9C-FFADF470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6F9C-8543-4617-B93A-AE2B1F82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77439-0104-4F22-97E4-D0758A63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8BA8-9B74-4AF3-A3E6-0014360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1F146-6F04-43F8-9831-699A1891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93969-674B-47B9-8F13-E2F5B0D6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56044-2C66-4183-B7F3-2B239149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1F350-C137-4651-B254-A23917B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AFC-A147-4146-8B0E-7DDADB0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A3CD-1F4B-4B9F-9835-0D10B82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7618F-3ACB-4F1B-B505-3DEE2698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48827-C167-438D-B7D3-1F91CB1D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4E62E-E808-4C9E-B642-2505839D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FEE53-A01D-4F6A-95EF-FC87B2C5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3F57-CF91-447D-AC3B-31CF060A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29A04-4966-4B63-9676-44D52CEE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52527-E284-47D3-9410-1D03EB2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E1611-8DA3-4A62-A3C1-F7113B38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98C24-3996-4E36-AD93-CF62665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45D-9405-4A63-A08E-FE448DF7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94B96-BCA0-494E-920E-6167150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88211-59F5-4328-99E8-9CC8380F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6DBBE-86E5-4B57-B34D-AC4C2F32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CE1A4-D4FA-48B6-803F-91714868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2D0A8-00B0-4B2F-9B1A-C9C1654F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F60-CF5C-47C5-AAB3-ECE96BE4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82B1-0CC2-4E58-A708-738F1AD0BEE1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A426-141A-4E5E-9C74-1F182A9BF0F3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5043-72EF-4D2A-8A4E-5594508AB45A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F59D-F628-4976-BD8A-F1057F71D5A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D33-CDF7-4896-95A2-F997420BA834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074-7BB5-4FC9-9BCE-BC20BB269067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131F-4BA0-4CCB-8ACC-767372AB3F50}" type="slidenum">
              <a:rPr b="0" lang="ru-RU" sz="1200" spc="-1" strike="noStrike">
                <a:solidFill>
                  <a:srgbClr val="b5a78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1440" y="98424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Урок 4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Скульптура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Bookman Old Style"/>
              </a:rPr>
              <a:t>Тема: «Снеговик у елки»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1619280" y="513864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ю создала: Логинова Т.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изобразительного искус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БОУ СОШ №4 « с углубленным изучением отдельных предмет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шляп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Содержимое 8" descr="13.making.hat.jpg"/>
          <p:cNvPicPr/>
          <p:nvPr/>
        </p:nvPicPr>
        <p:blipFill>
          <a:blip r:embed="rId1"/>
          <a:stretch/>
        </p:blipFill>
        <p:spPr>
          <a:xfrm>
            <a:off x="3071880" y="3643200"/>
            <a:ext cx="3786120" cy="30290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9" descr="11.blue.ball.jpg"/>
          <p:cNvPicPr/>
          <p:nvPr/>
        </p:nvPicPr>
        <p:blipFill>
          <a:blip r:embed="rId2"/>
          <a:stretch/>
        </p:blipFill>
        <p:spPr>
          <a:xfrm>
            <a:off x="1357200" y="642960"/>
            <a:ext cx="3483000" cy="278604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10" descr="12.making.brim.jpg"/>
          <p:cNvPicPr/>
          <p:nvPr/>
        </p:nvPicPr>
        <p:blipFill>
          <a:blip r:embed="rId3"/>
          <a:stretch/>
        </p:blipFill>
        <p:spPr>
          <a:xfrm>
            <a:off x="5286240" y="64296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шар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Содержимое 5" descr="21.cutting.scarf.ends.jpg"/>
          <p:cNvPicPr/>
          <p:nvPr/>
        </p:nvPicPr>
        <p:blipFill>
          <a:blip r:embed="rId1"/>
          <a:stretch/>
        </p:blipFill>
        <p:spPr>
          <a:xfrm>
            <a:off x="6375240" y="4643280"/>
            <a:ext cx="2768760" cy="221472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6" descr="14.2.squares.jpg"/>
          <p:cNvPicPr/>
          <p:nvPr/>
        </p:nvPicPr>
        <p:blipFill>
          <a:blip r:embed="rId2"/>
          <a:stretch/>
        </p:blipFill>
        <p:spPr>
          <a:xfrm>
            <a:off x="357120" y="642960"/>
            <a:ext cx="2786040" cy="22287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7" descr="15.starting.scarf.jpg"/>
          <p:cNvPicPr/>
          <p:nvPr/>
        </p:nvPicPr>
        <p:blipFill>
          <a:blip r:embed="rId3"/>
          <a:stretch/>
        </p:blipFill>
        <p:spPr>
          <a:xfrm>
            <a:off x="3357720" y="1143000"/>
            <a:ext cx="2768400" cy="22147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9" descr="18.two.stacks.jpg"/>
          <p:cNvPicPr/>
          <p:nvPr/>
        </p:nvPicPr>
        <p:blipFill>
          <a:blip r:embed="rId4"/>
          <a:stretch/>
        </p:blipFill>
        <p:spPr>
          <a:xfrm>
            <a:off x="6375240" y="1785960"/>
            <a:ext cx="2768760" cy="221472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0" descr="19.scarf.stack.jpg"/>
          <p:cNvPicPr/>
          <p:nvPr/>
        </p:nvPicPr>
        <p:blipFill>
          <a:blip r:embed="rId5"/>
          <a:stretch/>
        </p:blipFill>
        <p:spPr>
          <a:xfrm>
            <a:off x="357120" y="3643200"/>
            <a:ext cx="2768760" cy="22147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1" descr="20.molding.scarf.jpg"/>
          <p:cNvPicPr/>
          <p:nvPr/>
        </p:nvPicPr>
        <p:blipFill>
          <a:blip r:embed="rId6"/>
          <a:stretch/>
        </p:blipFill>
        <p:spPr>
          <a:xfrm>
            <a:off x="3357720" y="4214880"/>
            <a:ext cx="27860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0" y="285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единяем шарф и шляпу с туловищем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Содержимое 5" descr="22.before.water.jpg"/>
          <p:cNvPicPr/>
          <p:nvPr/>
        </p:nvPicPr>
        <p:blipFill>
          <a:blip r:embed="rId1"/>
          <a:stretch/>
        </p:blipFill>
        <p:spPr>
          <a:xfrm>
            <a:off x="1428840" y="1500120"/>
            <a:ext cx="64292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9" name="TextBox 6" descr=""/>
          <p:cNvPicPr/>
          <p:nvPr/>
        </p:nvPicPr>
        <p:blipFill>
          <a:blip r:embed="rId1"/>
          <a:stretch/>
        </p:blipFill>
        <p:spPr>
          <a:xfrm>
            <a:off x="847800" y="-96840"/>
            <a:ext cx="83754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1000080" y="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Оборудование и материал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ластилин, дощечки, картинка с зимним пейзажем, картинка с изображением снеговика, изготовленный образец, таблички с этапами выполнения работы, вода, тряпоч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Словарь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неговик белый, голова, туловище, руки, тело, шляпа синяя, шарф, размять, мягкий, слепить, прилепить, шарик из пластилина, маленький кусочек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1000080" y="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План работ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.Беседа о зим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2.Обсуждение частей, из которых состоит снеговик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3.Лепка трех шариков разного размер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4.Лепка головы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5.Лепка рук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6.Соединение частей тела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7.Лепка шляпы снеговик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8.Лепка шарф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9.Соединение шарфа и шляпы с туловищ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0.Обсуждение готовых издел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TextBox 6"/>
          <p:cNvSpPr/>
          <p:nvPr/>
        </p:nvSpPr>
        <p:spPr>
          <a:xfrm>
            <a:off x="2659680" y="428760"/>
            <a:ext cx="370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Bookman Old Style"/>
              </a:rPr>
              <a:t>Снеговик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Содержимое 5" descr="22.before.water.jpg"/>
          <p:cNvPicPr/>
          <p:nvPr/>
        </p:nvPicPr>
        <p:blipFill>
          <a:blip r:embed="rId1"/>
          <a:stretch/>
        </p:blipFill>
        <p:spPr>
          <a:xfrm>
            <a:off x="1928880" y="1714680"/>
            <a:ext cx="53704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шарики разного разме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Содержимое 5" descr="1.rolling.ball.jpg"/>
          <p:cNvPicPr/>
          <p:nvPr/>
        </p:nvPicPr>
        <p:blipFill>
          <a:blip r:embed="rId1"/>
          <a:stretch/>
        </p:blipFill>
        <p:spPr>
          <a:xfrm>
            <a:off x="1000080" y="785880"/>
            <a:ext cx="3929040" cy="3143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C:\Documents and Settings\Ученик\Рабочий стол\лепка\2.3.balls.jpg"/>
          <p:cNvPicPr/>
          <p:nvPr/>
        </p:nvPicPr>
        <p:blipFill>
          <a:blip r:embed="rId2"/>
          <a:stretch/>
        </p:blipFill>
        <p:spPr>
          <a:xfrm>
            <a:off x="5000760" y="3486240"/>
            <a:ext cx="4000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голову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Содержимое 7" descr="7.face.jpg"/>
          <p:cNvPicPr/>
          <p:nvPr/>
        </p:nvPicPr>
        <p:blipFill>
          <a:blip r:embed="rId1"/>
          <a:stretch/>
        </p:blipFill>
        <p:spPr>
          <a:xfrm>
            <a:off x="5143680" y="3714840"/>
            <a:ext cx="3571560" cy="284328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8" descr="4.straw.jpg"/>
          <p:cNvPicPr/>
          <p:nvPr/>
        </p:nvPicPr>
        <p:blipFill>
          <a:blip r:embed="rId2"/>
          <a:stretch/>
        </p:blipFill>
        <p:spPr>
          <a:xfrm>
            <a:off x="1071720" y="642960"/>
            <a:ext cx="3571560" cy="28573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9" descr="5.smile.added.jpg"/>
          <p:cNvPicPr/>
          <p:nvPr/>
        </p:nvPicPr>
        <p:blipFill>
          <a:blip r:embed="rId3"/>
          <a:stretch/>
        </p:blipFill>
        <p:spPr>
          <a:xfrm>
            <a:off x="5143680" y="642960"/>
            <a:ext cx="3571560" cy="2857320"/>
          </a:xfrm>
          <a:prstGeom prst="rect">
            <a:avLst/>
          </a:prstGeom>
          <a:ln w="0">
            <a:noFill/>
          </a:ln>
        </p:spPr>
      </p:pic>
      <p:pic>
        <p:nvPicPr>
          <p:cNvPr id="346" name="Рисунок 10" descr="6.poking.eyes.jpg"/>
          <p:cNvPicPr/>
          <p:nvPr/>
        </p:nvPicPr>
        <p:blipFill>
          <a:blip r:embed="rId4"/>
          <a:stretch/>
        </p:blipFill>
        <p:spPr>
          <a:xfrm>
            <a:off x="1071720" y="3714840"/>
            <a:ext cx="3571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Лепим руки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Содержимое 12" descr="9.2.arms.jpg"/>
          <p:cNvPicPr/>
          <p:nvPr/>
        </p:nvPicPr>
        <p:blipFill>
          <a:blip r:embed="rId1"/>
          <a:stretch/>
        </p:blipFill>
        <p:spPr>
          <a:xfrm>
            <a:off x="5214960" y="3435480"/>
            <a:ext cx="3691080" cy="32320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3" descr="8.rope.for.arms.jpg"/>
          <p:cNvPicPr/>
          <p:nvPr/>
        </p:nvPicPr>
        <p:blipFill>
          <a:blip r:embed="rId2"/>
          <a:stretch/>
        </p:blipFill>
        <p:spPr>
          <a:xfrm>
            <a:off x="1143000" y="785880"/>
            <a:ext cx="3929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WordArt 6"/>
          <p:cNvSpPr txBox="1"/>
          <p:nvPr/>
        </p:nvSpPr>
        <p:spPr>
          <a:xfrm>
            <a:off x="1692360" y="476280"/>
            <a:ext cx="554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Соединяем части тела снегов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Содержимое 6" descr="10.naked.snowman.jpg"/>
          <p:cNvPicPr/>
          <p:nvPr/>
        </p:nvPicPr>
        <p:blipFill>
          <a:blip r:embed="rId1"/>
          <a:stretch/>
        </p:blipFill>
        <p:spPr>
          <a:xfrm>
            <a:off x="5143680" y="2857680"/>
            <a:ext cx="3762360" cy="376236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7" descr="3.three.balls.together.jpg"/>
          <p:cNvPicPr/>
          <p:nvPr/>
        </p:nvPicPr>
        <p:blipFill>
          <a:blip r:embed="rId2"/>
          <a:stretch/>
        </p:blipFill>
        <p:spPr>
          <a:xfrm>
            <a:off x="1214280" y="785880"/>
            <a:ext cx="37515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9:38:49Z</dcterms:created>
  <dc:creator>User</dc:creator>
  <dc:description/>
  <dc:language>en-US</dc:language>
  <cp:lastModifiedBy>vorobey689</cp:lastModifiedBy>
  <dcterms:modified xsi:type="dcterms:W3CDTF">2022-09-30T22:32:57Z</dcterms:modified>
  <cp:revision>26</cp:revision>
  <dc:subject/>
  <dc:title>НЕВИДИМАЯ СЕТЬ  И НЕВИДИМАЯ ПИРАМИДА</dc:title>
</cp:coreProperties>
</file>