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C1B0-3346-489D-9C0F-72A62984F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9650-64A2-4AD0-BD50-44486297E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A2BE-51CC-46DE-A487-DF1380987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C131-E6EF-48EC-98FE-FC4B3450B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CCE-0F2E-4C2C-93BF-C530372B5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869A-A7E8-4FA7-AF98-AC1580320E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886-ECE5-4BC8-BDF0-83804EDA9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FD12-AA8A-4F26-B0CA-1D3DED920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823-7044-4745-992D-005BA4EB1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439A-F7FD-44D1-9D53-567522C84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78E-E835-4E9E-97DA-309F2E620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66A2-8778-4604-87B1-FC41B2061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149C-DA0F-4878-96AD-A1E1F97C2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D52-62E8-4C9E-801E-27583A41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F31-4846-46E5-AA01-07914D16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60E-FCD1-4D0E-895B-0DD6657E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0DB-7D54-4DE3-954A-01C784BA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21B9-0DC2-401C-89A1-01861635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ADCC-8C73-4DF5-BF4D-588A52A9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0C3F-05AE-4468-850C-1FB9DD8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E96B-F15B-4A6F-A8B9-947B485A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5C12-BE79-4A44-8527-E5CBE5DD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F12-12BA-4932-8A79-5B6C3215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0BFE-80CB-40CB-B8B1-DDE080D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ADB-D4FF-404C-BBED-AA75AFAF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8B24-6016-498F-8337-A117737C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8A53-866B-49DC-BDCE-4D73C6C5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CD91-BD6F-4F6B-B696-911E25C0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6420-3C21-4FAA-9952-69B76FCA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0935-E7B1-4C6A-B688-C6A5894C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AAB1-272D-4DC1-AB69-8B34FC09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8909-D777-4183-B019-9DB3866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A6B0-E72E-4533-85B5-DAA453F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571D-E9A4-4689-A39F-72172555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EDB4-8BB8-4CEE-B63E-6BCE48F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E20-AB16-4280-BE20-1A65BE8C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3827-DEB0-4ACF-BC89-E0F0B56A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DCF2E-5E8C-4961-AB73-900BBC4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B1B1-C98D-45BD-8887-79D9AE56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E63CD-A1ED-42DF-AC51-C1808E7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159F-C996-44EB-85DE-6DDEB866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01AF-35EB-4921-8F48-5CAD62AA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892F-B128-4A42-AF7B-D5DD4829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7F3C2-FB2C-4D5A-B91C-B96851CD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9079-749F-4E5F-9199-A216CFA2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99657-1BC6-4696-85A8-C3CDC3AC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CE7-D90E-473E-BFA2-D81DFF78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0ADB-4030-4B27-BEE6-8442F205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7A5B-6E70-469A-B1FF-4C72F66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9C78F-E41F-4D90-A8E0-78D2D7F9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2DB0-7C11-4C0D-94BF-403ABFC3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CCD39-72EA-4D84-B420-9EC4EE63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DD53-C88E-41F7-B008-5F85A447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738BE-E028-471E-94B7-34560ED3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301B9-56BE-4113-A09E-75C3BA0C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E963-34AA-475A-BD53-85DCF9C6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75900-6102-4257-8F93-DF404A87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A8F-510D-4ED3-B885-CF74253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9EF8-3086-4A03-BB5F-D1FDBE10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58FE-4E3D-47FE-B8F3-8BD88B8D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1AC1-CD15-4EE2-9A8C-FAD28D5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F66B-D329-4CD0-9598-4D96CFB4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16190-2356-4A1E-AC27-EFA37E7A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B108D-B4AC-47E8-9219-068C4A63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F37B-3DE5-4885-AF7F-CAAE722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FD14-93AA-4874-994C-2C6FBE28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D9947-0CEF-4212-9E66-2586296A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D4620-0A6C-4777-B929-4BB75E9E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2BC-7F4A-46BD-8CC8-BE7B184A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E14A5-6BA4-4460-8042-C0270EA3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66BD-B031-4DD0-B88B-D1517A64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3AD3-7134-4E87-9B1C-8D1C75E4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F9A37-C433-4BFC-B1D0-C47714E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015D-0135-4A5E-8BFA-211D99A1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A6BF-0280-418A-B666-11C0BFD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700E9-E408-4D15-B73A-34BA2FF1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FCE21-D8D0-49B2-BBF1-33A9AFC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C32D0-6E32-4814-87C8-4C7C7A6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68DEE-B5F1-4CBF-AD75-9FFD1924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7FC-F981-4C98-8126-FD10E0A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F0AED-A39E-434F-A698-D1782B81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01AE-4FBB-4091-811F-3952CCFD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E26F-E543-489C-B48C-12ECE2C6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36A58-7374-49D4-9252-412C08CE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2355A-0B59-4D1B-AAC8-0962E22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F60B-389D-4215-81DC-C64B8D7D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58D3E-A7EE-4D3A-8C40-0E41313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2CE41-6EEE-416D-983C-5A0C6912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A5629-0185-4B46-BA21-9B076EC0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FC3BA-7CE6-483A-B470-05EF812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342-6865-462F-A8F9-E47CD0E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4505-64AC-42C9-BAF5-FDCC0655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6FBA6-B6EF-41EB-AE4D-725097AF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2E6F-2339-4AE1-92E5-3ACD56D7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37367-B6F8-4814-94EC-C76C3A1A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D0E3-CA96-45CE-AF7F-7821EB4A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4B3-B531-4A8E-8E3A-E0BE93D4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8AEA-C7CA-400B-8C23-F8B7C0F5F24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BE85-3FDB-4BDC-92E8-27D135F55D03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F542-82F6-403D-9263-B63317CD6E1C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AEE1-777F-4094-A7F8-46CFE77F69E8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714D-A19F-43B0-8710-EFEA909D5F3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C195-A4DF-4707-9F85-DFA60A744D64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1435-4C52-48AA-8B53-4FCB92D9DFCC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1440" y="9842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Урок 4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Скульптура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Тема: «Снеговик у елки»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1619280" y="513864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ю создала: Логинова Т.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БОУ СОШ №4 « с углубленным изучением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шляп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Содержимое 8" descr="13.making.hat.jpg"/>
          <p:cNvPicPr/>
          <p:nvPr/>
        </p:nvPicPr>
        <p:blipFill>
          <a:blip r:embed="rId1"/>
          <a:stretch/>
        </p:blipFill>
        <p:spPr>
          <a:xfrm>
            <a:off x="3071880" y="3643200"/>
            <a:ext cx="3786120" cy="30290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9" descr="11.blue.ball.jpg"/>
          <p:cNvPicPr/>
          <p:nvPr/>
        </p:nvPicPr>
        <p:blipFill>
          <a:blip r:embed="rId2"/>
          <a:stretch/>
        </p:blipFill>
        <p:spPr>
          <a:xfrm>
            <a:off x="1357200" y="642960"/>
            <a:ext cx="3483000" cy="278604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0" descr="12.making.brim.jpg"/>
          <p:cNvPicPr/>
          <p:nvPr/>
        </p:nvPicPr>
        <p:blipFill>
          <a:blip r:embed="rId3"/>
          <a:stretch/>
        </p:blipFill>
        <p:spPr>
          <a:xfrm>
            <a:off x="5286240" y="64296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шар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Содержимое 5" descr="21.cutting.scarf.ends.jpg"/>
          <p:cNvPicPr/>
          <p:nvPr/>
        </p:nvPicPr>
        <p:blipFill>
          <a:blip r:embed="rId1"/>
          <a:stretch/>
        </p:blipFill>
        <p:spPr>
          <a:xfrm>
            <a:off x="6375240" y="4643280"/>
            <a:ext cx="2768760" cy="221472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14.2.squares.jpg"/>
          <p:cNvPicPr/>
          <p:nvPr/>
        </p:nvPicPr>
        <p:blipFill>
          <a:blip r:embed="rId2"/>
          <a:stretch/>
        </p:blipFill>
        <p:spPr>
          <a:xfrm>
            <a:off x="357120" y="642960"/>
            <a:ext cx="2786040" cy="22287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7" descr="15.starting.scarf.jpg"/>
          <p:cNvPicPr/>
          <p:nvPr/>
        </p:nvPicPr>
        <p:blipFill>
          <a:blip r:embed="rId3"/>
          <a:stretch/>
        </p:blipFill>
        <p:spPr>
          <a:xfrm>
            <a:off x="3357720" y="1143000"/>
            <a:ext cx="2768400" cy="22147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9" descr="18.two.stacks.jpg"/>
          <p:cNvPicPr/>
          <p:nvPr/>
        </p:nvPicPr>
        <p:blipFill>
          <a:blip r:embed="rId4"/>
          <a:stretch/>
        </p:blipFill>
        <p:spPr>
          <a:xfrm>
            <a:off x="6375240" y="1785960"/>
            <a:ext cx="2768760" cy="221472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0" descr="19.scarf.stack.jpg"/>
          <p:cNvPicPr/>
          <p:nvPr/>
        </p:nvPicPr>
        <p:blipFill>
          <a:blip r:embed="rId5"/>
          <a:stretch/>
        </p:blipFill>
        <p:spPr>
          <a:xfrm>
            <a:off x="357120" y="3643200"/>
            <a:ext cx="2768760" cy="22147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1" descr="20.molding.scarf.jpg"/>
          <p:cNvPicPr/>
          <p:nvPr/>
        </p:nvPicPr>
        <p:blipFill>
          <a:blip r:embed="rId6"/>
          <a:stretch/>
        </p:blipFill>
        <p:spPr>
          <a:xfrm>
            <a:off x="3357720" y="4214880"/>
            <a:ext cx="27860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0" y="285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единяем шарф и шляпу с туловищем снегов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Содержимое 5" descr="22.before.water.jpg"/>
          <p:cNvPicPr/>
          <p:nvPr/>
        </p:nvPicPr>
        <p:blipFill>
          <a:blip r:embed="rId1"/>
          <a:stretch/>
        </p:blipFill>
        <p:spPr>
          <a:xfrm>
            <a:off x="1428840" y="1500120"/>
            <a:ext cx="64292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9" name="TextBox 6" descr=""/>
          <p:cNvPicPr/>
          <p:nvPr/>
        </p:nvPicPr>
        <p:blipFill>
          <a:blip r:embed="rId1"/>
          <a:stretch/>
        </p:blipFill>
        <p:spPr>
          <a:xfrm>
            <a:off x="847800" y="-96840"/>
            <a:ext cx="83754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1000080" y="0"/>
            <a:ext cx="814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борудование и материал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ластилин, дощечки, картинка с зимним пейзажем, картинка с изображением снеговика, изготовленный образец, таблички с этапами выполнения работы, вода, тряпоч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Словарь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неговик белый, голова, туловище, руки, тело, шляпа синяя, шарф, размять, мягкий, слепить, прилепить, шарик из пластилина, маленький кусочек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1000080" y="0"/>
            <a:ext cx="814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План рабо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.Беседа о зим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.Обсуждение частей, из которых состоит снегови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3.Лепка трех шариков разного размер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4.Лепка головы снегов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5.Лепка рук снегов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6.Соединение частей тела снегов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7.Лепка шляпы снегов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8.Лепка шарф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9.Соединение шарфа и шляпы с туловище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0.Обсуждение готовых издел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2659680" y="428760"/>
            <a:ext cx="370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Bookman Old Style"/>
              </a:rPr>
              <a:t>Снеговик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Содержимое 5" descr="22.before.water.jpg"/>
          <p:cNvPicPr/>
          <p:nvPr/>
        </p:nvPicPr>
        <p:blipFill>
          <a:blip r:embed="rId1"/>
          <a:stretch/>
        </p:blipFill>
        <p:spPr>
          <a:xfrm>
            <a:off x="1928880" y="1714680"/>
            <a:ext cx="53704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шарики разного разме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Содержимое 5" descr="1.rolling.ball.jpg"/>
          <p:cNvPicPr/>
          <p:nvPr/>
        </p:nvPicPr>
        <p:blipFill>
          <a:blip r:embed="rId1"/>
          <a:stretch/>
        </p:blipFill>
        <p:spPr>
          <a:xfrm>
            <a:off x="1000080" y="78588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C:\Documents and Settings\Ученик\Рабочий стол\лепка\2.3.balls.jpg"/>
          <p:cNvPicPr/>
          <p:nvPr/>
        </p:nvPicPr>
        <p:blipFill>
          <a:blip r:embed="rId2"/>
          <a:stretch/>
        </p:blipFill>
        <p:spPr>
          <a:xfrm>
            <a:off x="5000760" y="348624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голову снегов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Содержимое 7" descr="7.face.jpg"/>
          <p:cNvPicPr/>
          <p:nvPr/>
        </p:nvPicPr>
        <p:blipFill>
          <a:blip r:embed="rId1"/>
          <a:stretch/>
        </p:blipFill>
        <p:spPr>
          <a:xfrm>
            <a:off x="5143680" y="3714840"/>
            <a:ext cx="3571560" cy="28432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8" descr="4.straw.jpg"/>
          <p:cNvPicPr/>
          <p:nvPr/>
        </p:nvPicPr>
        <p:blipFill>
          <a:blip r:embed="rId2"/>
          <a:stretch/>
        </p:blipFill>
        <p:spPr>
          <a:xfrm>
            <a:off x="1071720" y="642960"/>
            <a:ext cx="3571560" cy="28573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9" descr="5.smile.added.jpg"/>
          <p:cNvPicPr/>
          <p:nvPr/>
        </p:nvPicPr>
        <p:blipFill>
          <a:blip r:embed="rId3"/>
          <a:stretch/>
        </p:blipFill>
        <p:spPr>
          <a:xfrm>
            <a:off x="5143680" y="642960"/>
            <a:ext cx="3571560" cy="2857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0" descr="6.poking.eyes.jpg"/>
          <p:cNvPicPr/>
          <p:nvPr/>
        </p:nvPicPr>
        <p:blipFill>
          <a:blip r:embed="rId4"/>
          <a:stretch/>
        </p:blipFill>
        <p:spPr>
          <a:xfrm>
            <a:off x="1071720" y="3714840"/>
            <a:ext cx="3571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руки снегов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Содержимое 12" descr="9.2.arms.jpg"/>
          <p:cNvPicPr/>
          <p:nvPr/>
        </p:nvPicPr>
        <p:blipFill>
          <a:blip r:embed="rId1"/>
          <a:stretch/>
        </p:blipFill>
        <p:spPr>
          <a:xfrm>
            <a:off x="5214960" y="3435480"/>
            <a:ext cx="3691080" cy="32320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3" descr="8.rope.for.arms.jpg"/>
          <p:cNvPicPr/>
          <p:nvPr/>
        </p:nvPicPr>
        <p:blipFill>
          <a:blip r:embed="rId2"/>
          <a:stretch/>
        </p:blipFill>
        <p:spPr>
          <a:xfrm>
            <a:off x="1143000" y="78588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единяем части тела снегов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Содержимое 6" descr="10.naked.snowman.jpg"/>
          <p:cNvPicPr/>
          <p:nvPr/>
        </p:nvPicPr>
        <p:blipFill>
          <a:blip r:embed="rId1"/>
          <a:stretch/>
        </p:blipFill>
        <p:spPr>
          <a:xfrm>
            <a:off x="5143680" y="2857680"/>
            <a:ext cx="3762360" cy="37623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7" descr="3.three.balls.together.jpg"/>
          <p:cNvPicPr/>
          <p:nvPr/>
        </p:nvPicPr>
        <p:blipFill>
          <a:blip r:embed="rId2"/>
          <a:stretch/>
        </p:blipFill>
        <p:spPr>
          <a:xfrm>
            <a:off x="1214280" y="785880"/>
            <a:ext cx="37515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9:38:49Z</dcterms:created>
  <dc:creator>User</dc:creator>
  <dc:description/>
  <dc:language>en-US</dc:language>
  <cp:lastModifiedBy>vorobey689</cp:lastModifiedBy>
  <dcterms:modified xsi:type="dcterms:W3CDTF">2022-09-30T22:32:57Z</dcterms:modified>
  <cp:revision>26</cp:revision>
  <dc:subject/>
  <dc:title>НЕВИДИМАЯ СЕТЬ  И НЕВИДИМАЯ ПИРАМИДА</dc:title>
</cp:coreProperties>
</file>