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87A-1B87-4ADF-A6C6-6863B5BC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EE65-47F9-4913-BB5A-09A2E467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194-81C2-4550-B02C-D456C79D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DA0-912C-4BB8-8958-414B399F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B636-93F4-48D8-AEDE-96A51D98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53A9-5298-4B8C-810B-5AE81C6E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412C-8BAE-425E-86D9-1E2FA7A2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5FD3-ABBC-47F3-A9AD-8DDE3125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5AE4-2721-483F-86F9-677370DC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0FA5-5388-4B96-9E93-57176EB1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8629-24DC-4E0C-99B9-9020CD8F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8721-B010-468F-B226-8B402E56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F2DF-8EA6-4FB0-BB89-11AA3501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260B-8871-4DE5-9CB7-954F638C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4F64-3F1E-49C5-A541-C2E16922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9234-76F0-472F-ACE3-F2C7CF51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5992-8033-43AF-A556-AA0A8D55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FE7B6-0B96-41BF-BA42-0D7C1C6D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29FD7-57E6-4424-8BAA-4B9FC95F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672A8-CBF0-475F-9D9F-3705658B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FB03-ED9B-41DC-A7C9-13B22984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5736E-EF46-4F5B-80D8-87D3F1A9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38B-D151-4970-B653-49807CF8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EEBF3-11EB-4560-A7EB-0BA466EE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F27E9-739E-4A8B-97EF-78C30DD9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A919F-97FF-4F7A-970E-5CA1DD50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144E2-46F4-4B9C-A485-6088332C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04E27-C14B-415A-92F6-80C96207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8BDD4-7829-435C-B39E-45D8BC09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DCC39-151B-4E8F-8B2A-8ED8D841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F9386-6178-4A4F-9608-097B54B0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B62AB-ED40-45CE-B52D-45AF59FC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56C9B-E29D-4DD7-A91E-6324E9EF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0E6-9815-41C0-AB89-6BAA3336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C8232-12EF-424B-A2DC-E87D5E93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C193D-BB72-47F8-9855-23944347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9740B-F0DC-4362-9F19-D3EA8B92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CFEE7-912A-4C2A-9C62-6318A5F6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F53EA-6568-45BA-8BE5-1ED3DDAC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A5946-AFD9-40EB-B446-64CCF751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DBFB9-6609-43D7-9820-51704629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248EB-0747-4DBD-854E-16739B70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23956-ABC3-42B9-B46E-081D4C8E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C2D57-1C73-4BC6-8A7B-D12E6EC5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C5DE-CDD4-4F54-B170-03656ACC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7C36A-A684-44BB-890A-1B4B10BC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3FC0B-6125-4FC2-BC4E-FC1574F0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BF13F-6B1F-433C-B64B-A1EFD0E2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712AE-E0B5-4381-88D5-9C5DA0D2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2C22C-8E26-4DC7-9452-0F698DAD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276A6-B334-4B96-AF27-5FD21F63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DE420-E735-4075-9280-62C7D198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3AC3B-620E-495E-ABEE-3427C1B2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8B285-90CA-4E6C-8C4E-7351BE1B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CB975-AB3D-486B-9CA4-EAFE5DA1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84D-1354-4304-B9D1-AACD6F25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8A9F7-6CD5-4503-84F2-43E68C87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28030-CF4F-4EF8-A204-99CB752C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16F9C-AD2C-4FD6-80A0-E34705E5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C8618-5DC1-4B9D-9688-BC2AB263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8CA58-80B0-4934-B924-7FAA9AC2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03661-7623-4092-8172-D2846745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202E1-A471-4D42-9526-3A833C44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241E6-4227-4203-8F88-36C7C375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DAAE9-F320-442F-8F86-6A136554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29B02-9C9C-4F38-95F3-282ED89B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33E-DE21-4259-82ED-BE6F516A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C6607-07CC-4905-A15F-B46FFA70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0BEF6-1338-43CC-AE4F-FBE09EF4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915A2-E346-4773-857D-7858F0C2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B72E-D6B2-465F-B84B-D0F40C03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413-9BE3-4E78-88BC-F603332B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72B4-E991-4738-8900-B763FC14BCA0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AEBD-59C0-4B7F-91A3-9C82B6160E7E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BEB7-BDDA-4B61-B5AB-5311CFA80E98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E2C2-DECA-421E-BBD8-7050FC5F57D3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235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7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238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0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241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3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244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6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247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9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9AF0-6525-4BF8-AF4E-8A584DC372F4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292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4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295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7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298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0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301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3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304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06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000A-8993-4F5B-A798-B3231C5B7E64}" type="slidenum">
              <a:rPr b="0" lang="ru-RU" sz="2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ebebeb"/>
                </a:solidFill>
                <a:latin typeface="Century Gothic"/>
              </a:rPr>
              <a:t>Урок 10.</a:t>
            </a:r>
            <a:br>
              <a:rPr sz="4800"/>
            </a:br>
            <a:r>
              <a:rPr b="0" lang="ru-RU" sz="4800" spc="-1" strike="noStrike">
                <a:solidFill>
                  <a:srgbClr val="ebebeb"/>
                </a:solidFill>
                <a:latin typeface="Century Gothic"/>
              </a:rPr>
              <a:t>Скульптура.</a:t>
            </a:r>
            <a:br>
              <a:rPr sz="4800"/>
            </a:br>
            <a:r>
              <a:rPr b="0" lang="ru-RU" sz="4800" spc="-1" strike="noStrike">
                <a:solidFill>
                  <a:srgbClr val="ebebeb"/>
                </a:solidFill>
                <a:latin typeface="Century Gothic"/>
              </a:rPr>
              <a:t>«Коты и рыбки»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16000" y="4723920"/>
            <a:ext cx="7416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8ad0d6"/>
                </a:solidFill>
                <a:latin typeface="Century Gothic"/>
              </a:rPr>
              <a:t>СОСТАВИЛА: ЛОГИНОВА Т.М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8ad0d6"/>
                </a:solidFill>
                <a:latin typeface="Century Gothic"/>
              </a:rPr>
              <a:t>УЧИТЕЛЬ ИЗОБРАЗИТЕЛЬНОГО ИСКУССТВ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8ad0d6"/>
                </a:solidFill>
                <a:latin typeface="Century Gothic"/>
              </a:rPr>
              <a:t>МБОУ СОШ №4 Г. УСИНСК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Спасибо за внимание !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73" name="Picture 2" descr="https://natalyland.ru/wp-content/uploads/9/3/0/930085804794a50c08656237493bfac0.jpeg"/>
          <p:cNvPicPr/>
          <p:nvPr/>
        </p:nvPicPr>
        <p:blipFill>
          <a:blip r:embed="rId1"/>
          <a:stretch/>
        </p:blipFill>
        <p:spPr>
          <a:xfrm>
            <a:off x="971640" y="1413000"/>
            <a:ext cx="705636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bebeb"/>
                </a:solidFill>
                <a:latin typeface="Century Gothic"/>
              </a:rPr>
              <a:t>Правила уборки своего рабочего места</a:t>
            </a: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1. Положи готовое или неготовое изделие, выполненное на уроке, в коробку для изделий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2. Собери со стола и с пола пластилин по цветам и убери в коробку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3. Стеком почисти рабочую доску, крышку парты, если там остались следы от пластилина. Соскреби прилипший к полу пластилин – грязный выброси в мусор, чистый убери в коробку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4. Протри стек и крышку парты тряпкой. Стек и принадлежности убери в коробку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5. Тщательно вытри руки тряпкой и вымой их с мылом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6. Все принадлежности убери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bebeb"/>
                </a:solidFill>
                <a:latin typeface="Century Gothic"/>
              </a:rPr>
              <a:t>Морские жители из пластилина</a:t>
            </a: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53" name="Picture 7" descr="morjitely"/>
          <p:cNvPicPr/>
          <p:nvPr/>
        </p:nvPicPr>
        <p:blipFill>
          <a:blip r:embed="rId1"/>
          <a:stretch/>
        </p:blipFill>
        <p:spPr>
          <a:xfrm>
            <a:off x="1187280" y="13413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Морская звезда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Для морской звезды катаем колбаску и делим её на пять частей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з них делаем морковки: колбаски с одной стороны придавливаем больше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7" descr="img_5579"/>
          <p:cNvPicPr/>
          <p:nvPr/>
        </p:nvPicPr>
        <p:blipFill>
          <a:blip r:embed="rId1"/>
          <a:stretch/>
        </p:blipFill>
        <p:spPr>
          <a:xfrm>
            <a:off x="4573440" y="2139840"/>
            <a:ext cx="421020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-360" y="981000"/>
            <a:ext cx="5003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На картон прикладываем морковки в форме звезды и слегка придавливаем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Центр заполняем лишним пластилином. 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Затем пальцами защипываем морковки, чтобы получились небольшие рёбра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Украшаем звезду по желанию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8" name="Picture 7" descr="img_5583"/>
          <p:cNvPicPr/>
          <p:nvPr/>
        </p:nvPicPr>
        <p:blipFill>
          <a:blip r:embed="rId1"/>
          <a:stretch/>
        </p:blipFill>
        <p:spPr>
          <a:xfrm>
            <a:off x="5006880" y="1413000"/>
            <a:ext cx="413712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9440" y="254160"/>
            <a:ext cx="825660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Рыбка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Для рыбки используем овал. Придавливаем к картону, стеком рассекаем губы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Из двух шариков делаем глазк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Хвостик можно сделать сплошной, или из тонких жгутиков (как на рисунке),  а также, скатав шарик, можно размазать хвостик пальчиком (для маленьких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азукрашиваем рыбку по желанию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Picture 7" descr="img_5600"/>
          <p:cNvPicPr/>
          <p:nvPr/>
        </p:nvPicPr>
        <p:blipFill>
          <a:blip r:embed="rId1"/>
          <a:stretch/>
        </p:blipFill>
        <p:spPr>
          <a:xfrm>
            <a:off x="4643280" y="2205000"/>
            <a:ext cx="4321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Осьминог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920" y="5084280"/>
            <a:ext cx="864216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сьминог делается просто: шар сплющиваем и получаем голову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з колбасок делаем щупальца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4" name="Picture 7" descr="img_5608"/>
          <p:cNvPicPr/>
          <p:nvPr/>
        </p:nvPicPr>
        <p:blipFill>
          <a:blip r:embed="rId1"/>
          <a:stretch/>
        </p:blipFill>
        <p:spPr>
          <a:xfrm>
            <a:off x="2411280" y="1484280"/>
            <a:ext cx="410544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5" descr="img_5606"/>
          <p:cNvPicPr/>
          <p:nvPr/>
        </p:nvPicPr>
        <p:blipFill>
          <a:blip r:embed="rId1"/>
          <a:stretch/>
        </p:blipFill>
        <p:spPr>
          <a:xfrm>
            <a:off x="250920" y="260280"/>
            <a:ext cx="4249800" cy="318780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6"/>
          <p:cNvSpPr/>
          <p:nvPr/>
        </p:nvSpPr>
        <p:spPr>
          <a:xfrm>
            <a:off x="663480" y="5964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539640" y="5300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ы получилась правдоподобная картина, можно на картон добавить 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одоросли, улитку, камушки, пузырьк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8" name="Picture 8" descr="img_5612"/>
          <p:cNvPicPr/>
          <p:nvPr/>
        </p:nvPicPr>
        <p:blipFill>
          <a:blip r:embed="rId2"/>
          <a:stretch/>
        </p:blipFill>
        <p:spPr>
          <a:xfrm>
            <a:off x="4788000" y="1989000"/>
            <a:ext cx="413676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А теперь сделаем лапку или мордочку кота, смотрящего на рыб.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Рисунок 3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88567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5:42:25Z</dcterms:created>
  <dc:creator>Яхонт</dc:creator>
  <dc:description/>
  <dc:language>en-US</dc:language>
  <cp:lastModifiedBy>vorobey689</cp:lastModifiedBy>
  <dcterms:modified xsi:type="dcterms:W3CDTF">2022-09-30T23:13:03Z</dcterms:modified>
  <cp:revision>7</cp:revision>
  <dc:subject/>
  <dc:title>Слайд 1</dc:title>
</cp:coreProperties>
</file>