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2D4-17B5-45B8-BA3C-66CC90C7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94E-958E-4160-A0FF-0D1BFE76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5FE-6F75-4605-804B-2D919CE9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066-CD6A-4DD9-8ED5-5B7D76EB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4E82-C533-4F41-9033-C6287210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FDE1-7B74-46DC-AFE7-F24B2721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5E91-7D54-4910-8480-39F8BDDF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2DDC-74CD-4FC6-A7FE-50EFACAC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9D92-6240-446D-930D-39CA2411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3F8E-99D5-4914-870F-F7CBF83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477C-C1B5-481C-A603-6DC5C6C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AD0-C5C5-44ED-AD35-CD5D7B4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8630-9757-4DD2-8AFA-727A5E81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F985-1F88-4003-8FE2-41AC4941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AFF-B572-4D89-AD2D-0474CC7C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46A-2811-4B90-9C96-F13A0F96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8917-9A26-4C8E-9BD3-E6E789A8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8A32-0199-4789-91E8-FB581783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541CA-77F4-4635-B811-9CA13813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2B2E-E633-4979-958A-D2A9267C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35B0-C0BD-4652-A169-8B7AFF0E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D57F-993A-409A-8231-F76CC1A2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C83-6A7E-4511-9880-8E51A397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9BBA-D391-4030-9E71-E5113C23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8BC4-538A-4109-8A6B-DCAF92C4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9CBB-A20F-4AF5-A738-CA82950B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45F1-809F-42F4-AE06-6567CCA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BDC5-E74A-4C89-ABC6-EA81CB8F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68AB-EDDA-415D-AFAE-DE8AECCE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E436-47E4-4482-9979-276E46C6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DEA3-FF49-4A5E-AC29-6072A283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AEDA1-C141-4BC9-9DA2-2DDD3696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4CE2-126E-480D-A193-CE9C292B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AA7-4D02-4D55-9148-327F2D51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D8BA-EED0-44D6-9211-FD86DCB5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F914B-DF01-41B7-81AE-03DD6A56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4F8E-5BF9-469E-A7FA-E6EF0CC0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855CD-9154-4583-BD7C-A6E571D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8E28-F7B6-4D29-83F9-DC4A7A91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B29A9-A8AF-4E5B-A982-E56CC1D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9F81-93C8-430F-B912-9E9973C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7ED99-7B68-4AA6-AFA2-22A072C2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F06A-2BE4-450C-A107-EA9D5D23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CFED8-1284-4619-B162-E9E79CB4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25A-5307-4B2F-BCFF-58E0B101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D5009-3C86-45EB-A50C-679159C2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AEA8D-5A90-4D3F-A7A6-58D96CF7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674A1-1D68-40E4-AF6E-8583661C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93BD4-95B4-471A-915F-1D861037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58253-7B83-451B-8A71-A6E7DFF4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7FAD3-FDAE-4D77-9821-C79458CA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CE1F-6F08-41CF-83BE-7E2D66C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543D-93A6-44D9-B97F-67A3E6C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9739D-6D12-4EFF-9217-5DDD3006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FDED-77A7-4A8F-A2D4-BA96F725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872-E9D2-4110-8A96-42FEA5CD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50489-A901-46FF-BCC6-59649276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B3A9-C787-4B67-8902-F60B1C65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83C34-7803-4079-91CF-1685449F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293BB-6531-439D-BE5A-3D44D1C8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2F3BE-61CF-43CA-8497-BF4F10F9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B1212-6651-46AD-B4D7-D4FBC018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9A7A-FC39-4B37-96B9-F216605F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BD6B5-2F9F-42D4-970D-576AB0E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6EE0D-18FD-43D9-BB3B-EA650C1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DB7B4-C6E9-4D57-9720-BE17571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2F8-7C1C-4957-BD61-4B92C0D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DEAB-3BCC-4C19-B079-44AA116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9571E-547C-4CAD-B2EE-D0BA16A5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6B43E-DB2A-4966-BA55-2529D5F3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3BE-1835-4108-A614-CA97829B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3C6-6B80-4714-B844-332C125E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30CF-183F-49CB-AB48-4AD7A74BBD19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237E-D142-41B5-B94F-3A23349DC5A6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A1AC-0CC0-4E0C-857A-8BC11592D9CA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58AD-72D1-479C-AF4F-1E4E34B995B7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235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7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238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0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241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3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244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6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247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9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9AD1-0FB0-424D-BFFD-C3872652460E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292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4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295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298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0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301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304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6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7F33-562B-4709-8827-17D00DC08FAE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ebebeb"/>
                </a:solidFill>
                <a:latin typeface="Century Gothic"/>
              </a:rPr>
              <a:t>Урок 10.</a:t>
            </a:r>
            <a:br>
              <a:rPr sz="4800"/>
            </a:br>
            <a:r>
              <a:rPr b="0" lang="ru-RU" sz="4800" spc="-1" strike="noStrike">
                <a:solidFill>
                  <a:srgbClr val="ebebeb"/>
                </a:solidFill>
                <a:latin typeface="Century Gothic"/>
              </a:rPr>
              <a:t>Скульптура.</a:t>
            </a:r>
            <a:br>
              <a:rPr sz="4800"/>
            </a:br>
            <a:r>
              <a:rPr b="0" lang="ru-RU" sz="4800" spc="-1" strike="noStrike">
                <a:solidFill>
                  <a:srgbClr val="ebebeb"/>
                </a:solidFill>
                <a:latin typeface="Century Gothic"/>
              </a:rPr>
              <a:t>«Коты и рыбки»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16000" y="4723920"/>
            <a:ext cx="7416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СОСТАВИЛА: ЛОГИНОВА Т.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УЧИТЕЛЬ ИЗОБРАЗИТЕЛЬНОГО ИСКУССТВ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МБОУ СОШ №4 Г. УСИНСК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Спасибо за внимание !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73" name="Picture 2" descr="https://natalyland.ru/wp-content/uploads/9/3/0/930085804794a50c08656237493bfac0.jpeg"/>
          <p:cNvPicPr/>
          <p:nvPr/>
        </p:nvPicPr>
        <p:blipFill>
          <a:blip r:embed="rId1"/>
          <a:stretch/>
        </p:blipFill>
        <p:spPr>
          <a:xfrm>
            <a:off x="971640" y="1413000"/>
            <a:ext cx="70563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Правила уборки своего рабочего места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 Положи готовое или неготовое изделие, выполненное на уроке, в коробку для издели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 Собери со стола и с пола пластилин по цветам и убери в короб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 Стеком почисти рабочую доску, крышку парты, если там остались следы от пластилина. Соскреби прилипший к полу пластилин – грязный выброси в мусор, чистый убери в короб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 Протри стек и крышку парты тряпкой. Стек и принадлежности убери в короб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5. Тщательно вытри руки тряпкой и вымой их с мыло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6. Все принадлежности убер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Морские жители из пластилина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53" name="Picture 7" descr="morjitely"/>
          <p:cNvPicPr/>
          <p:nvPr/>
        </p:nvPicPr>
        <p:blipFill>
          <a:blip r:embed="rId1"/>
          <a:stretch/>
        </p:blipFill>
        <p:spPr>
          <a:xfrm>
            <a:off x="118728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Морская звезд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ля морской звезды катаем колбаску и делим её на пять частей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з них делаем морковки: колбаски с одной стороны придавливаем больше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7" descr="img_5579"/>
          <p:cNvPicPr/>
          <p:nvPr/>
        </p:nvPicPr>
        <p:blipFill>
          <a:blip r:embed="rId1"/>
          <a:stretch/>
        </p:blipFill>
        <p:spPr>
          <a:xfrm>
            <a:off x="4573440" y="2139840"/>
            <a:ext cx="42102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5003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 картон прикладываем морковки в форме звезды и слегка придавливаем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Центр заполняем лишним пластилином. 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атем пальцами защипываем морковки, чтобы получились небольшие рёбра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крашаем звезду по желанию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7" descr="img_5583"/>
          <p:cNvPicPr/>
          <p:nvPr/>
        </p:nvPicPr>
        <p:blipFill>
          <a:blip r:embed="rId1"/>
          <a:stretch/>
        </p:blipFill>
        <p:spPr>
          <a:xfrm>
            <a:off x="5006880" y="1413000"/>
            <a:ext cx="41371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9440" y="254160"/>
            <a:ext cx="825660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Рыбка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ля рыбки используем овал. Придавливаем к картону, стеком рассекаем губы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з двух шариков делаем глазк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востик можно сделать сплошной, или из тонких жгутиков (как на рисунке),  а также, скатав шарик, можно размазать хвостик пальчиком (для маленьких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украшиваем рыбку по желанию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7" descr="img_5600"/>
          <p:cNvPicPr/>
          <p:nvPr/>
        </p:nvPicPr>
        <p:blipFill>
          <a:blip r:embed="rId1"/>
          <a:stretch/>
        </p:blipFill>
        <p:spPr>
          <a:xfrm>
            <a:off x="4643280" y="2205000"/>
            <a:ext cx="432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сьминог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5084280"/>
            <a:ext cx="86421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сьминог делается просто: шар сплющиваем и получаем голов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з колбасок делаем щупальца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7" descr="img_5608"/>
          <p:cNvPicPr/>
          <p:nvPr/>
        </p:nvPicPr>
        <p:blipFill>
          <a:blip r:embed="rId1"/>
          <a:stretch/>
        </p:blipFill>
        <p:spPr>
          <a:xfrm>
            <a:off x="2411280" y="148428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img_5606"/>
          <p:cNvPicPr/>
          <p:nvPr/>
        </p:nvPicPr>
        <p:blipFill>
          <a:blip r:embed="rId1"/>
          <a:stretch/>
        </p:blipFill>
        <p:spPr>
          <a:xfrm>
            <a:off x="250920" y="260280"/>
            <a:ext cx="4249800" cy="31878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6"/>
          <p:cNvSpPr/>
          <p:nvPr/>
        </p:nvSpPr>
        <p:spPr>
          <a:xfrm>
            <a:off x="663480" y="596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олучилась правдоподобная картина, можно на картон добавить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одоросли, улитку, камушки, пузырьк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Picture 8" descr="img_5612"/>
          <p:cNvPicPr/>
          <p:nvPr/>
        </p:nvPicPr>
        <p:blipFill>
          <a:blip r:embed="rId2"/>
          <a:stretch/>
        </p:blipFill>
        <p:spPr>
          <a:xfrm>
            <a:off x="4788000" y="1989000"/>
            <a:ext cx="41367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А теперь сделаем лапку или мордочку кота, смотрящего на рыб.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Рисунок 3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88567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5:42:25Z</dcterms:created>
  <dc:creator>Яхонт</dc:creator>
  <dc:description/>
  <dc:language>en-US</dc:language>
  <cp:lastModifiedBy>vorobey689</cp:lastModifiedBy>
  <dcterms:modified xsi:type="dcterms:W3CDTF">2022-09-30T23:13:03Z</dcterms:modified>
  <cp:revision>7</cp:revision>
  <dc:subject/>
  <dc:title>Слайд 1</dc:title>
</cp:coreProperties>
</file>