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221-C51E-40D1-9E76-359B9F5EA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278C-600D-4338-BDD4-88CE1069D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0E5B-A2BE-435F-8663-B3DC479FE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подлинным герое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им изобретателем пластилина считается из Цинцина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ыпустил простую  замаз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чистки обое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частью для Маквикера, его сестра, работавшая в детском саду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тала использовать её для лепк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же совет по образованию в Цинциннати обязал все учебные заведения использовать «нетоксичное чистящее средство для обоев» на занятия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в 1955 году на изобретение Маквике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ли внимание крупные универмаг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ветлая масса была более пластичной, не высыхала и вскоре прародитель современного пластилина сметался с полок подчисту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аквикер в 27 лет стал миллионеро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 мы получили возможность творить в цвет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1993-5890-4407-B2FE-662053C148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3B5-AD07-4982-8870-4244C105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4C1-EE25-48E3-B6A1-5DCF8267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81F-155E-4541-BA18-7491AA3D1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D44-B2DA-4ADC-AF2E-72DBBFD1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3030-ABED-4AFD-B876-0862CBB9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6271-8890-4D55-BCC7-DD6C327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6DF2-2CFB-4C40-B543-0963A159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DBE-42CF-44E6-878A-46882CE2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A3F3-F283-499C-9B53-EC79B0D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2926-24A0-453B-87F8-9643B0E3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1B92-8971-4281-978D-7FE623FC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2CE-D868-4CED-AF98-D87960B4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425D-19D9-48C8-A82D-CC547BF8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4C20-5E50-4120-8CD0-868CF3B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23B3-0386-430D-9453-B1EC101C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4AFE-4F0C-4A95-AF3D-8F046DB9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CB0C-0E88-4F89-A80E-DD18F46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6B82-5609-4808-A417-53988D0D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B198-EB13-4BC9-BAF9-031D4FFB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8DE4C-652E-4315-872E-0A44A7A3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09B4-275F-427B-9C01-1738DE69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EBAA1-7E52-4EEC-81E1-A13BA97C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8F1-D7F2-4822-AFEA-034A0989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7E75-A667-4D0B-ABA8-274E8D85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3039-6276-43E7-9126-F5AA5756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0668-C217-48F3-A958-A58A447F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EC97-6922-41FD-BE2B-02371C1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FBA9-2E4D-4030-A39D-E99AEC4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1AE7-9D15-4248-B6B3-0DECABCB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B93E-6629-4BBE-8E8A-570D2F70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C83-1363-4C57-8C94-4264BF4C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BEE-6543-441B-BC0F-97EBF183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FD1-FF84-40DC-AAAF-EAD92FF5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BBA-98FD-433E-9150-EE21E3AB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89F-D142-4E04-8447-A114EC3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1D6-5F85-406F-A02D-7D4ADE17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24D-3580-47AA-AC90-6501E47E02D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8B1A-4ED7-428C-8325-1EF9D92DD65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39D5-93EB-4514-9777-138AA57F95EB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8;&#1090;&#1072;&#1083;&#1100;&#1103;&#1085;&#1089;&#1082;&#1080;&#1081;_&#1103;&#1079;&#1099;&#1082;" TargetMode="External"/><Relationship Id="rId2" Type="http://schemas.openxmlformats.org/officeDocument/2006/relationships/hyperlink" Target="https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hyperlink" Target="https://ru.wikipedia.org/wiki/&#1051;&#1077;&#1087;&#1082;&#1072;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256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МБОУ СОШ №4 «с углублённым изучением отдельных предметов»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56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к 14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кульп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астерская скульпто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зентацию подготовила: Логинова Т.М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итель Изобразительного искусства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как лепить из пластилина"/>
          <p:cNvPicPr/>
          <p:nvPr/>
        </p:nvPicPr>
        <p:blipFill>
          <a:blip r:embed="rId1"/>
          <a:stretch/>
        </p:blipFill>
        <p:spPr>
          <a:xfrm>
            <a:off x="324000" y="3997440"/>
            <a:ext cx="2419200" cy="2447640"/>
          </a:xfrm>
          <a:prstGeom prst="rect">
            <a:avLst/>
          </a:prstGeom>
          <a:ln w="3240">
            <a:solidFill>
              <a:srgbClr val="cc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0360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Calibri Light"/>
              </a:rPr>
              <a:t>Взрослые пошли дальш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6" name="Picture 7" descr="kartina4"/>
          <p:cNvPicPr/>
          <p:nvPr/>
        </p:nvPicPr>
        <p:blipFill>
          <a:blip r:embed="rId1"/>
          <a:stretch/>
        </p:blipFill>
        <p:spPr>
          <a:xfrm>
            <a:off x="1195560" y="2766960"/>
            <a:ext cx="2562120" cy="21909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24000" y="764640"/>
            <a:ext cx="34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Пластилиновые скульптуры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рмии, зоопарки, любимых людей и т.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Рекла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на улице Лондона ярко-синий пластилиновый Chevrolet Orlando MPV весом в 1,5 тонны. Его создали 8 человек  установили на обочине проезжей части между настоящих припаркованных маш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Дизайн интерье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голландский дизайнер Маартен Баас умело и с интересом создает и выставляет на всеобщее обозрение пластилиновую мебель и муляжи бытовой техн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clip_image001"/>
          <p:cNvPicPr/>
          <p:nvPr/>
        </p:nvPicPr>
        <p:blipFill>
          <a:blip r:embed="rId2"/>
          <a:stretch/>
        </p:blipFill>
        <p:spPr>
          <a:xfrm>
            <a:off x="2843280" y="2276640"/>
            <a:ext cx="2881080" cy="20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Копия 33"/>
          <p:cNvPicPr/>
          <p:nvPr/>
        </p:nvPicPr>
        <p:blipFill>
          <a:blip r:embed="rId3"/>
          <a:stretch/>
        </p:blipFill>
        <p:spPr>
          <a:xfrm>
            <a:off x="0" y="765000"/>
            <a:ext cx="572436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18803-MTJiYzc5ZmYzMA"/>
          <p:cNvPicPr/>
          <p:nvPr/>
        </p:nvPicPr>
        <p:blipFill>
          <a:blip r:embed="rId4"/>
          <a:stretch/>
        </p:blipFill>
        <p:spPr>
          <a:xfrm>
            <a:off x="179280" y="3213000"/>
            <a:ext cx="2521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35280" y="115560"/>
            <a:ext cx="5051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британский телеведущий Джеймс Мэй в 2010 год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а выставке «Королевского Садоводческого Общества» в Челси представил взору удивленной публики настоящий пластилиновый сад с цветами, деревом и спелой клубникой и цветной капустой в натуральную величину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2" name="Picture 6" descr="plastilinovyi-sad-1"/>
          <p:cNvPicPr/>
          <p:nvPr/>
        </p:nvPicPr>
        <p:blipFill>
          <a:blip r:embed="rId1"/>
          <a:stretch/>
        </p:blipFill>
        <p:spPr>
          <a:xfrm>
            <a:off x="217440" y="230040"/>
            <a:ext cx="2914560" cy="2190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plastilinovyi-sad-2"/>
          <p:cNvPicPr/>
          <p:nvPr/>
        </p:nvPicPr>
        <p:blipFill>
          <a:blip r:embed="rId2"/>
          <a:stretch/>
        </p:blipFill>
        <p:spPr>
          <a:xfrm>
            <a:off x="5457960" y="1628640"/>
            <a:ext cx="3362040" cy="2190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plastilinovyi-sad-5"/>
          <p:cNvPicPr/>
          <p:nvPr/>
        </p:nvPicPr>
        <p:blipFill>
          <a:blip r:embed="rId3"/>
          <a:stretch/>
        </p:blipFill>
        <p:spPr>
          <a:xfrm>
            <a:off x="144360" y="2822400"/>
            <a:ext cx="3059280" cy="22989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9"/>
          <p:cNvSpPr/>
          <p:nvPr/>
        </p:nvSpPr>
        <p:spPr>
          <a:xfrm>
            <a:off x="-6013440" y="46526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нская художница Ирма Грюнхо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т из пласт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ые объемные картины-сюж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kartina5"/>
          <p:cNvPicPr/>
          <p:nvPr/>
        </p:nvPicPr>
        <p:blipFill>
          <a:blip r:embed="rId4"/>
          <a:stretch/>
        </p:blipFill>
        <p:spPr>
          <a:xfrm>
            <a:off x="5508720" y="3933720"/>
            <a:ext cx="3290760" cy="2745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1"/>
          <p:cNvSpPr/>
          <p:nvPr/>
        </p:nvSpPr>
        <p:spPr>
          <a:xfrm>
            <a:off x="611280" y="5167080"/>
            <a:ext cx="48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нская художница Ирма Грюнхол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ает из пласт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алистичные объемные картины-сюже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856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И , конечно же,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 Light"/>
              </a:rPr>
              <a:t>пластилиновая анимация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создаётся при помощи фигур, вылепленных из пластил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 Создание пластилинового мультфильма с ребёнком –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это хороший способ расширения кругозора и развития мелкой моторики 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9" name="5.wmv" descr="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Недостатки пластили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071360"/>
            <a:ext cx="40402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ыцветание на свету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липание пыли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сплывание на жаре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екоторые виды пластилина горят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грязнение рук, одежды, мебели вследствие работы с пластилин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 rot="741000">
            <a:off x="4167000" y="1616040"/>
            <a:ext cx="44542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3280" y="1142640"/>
            <a:ext cx="3961080" cy="55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ластилин</a:t>
            </a:r>
            <a:r>
              <a:rPr b="0" lang="ru-RU" sz="1800" spc="-1" strike="noStrike">
                <a:solidFill>
                  <a:srgbClr val="ff0000"/>
                </a:solidFill>
                <a:latin typeface="Calibri Light"/>
              </a:rPr>
              <a:t> 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1"/>
              </a:rPr>
              <a:t>итал.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 -</a:t>
            </a:r>
            <a:r>
              <a:rPr b="0" i="1" lang="it-IT" sz="1600" spc="-1" strike="noStrike">
                <a:solidFill>
                  <a:srgbClr val="000000"/>
                </a:solidFill>
                <a:latin typeface="Calibri Light"/>
              </a:rPr>
              <a:t>plastilina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, от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2"/>
              </a:rPr>
              <a:t>др.-греч.</a:t>
            </a:r>
            <a:r>
              <a:rPr b="0" lang="ru-RU" sz="1600" spc="-1" strike="noStrike">
                <a:solidFill>
                  <a:srgbClr val="ff0000"/>
                </a:solidFill>
                <a:latin typeface="Calibri Light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 πλαστός - лепной) — материал для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 Light"/>
                <a:hlinkClick r:id="rId3"/>
              </a:rPr>
              <a:t>лепки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Ранее изготавливался из очищенного и размельченного порошка глины с добавлением воска, животных жиров и других веществ, препятствующих высыхани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Формула, по которой 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готавливался до сих пор остается большим секретом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В настоящее время при производстве пластилина используют также высокомолекулярный полиэтилен(ВМПЭ), поливинилхлорид (ПВХ), каучуки и другие высокотехнологичные материалы. Окрашивается в различные цвета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4" name="Picture 7" descr="PICT3422"/>
          <p:cNvPicPr/>
          <p:nvPr/>
        </p:nvPicPr>
        <p:blipFill>
          <a:blip r:embed="rId4"/>
          <a:stretch/>
        </p:blipFill>
        <p:spPr>
          <a:xfrm>
            <a:off x="755640" y="4581360"/>
            <a:ext cx="3456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mgpreview"/>
          <p:cNvPicPr/>
          <p:nvPr/>
        </p:nvPicPr>
        <p:blipFill>
          <a:blip r:embed="rId5"/>
          <a:stretch/>
        </p:blipFill>
        <p:spPr>
          <a:xfrm>
            <a:off x="2843280" y="765000"/>
            <a:ext cx="2200320" cy="13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f_tongchem1990530_20121106080019"/>
          <p:cNvPicPr/>
          <p:nvPr/>
        </p:nvPicPr>
        <p:blipFill>
          <a:blip r:embed="rId6"/>
          <a:stretch/>
        </p:blipFill>
        <p:spPr>
          <a:xfrm>
            <a:off x="0" y="270828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2021394"/>
          <p:cNvPicPr/>
          <p:nvPr/>
        </p:nvPicPr>
        <p:blipFill>
          <a:blip r:embed="rId7"/>
          <a:stretch/>
        </p:blipFill>
        <p:spPr>
          <a:xfrm>
            <a:off x="0" y="836640"/>
            <a:ext cx="2665440" cy="1592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63b83b5d02a3d1a38509e1c193b304ce"/>
          <p:cNvPicPr/>
          <p:nvPr/>
        </p:nvPicPr>
        <p:blipFill>
          <a:blip r:embed="rId8"/>
          <a:stretch/>
        </p:blipFill>
        <p:spPr>
          <a:xfrm>
            <a:off x="2771640" y="2565360"/>
            <a:ext cx="2179800" cy="1413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2"/>
          <p:cNvSpPr/>
          <p:nvPr/>
        </p:nvSpPr>
        <p:spPr>
          <a:xfrm>
            <a:off x="0" y="422100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79280" y="23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эти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2700360" y="400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винил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3059280" y="2190600"/>
            <a:ext cx="20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е жи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539640" y="189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Состав     пласти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Calibri Light"/>
              </a:rPr>
              <a:t>Пластилин в домашних условиях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5" name="Фильм.wmv" descr=""/>
          <p:cNvPicPr/>
          <p:nvPr/>
        </p:nvPicPr>
        <p:blipFill>
          <a:blip r:embed="rId1"/>
          <a:stretch/>
        </p:blipFill>
        <p:spPr>
          <a:xfrm>
            <a:off x="1852560" y="1825560"/>
            <a:ext cx="5438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История возникновения пластилина</a:t>
            </a:r>
            <a:br>
              <a:rPr sz="32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Нам, можно сказать, повезло: давным-давно пластилин был только одного цвета. Белый. А еще раньше его вообще не было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Picture 7" descr="13522970709676"/>
          <p:cNvPicPr/>
          <p:nvPr/>
        </p:nvPicPr>
        <p:blipFill>
          <a:blip r:embed="rId1"/>
          <a:stretch/>
        </p:blipFill>
        <p:spPr>
          <a:xfrm>
            <a:off x="179280" y="4724280"/>
            <a:ext cx="3384720" cy="2017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59280" y="1196640"/>
            <a:ext cx="382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астилин стал известен миру с 19 ве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Франц Колб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олучил патент  в Германии (на модельную массу “Plastilin” в 1880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Уильям Харбу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 Великобритании (на незасыхающую глину “Plasticine” в 1899 г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ильям Харбу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ыл преподавателем школы искусств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897 году он разработал материал, который не высыхал бы при создании скульптур студентами. Первоначально пластилин использовался в образовательных целях, но после того как шестеро детей Харбута заполнили дом пластилиновыми поделками, родилось верное решение.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00 году Харбут открыл свою фабрику, где началось промышленное производство пластилина, пока серого цве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9" descr="kolb_harbutt-300x196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79280" y="4221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ц Кол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70036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ильям Харб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75308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о подлинным героем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астоящим изобретателем пластилина считается Джо Маквикер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 Цинцинат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н выпустил простую  замазку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для очистки обое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К счастью для Маквикера, его сестра, работавшая в детском саду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стала использовать её для леп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зже совет по образованию в Цинциннати обязал все учебные заведения использовать «нетоксичное чистящее средство для обоев» на занятиях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А в 1955 году на изобретение Маквикера</a:t>
            </a:r>
            <a:r>
              <a:rPr b="0" lang="ru-RU" sz="9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братили внимание крупные универмаг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Светлая масса была более пластичной, не высыхала и вскоре прародитель современного пластилина сметался с полок подчистую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Маквикер в 27 лет стал миллионеро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а мы получили возможность творить в цвет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3" name="Picture 6" descr="pl_0003323"/>
          <p:cNvPicPr/>
          <p:nvPr/>
        </p:nvPicPr>
        <p:blipFill>
          <a:blip r:embed="rId1"/>
          <a:stretch/>
        </p:blipFill>
        <p:spPr>
          <a:xfrm>
            <a:off x="357120" y="285840"/>
            <a:ext cx="3786120" cy="5533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826920" y="58053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 Макви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Каким  бывает   пластилин?</a:t>
            </a:r>
            <a:br>
              <a:rPr sz="3200"/>
            </a:br>
            <a:r>
              <a:rPr b="0" lang="ru-RU" sz="1400" spc="-1" strike="noStrike">
                <a:solidFill>
                  <a:srgbClr val="0000ff"/>
                </a:solidFill>
                <a:latin typeface="Calibri Light"/>
              </a:rPr>
              <a:t>Сегодня материал для лепки представлен в широком ассортименте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836640"/>
            <a:ext cx="2879640" cy="244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6286680" y="836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2987640" y="907920"/>
            <a:ext cx="1428840" cy="2265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5"/>
          <a:stretch/>
        </p:blipFill>
        <p:spPr>
          <a:xfrm>
            <a:off x="0" y="3789360"/>
            <a:ext cx="3097080" cy="280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6"/>
          <a:stretch/>
        </p:blipFill>
        <p:spPr>
          <a:xfrm>
            <a:off x="6372360" y="3357720"/>
            <a:ext cx="2771640" cy="3500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0"/>
          <p:cNvSpPr/>
          <p:nvPr/>
        </p:nvSpPr>
        <p:spPr>
          <a:xfrm>
            <a:off x="3635280" y="4437000"/>
            <a:ext cx="14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546a"/>
                </a:solidFill>
                <a:latin typeface="Arial"/>
              </a:rPr>
              <a:t>прост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5364000" y="62946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лбасках, вед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451640" y="278136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3" descr="4a616b0bfdc7"/>
          <p:cNvPicPr/>
          <p:nvPr/>
        </p:nvPicPr>
        <p:blipFill>
          <a:blip r:embed="rId7"/>
          <a:stretch/>
        </p:blipFill>
        <p:spPr>
          <a:xfrm>
            <a:off x="3203640" y="3429000"/>
            <a:ext cx="2881080" cy="2808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4"/>
          <p:cNvSpPr/>
          <p:nvPr/>
        </p:nvSpPr>
        <p:spPr>
          <a:xfrm>
            <a:off x="3059280" y="299736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0" y="3645000"/>
            <a:ext cx="18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ковый плав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6720" y="115560"/>
            <a:ext cx="38880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Одна из разновидностей пластилина – это полимерная глина , которая лепится как пластилин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но затвердевает в духовк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ри не слишком высокой температур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Еще её называют </a:t>
            </a: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термопластик.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сле запекания он превращается в подобие пластмассы, которую можно резать, пилить, шлифовать и механически обрабатыват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Этот материал водостоек и долговече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Существует несколько фирм – производителей пластики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9" name="Picture 6" descr="2"/>
          <p:cNvPicPr/>
          <p:nvPr/>
        </p:nvPicPr>
        <p:blipFill>
          <a:blip r:embed="rId1"/>
          <a:stretch/>
        </p:blipFill>
        <p:spPr>
          <a:xfrm>
            <a:off x="1258920" y="189000"/>
            <a:ext cx="3529080" cy="3095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2"/>
          <a:stretch/>
        </p:blipFill>
        <p:spPr>
          <a:xfrm>
            <a:off x="4427640" y="4437000"/>
            <a:ext cx="4176720" cy="242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i-396"/>
          <p:cNvPicPr/>
          <p:nvPr/>
        </p:nvPicPr>
        <p:blipFill>
          <a:blip r:embed="rId3"/>
          <a:stretch/>
        </p:blipFill>
        <p:spPr>
          <a:xfrm>
            <a:off x="611280" y="3645000"/>
            <a:ext cx="3024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 Light"/>
              </a:rPr>
              <a:t>Что можно делать из пластики? </a:t>
            </a: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Из термопластика можно лепить все что угодно, начиная от миниатюр и заканчивая скульптур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 Из неё делают сувениры, украшения, бижутерию, кулоны, подвески, брелоки, статуэтки, пуговицы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 Light"/>
              </a:rPr>
              <a:t>Полимерная глина применяется также для изготовления предметов интерьера, ёлочных игрушек и авторских кукол.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3" name="Picture 6" descr="1ап"/>
          <p:cNvPicPr/>
          <p:nvPr/>
        </p:nvPicPr>
        <p:blipFill>
          <a:blip r:embed="rId1"/>
          <a:stretch/>
        </p:blipFill>
        <p:spPr>
          <a:xfrm>
            <a:off x="179280" y="1773360"/>
            <a:ext cx="2778120" cy="244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2"/>
          <a:stretch/>
        </p:blipFill>
        <p:spPr>
          <a:xfrm>
            <a:off x="6191280" y="1700280"/>
            <a:ext cx="2952720" cy="23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5940360" y="4365720"/>
            <a:ext cx="2879640" cy="249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2543040" cy="1905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5"/>
          <a:stretch/>
        </p:blipFill>
        <p:spPr>
          <a:xfrm>
            <a:off x="3348000" y="2492280"/>
            <a:ext cx="2448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Что можно делать из пластилина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17" descr="1317130629_zhar_ptica_01"/>
          <p:cNvPicPr/>
          <p:nvPr/>
        </p:nvPicPr>
        <p:blipFill>
          <a:blip r:embed="rId1"/>
          <a:stretch/>
        </p:blipFill>
        <p:spPr>
          <a:xfrm>
            <a:off x="0" y="836640"/>
            <a:ext cx="2268360" cy="2016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24000" y="857160"/>
            <a:ext cx="33116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Calibri"/>
              </a:rPr>
              <a:t>Де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1.Традиционные подел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просто из пластилина или с добавлением других материалов(шишки, ягоды, овощи, хвоинки и т.д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2.Красивейшую бижутерию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бусы, кольца, браслеты и т.д.)- из шарикового пластилина, который застывает на воздухе в течение 24 ча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3.Рисование пластилин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-вместо краски используется пластилин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ираешь картин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картоне делаешь пластилиновый ф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носишь силуэт картин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луэт заполняешь цветным пластили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9" descr="s12995127"/>
          <p:cNvPicPr/>
          <p:nvPr/>
        </p:nvPicPr>
        <p:blipFill>
          <a:blip r:embed="rId2"/>
          <a:stretch/>
        </p:blipFill>
        <p:spPr>
          <a:xfrm>
            <a:off x="3780000" y="4797360"/>
            <a:ext cx="1584000" cy="1920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s83445908"/>
          <p:cNvPicPr/>
          <p:nvPr/>
        </p:nvPicPr>
        <p:blipFill>
          <a:blip r:embed="rId3"/>
          <a:stretch/>
        </p:blipFill>
        <p:spPr>
          <a:xfrm>
            <a:off x="179280" y="4797360"/>
            <a:ext cx="2376720" cy="189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dstxui32qwm"/>
          <p:cNvPicPr/>
          <p:nvPr/>
        </p:nvPicPr>
        <p:blipFill>
          <a:blip r:embed="rId4"/>
          <a:stretch/>
        </p:blipFill>
        <p:spPr>
          <a:xfrm>
            <a:off x="1908000" y="2492280"/>
            <a:ext cx="2521080" cy="2311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imgpreview"/>
          <p:cNvPicPr/>
          <p:nvPr/>
        </p:nvPicPr>
        <p:blipFill>
          <a:blip r:embed="rId5"/>
          <a:stretch/>
        </p:blipFill>
        <p:spPr>
          <a:xfrm>
            <a:off x="3419640" y="765000"/>
            <a:ext cx="21999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05:17:42Z</dcterms:created>
  <dc:creator>Светлана</dc:creator>
  <dc:description/>
  <dc:language>en-US</dc:language>
  <cp:lastModifiedBy>vorobey689</cp:lastModifiedBy>
  <dcterms:modified xsi:type="dcterms:W3CDTF">2022-09-30T23:51:38Z</dcterms:modified>
  <cp:revision>57</cp:revision>
  <dc:subject/>
  <dc:title>Муниципальное Автономное  Общеобразовательное Учреждение Гимназия № 13 г.Томска</dc:title>
</cp:coreProperties>
</file>