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F705-AF46-4F64-8F01-10B562B4EA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961F-B608-42FC-8342-3404EBC70E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4CDA-E832-44FD-A728-FAA1BF546F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подлинным героем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оящим изобретателем пластилина считается из Цинцинат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выпустил простую  замазк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чистки обое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частью для Маквикера, его сестра, работавшая в детском саду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ала использовать её для леп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же совет по образованию в Цинциннати обязал все учебные заведения использовать «нетоксичное чистящее средство для обоев» на занятия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 в 1955 году на изобретение Маквикер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ли внимание крупные универмаг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ветлая масса была более пластичной, не высыхала и вскоре прародитель современного пластилина сметался с полок подчисту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аквикер в 27 лет стал миллионером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 мы получили возможность творить в цвет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1255-772E-4341-9ACE-FC4DAAF494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7909-67A5-4A60-85F2-4968C4B9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A86-CC4A-4618-B57D-79A3E720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9F96-A931-4DE7-8009-BDC95CB0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FAE3-130F-4A2E-AB86-4264C69B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2F8C-539A-4A07-B8C4-B2552301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C815-C788-4D69-83AF-DD3F82C6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219E-5C19-4C37-B570-D7190071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558A-B0EA-419A-BE61-3BCF9C85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7941-31B3-4ED4-B2B9-FF9804DC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F438-312B-453D-9494-F627084F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A882-39E9-4429-86E1-BF8BED00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623F-056E-4E90-9666-AFF416E5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9B7C-C4C9-4B93-9794-2A96F4A5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16A5-2ED7-4BB8-92FE-3F8D1AD1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56BD-AE6F-4CCA-9F92-7530FB68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46CE-63FB-44EA-BDD1-6791A5B6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73AA-F3F3-4519-8EBD-FE0ABAF8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4F3FA-5F3F-4C2C-8848-1EB74049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90C2F-2A97-4DAF-939A-AC0446A9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A1951-E889-488F-8AB5-E798E8BA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26F61-C844-4545-AE8C-5499FC8A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586EB-7FFF-4B38-B5B3-FD6B0250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541-3A91-4DF6-AC65-FBEB1D55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CB274-2D29-4E5A-9C68-E2C4743C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6944D-485D-4B93-82C4-FFE21922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5F6FB-7DAA-4D9D-B15C-288E244F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7F495-0165-4206-AAD9-6812ED4E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E8E99-B40B-4BE8-9B94-5BEB7601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B344D-1BFD-4369-81D9-CF33689B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B0511-A768-4C96-8FCD-AA4E70FF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FAB-C640-4E0A-8566-BC7AC798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B188-6BAB-4B76-90F6-F089EA9E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5E42-1C22-4CBD-AA8C-1A2DABF9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659-D757-4198-B912-813BA34F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C8BE-FEF7-4D7D-96B3-E8DC7F66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98E-71A9-4CA3-8176-D48DDCCA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60F0-62BC-4788-BC17-4C775D59A413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EF81-4B09-4F3B-9F80-88236954E3D1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3A03-D2FF-49F1-96BD-31F21B3EF0C7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8;&#1090;&#1072;&#1083;&#1100;&#1103;&#1085;&#1089;&#1082;&#1080;&#1081;_&#1103;&#1079;&#1099;&#1082;" TargetMode="External"/><Relationship Id="rId2" Type="http://schemas.openxmlformats.org/officeDocument/2006/relationships/hyperlink" Target="https://ru.wikipedia.org/wiki/&#1044;&#1088;&#1077;&#1074;&#1085;&#1077;&#1075;&#1088;&#1077;&#1095;&#1077;&#1089;&#1082;&#1080;&#1081;_&#1103;&#1079;&#1099;&#1082;" TargetMode="External"/><Relationship Id="rId3" Type="http://schemas.openxmlformats.org/officeDocument/2006/relationships/hyperlink" Target="https://ru.wikipedia.org/wiki/&#1051;&#1077;&#1087;&#1082;&#1072;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256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МБОУ СОШ №4 «с углублённым изучением отдельных предметов»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50560" y="191592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рок 14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кульптур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астерская скульпто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езентацию подготовила: Логинова Т.М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читель Изобразительного искусства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как лепить из пластилина"/>
          <p:cNvPicPr/>
          <p:nvPr/>
        </p:nvPicPr>
        <p:blipFill>
          <a:blip r:embed="rId1"/>
          <a:stretch/>
        </p:blipFill>
        <p:spPr>
          <a:xfrm>
            <a:off x="324000" y="3997440"/>
            <a:ext cx="2419200" cy="2447640"/>
          </a:xfrm>
          <a:prstGeom prst="rect">
            <a:avLst/>
          </a:prstGeom>
          <a:ln w="3240">
            <a:solidFill>
              <a:srgbClr val="cc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0360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alibri Light"/>
              </a:rPr>
              <a:t>Взрослые пошли дальше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6" name="Picture 7" descr="kartina4"/>
          <p:cNvPicPr/>
          <p:nvPr/>
        </p:nvPicPr>
        <p:blipFill>
          <a:blip r:embed="rId1"/>
          <a:stretch/>
        </p:blipFill>
        <p:spPr>
          <a:xfrm>
            <a:off x="1195560" y="2766960"/>
            <a:ext cx="2562120" cy="21909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24000" y="764640"/>
            <a:ext cx="3419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Пластилиновые скульптуры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рмии, зоопарки, любимых людей и т.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Реклам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на улице Лондона ярко-синий пластилиновый Chevrolet Orlando MPV весом в 1,5 тонны. Его создали 8 человек  установили на обочине проезжей части между настоящих припаркованных маши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Дизайн интерьер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голландский дизайнер Маартен Баас умело и с интересом создает и выставляет на всеобщее обозрение пластилиновую мебель и муляжи бытовой техни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8" descr="clip_image001"/>
          <p:cNvPicPr/>
          <p:nvPr/>
        </p:nvPicPr>
        <p:blipFill>
          <a:blip r:embed="rId2"/>
          <a:stretch/>
        </p:blipFill>
        <p:spPr>
          <a:xfrm>
            <a:off x="2843280" y="2276640"/>
            <a:ext cx="2881080" cy="208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Копия 33"/>
          <p:cNvPicPr/>
          <p:nvPr/>
        </p:nvPicPr>
        <p:blipFill>
          <a:blip r:embed="rId3"/>
          <a:stretch/>
        </p:blipFill>
        <p:spPr>
          <a:xfrm>
            <a:off x="0" y="765000"/>
            <a:ext cx="5724360" cy="1440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18803-MTJiYzc5ZmYzMA"/>
          <p:cNvPicPr/>
          <p:nvPr/>
        </p:nvPicPr>
        <p:blipFill>
          <a:blip r:embed="rId4"/>
          <a:stretch/>
        </p:blipFill>
        <p:spPr>
          <a:xfrm>
            <a:off x="179280" y="3213000"/>
            <a:ext cx="2521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635280" y="115560"/>
            <a:ext cx="50515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Calibri Light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британский телеведущий Джеймс Мэй в 2010 году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на выставке «Королевского Садоводческого Общества» в Челси представил взору удивленной публики настоящий пластилиновый сад с цветами, деревом и спелой клубникой и цветной капустой в натуральную величину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2" name="Picture 6" descr="plastilinovyi-sad-1"/>
          <p:cNvPicPr/>
          <p:nvPr/>
        </p:nvPicPr>
        <p:blipFill>
          <a:blip r:embed="rId1"/>
          <a:stretch/>
        </p:blipFill>
        <p:spPr>
          <a:xfrm>
            <a:off x="217440" y="230040"/>
            <a:ext cx="2914560" cy="2190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plastilinovyi-sad-2"/>
          <p:cNvPicPr/>
          <p:nvPr/>
        </p:nvPicPr>
        <p:blipFill>
          <a:blip r:embed="rId2"/>
          <a:stretch/>
        </p:blipFill>
        <p:spPr>
          <a:xfrm>
            <a:off x="5457960" y="1628640"/>
            <a:ext cx="3362040" cy="2190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plastilinovyi-sad-5"/>
          <p:cNvPicPr/>
          <p:nvPr/>
        </p:nvPicPr>
        <p:blipFill>
          <a:blip r:embed="rId3"/>
          <a:stretch/>
        </p:blipFill>
        <p:spPr>
          <a:xfrm>
            <a:off x="144360" y="2822400"/>
            <a:ext cx="3059280" cy="22989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9"/>
          <p:cNvSpPr/>
          <p:nvPr/>
        </p:nvSpPr>
        <p:spPr>
          <a:xfrm>
            <a:off x="-6013440" y="465264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анская художница Ирма Грюнхол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ает из пласти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стичные объемные картины-сюж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0" descr="kartina5"/>
          <p:cNvPicPr/>
          <p:nvPr/>
        </p:nvPicPr>
        <p:blipFill>
          <a:blip r:embed="rId4"/>
          <a:stretch/>
        </p:blipFill>
        <p:spPr>
          <a:xfrm>
            <a:off x="5508720" y="3933720"/>
            <a:ext cx="3290760" cy="2745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1"/>
          <p:cNvSpPr/>
          <p:nvPr/>
        </p:nvSpPr>
        <p:spPr>
          <a:xfrm>
            <a:off x="611280" y="5167080"/>
            <a:ext cx="485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анская художница Ирма Грюнхол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ает из пласти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еалистичные объемные картины-сюже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856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И , конечно же,</a:t>
            </a: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ru-RU" sz="2900" spc="-1" strike="noStrike">
                <a:solidFill>
                  <a:srgbClr val="ff0000"/>
                </a:solidFill>
                <a:latin typeface="Calibri Light"/>
              </a:rPr>
              <a:t>пластилиновая анимация</a:t>
            </a:r>
            <a:br>
              <a:rPr sz="3200"/>
            </a:b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создаётся при помощи фигур, вылепленных из пластилин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 Создание пластилинового мультфильма с ребёнком –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это хороший способ расширения кругозора и развития мелкой моторики 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9" name="5.wmv" descr=""/>
          <p:cNvPicPr/>
          <p:nvPr/>
        </p:nvPicPr>
        <p:blipFill>
          <a:blip r:embed="rId1"/>
          <a:stretch/>
        </p:blipFill>
        <p:spPr>
          <a:xfrm>
            <a:off x="1671480" y="1825560"/>
            <a:ext cx="58010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 Light"/>
              </a:rPr>
              <a:t>Недостатки пластилин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071360"/>
            <a:ext cx="40402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ыцветание на свету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илипание пыл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асплывание на жаре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екоторые виды пластилина горят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Загрязнение рук, одежды, мебели вследствие работы с пластилино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 rot="741000">
            <a:off x="4167000" y="1616040"/>
            <a:ext cx="445428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2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Спасибо за внимани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3280" y="1142640"/>
            <a:ext cx="3961080" cy="559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 Light"/>
              </a:rPr>
              <a:t>Пластилин</a:t>
            </a:r>
            <a:r>
              <a:rPr b="0" lang="ru-RU" sz="1800" spc="-1" strike="noStrike">
                <a:solidFill>
                  <a:srgbClr val="ff0000"/>
                </a:solidFill>
                <a:latin typeface="Calibri Light"/>
              </a:rPr>
              <a:t> 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0" lang="ru-RU" sz="1600" spc="-1" strike="noStrike" u="sng">
                <a:solidFill>
                  <a:srgbClr val="0563c1"/>
                </a:solidFill>
                <a:uFillTx/>
                <a:latin typeface="Calibri Light"/>
                <a:hlinkClick r:id="rId1"/>
              </a:rPr>
              <a:t>итал.</a:t>
            </a: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 -</a:t>
            </a:r>
            <a:r>
              <a:rPr b="0" i="1" lang="it-IT" sz="1600" spc="-1" strike="noStrike">
                <a:solidFill>
                  <a:srgbClr val="000000"/>
                </a:solidFill>
                <a:latin typeface="Calibri Light"/>
              </a:rPr>
              <a:t>plastilina</a:t>
            </a: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, от </a:t>
            </a:r>
            <a:r>
              <a:rPr b="0" lang="ru-RU" sz="1600" spc="-1" strike="noStrike" u="sng">
                <a:solidFill>
                  <a:srgbClr val="0563c1"/>
                </a:solidFill>
                <a:uFillTx/>
                <a:latin typeface="Calibri Light"/>
                <a:hlinkClick r:id="rId2"/>
              </a:rPr>
              <a:t>др.-греч.</a:t>
            </a:r>
            <a:r>
              <a:rPr b="0" lang="ru-RU" sz="1600" spc="-1" strike="noStrike">
                <a:solidFill>
                  <a:srgbClr val="ff0000"/>
                </a:solidFill>
                <a:latin typeface="Calibri Light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 πλαστός - лепной) — материал для </a:t>
            </a:r>
            <a:r>
              <a:rPr b="0" lang="ru-RU" sz="1600" spc="-1" strike="noStrike" u="sng">
                <a:solidFill>
                  <a:srgbClr val="0563c1"/>
                </a:solidFill>
                <a:uFillTx/>
                <a:latin typeface="Calibri Light"/>
                <a:hlinkClick r:id="rId3"/>
              </a:rPr>
              <a:t>лепки</a:t>
            </a: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Ранее изготавливался из очищенного и размельченного порошка глины с добавлением воска, животных жиров и других веществ, препятствующих высыханию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Формула, по которой о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изготавливался до сих пор остается большим секретом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В настоящее время при производстве пластилина используют также высокомолекулярный полиэтилен(ВМПЭ), поливинилхлорид (ПВХ), каучуки и другие высокотехнологичные материалы. Окрашивается в различные цвета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4" name="Picture 7" descr="PICT3422"/>
          <p:cNvPicPr/>
          <p:nvPr/>
        </p:nvPicPr>
        <p:blipFill>
          <a:blip r:embed="rId4"/>
          <a:stretch/>
        </p:blipFill>
        <p:spPr>
          <a:xfrm>
            <a:off x="755640" y="4581360"/>
            <a:ext cx="3456000" cy="2276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imgpreview"/>
          <p:cNvPicPr/>
          <p:nvPr/>
        </p:nvPicPr>
        <p:blipFill>
          <a:blip r:embed="rId5"/>
          <a:stretch/>
        </p:blipFill>
        <p:spPr>
          <a:xfrm>
            <a:off x="2843280" y="765000"/>
            <a:ext cx="2200320" cy="136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f_tongchem1990530_20121106080019"/>
          <p:cNvPicPr/>
          <p:nvPr/>
        </p:nvPicPr>
        <p:blipFill>
          <a:blip r:embed="rId6"/>
          <a:stretch/>
        </p:blipFill>
        <p:spPr>
          <a:xfrm>
            <a:off x="0" y="2708280"/>
            <a:ext cx="2031840" cy="1646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2021394"/>
          <p:cNvPicPr/>
          <p:nvPr/>
        </p:nvPicPr>
        <p:blipFill>
          <a:blip r:embed="rId7"/>
          <a:stretch/>
        </p:blipFill>
        <p:spPr>
          <a:xfrm>
            <a:off x="0" y="836640"/>
            <a:ext cx="2665440" cy="1592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63b83b5d02a3d1a38509e1c193b304ce"/>
          <p:cNvPicPr/>
          <p:nvPr/>
        </p:nvPicPr>
        <p:blipFill>
          <a:blip r:embed="rId8"/>
          <a:stretch/>
        </p:blipFill>
        <p:spPr>
          <a:xfrm>
            <a:off x="2771640" y="2565360"/>
            <a:ext cx="2179800" cy="1413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2"/>
          <p:cNvSpPr/>
          <p:nvPr/>
        </p:nvSpPr>
        <p:spPr>
          <a:xfrm>
            <a:off x="0" y="422100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179280" y="234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эти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2700360" y="4005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винилхлор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3059280" y="2190600"/>
            <a:ext cx="20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ные жи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539640" y="189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остав     пласти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Calibri Light"/>
              </a:rPr>
              <a:t>Пластилин в домашних условиях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5" name="Фильм.wmv" descr=""/>
          <p:cNvPicPr/>
          <p:nvPr/>
        </p:nvPicPr>
        <p:blipFill>
          <a:blip r:embed="rId1"/>
          <a:stretch/>
        </p:blipFill>
        <p:spPr>
          <a:xfrm>
            <a:off x="1852560" y="1825560"/>
            <a:ext cx="54388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 Light"/>
              </a:rPr>
              <a:t>История возникновения пластилина</a:t>
            </a:r>
            <a:br>
              <a:rPr sz="3200"/>
            </a:b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Нам, можно сказать, повезло: давным-давно пластилин был только одного цвета. Белый. А еще раньше его вообще не было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7" name="Picture 7" descr="13522970709676"/>
          <p:cNvPicPr/>
          <p:nvPr/>
        </p:nvPicPr>
        <p:blipFill>
          <a:blip r:embed="rId1"/>
          <a:stretch/>
        </p:blipFill>
        <p:spPr>
          <a:xfrm>
            <a:off x="179280" y="4724280"/>
            <a:ext cx="3384720" cy="2017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859280" y="1196640"/>
            <a:ext cx="3827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ластилин стал известен миру с 19 ве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Франц Колб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лучил патент  в Германии (на модельную массу “Plastilin” в 1880 г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Уильям Харбу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 Великобритании (на незасыхающую глину “Plasticine” в 1899 г.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ильям Харбу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ыл преподавателем школы искусст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1897 году он разработал материал, который не высыхал бы при создании скульптур студентами. Первоначально пластилин использовался в образовательных целях, но после того как шестеро детей Харбута заполнили дом пластилиновыми поделками, родилось верное решение.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1900 году Харбут открыл свою фабрику, где началось промышленное производство пластилина, пока серого цве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9" descr="kolb_harbutt-300x196"/>
          <p:cNvPicPr/>
          <p:nvPr/>
        </p:nvPicPr>
        <p:blipFill>
          <a:blip r:embed="rId2"/>
          <a:stretch/>
        </p:blipFill>
        <p:spPr>
          <a:xfrm>
            <a:off x="179280" y="1341360"/>
            <a:ext cx="4608720" cy="2879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0"/>
          <p:cNvSpPr/>
          <p:nvPr/>
        </p:nvSpPr>
        <p:spPr>
          <a:xfrm>
            <a:off x="179280" y="4221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анц Кол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270036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ильям Харб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75308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Но подлинным героем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настоящим изобретателем пластилина считается Джо Маквикер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из Цинцинат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Он выпустил простую  замазку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для очистки обоев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К счастью для Маквикера, его сестра, работавшая в детском саду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 стала использовать её для лепк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Позже совет по образованию в Цинциннати обязал все учебные заведения использовать «нетоксичное чистящее средство для обоев» на занятиях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 А в 1955 году на изобретение Маквикера</a:t>
            </a:r>
            <a:r>
              <a:rPr b="0" lang="ru-RU" sz="9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обратили внимание крупные универмаг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 Светлая масса была более пластичной, не высыхала и вскоре прародитель современного пластилина сметался с полок подчистую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 Маквикер в 27 лет стал миллионером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 а мы получили возможность творить в цвете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3" name="Picture 6" descr="pl_0003323"/>
          <p:cNvPicPr/>
          <p:nvPr/>
        </p:nvPicPr>
        <p:blipFill>
          <a:blip r:embed="rId1"/>
          <a:stretch/>
        </p:blipFill>
        <p:spPr>
          <a:xfrm>
            <a:off x="357120" y="285840"/>
            <a:ext cx="3786120" cy="55339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826920" y="5805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 Маквик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 Light"/>
              </a:rPr>
              <a:t>Каким  бывает   пластилин?</a:t>
            </a:r>
            <a:br>
              <a:rPr sz="3200"/>
            </a:br>
            <a:r>
              <a:rPr b="0" lang="ru-RU" sz="1400" spc="-1" strike="noStrike">
                <a:solidFill>
                  <a:srgbClr val="0000ff"/>
                </a:solidFill>
                <a:latin typeface="Calibri Light"/>
              </a:rPr>
              <a:t>Сегодня материал для лепки представлен в широком ассортименте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0" y="836640"/>
            <a:ext cx="2879640" cy="244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4572000" y="105264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6286680" y="8366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4"/>
          <a:stretch/>
        </p:blipFill>
        <p:spPr>
          <a:xfrm>
            <a:off x="2987640" y="907920"/>
            <a:ext cx="1428840" cy="2265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5"/>
          <a:stretch/>
        </p:blipFill>
        <p:spPr>
          <a:xfrm>
            <a:off x="0" y="3789360"/>
            <a:ext cx="3097080" cy="2808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"/>
          <p:cNvPicPr/>
          <p:nvPr/>
        </p:nvPicPr>
        <p:blipFill>
          <a:blip r:embed="rId6"/>
          <a:stretch/>
        </p:blipFill>
        <p:spPr>
          <a:xfrm>
            <a:off x="6372360" y="3357720"/>
            <a:ext cx="2771640" cy="35002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0"/>
          <p:cNvSpPr/>
          <p:nvPr/>
        </p:nvSpPr>
        <p:spPr>
          <a:xfrm>
            <a:off x="3635280" y="4437000"/>
            <a:ext cx="14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546a"/>
                </a:solidFill>
                <a:latin typeface="Arial"/>
              </a:rPr>
              <a:t>прост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5364000" y="629460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лбасках, ведр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451640" y="2781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3" descr="4a616b0bfdc7"/>
          <p:cNvPicPr/>
          <p:nvPr/>
        </p:nvPicPr>
        <p:blipFill>
          <a:blip r:embed="rId7"/>
          <a:stretch/>
        </p:blipFill>
        <p:spPr>
          <a:xfrm>
            <a:off x="3203640" y="3429000"/>
            <a:ext cx="2881080" cy="28083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4"/>
          <p:cNvSpPr/>
          <p:nvPr/>
        </p:nvSpPr>
        <p:spPr>
          <a:xfrm>
            <a:off x="3059280" y="299736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0" y="3645000"/>
            <a:ext cx="18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ый плавающ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76720" y="115560"/>
            <a:ext cx="38880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Одна из разновидностей пластилина – это полимерная глина , которая лепится как пластилин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но затвердевает в духовке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при не слишком высокой температур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Еще её называют </a:t>
            </a:r>
            <a:r>
              <a:rPr b="0" lang="ru-RU" sz="3600" spc="-1" strike="noStrike">
                <a:solidFill>
                  <a:srgbClr val="ff0000"/>
                </a:solidFill>
                <a:latin typeface="Calibri Light"/>
              </a:rPr>
              <a:t>термопластик.</a:t>
            </a:r>
            <a:br>
              <a:rPr sz="3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После запекания он превращается в подобие пластмассы, которую можно резать, пилить, шлифовать и механически обрабатыват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 Этот материал водостоек и долговечен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Существует несколько фирм – производителей пластики.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9" name="Picture 6" descr="2"/>
          <p:cNvPicPr/>
          <p:nvPr/>
        </p:nvPicPr>
        <p:blipFill>
          <a:blip r:embed="rId1"/>
          <a:stretch/>
        </p:blipFill>
        <p:spPr>
          <a:xfrm>
            <a:off x="1258920" y="189000"/>
            <a:ext cx="3529080" cy="3095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2"/>
          <a:stretch/>
        </p:blipFill>
        <p:spPr>
          <a:xfrm>
            <a:off x="4427640" y="4437000"/>
            <a:ext cx="4176720" cy="2421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i-396"/>
          <p:cNvPicPr/>
          <p:nvPr/>
        </p:nvPicPr>
        <p:blipFill>
          <a:blip r:embed="rId3"/>
          <a:stretch/>
        </p:blipFill>
        <p:spPr>
          <a:xfrm>
            <a:off x="611280" y="3645000"/>
            <a:ext cx="3024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 Light"/>
              </a:rPr>
              <a:t>Что можно делать из пластики? </a:t>
            </a:r>
            <a:br>
              <a:rPr sz="32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Из термопластика можно лепить все что угодно, начиная от миниатюр и заканчивая скульптурам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 Из неё делают сувениры, украшения, бижутерию, кулоны, подвески, брелоки, статуэтки, пуговицы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Полимерная глина применяется также для изготовления предметов интерьера, ёлочных игрушек и авторских кукол.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3" name="Picture 6" descr="1ап"/>
          <p:cNvPicPr/>
          <p:nvPr/>
        </p:nvPicPr>
        <p:blipFill>
          <a:blip r:embed="rId1"/>
          <a:stretch/>
        </p:blipFill>
        <p:spPr>
          <a:xfrm>
            <a:off x="179280" y="1773360"/>
            <a:ext cx="2778120" cy="244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>
            <a:off x="6191280" y="1700280"/>
            <a:ext cx="2952720" cy="23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5940360" y="4365720"/>
            <a:ext cx="2879640" cy="2492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395280" y="4581360"/>
            <a:ext cx="2543040" cy="1905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5"/>
          <a:stretch/>
        </p:blipFill>
        <p:spPr>
          <a:xfrm>
            <a:off x="3348000" y="2492280"/>
            <a:ext cx="24480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9036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 Light"/>
              </a:rPr>
              <a:t>Что можно делать из пластилина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9" name="Picture 17" descr="1317130629_zhar_ptica_01"/>
          <p:cNvPicPr/>
          <p:nvPr/>
        </p:nvPicPr>
        <p:blipFill>
          <a:blip r:embed="rId1"/>
          <a:stretch/>
        </p:blipFill>
        <p:spPr>
          <a:xfrm>
            <a:off x="0" y="836640"/>
            <a:ext cx="2268360" cy="2016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24000" y="857160"/>
            <a:ext cx="331164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Calibri"/>
              </a:rPr>
              <a:t>Дет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1.Традиционные подел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росто из пластилина или с добавлением других материалов(шишки, ягоды, овощи, хвоинки и т.д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2.Красивейшую бижутерию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бусы, кольца, браслеты и т.д.)- из шарикового пластилина, который застывает на воздухе в течение 24 ча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3.Рисование пластилином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вместо краски используется пластилин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бираешь картинк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 картоне делаешь пластилиновый фо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носишь силуэт картин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луэт заполняешь цветным пластилин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19" descr="s12995127"/>
          <p:cNvPicPr/>
          <p:nvPr/>
        </p:nvPicPr>
        <p:blipFill>
          <a:blip r:embed="rId2"/>
          <a:stretch/>
        </p:blipFill>
        <p:spPr>
          <a:xfrm>
            <a:off x="3780000" y="4797360"/>
            <a:ext cx="1584000" cy="1920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s83445908"/>
          <p:cNvPicPr/>
          <p:nvPr/>
        </p:nvPicPr>
        <p:blipFill>
          <a:blip r:embed="rId3"/>
          <a:stretch/>
        </p:blipFill>
        <p:spPr>
          <a:xfrm>
            <a:off x="179280" y="4797360"/>
            <a:ext cx="2376720" cy="1892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dstxui32qwm"/>
          <p:cNvPicPr/>
          <p:nvPr/>
        </p:nvPicPr>
        <p:blipFill>
          <a:blip r:embed="rId4"/>
          <a:stretch/>
        </p:blipFill>
        <p:spPr>
          <a:xfrm>
            <a:off x="1908000" y="2492280"/>
            <a:ext cx="2521080" cy="2311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imgpreview"/>
          <p:cNvPicPr/>
          <p:nvPr/>
        </p:nvPicPr>
        <p:blipFill>
          <a:blip r:embed="rId5"/>
          <a:stretch/>
        </p:blipFill>
        <p:spPr>
          <a:xfrm>
            <a:off x="3419640" y="765000"/>
            <a:ext cx="219996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05:17:42Z</dcterms:created>
  <dc:creator>Светлана</dc:creator>
  <dc:description/>
  <dc:language>en-US</dc:language>
  <cp:lastModifiedBy>vorobey689</cp:lastModifiedBy>
  <dcterms:modified xsi:type="dcterms:W3CDTF">2022-09-30T23:51:38Z</dcterms:modified>
  <cp:revision>57</cp:revision>
  <dc:subject/>
  <dc:title>Муниципальное Автономное  Общеобразовательное Учреждение Гимназия № 13 г.Томска</dc:title>
</cp:coreProperties>
</file>