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5DC-F462-4EA3-8904-5CA96B30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558-F2E5-45E7-8BEC-AFFDFF3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251-AF69-4487-894C-C74ACFA1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C15-0983-4990-9FAD-76BDA8F1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4AA9-C28A-489E-B50B-DAA57B2E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094-980F-4D00-8068-A055360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079-134B-4ABC-BA5B-F69B1573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B7CC-467C-4603-AF31-92243586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E1F-168A-4114-BED3-A88A68E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D9D4-C2C3-43F1-9149-9370917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E5F-146D-4FC1-9B64-62BF609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151-2174-4DC4-902E-C5EAFF2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9A3-63AC-4482-8947-D7FA570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E420-487A-4E69-ACD1-19C5CC0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A2DC-52FA-4E60-B70B-102C239D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014-2ACC-4682-BAEF-F84AFCFC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5F2-1716-452B-BF9C-63C70310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A7C-CA22-4A6E-A8A5-3A00323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FCE-85E5-4C9B-AD2A-3F8769C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F9C-A38D-414F-B91C-CC32FCC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F3B-BED1-464D-B910-F29369E0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893-76A7-46CC-B27B-195EEC0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F52-0400-4784-A0F3-1E1F87A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437-7FCA-4528-B61E-FA3BC6A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9BCB-3704-44DC-B5F7-2EBB8E4F86B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2D09-100D-49D1-88B9-7485B5BDB28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47760" y="1371600"/>
            <a:ext cx="8802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Book Antiqua"/>
              </a:rPr>
              <a:t>Прошедшее завершённое врем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ook Antiqua"/>
              </a:rPr>
              <a:t>had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9600" spc="-1" strike="noStrike">
                <a:solidFill>
                  <a:srgbClr val="000000"/>
                </a:solidFill>
                <a:latin typeface="Book Antiqua"/>
              </a:rPr>
              <a:t> V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work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play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writt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13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69800" y="-9684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692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0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отребляется для выражения прошедшего действия, которое уже совершилось 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ённого момента в прошло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момент может быть определён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и обозначениями времени, ка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5 o`clock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5 часам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Saturda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субботе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e end of the yea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концу года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at tim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тому времени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of Decemb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15 декабр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By the end of the year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he had learnt to speak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We had done our homework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by 4 o`clock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гим (более поздним) прошедшим действием, выраженным в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st Si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We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watched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 the film which our friends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had told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us abo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Tom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ate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 an ice-cream he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had bought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in the sh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А также 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Past Perfect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используется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2960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даточном предложении после союза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того, как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After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 the sun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set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, we decided to return h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ложно-подчинённом предложении с союзом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жде чем; до того как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I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finished 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my work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before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 my mother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лавном предложении при наличии нареч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ardly, scarcely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ва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He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hardly entered 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the house, when it started to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3" descr=""/>
          <p:cNvPicPr/>
          <p:nvPr/>
        </p:nvPicPr>
        <p:blipFill>
          <a:blip r:embed="rId2"/>
          <a:stretch/>
        </p:blipFill>
        <p:spPr>
          <a:xfrm>
            <a:off x="73080" y="1523880"/>
            <a:ext cx="9320040" cy="25545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3"/>
          <a:stretch/>
        </p:blipFill>
        <p:spPr>
          <a:xfrm>
            <a:off x="-19080" y="3932280"/>
            <a:ext cx="905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Before I went to Russia last year 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read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a lot about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found that your countr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change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so mu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hear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at Moscow became as an international city as Lond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expect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at Russia is a cold country and 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find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t was tr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Sh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be born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before the war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begin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Captain Cook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discover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e island before h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die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68360" y="47628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nsert the verbs in the Past Perfect tense. (Вставьте глаголы в Past Perfect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... (to have) breakfast before I went to schoo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went to meet his friends after he ... (to do) his homewor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8 o’clock the rain ... (to stop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ice was late because she ... (to miss) the bu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e went to the post-office after she ... (to write) the lette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... (to work) at the factory before he entered the colle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got a bad mark for his test because he ... (to make) a lot of mistakes in i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ent to bed after I ... (to finish) reading the boo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ild ... (to fall) asleep before the parents came hom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... (to marry) before they bought this hou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39640" y="18900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se Past Perfect of the verbs in the box to complete the sentences. (Используйте Past Perfect предложенных глаголов, чтобы дополнить предложения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to leave,  to go,  to die,  to see,  to live,  to f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didn’t read the text in class because I …  my book at hom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ildren didn’t want to go to the cinema because they ... already ... the fil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ate wasn’t at home last week because she ... to visit her unc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nda never knew her father because he ... before she was bor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excited when the plane took off because I... never ... bef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y grandfather was always afraid of animals because he ... never ... in the countr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9280" y="289440"/>
            <a:ext cx="8886960" cy="47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inherit"/>
              </a:rPr>
              <a:t>Complete the sentences using the Past Perfect tense of the verbs below. (Дополните предложения, используя форму Past Perfect глаголов, приведенных ниже.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PT Serif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PT Serif"/>
              </a:rPr>
              <a:t>have dinner, to do homework, to come , to read the book, to clean the room, to go shopping, to return from Australia, to finish wor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I went to see my friend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I watched TV after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They went hom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He phoned m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She went to danc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We wrote a composition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They rebuilt the hous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Book Antiq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We went for a walk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6:34:32Z</dcterms:created>
  <dc:creator>User</dc:creator>
  <dc:description/>
  <dc:language>en-US</dc:language>
  <cp:lastModifiedBy>Татьяна Викторовна</cp:lastModifiedBy>
  <dcterms:modified xsi:type="dcterms:W3CDTF">2022-09-28T11:27:33Z</dcterms:modified>
  <cp:revision>18</cp:revision>
  <dc:subject/>
  <dc:title>Презентация PowerPoint</dc:title>
</cp:coreProperties>
</file>