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9BDB-511E-471B-9194-E5E00CE5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26F-6188-4235-A133-2B3165D1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96E-59E7-44DD-BF70-A73DD0A6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2C6-C701-497D-AAC4-648E8DAF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0664-4EA5-48B6-B072-AF7703E1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4F93-0356-4EA2-8CC9-E842989D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0680-2770-4DA1-8FD3-136AAE3D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47A1-CDFD-4FBE-97E5-97E052F7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8F7D-0317-4F32-B746-A93BD00C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883A-AA3B-440A-864C-325F4294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E819-866D-43F4-810D-71333185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840-3894-4118-B89B-6EFAAB51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7E3C-E9EB-4112-BC4F-D63BC3C5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2764-A7F8-42A1-921A-763F07274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641A-3188-4218-97A0-C0630795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8417-A9A7-4A1C-BD3B-40C3A065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49D5-4C36-4BCC-978E-1453D71A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38E-CCFA-467B-9107-33515398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9FB-9772-48BF-A152-B0168012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C9E-C943-4E95-81E2-82447DDD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368-A134-49B3-850E-E3743818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93D-6B0C-4A64-8624-F54275D2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13A-A5DC-4577-8742-8BD0C41E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BE9-A8AB-4E6F-9CB4-4BF0A909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B1D0-CDFB-4922-9C60-C84588CD193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FD26-3C1C-4263-B3EC-43E8D473892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47760" y="1371600"/>
            <a:ext cx="88027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335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82971"/>
                </a:solidFill>
                <a:latin typeface="Book Antiqua"/>
              </a:rPr>
              <a:t>Прошедшее завершённое врем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Book Antiqua"/>
              </a:rPr>
              <a:t>had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9600" spc="-1" strike="noStrike">
                <a:solidFill>
                  <a:srgbClr val="000000"/>
                </a:solidFill>
                <a:latin typeface="Book Antiqua"/>
              </a:rPr>
              <a:t> V</a:t>
            </a:r>
            <a:r>
              <a:rPr b="0" lang="en-US" sz="9600" spc="-1" strike="noStrike" baseline="-25000">
                <a:solidFill>
                  <a:srgbClr val="000000"/>
                </a:solidFill>
                <a:latin typeface="Book Antiqua"/>
              </a:rPr>
              <a:t>3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Book Antiqua"/>
              </a:rPr>
              <a:t>had work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Book Antiqua"/>
              </a:rPr>
              <a:t>had play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Book Antiqua"/>
              </a:rPr>
              <a:t>had writte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1335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1335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69800" y="-96840"/>
            <a:ext cx="8229600" cy="1481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692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30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потребляется для выражения прошедшего действия, которое уже совершилось д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ённого момента в прошлом.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т момент может быть определён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068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и обозначениями времени, ка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0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y 5 o`clock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 5 часам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y Saturday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 субботе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y the end of the yea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 концу года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y that tim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 тому времени)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by the 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Book Antiqua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of Decemb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 15 декабр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0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82971"/>
                </a:solidFill>
                <a:uFillTx/>
                <a:latin typeface="Book Antiqua"/>
              </a:rPr>
              <a:t>By the end of the year </a:t>
            </a: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he had learnt to speak Engl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0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We had done our homework </a:t>
            </a:r>
            <a:r>
              <a:rPr b="1" i="1" lang="en-US" sz="2400" spc="-1" strike="noStrike" u="sng">
                <a:solidFill>
                  <a:srgbClr val="382971"/>
                </a:solidFill>
                <a:uFillTx/>
                <a:latin typeface="Book Antiqua"/>
              </a:rPr>
              <a:t>by 4 o`clock</a:t>
            </a: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068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ругим (более поздним) прошедшим действием, выраженным в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ast Si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0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We </a:t>
            </a:r>
            <a:r>
              <a:rPr b="1" i="1" lang="en-US" sz="2400" spc="-1" strike="noStrike" u="sng">
                <a:solidFill>
                  <a:srgbClr val="382971"/>
                </a:solidFill>
                <a:uFillTx/>
                <a:latin typeface="Book Antiqua"/>
              </a:rPr>
              <a:t>watched</a:t>
            </a: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 the film which our friends </a:t>
            </a:r>
            <a:r>
              <a:rPr b="1" i="1" lang="en-US" sz="2400" spc="-1" strike="noStrike" u="sng">
                <a:solidFill>
                  <a:srgbClr val="382971"/>
                </a:solidFill>
                <a:uFillTx/>
                <a:latin typeface="Book Antiqua"/>
              </a:rPr>
              <a:t>had told </a:t>
            </a: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us abou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0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Tom </a:t>
            </a:r>
            <a:r>
              <a:rPr b="1" i="1" lang="en-US" sz="2400" spc="-1" strike="noStrike" u="sng">
                <a:solidFill>
                  <a:srgbClr val="382971"/>
                </a:solidFill>
                <a:uFillTx/>
                <a:latin typeface="Book Antiqua"/>
              </a:rPr>
              <a:t>ate</a:t>
            </a: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 an ice-cream he </a:t>
            </a:r>
            <a:r>
              <a:rPr b="1" i="1" lang="en-US" sz="2400" spc="-1" strike="noStrike" u="sng">
                <a:solidFill>
                  <a:srgbClr val="382971"/>
                </a:solidFill>
                <a:uFillTx/>
                <a:latin typeface="Book Antiqua"/>
              </a:rPr>
              <a:t>had bought </a:t>
            </a:r>
            <a:r>
              <a:rPr b="1" i="1" lang="en-US" sz="2400" spc="-1" strike="noStrike">
                <a:solidFill>
                  <a:srgbClr val="382971"/>
                </a:solidFill>
                <a:latin typeface="Book Antiqua"/>
              </a:rPr>
              <a:t>in the sho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3068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2960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А также </a:t>
            </a:r>
            <a:r>
              <a:rPr b="0" lang="en-US" sz="3300" spc="-1" strike="noStrike">
                <a:solidFill>
                  <a:srgbClr val="ffffff"/>
                </a:solidFill>
                <a:latin typeface="Book Antiqua"/>
              </a:rPr>
              <a:t>Past Perfect </a:t>
            </a: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используется: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2960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придаточном предложении после союза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того, как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82971"/>
                </a:solidFill>
                <a:uFillTx/>
                <a:latin typeface="Book Antiqua"/>
              </a:rPr>
              <a:t>After</a:t>
            </a:r>
            <a:r>
              <a:rPr b="1" i="1" lang="en-US" sz="2800" spc="-1" strike="noStrike">
                <a:solidFill>
                  <a:srgbClr val="382971"/>
                </a:solidFill>
                <a:latin typeface="Book Antiqua"/>
              </a:rPr>
              <a:t> the sun </a:t>
            </a:r>
            <a:r>
              <a:rPr b="1" i="1" lang="en-US" sz="2800" spc="-1" strike="noStrike" u="sng">
                <a:solidFill>
                  <a:srgbClr val="382971"/>
                </a:solidFill>
                <a:uFillTx/>
                <a:latin typeface="Book Antiqua"/>
              </a:rPr>
              <a:t>had set</a:t>
            </a:r>
            <a:r>
              <a:rPr b="1" i="1" lang="en-US" sz="2800" spc="-1" strike="noStrike">
                <a:solidFill>
                  <a:srgbClr val="382971"/>
                </a:solidFill>
                <a:latin typeface="Book Antiqua"/>
              </a:rPr>
              <a:t>, we decided to return ho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ложно-подчинённом предложении с союзом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жде чем; до того как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82971"/>
                </a:solidFill>
                <a:latin typeface="Book Antiqua"/>
              </a:rPr>
              <a:t>I </a:t>
            </a:r>
            <a:r>
              <a:rPr b="1" i="1" lang="en-US" sz="2800" spc="-1" strike="noStrike" u="sng">
                <a:solidFill>
                  <a:srgbClr val="382971"/>
                </a:solidFill>
                <a:uFillTx/>
                <a:latin typeface="Book Antiqua"/>
              </a:rPr>
              <a:t>had finished </a:t>
            </a:r>
            <a:r>
              <a:rPr b="1" i="1" lang="en-US" sz="2800" spc="-1" strike="noStrike">
                <a:solidFill>
                  <a:srgbClr val="382971"/>
                </a:solidFill>
                <a:latin typeface="Book Antiqua"/>
              </a:rPr>
              <a:t>my work </a:t>
            </a:r>
            <a:r>
              <a:rPr b="1" i="1" lang="en-US" sz="2800" spc="-1" strike="noStrike" u="sng">
                <a:solidFill>
                  <a:srgbClr val="382971"/>
                </a:solidFill>
                <a:uFillTx/>
                <a:latin typeface="Book Antiqua"/>
              </a:rPr>
              <a:t>before</a:t>
            </a:r>
            <a:r>
              <a:rPr b="1" i="1" lang="en-US" sz="2800" spc="-1" strike="noStrike">
                <a:solidFill>
                  <a:srgbClr val="382971"/>
                </a:solidFill>
                <a:latin typeface="Book Antiqua"/>
              </a:rPr>
              <a:t> my mother c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главном предложении при наличии нареч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hardly, scarcely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два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82971"/>
                </a:solidFill>
                <a:latin typeface="Book Antiqua"/>
              </a:rPr>
              <a:t>He </a:t>
            </a:r>
            <a:r>
              <a:rPr b="1" i="1" lang="en-US" sz="2800" spc="-1" strike="noStrike" u="sng">
                <a:solidFill>
                  <a:srgbClr val="382971"/>
                </a:solidFill>
                <a:uFillTx/>
                <a:latin typeface="Book Antiqua"/>
              </a:rPr>
              <a:t>had hardly entered </a:t>
            </a:r>
            <a:r>
              <a:rPr b="1" i="1" lang="en-US" sz="2800" spc="-1" strike="noStrike">
                <a:solidFill>
                  <a:srgbClr val="382971"/>
                </a:solidFill>
                <a:latin typeface="Book Antiqua"/>
              </a:rPr>
              <a:t>the house, when it started to r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82760"/>
          </a:xfrm>
          <a:prstGeom prst="rect">
            <a:avLst/>
          </a:prstGeom>
          <a:ln w="0">
            <a:noFill/>
          </a:ln>
        </p:spPr>
      </p:pic>
      <p:pic>
        <p:nvPicPr>
          <p:cNvPr id="89" name="Объект 3" descr=""/>
          <p:cNvPicPr/>
          <p:nvPr/>
        </p:nvPicPr>
        <p:blipFill>
          <a:blip r:embed="rId2"/>
          <a:stretch/>
        </p:blipFill>
        <p:spPr>
          <a:xfrm>
            <a:off x="73080" y="1523880"/>
            <a:ext cx="9320040" cy="2554560"/>
          </a:xfrm>
          <a:prstGeom prst="rect">
            <a:avLst/>
          </a:prstGeom>
          <a:ln w="0">
            <a:noFill/>
          </a:ln>
        </p:spPr>
      </p:pic>
      <p:pic>
        <p:nvPicPr>
          <p:cNvPr id="90" name="Заголовок 1" descr=""/>
          <p:cNvPicPr/>
          <p:nvPr/>
        </p:nvPicPr>
        <p:blipFill>
          <a:blip r:embed="rId3"/>
          <a:stretch/>
        </p:blipFill>
        <p:spPr>
          <a:xfrm>
            <a:off x="-19080" y="3932280"/>
            <a:ext cx="90536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18120" indent="-48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Before I went to Russia last year I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read) </a:t>
            </a: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a lot about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18120" indent="-48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I found that your country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change) </a:t>
            </a: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so mu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18120" indent="-48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hear) </a:t>
            </a: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that Moscow became as an international city as Lond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18120" indent="-48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I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expect) </a:t>
            </a: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that Russia is a cold country and I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find) </a:t>
            </a: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it was tr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18120" indent="-48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She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be born) </a:t>
            </a: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before the war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begin)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18120" indent="-48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Captain Cook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discover) </a:t>
            </a: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the island before he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die)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468360" y="476280"/>
            <a:ext cx="79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Insert the verbs in the Past Perfect tense. (Вставьте глаголы в Past Perfect.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... (to have) breakfast before I went to school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 went to meet his friends after he ... (to do) his homework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y 8 o’clock the rain ... (to stop)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lice was late because she ... (to miss) the bu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he went to the post-office after she ... (to write) the letter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 ... (to work) at the factory before he entered the colleg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e got a bad mark for his test because he ... (to make) a lot of mistakes in it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went to bed after I ... (to finish) reading the book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hild ... (to fall) asleep before the parents came hom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y ... (to marry) before they bought this hous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539640" y="189000"/>
            <a:ext cx="79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Use Past Perfect of the verbs in the box to complete the sentences. (Используйте Past Perfect предложенных глаголов, чтобы дополнить предложения.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Book Antiqua"/>
              </a:rPr>
              <a:t>to leave,  to go,  to die,  to see,  to live,  to f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didn’t read the text in class because I …  my book at hom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hildren didn’t want to go to the cinema because they ... already ... the film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ate wasn’t at home last week because she ... to visit her uncl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inda never knew her father because he ... before she was bor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 was excited when the plane took off because I... never ... befor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y grandfather was always afraid of animals because he ... never ... in the country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79280" y="289440"/>
            <a:ext cx="8886960" cy="475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inherit"/>
              </a:rPr>
              <a:t>Complete the sentences using the Past Perfect tense of the verbs below. (Дополните предложения, используя форму Past Perfect глаголов, приведенных ниже.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PT Serif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PT Serif"/>
              </a:rPr>
              <a:t>have dinner, to do homework, to come , to read the book, to clean the room, to go shopping, to return from Australia, to finish work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T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I went to see my friend after.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T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I watched TV after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T Serif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They went home after.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T Serif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He phoned me after.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T Serif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She went to dance after.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T Serif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We wrote a composition after.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T Serif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They rebuilt the house after.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000000"/>
              </a:buClr>
              <a:buFont typeface="Book Antiqu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PT Serif"/>
              </a:rPr>
              <a:t>We went for a walk after..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06:34:32Z</dcterms:created>
  <dc:creator>User</dc:creator>
  <dc:description/>
  <dc:language>en-US</dc:language>
  <cp:lastModifiedBy>Татьяна Викторовна</cp:lastModifiedBy>
  <dcterms:modified xsi:type="dcterms:W3CDTF">2022-09-28T11:27:33Z</dcterms:modified>
  <cp:revision>18</cp:revision>
  <dc:subject/>
  <dc:title>Презентация PowerPoint</dc:title>
</cp:coreProperties>
</file>