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09D5-BCAC-46D3-828D-F57906403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7C7D-7EF1-4E0A-9E09-E0EE13B64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1B16-2DA0-4472-B317-67938B222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B4F3-4279-4F49-809A-922FF91D5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780B0-E0B1-4002-BBB4-E3B3401E9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9E561-8C14-4DC8-9E2D-A44D15F5A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DE52C-2353-477C-BDF8-2C230BA09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9C1CD-7E8D-4A69-8BC6-13AC6B8F7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789AA-3879-45AA-BBE8-1464164D2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451E7-47A0-445F-8D01-83688534C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FF190-6888-414C-8528-46DAA864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01A5-7755-40A5-BA80-D95E20285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66722-2B83-40F5-A368-797A6B57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D3B4F-9377-4F0C-A17D-209141E3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A87DF-39A4-4621-84D9-051215C4C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98F1F-8AE4-4A4A-A567-579C5AE47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4857C-06F7-44E4-B13D-A14780B03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14E8-046D-4BEA-971E-1966C9C1B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697F-D3DC-472B-9190-B3CFB0DBE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4B7D-2429-4CA2-B7FD-AF184C21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473D-82D6-4218-9554-69DC62F68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8C04-27A9-44DC-8BBB-66D148C3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ABFF-EC92-47D9-994D-0BB2BC30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C933-B9CD-4C83-84B9-C280BF37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D55F4-3AA2-418D-8C1A-D6FD58F7AB3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1894B-915D-4416-8F24-1ABB69A450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133720"/>
            <a:ext cx="7772400" cy="14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Calibri"/>
              </a:rPr>
              <a:t>ФОРМИРОВАНИЕ </a:t>
            </a:r>
            <a:r>
              <a:rPr b="1" i="1" lang="ru-RU" sz="4800" spc="-1" strike="noStrike">
                <a:solidFill>
                  <a:srgbClr val="0070c0"/>
                </a:solidFill>
                <a:latin typeface="Calibri"/>
              </a:rPr>
              <a:t>КОММУНИКАТИВНЫХ УУД </a:t>
            </a:r>
            <a:r>
              <a:rPr b="1" i="1" lang="ru-RU" sz="4800" spc="-1" strike="noStrike">
                <a:solidFill>
                  <a:srgbClr val="ff0000"/>
                </a:solidFill>
                <a:latin typeface="Calibri"/>
              </a:rPr>
              <a:t>НА УРОКАХ В НАЧАЛЬНОЙ ШКОЛ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5" descr=""/>
          <p:cNvPicPr/>
          <p:nvPr/>
        </p:nvPicPr>
        <p:blipFill>
          <a:blip r:embed="rId1"/>
          <a:srcRect l="4295" t="0" r="0" b="0"/>
          <a:stretch/>
        </p:blipFill>
        <p:spPr>
          <a:xfrm rot="2445600">
            <a:off x="6960960" y="490320"/>
            <a:ext cx="1971720" cy="1466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2"/>
          <a:stretch/>
        </p:blipFill>
        <p:spPr>
          <a:xfrm rot="17408400">
            <a:off x="-102960" y="63000"/>
            <a:ext cx="2462040" cy="211608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2"/>
          <p:cNvSpPr/>
          <p:nvPr/>
        </p:nvSpPr>
        <p:spPr>
          <a:xfrm>
            <a:off x="2895480" y="4419720"/>
            <a:ext cx="3810240" cy="2057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Автор:  Дуплянкина Наталия Геннад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Учитель начальных классов                     ГБОУ лицей № 40                                                        г. Санкт-Петер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РЕКОМЕНД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0" y="8380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-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 </a:t>
            </a: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Научите ребенка высказывать свои мысли. Во время его ответа на вопрос задавайте ему наводящие вопросы, составьте алгорит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-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учите ребенка самого задавать уточняющие вопросы по материалу, переспрашивать, уточня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-</a:t>
            </a: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 Не бойтесь «нестандартных уроков», попробуйте, различные виды игр, дискуссий и групповой работы для освоения матери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38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нания, добываемые насильно, душат разум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        А.Фран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70c0"/>
                </a:solidFill>
                <a:latin typeface="Calibri"/>
              </a:rPr>
              <a:t>«Успех зависит на 15 % от знаний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70c0"/>
                </a:solidFill>
                <a:latin typeface="Calibri"/>
              </a:rPr>
              <a:t>и на 85%  - от умения общаться с людьми,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70c0"/>
                </a:solidFill>
                <a:latin typeface="Calibri"/>
              </a:rPr>
              <a:t>«подать себя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Дейл Карнег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КОММУНИКАТИВНЫЕ УУ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560" y="990720"/>
            <a:ext cx="41893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Calibri"/>
              </a:rPr>
              <a:t>-  планирование учебного сотрудничества с учителем и сверстниками – определение цели, функций участников, способов взаимодейств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-  постановка вопросов – инициативное сотрудничество в поиске и сборе информаци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Calibri"/>
              </a:rPr>
              <a:t>-  разрешение конфликтов – выявление, идентификация проблемы, поиск и оценка альтернативных способов разрешения конфликта, принятие решения и его реализац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- умения с достаточной полнотой и точностью выражать свои мысли в соответствии с задачами и условиями коммуникаци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Calibri"/>
              </a:rPr>
              <a:t>- формирование умения работать в парах и малых группах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343400" y="990720"/>
            <a:ext cx="4595760" cy="73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-  владение монологической и диалогической формами речи в соответствии с грамматическими и синтаксическими нормами родного язык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Calibri"/>
              </a:rPr>
              <a:t>- формирование умения объяснять свой выбор, строить фразы, отвечать на поставленный вопрос, аргументировать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- формирование вербальных способов коммуникации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Calibri"/>
              </a:rPr>
              <a:t>- формирование невербальных способов коммуникации – посредством контакта глаз, мимики, жестов, позы, интонации 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- формирование опосредованной коммуникации (использование знаков и символов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КРИТЕРИИ  СФОРМИРОВАННОСТИ  УУ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7800" y="8377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желание вступать в контакт с окружающим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- знание норм и правил, которым  необходимо следовать при общении с окружающим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-  умение организовать общение, эмоционально сопереживать, умение решать конфликтные ситу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ФОРМЫ ОРГАНИЗАЦИИ КОММУНИКАТИВНОГО ОБЩ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ЧИТЕЛЬ – УЧЕН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ОДИТЕЛЬ - УЧЕН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ЧЕНИК- УЧЕНИК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РУППОВАЯ                            ПАР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4" name="Прямая со стрелкой 4"/>
          <p:cNvCxnSpPr/>
          <p:nvPr/>
        </p:nvCxnSpPr>
        <p:spPr>
          <a:xfrm flipH="1">
            <a:off x="3000240" y="3786120"/>
            <a:ext cx="643320" cy="572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Прямая со стрелкой 6"/>
          <p:cNvCxnSpPr/>
          <p:nvPr/>
        </p:nvCxnSpPr>
        <p:spPr>
          <a:xfrm>
            <a:off x="5714640" y="3786120"/>
            <a:ext cx="786600" cy="572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ВИДЫ И ФОРМЫ РАБО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83808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744120" indent="-425160">
              <a:lnSpc>
                <a:spcPct val="100000"/>
              </a:lnSpc>
              <a:spcBef>
                <a:spcPts val="799"/>
              </a:spcBef>
              <a:spcAft>
                <a:spcPts val="1001"/>
              </a:spcAft>
              <a:buClr>
                <a:srgbClr val="0070c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работа в группах , в пар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44120" indent="-425160">
              <a:spcBef>
                <a:spcPts val="7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  <a:ea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- викторины,  интеллектуальные     командные игры, конкурс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44120" indent="-425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  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- чтение по ролям, мини - инсценировк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44120" indent="-425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- проекты  и мини – проекты,творческие          работ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44120" indent="-425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  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- «задания – интервью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44120" indent="-425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44120" indent="-42516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44120" indent="-425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44120" indent="-425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44120" indent="-425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оммуникация как взаимодейств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важение к мнению собеседн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мение чётко выражать свои мыс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ргументировать своё мн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нимать позицию собеседн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нтролировать действия партнер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улировать собственное мнение и позици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43588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Rounded MT Bold"/>
              </a:rPr>
              <a:t>Типовые задания, нацеленные на коммуникативные универсальные учебные действия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: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ставь задание партнеру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зыв на работу товарищ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рупповая работа по составлению кроссворд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иалоговое слуш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подготовь рассказ», «опиши устно»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объясни...» и т. д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Учебный предмет «Литерату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р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ное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чтение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»</a:t>
            </a:r>
            <a:br>
              <a:rPr sz="20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Чтение по полям : С. Маршак  «Сказка про козл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Учебный предмет «Русский язык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»</a:t>
            </a:r>
            <a:br>
              <a:rPr sz="28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та в группе: определение основного вопроса уро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Работа в паре: взаимопровер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Учебный предмет "Окружающий мир»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Работа в группах: решение кроссвор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т.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мой</cp:lastModifiedBy>
  <dcterms:modified xsi:type="dcterms:W3CDTF">2022-10-01T07:08:33Z</dcterms:modified>
  <cp:revision>58</cp:revision>
  <dc:subject>Коммуникативные УУД</dc:subject>
  <dc:title>Презентац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