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481-7FF4-40AE-86D3-C6CE1B81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E4F-00FC-4719-9531-BDD02329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BED-9151-4842-A074-4D6C5B0F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B60-077F-4FCA-8E4C-ECE7BF66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42AE-B511-4D69-A9AE-0268403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9BC2-20C1-4E20-9CC5-FD63E69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5CE0-AB72-4F4E-B8AA-B698B14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C9B6-2F19-40EC-9697-042DC610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A788-A324-4797-B5D6-38D248EF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C02-56DF-4CE1-B06C-45468EC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47D8-002C-45E5-B348-AF477C3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C1B-DBCC-4A8A-941D-2A18D3BC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026-A241-4C71-B144-25DF16B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E0F2-0F03-4DDB-AE7D-A69FFA5A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377B-A057-4462-9AF8-4B08328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9791-ECFA-4F3E-A383-8D50D4B3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255-926B-4365-8CBF-781B3981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250-BAE3-4787-99AD-19E719B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755-CF30-4D54-AD53-D8948C3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614-4B1F-4600-831B-140B319C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310-7C02-49FD-825F-60B7D0DB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867-D8BF-4A64-A638-AD2A4B9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46A-367F-40CE-B65D-F2C7A67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904-97E3-4246-A308-756424A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ECC-111A-404D-A930-8BC3EA6D2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731-FE2E-4A4D-8C13-6BA014C0F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ФОРМИРОВАНИЕ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КОММУНИКАТИВНЫХ УУД </a:t>
            </a: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НА УРОКАХ В НАЧАЛЬНОЙ ШК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4295" t="0" r="0" b="0"/>
          <a:stretch/>
        </p:blipFill>
        <p:spPr>
          <a:xfrm rot="2445600">
            <a:off x="6960960" y="490320"/>
            <a:ext cx="1971720" cy="146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 rot="17408400">
            <a:off x="-102960" y="63000"/>
            <a:ext cx="2462040" cy="2116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895480" y="4419720"/>
            <a:ext cx="381024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тор:  Дуплянкина Натали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начальных классов                     ГБОУ лицей № 40                                                        г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-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учите ребенка высказывать свои мысли. Во время его ответа на вопрос задавайте ему наводящие вопросы, составьте 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ребенка самого задавать уточняющие вопросы по материалу, переспрашивать, уточ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-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Не бойтесь «нестандартных уроков», попробуйте, различные виды игр, дискуссий и групповой работы для освоения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8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ния, добываемые насильно, душат разу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А.Фр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«Успех зависит на 15 % от знани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и на 85%  - от умения общаться с людьми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«подать себ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Дейл Карне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ММУНИКАТИВНЫЕ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99072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 планирование учебного сотрудничества с учителем и сверстниками – определение цели, функций участников, способов взаимодейств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 постановка вопросов – инициативное сотрудничество в поиске и сборе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 разрешение конфликтов – выявление, идентификация проблемы, поиск и оценка альтернативных способов разрешения конфликта, принятие решения и его реализ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умения с достаточной полнотой и точностью выражать свои мысли в соответствии с задачами и условиями коммуник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умения работать в парах и малых групп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343400" y="990720"/>
            <a:ext cx="4595760" cy="73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 владение монологической и диалогической формами речи в соответствии с грамматическими и синтаксическими нормами родного язы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умения объяснять свой выбор, строить фразы, отвечать на поставленный вопрос, аргументирова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вербальных способов коммуникации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невербальных способов коммуникации – посредством контакта глаз, мимики, жестов, позы, интонации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опосредованной коммуникации (использование знаков и символ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ИТЕРИИ  СФОРМИРОВАННОСТИ 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800" y="8377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лание вступать в контакт с окружающ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знание норм и правил, которым  необходимо следовать при общении с окружающ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 умение организовать общение, эмоционально сопереживать, умение решать конфликтные ситу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ФОРМЫ ОРГАНИЗАЦИИ КОММУНИКАТИВ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Ь – 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Ь - 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НИК- УЧЕ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                           ПАР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Прямая со стрелкой 4"/>
          <p:cNvCxnSpPr/>
          <p:nvPr/>
        </p:nvCxnSpPr>
        <p:spPr>
          <a:xfrm flipH="1">
            <a:off x="3000240" y="3786120"/>
            <a:ext cx="6433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5714640" y="3786120"/>
            <a:ext cx="7866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ДЫ И ФОРМ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8380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44120" indent="-42516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работа в группах , в па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викторины,  интеллектуальные     командные игры, кон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чтение по ролям, мини - инсцениров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екты  и мини – проекты,творческие         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«задания – интерв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ммуникация как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е к мнению собесе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чётко выражать свои мы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гументировать своё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ть позицию собесе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овать действия партн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ать собственное мнение и пози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35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Rounded MT Bold"/>
              </a:rPr>
              <a:t>Типовые задания, нацеленные на коммуникативные универсальные учебные действи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 задание партнер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зыв на работу товар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ая работа по составлению кроссвор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логовое слуш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дготовь рассказ», «опиши устно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бъясни...»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ебный предмет «Литерату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ое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ен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ение по полям : С. Маршак  «Сказка про коз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ый предмет «Русский язык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в группе: определение основного вопроса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Работа в паре: взаимопров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ый предмет "Окружающий мир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 в группах: решение кроссво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мой</cp:lastModifiedBy>
  <dcterms:modified xsi:type="dcterms:W3CDTF">2022-10-01T07:08:33Z</dcterms:modified>
  <cp:revision>58</cp:revision>
  <dc:subject>Коммуникативные УУД</dc:subject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