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6.gif" ContentType="image/gif"/>
  <Override PartName="/ppt/media/image5.gif" ContentType="image/gif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EF53-5F6A-4EC7-B84E-AE3BBD45EA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E72C-4C85-4E34-B460-751375F184A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3796-7E51-45D1-95EC-2C5146DEBD2A}" type="slidenum">
              <a:rPr b="0" lang="ru-RU" sz="1200" spc="-1" strike="noStrike">
                <a:solidFill>
                  <a:srgbClr val="ffcc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6868-EDD7-4127-A850-143D36FA0311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435F-E1B9-448B-894D-B71E81B48523}" type="slidenum">
              <a:rPr b="0" lang="ru-RU" sz="1200" spc="-1" strike="noStrike">
                <a:solidFill>
                  <a:srgbClr val="ffcc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40A6-4BD5-4C92-9823-FE6F976B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E61-3A1C-4EB0-BA8E-C0AC64DD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231-D34E-4CAC-A26F-7D8C918E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2D1-7A81-4CA7-A102-57CE2EB5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630B-D94F-49D4-A1A2-F381BF9C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9CDC-D2F7-4A87-B353-694A42B3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1862-6AA1-4117-AF6F-090668A0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BA16-9EB3-4C89-AF95-97C40962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ADF9-4B00-4F82-BA30-C8F2B7C1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1A8C-043B-4A3A-8762-13B02759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5FE2-0910-4D79-8EE4-2C041566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B43-77B6-4D55-968E-3BB9C374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AD52-F278-4897-BF1C-19F53F33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D7EB-3B7E-4DD2-968A-E20709AC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80CC-9F60-479B-BA35-BF5BB52A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6E65-BF38-438D-8030-4FE5B355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35F9-7CDD-4765-BC94-60ED49D2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D0C-654A-418D-9678-12CC9261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C7F-C38C-4BCE-B2BE-62DD7022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F3F-5206-4BB3-B312-92908F29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97F-ADB6-43F3-87E8-13270AFC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41A-66B5-41A1-93E0-166D5242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4F8-217E-4C84-A57A-074A829D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2A7-8DF0-49D8-BC9E-7D283501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5119-7612-4F23-A619-AFAFCC37ECCA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DF5E-BF6C-4357-B8FA-3E7BE260CD68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smiles.33b.ru/smile.101785.html" TargetMode="External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Admin\Мои документы\Мои рисунки\Отечественная война\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"/>
          <p:cNvSpPr/>
          <p:nvPr/>
        </p:nvSpPr>
        <p:spPr>
          <a:xfrm>
            <a:off x="1571760" y="64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0" y="0"/>
            <a:ext cx="87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e1f08"/>
                </a:solidFill>
                <a:latin typeface="Times New Roman"/>
              </a:rPr>
              <a:t>ДЕТЯМ</a:t>
            </a:r>
            <a:r>
              <a:rPr b="0" lang="ru-RU" sz="8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8000" spc="-1" strike="noStrike">
                <a:solidFill>
                  <a:srgbClr val="fe1f08"/>
                </a:solidFill>
                <a:latin typeface="Times New Roman"/>
              </a:rPr>
              <a:t>О ВОЙНЕ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e1f08"/>
                </a:solidFill>
                <a:latin typeface="Times New Roman"/>
              </a:rPr>
              <a:t>9 мая 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e1f08"/>
                </a:solidFill>
                <a:latin typeface="Times New Roman"/>
              </a:rPr>
              <a:t>День Победы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708360" y="486900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446_Marsh_den_pobedyi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:\внеклассная работа\отечественная война фото\4485cb40e087[1].jpg"/>
          <p:cNvPicPr/>
          <p:nvPr/>
        </p:nvPicPr>
        <p:blipFill>
          <a:blip r:embed="rId1"/>
          <a:stretch/>
        </p:blipFill>
        <p:spPr>
          <a:xfrm>
            <a:off x="0" y="2000160"/>
            <a:ext cx="5715000" cy="4857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F:\внеклассная работа\отечественная война фото\58417ef50937[1].jpg"/>
          <p:cNvPicPr/>
          <p:nvPr/>
        </p:nvPicPr>
        <p:blipFill>
          <a:blip r:embed="rId2"/>
          <a:srcRect l="0" t="0" r="0" b="8109"/>
          <a:stretch/>
        </p:blipFill>
        <p:spPr>
          <a:xfrm>
            <a:off x="4786200" y="2000160"/>
            <a:ext cx="4357800" cy="4857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3"/>
          <p:cNvSpPr/>
          <p:nvPr/>
        </p:nvSpPr>
        <p:spPr>
          <a:xfrm>
            <a:off x="428760" y="928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TextBox 4"/>
          <p:cNvSpPr/>
          <p:nvPr/>
        </p:nvSpPr>
        <p:spPr>
          <a:xfrm>
            <a:off x="1071720" y="285840"/>
            <a:ext cx="112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шем тылу тоже шла битва- рабочая битва, все кто не мог уйти на фронт трудились на заводах, выпускали танки, самолёты, снаряды. По 12-15 часов стояли люди у станков, это был их трудовой фронт, их трудовой подвиг. Они верили в победу и ждали с войны своих мужей, сыновей, отцов, братьев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3" descr="C:\Documents and Settings\User\Мои документы\Мои рисунки\Анимация\фоны\den_pobedy_str_14.jpg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2"/>
          <p:cNvSpPr/>
          <p:nvPr/>
        </p:nvSpPr>
        <p:spPr>
          <a:xfrm>
            <a:off x="4716360" y="333360"/>
            <a:ext cx="44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55"/>
                </a:solidFill>
                <a:latin typeface="Arial Black"/>
              </a:rPr>
              <a:t>От всех, кто вами был спасён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55"/>
                </a:solidFill>
                <a:latin typeface="Arial Black"/>
              </a:rPr>
              <a:t>От всех, кто нынче рядом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55"/>
                </a:solidFill>
                <a:latin typeface="Arial Black"/>
              </a:rPr>
              <a:t>Примите наш земной поклон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55"/>
                </a:solidFill>
                <a:latin typeface="Arial Black"/>
              </a:rPr>
              <a:t>Советские солдаты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4" descr="1"/>
          <p:cNvPicPr/>
          <p:nvPr/>
        </p:nvPicPr>
        <p:blipFill>
          <a:blip r:embed="rId2"/>
          <a:stretch/>
        </p:blipFill>
        <p:spPr>
          <a:xfrm>
            <a:off x="2556000" y="6076800"/>
            <a:ext cx="3876480" cy="781200"/>
          </a:xfrm>
          <a:prstGeom prst="rect">
            <a:avLst/>
          </a:prstGeom>
          <a:ln w="0">
            <a:noFill/>
          </a:ln>
        </p:spPr>
      </p:pic>
      <p:pic>
        <p:nvPicPr>
          <p:cNvPr id="397" name="446_Marsh_den_pobedyi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extBox 1" descr=""/>
          <p:cNvPicPr/>
          <p:nvPr/>
        </p:nvPicPr>
        <p:blipFill>
          <a:blip r:embed="rId1"/>
          <a:stretch/>
        </p:blipFill>
        <p:spPr>
          <a:xfrm>
            <a:off x="1189080" y="407880"/>
            <a:ext cx="6796080" cy="1219320"/>
          </a:xfrm>
          <a:prstGeom prst="rect">
            <a:avLst/>
          </a:prstGeom>
          <a:ln w="0">
            <a:noFill/>
          </a:ln>
        </p:spPr>
      </p:pic>
      <p:pic>
        <p:nvPicPr>
          <p:cNvPr id="363" name="TextBox 2" descr=""/>
          <p:cNvPicPr/>
          <p:nvPr/>
        </p:nvPicPr>
        <p:blipFill>
          <a:blip r:embed="rId2"/>
          <a:stretch/>
        </p:blipFill>
        <p:spPr>
          <a:xfrm>
            <a:off x="146160" y="2206800"/>
            <a:ext cx="8832600" cy="3066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2d42912194ae10c91f02621ba0feac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3920" y="5267160"/>
            <a:ext cx="1000080" cy="1590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cec85d8015c38696db5a225b7bcd8285"/>
          <p:cNvPicPr/>
          <p:nvPr/>
        </p:nvPicPr>
        <p:blipFill>
          <a:blip r:embed="rId5"/>
          <a:stretch/>
        </p:blipFill>
        <p:spPr>
          <a:xfrm>
            <a:off x="2556000" y="530064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cec85d8015c38696db5a225b7bcd8285"/>
          <p:cNvPicPr/>
          <p:nvPr/>
        </p:nvPicPr>
        <p:blipFill>
          <a:blip r:embed="rId6"/>
          <a:stretch/>
        </p:blipFill>
        <p:spPr>
          <a:xfrm>
            <a:off x="1476360" y="530064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cec85d8015c38696db5a225b7bcd8285"/>
          <p:cNvPicPr/>
          <p:nvPr/>
        </p:nvPicPr>
        <p:blipFill>
          <a:blip r:embed="rId7"/>
          <a:stretch/>
        </p:blipFill>
        <p:spPr>
          <a:xfrm>
            <a:off x="468360" y="530064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F:\внеклассная работа\отечественная война фото\soldat_leters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F:\внеклассная работа\отечественная война фото\248278[1].jpg"/>
          <p:cNvPicPr/>
          <p:nvPr/>
        </p:nvPicPr>
        <p:blipFill>
          <a:blip r:embed="rId2"/>
          <a:stretch/>
        </p:blipFill>
        <p:spPr>
          <a:xfrm>
            <a:off x="4143240" y="1857240"/>
            <a:ext cx="5000760" cy="50007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F:\внеклассная работа\отечественная война фото\12565[1].jpg"/>
          <p:cNvPicPr/>
          <p:nvPr/>
        </p:nvPicPr>
        <p:blipFill>
          <a:blip r:embed="rId3"/>
          <a:stretch/>
        </p:blipFill>
        <p:spPr>
          <a:xfrm>
            <a:off x="0" y="0"/>
            <a:ext cx="4714920" cy="46767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4"/>
          <p:cNvSpPr/>
          <p:nvPr/>
        </p:nvSpPr>
        <p:spPr>
          <a:xfrm>
            <a:off x="428760" y="0"/>
            <a:ext cx="87152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Дорогая мамочка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Ты обо мне в слезах не вспомина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Оставь свою заботу и тревогу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Неблизок путь, далёк родимый кра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Но я вернусь к знакомому порогу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По-прежнему моя любовь с тобой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С тобою родина, ты не одна, родна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3" descr=""/>
          <p:cNvPicPr/>
          <p:nvPr/>
        </p:nvPicPr>
        <p:blipFill>
          <a:blip r:embed="rId1"/>
          <a:srcRect l="2939" t="28415" r="6176" b="14949"/>
          <a:stretch/>
        </p:blipFill>
        <p:spPr>
          <a:xfrm>
            <a:off x="0" y="0"/>
            <a:ext cx="9144000" cy="4653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F:\внеклассная работа\отечественная война фото\Stalingrad[1].jpg"/>
          <p:cNvPicPr/>
          <p:nvPr/>
        </p:nvPicPr>
        <p:blipFill>
          <a:blip r:embed="rId2"/>
          <a:stretch/>
        </p:blipFill>
        <p:spPr>
          <a:xfrm>
            <a:off x="4143240" y="3357720"/>
            <a:ext cx="5000760" cy="3500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0" y="3500280"/>
            <a:ext cx="5141880" cy="335772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ойна не щадила никого, на фронте гибли солдаты, раненых с поля  боя под пулями вытаскивали молоденькие девушки-медсёстры, санитарки. В госпиталях воинов выхаживали военные медики, трудившиеся без сна и отдыха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Картинка 303 из 512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7" name="TextBox 1" descr=""/>
          <p:cNvPicPr/>
          <p:nvPr/>
        </p:nvPicPr>
        <p:blipFill>
          <a:blip r:embed="rId2"/>
          <a:stretch/>
        </p:blipFill>
        <p:spPr>
          <a:xfrm>
            <a:off x="-463680" y="768240"/>
            <a:ext cx="10071360" cy="4005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F:\внеклассная работа\отечественная война фото\repphoto_6500_7986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нинград был окружён. Город остался без продовольствия,топлива и сообщения с другими городами. Но ленинградцы несмотря на холод, голод, болезни продолжали работать, спасать памятники, дворцы от зажигательных бомб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F:\внеклассная работа\отечественная война фото\0_a032_f96feb79_XL[1].jpg"/>
          <p:cNvPicPr/>
          <p:nvPr/>
        </p:nvPicPr>
        <p:blipFill>
          <a:blip r:embed="rId1"/>
          <a:srcRect l="0" t="35284" r="0" b="0"/>
          <a:stretch/>
        </p:blipFill>
        <p:spPr>
          <a:xfrm>
            <a:off x="4572000" y="0"/>
            <a:ext cx="4572000" cy="36990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3"/>
          <p:cNvSpPr/>
          <p:nvPr/>
        </p:nvSpPr>
        <p:spPr>
          <a:xfrm>
            <a:off x="0" y="41497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Каждый день сотни ленинградцев умирали  от голода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замерзали на улицах , погибали под бомбёжкам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608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7" descr="F:\внеклассная работа\отечественная война фото\19752s[1].jpg"/>
          <p:cNvPicPr/>
          <p:nvPr/>
        </p:nvPicPr>
        <p:blipFill>
          <a:blip r:embed="rId1"/>
          <a:srcRect l="17697" t="18819" r="0" b="0"/>
          <a:stretch/>
        </p:blipFill>
        <p:spPr>
          <a:xfrm>
            <a:off x="4067280" y="3645000"/>
            <a:ext cx="5076720" cy="3213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Картинка 326 из 49987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3629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Картинка 326 из 49987"/>
          <p:cNvPicPr/>
          <p:nvPr/>
        </p:nvPicPr>
        <p:blipFill>
          <a:blip r:embed="rId3"/>
          <a:stretch/>
        </p:blipFill>
        <p:spPr>
          <a:xfrm>
            <a:off x="0" y="0"/>
            <a:ext cx="43578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0" y="28584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люди выстояли, они сохранили красивейший город мира- свой Ленинград, свой Санкт- Петербург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F:\внеклассная работа\отечественная война фото\russian_infantry1[1].jpg"/>
          <p:cNvPicPr/>
          <p:nvPr/>
        </p:nvPicPr>
        <p:blipFill>
          <a:blip r:embed="rId1"/>
          <a:srcRect l="0" t="8287" r="0" b="0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388" name="TextBox 2"/>
          <p:cNvSpPr/>
          <p:nvPr/>
        </p:nvSpPr>
        <p:spPr>
          <a:xfrm flipH="1">
            <a:off x="285840" y="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локада Ленинграда была прорвана. Но впереди было ещё много тяжёлых боёв. На фронте воевали все: мужчины, женщины с автоматами в руках били фашистов,  совершали диверсии в тылу врага, бомбили  вражеские войска с неб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06:34:45Z</dcterms:created>
  <dc:creator>Dell</dc:creator>
  <dc:description/>
  <dc:language>en-US</dc:language>
  <cp:lastModifiedBy>Методист</cp:lastModifiedBy>
  <dcterms:modified xsi:type="dcterms:W3CDTF">2021-10-19T14:54:38Z</dcterms:modified>
  <cp:revision>19</cp:revision>
  <dc:subject/>
  <dc:title>Слайд 1</dc:title>
</cp:coreProperties>
</file>