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FEB-C9AD-406C-8D9F-4EEB3597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F96-CF20-4A8A-8C30-FD724E3D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2CA-91DB-4CA5-84D4-EEECC563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00D-A3F9-4CE0-9B17-FA0F98C7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B6C-59C7-4751-838A-6718460B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2D6-3927-4AF1-B6F1-7A382CDC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6E8-C4DD-4CFD-8319-1C6F1297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5BC-1A7B-4345-8138-FE7F9BDD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D82-133A-4EAF-9897-82E0A145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BE4-E1EF-4037-82F2-483ADFE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80E-CB58-42A2-83F8-CFD89B55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7F0-CEB0-4014-BDE8-1F8A45C4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6322-AB8C-4A4C-863B-ED357EF53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С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е со знаком + называется сумма, а числа, которые складывают, -слагаем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У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одинаковых слагаемых называю умножени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кие выражения называют произведениями а числа которые умножают- множ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умножении любого числа на единицу получается то число ,которое умнож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умножении любого числа на нуль получается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ереместительно свойство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тановки множителей значение произведения не измени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Увеличить в несколько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выполняют сложение это увеличивают на несколько едини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сли выполняют умножение то увеличивают в несколько 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Единицы време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диницы времени час(ч) минут (мин) секунды (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четательное свойство умно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бы произведение двух чисел умножить на третье число , можно первое число умножить на произведение второго и третьего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12:2=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2-дели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-де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-част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значение произведения разделить на один множитель, то получится другой множитель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9140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значение частного умножить на делитель, то получим дели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делимое разделить на значение частного, то получим дел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Неравен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венства бывают верные и невер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Нуль делить нельз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2: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3886200" y="3200400"/>
            <a:ext cx="1752480" cy="1447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выражениях без скобок, содержащих только сложение и вычитание действия выполняются в том порядке, как они записаны : слева напра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выражениях без скобок сначала выполняются по порядку слева направо умножение или деление а потом сложение или вычит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выражениях со скобками сначала вычисляют значения выражений в скобках , затем по порядку слева направо выполняется умножение или деление а потом сложение или вычит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з значения суммы вычесть одно слагаемое ,то получим другое слагаем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 значению разности прибавить вычитаемое , то получим уменьш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з уменьшаемого вычесть значение разности ,то получим вычитаем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начение произведения разделить на один множитель , то получим другой множ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начение частного умножить на делитель, то получим 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делимое разделить на значение частного, то получим 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еление с остат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таток при делении всегда должен быть меньше дел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52388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 кг =1000 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 ц =100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 т = 1000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ь уравнение- значит , найти такое число, которое нужно записать вместо буквы, чтобы получить верное числовое равенство Это число называют корнем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ражение которое содержит букву , называется буквенным выра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ереместительное свойство с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 перестановки слагаемых значение суммы не меня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Вычит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-2      7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и выражения называются разн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тание обозначают знаком – (мину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792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ло из которого вычитают называется уменьшаемое а число которое вычитают вычитаемое Результат вычитания называют значением раз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бое двузначное число состоит из двух разрядов Разряд единиц называют первым разрядом а разряд десятков вторым разряд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из значения суммы вычесть одно слагаемое то получим другое слагаем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из уменьшаемого вычесть значение разности то получим вычитаем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к значению разности прибавить вычитаемое то получим уменьшаем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четательное свойство сло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а соседних слагаемых можно заменить значением су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трехзначном числе три разряда : единицы десятки сот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6:15:52Z</dcterms:created>
  <dc:creator>Надежда</dc:creator>
  <dc:description/>
  <dc:language>en-US</dc:language>
  <cp:lastModifiedBy>User</cp:lastModifiedBy>
  <dcterms:modified xsi:type="dcterms:W3CDTF">2022-10-01T07:22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