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656-3EBF-4EA8-9420-6ABC5EE7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66E-5C7E-4779-8372-755D527D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342-0F4F-48DC-8BFC-D32E1D10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625-2D62-4967-9AFE-A70FF3F1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AF4-B850-4E95-B391-EA2CA7AA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0969-CE0C-4C6D-B90B-6E2AED75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D88-BEA0-48DC-A7AC-A2460A4C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3D7-984B-46A8-ABBD-7BEEDF4F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BA2-F721-4E88-B33F-FC96E747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FDF-92C4-4C10-8A3D-8AB2E20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046-E499-4A72-A63A-66A1CE4E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E52-DA2F-45B8-8A9E-DDF98F6C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CD5B-8BC8-4D8F-9F9D-42339FC6B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С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е со знаком + называется сумма, а числа, которые складывают, -слагаем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У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одинаковых слагаемых называю умнож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акие выражения называют произведениями а числа которые умножают- множ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умножении любого числа на единицу получается то число ,которое умнож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 умножении любого числа на нуль получается ну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ереместительно свойство умн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2193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тановки множителей значение произведения не измени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Увеличить в несколько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выполняют сложение это увеличивают на несколько едини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сли выполняют умножение то увеличивают в несколько р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Единицы времен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диницы времени час(ч) минут (мин) секунды (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четательное свойство умн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бы произведение двух чисел умножить на третье число , можно первое число умножить на произведение второго и третьего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12:2=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-делим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-де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-част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значение произведения разделить на один множитель, то получится другой множитель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91404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значение частного умножить на делитель, то получим дели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делимое разделить на значение частного, то получим де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Неравен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венства бывают верные и невер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23880" y="10663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Нуль делить нельз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2: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>
            <a:off x="3886200" y="3200400"/>
            <a:ext cx="1752480" cy="1447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выражениях без скобок, содержащих только сложение и вычитание действия выполняются в том порядке, как они записаны : слева напра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выражениях без скобок сначала выполняются по порядку слева направо умножение или деление а потом сложение или вычит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выражениях со скобками сначала вычисляют значения выражений в скобках , затем по порядку слева направо выполняется умножение или деление а потом сложение или вычит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з значения суммы вычесть одно слагаемое ,то получим другое слагае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 значению разности прибавить вычитаемое , то получим уменьша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з уменьшаемого вычесть значение разности ,то получим вычитаем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начение произведения разделить на один множитель , то получим другой множ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значение частного умножить на делитель, то получим дели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делимое разделить на значение частного, то получим дел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Деление с остат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таток при делении всегда должен быть меньше дел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52388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 кг =1000 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 ц =100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1 т = 1000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95280" y="1066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ь уравнение- значит , найти такое число, которое нужно записать вместо буквы, чтобы получить верное числовое равенство Это число называют корнем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ражение которое содержит букву , называется буквенным выра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ереместительное свойство с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 перестановки слагаемых значение суммы не меня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Выч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-2      7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и выражения называются разн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читание обозначают знаком – (мину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7920" y="837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ло из которого вычитают называется уменьшаемое а число которое вычитают вычитаемое Результат вычитания называют значением раз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юбое двузначное число состоит из двух разрядов Разряд единиц называют первым разрядом а разряд десятков вторым разряд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952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из значения суммы вычесть одно слагаемое то получим другое слагаем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из уменьшаемого вычесть значение разности то получим вычитаем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сли к значению разности прибавить вычитаемое то получим уменьшаем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очетательное свойство сл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а соседних слагаемых можно заменить значением су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трехзначном числе три разряда : единицы десятки сот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6:15:52Z</dcterms:created>
  <dc:creator>Надежда</dc:creator>
  <dc:description/>
  <dc:language>en-US</dc:language>
  <cp:lastModifiedBy>User</cp:lastModifiedBy>
  <dcterms:modified xsi:type="dcterms:W3CDTF">2022-10-01T07:22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