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FDA-3A3B-47CD-9352-0EC80D4A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4FA-1185-4541-B7BF-1B6F0401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B48-AECA-46D3-B60B-70C152B3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B0F-2163-4356-9D77-1BFAD9DD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CC6-137B-41C5-ACBC-D170F5C5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7B8-3C8A-44E0-84BF-B1439438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2AD-C187-4415-A510-6060F62D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003-7471-43A9-BE48-68073F4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F6B-8DDF-463E-9B89-3F65CF0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1E8-2DF7-4312-80D5-CFD7E97D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CDC-1A41-41C6-BCC5-30E7FADA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F838-A4A3-43D1-AE35-C1D45B7E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437-B7CC-41B9-8550-386765D9AB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Титул_7.JPG"/>
          <p:cNvPicPr/>
          <p:nvPr/>
        </p:nvPicPr>
        <p:blipFill>
          <a:blip r:embed="rId2"/>
          <a:stretch/>
        </p:blipFill>
        <p:spPr>
          <a:xfrm>
            <a:off x="1440" y="144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0920" y="2130120"/>
            <a:ext cx="640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Введение в курс инфор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050560" y="3886200"/>
            <a:ext cx="5721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онец XIX в. – появление средств связ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телеграф, телефон, радио),  позволивших оперативно передавать информацию на любые расстояни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studentweb.maconstate.edu/michael.chitwood/ITEC2380/final/images/telegraph.jpg"/>
          <p:cNvPicPr/>
          <p:nvPr/>
        </p:nvPicPr>
        <p:blipFill>
          <a:blip r:embed="rId1"/>
          <a:stretch/>
        </p:blipFill>
        <p:spPr>
          <a:xfrm>
            <a:off x="1155600" y="2000160"/>
            <a:ext cx="2773440" cy="194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www.abc-people.com/data/bell/015.jpg"/>
          <p:cNvPicPr/>
          <p:nvPr/>
        </p:nvPicPr>
        <p:blipFill>
          <a:blip r:embed="rId2"/>
          <a:stretch/>
        </p:blipFill>
        <p:spPr>
          <a:xfrm>
            <a:off x="6572160" y="1571760"/>
            <a:ext cx="18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http://dic.academic.ru/pictures/enc_tech/i_475.jpg"/>
          <p:cNvPicPr/>
          <p:nvPr/>
        </p:nvPicPr>
        <p:blipFill>
          <a:blip r:embed="rId3"/>
          <a:stretch/>
        </p:blipFill>
        <p:spPr>
          <a:xfrm>
            <a:off x="3943440" y="3143160"/>
            <a:ext cx="26287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143000" y="4572000"/>
            <a:ext cx="7886880" cy="2214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0-е гг. XX в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оявление микропроцессорной техники и персональных компьютеров; возникновение компьютерных телекоммуникаций, радикальное изменение систем хранения и поиска информации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File:IBM PC 5150.jpg"/>
          <p:cNvPicPr/>
          <p:nvPr/>
        </p:nvPicPr>
        <p:blipFill>
          <a:blip r:embed="rId1"/>
          <a:stretch/>
        </p:blipFill>
        <p:spPr>
          <a:xfrm>
            <a:off x="1571760" y="1714680"/>
            <a:ext cx="3649680" cy="263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Agat-4 Red.jpg"/>
          <p:cNvPicPr/>
          <p:nvPr/>
        </p:nvPicPr>
        <p:blipFill>
          <a:blip r:embed="rId2"/>
          <a:stretch/>
        </p:blipFill>
        <p:spPr>
          <a:xfrm>
            <a:off x="6215040" y="1643040"/>
            <a:ext cx="2214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ая историческая фаза развития цивилизации, в которой главными продуктами производства являются информация и зн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ционное обще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2" descr="http://culturenews.ru/sites/culturenews.ru/files/110411/infornational%20siciaty.jpg"/>
          <p:cNvPicPr/>
          <p:nvPr/>
        </p:nvPicPr>
        <p:blipFill>
          <a:blip r:embed="rId1"/>
          <a:stretch/>
        </p:blipFill>
        <p:spPr>
          <a:xfrm>
            <a:off x="3143160" y="3071880"/>
            <a:ext cx="46436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www.prometeus.nsc.ru/elibrary/2007pers/ershap.jpg"/>
          <p:cNvPicPr/>
          <p:nvPr/>
        </p:nvPicPr>
        <p:blipFill>
          <a:blip r:embed="rId1"/>
          <a:stretch/>
        </p:blipFill>
        <p:spPr>
          <a:xfrm>
            <a:off x="1428840" y="1643040"/>
            <a:ext cx="3260520" cy="39117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 в шко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http://cv01.twirpx.net/578/578562.jpg"/>
          <p:cNvPicPr/>
          <p:nvPr/>
        </p:nvPicPr>
        <p:blipFill>
          <a:blip r:embed="rId2"/>
          <a:srcRect l="17500" t="11569" r="17500" b="11311"/>
          <a:stretch/>
        </p:blipFill>
        <p:spPr>
          <a:xfrm>
            <a:off x="5715000" y="1571760"/>
            <a:ext cx="1857240" cy="28573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285920" y="1071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самостоятельный предмет изучается в школе с 198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дрей Петрович Ерш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931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13920" y="1500120"/>
            <a:ext cx="600084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воить систему знаний, отражающих вклад информатики в формиров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ост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Об алгоритмике мышления и психической деятельности, ч.2"/>
          <p:cNvPicPr/>
          <p:nvPr/>
        </p:nvPicPr>
        <p:blipFill>
          <a:blip r:embed="rId1"/>
          <a:stretch/>
        </p:blipFill>
        <p:spPr>
          <a:xfrm>
            <a:off x="3857760" y="3654360"/>
            <a:ext cx="485748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веренно оперировать понятиями и методами информатики для объяснения фактов, явлений и процессов в различных предметных област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глаз_мировоззрение"/>
          <p:cNvPicPr/>
          <p:nvPr/>
        </p:nvPicPr>
        <p:blipFill>
          <a:blip r:embed="rId1"/>
          <a:stretch/>
        </p:blipFill>
        <p:spPr>
          <a:xfrm>
            <a:off x="5072040" y="3929040"/>
            <a:ext cx="36241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214280" y="1500120"/>
            <a:ext cx="642960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ффективно работать с различными видами информации с помощью компьютера и других средств ИК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http://bzzn.ru/uploads/kartinki/frash/Y013-7732-2.jpg"/>
          <p:cNvPicPr/>
          <p:nvPr/>
        </p:nvPicPr>
        <p:blipFill>
          <a:blip r:embed="rId1"/>
          <a:stretch/>
        </p:blipFill>
        <p:spPr>
          <a:xfrm>
            <a:off x="5153040" y="3605040"/>
            <a:ext cx="3876840" cy="31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214280" y="1500120"/>
            <a:ext cx="7072560" cy="2643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вать и поддерживать индивидуальную информационную среду, обеспечивать защиту значимой информации и личную информационную безопас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зучение информатики позвол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2" descr="http://www.securitylab.ru/upload/iblock/374/3749f86841d0ddd743d518a41d04581f.jpg"/>
          <p:cNvPicPr/>
          <p:nvPr/>
        </p:nvPicPr>
        <p:blipFill>
          <a:blip r:embed="rId1"/>
          <a:stretch/>
        </p:blipFill>
        <p:spPr>
          <a:xfrm>
            <a:off x="5442120" y="4046400"/>
            <a:ext cx="3558960" cy="26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71320" y="1052280"/>
            <a:ext cx="79722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5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дисциплина, изучающая структуру и общие свойства научной информац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6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: калька с французского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qu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- наука о компьютерах и их применении,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sien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70-е гг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название фундаментальной естественной науки, изучающей процессы передачи и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1360" indent="-711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214280" y="1428840"/>
            <a:ext cx="7715520" cy="2357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оисточником научной области информатики принято считать кибернетику, рождение которой связывается с выходом в 1948 г. книги Норберта Винера «Кибернетика, или Управление и связь в животном и маши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киберне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http://t0.gstatic.com/images?q=tbn:ANd9GcRi4lEL_3v6V-I3LPeo29DPd2K6piGUAtwUbjsFelC0bNZCeLIxjQ"/>
          <p:cNvPicPr/>
          <p:nvPr/>
        </p:nvPicPr>
        <p:blipFill>
          <a:blip r:embed="rId1"/>
          <a:stretch/>
        </p:blipFill>
        <p:spPr>
          <a:xfrm>
            <a:off x="1214280" y="4214880"/>
            <a:ext cx="4459320" cy="2357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ttp://grachev62.narod.ru/cybern/Image308.gif"/>
          <p:cNvPicPr/>
          <p:nvPr/>
        </p:nvPicPr>
        <p:blipFill>
          <a:blip r:embed="rId2"/>
          <a:stretch/>
        </p:blipFill>
        <p:spPr>
          <a:xfrm>
            <a:off x="7000920" y="4264200"/>
            <a:ext cx="15001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214280" y="1428480"/>
            <a:ext cx="7715520" cy="17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информации, зародившаяся в 1930-х гг. в работах Ральфа Хартли и Клода Шенно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upload.wikimedia.org/wikipedia/ru/thumb/3/3d/Shannon.jpg/220px-Shannon.jpg"/>
          <p:cNvPicPr/>
          <p:nvPr/>
        </p:nvPicPr>
        <p:blipFill>
          <a:blip r:embed="rId1"/>
          <a:stretch/>
        </p:blipFill>
        <p:spPr>
          <a:xfrm>
            <a:off x="6000840" y="3286080"/>
            <a:ext cx="2571840" cy="354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upload.wikimedia.org/wikipedia/commons/thumb/0/01/Hartley_ralph-vinton-lyon-001.jpg/220px-Hartley_ralph-vinton-lyon-001.jpg"/>
          <p:cNvPicPr/>
          <p:nvPr/>
        </p:nvPicPr>
        <p:blipFill>
          <a:blip r:embed="rId2"/>
          <a:stretch/>
        </p:blipFill>
        <p:spPr>
          <a:xfrm>
            <a:off x="1428840" y="3278160"/>
            <a:ext cx="242892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214280" y="1428480"/>
            <a:ext cx="7715520" cy="2214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теория алгоритмов, основоположниками которой являются Алан Тьюринг, Эмиль Пост, Андрей Андреевич  Мар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теория алгорит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://cvit.iiit.ac.in/turing100/images/AlanTuring.jpg"/>
          <p:cNvPicPr/>
          <p:nvPr/>
        </p:nvPicPr>
        <p:blipFill>
          <a:blip r:embed="rId1"/>
          <a:srcRect l="0" t="0" r="14172" b="0"/>
          <a:stretch/>
        </p:blipFill>
        <p:spPr>
          <a:xfrm>
            <a:off x="1214280" y="3624120"/>
            <a:ext cx="2357640" cy="3019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http://live.xakep.ru/uploads/images/00/31/87/2011/12/13/aa36eda487.jpg"/>
          <p:cNvPicPr/>
          <p:nvPr/>
        </p:nvPicPr>
        <p:blipFill>
          <a:blip r:embed="rId2"/>
          <a:stretch/>
        </p:blipFill>
        <p:spPr>
          <a:xfrm>
            <a:off x="4071960" y="3651120"/>
            <a:ext cx="2214720" cy="3021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getmedia.msu.ru/newspaper/creators_vector/poetry/photo/markov.jpg"/>
          <p:cNvPicPr/>
          <p:nvPr/>
        </p:nvPicPr>
        <p:blipFill>
          <a:blip r:embed="rId3"/>
          <a:stretch/>
        </p:blipFill>
        <p:spPr>
          <a:xfrm>
            <a:off x="6715080" y="3656160"/>
            <a:ext cx="2157480" cy="30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214280" y="1428480"/>
            <a:ext cx="7715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ервоисточникам современной информатики относится работы Джона фон Неймана по архитектуре ЭВ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Истоки информатики: архитектура ЭВ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http://img141.imageshack.us/img141/9749/johnvonneumann85452332.jpg"/>
          <p:cNvPicPr/>
          <p:nvPr/>
        </p:nvPicPr>
        <p:blipFill>
          <a:blip r:embed="rId1"/>
          <a:stretch/>
        </p:blipFill>
        <p:spPr>
          <a:xfrm>
            <a:off x="3429000" y="3214800"/>
            <a:ext cx="550080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Заголовок 2"/>
          <p:cNvSpPr/>
          <p:nvPr/>
        </p:nvSpPr>
        <p:spPr>
          <a:xfrm>
            <a:off x="1116000" y="189000"/>
            <a:ext cx="8028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Наука 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071720" y="107172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 – это естественнонаучная дисциплина о закономерности протекания информационных процессов в системах различной природы, а также о методах и средствах их автоматиз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хема 4" descr=""/>
          <p:cNvPicPr/>
          <p:nvPr/>
        </p:nvPicPr>
        <p:blipFill>
          <a:blip r:embed="rId1"/>
          <a:stretch/>
        </p:blipFill>
        <p:spPr>
          <a:xfrm>
            <a:off x="920880" y="3432240"/>
            <a:ext cx="8089920" cy="24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042920" y="4572000"/>
            <a:ext cx="7886880" cy="1928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ыс. до н.э. - изобретение письменност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зволившее накапливать и распространять знания. Цивилизации, освоившие письменность, развивались быстрее других,  достигали более высокого культурного и экономического уровня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6" descr="http://istoriya-ru.ucoz.ru/1pismo.jpg"/>
          <p:cNvPicPr/>
          <p:nvPr/>
        </p:nvPicPr>
        <p:blipFill>
          <a:blip r:embed="rId1"/>
          <a:stretch/>
        </p:blipFill>
        <p:spPr>
          <a:xfrm>
            <a:off x="642960" y="171468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http://children.claw.ru/5_history/content/006/06.jpg"/>
          <p:cNvPicPr/>
          <p:nvPr/>
        </p:nvPicPr>
        <p:blipFill>
          <a:blip r:embed="rId2"/>
          <a:stretch/>
        </p:blipFill>
        <p:spPr>
          <a:xfrm>
            <a:off x="3071880" y="2143080"/>
            <a:ext cx="364320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t2.gstatic.com/images?q=tbn:ANd9GcRdR-hp3FMq7CUaoZxWPb9loUSMWWbPfA-JV60BOdUTfTm9EeBy-Q"/>
          <p:cNvPicPr/>
          <p:nvPr/>
        </p:nvPicPr>
        <p:blipFill>
          <a:blip r:embed="rId3"/>
          <a:stretch/>
        </p:blipFill>
        <p:spPr>
          <a:xfrm>
            <a:off x="6500880" y="1571760"/>
            <a:ext cx="2028600" cy="22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071360" y="4928760"/>
            <a:ext cx="7886520" cy="15001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XVI в. - изобретение книгопечат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обеспечившее возможность  не только сохранять информацию, но и сделать ее массово-доступн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5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тапы информационного развития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http://erinlobach.edublogs.org/files/2008/12/printing-press.jpg"/>
          <p:cNvPicPr/>
          <p:nvPr/>
        </p:nvPicPr>
        <p:blipFill>
          <a:blip r:embed="rId1"/>
          <a:stretch/>
        </p:blipFill>
        <p:spPr>
          <a:xfrm>
            <a:off x="1143000" y="1857240"/>
            <a:ext cx="3105000" cy="2800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http://www.ivki.ru/svitok/book/images/il23.gif"/>
          <p:cNvPicPr/>
          <p:nvPr/>
        </p:nvPicPr>
        <p:blipFill>
          <a:blip r:embed="rId2"/>
          <a:stretch/>
        </p:blipFill>
        <p:spPr>
          <a:xfrm>
            <a:off x="4500720" y="1714680"/>
            <a:ext cx="4286160" cy="31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Валеева Гульчачак</cp:lastModifiedBy>
  <dcterms:modified xsi:type="dcterms:W3CDTF">2019-08-05T10:19:06Z</dcterms:modified>
  <cp:revision>6</cp:revision>
  <dc:subject/>
  <dc:title>Презентация PowerPoint</dc:title>
</cp:coreProperties>
</file>