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1B2-FEC2-4D8F-A2A0-DAE56916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799-911D-45FE-BA79-A04280B5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4C4-D295-4767-924E-BE2557CB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174-7AAE-4328-88B3-B7DAA3AB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E02-442E-4D1F-B2EE-B9C4278F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E0B-A3B0-4D45-ABE8-1C3FDC5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46E-2C99-4B70-83EC-B91671D4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84C-1B05-42E1-9788-F04256F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1FB-0F83-4C3B-8BE2-C34A18EE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1A7-E145-4D17-BE05-89D0F79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FEB-9BF2-494A-A229-680DA3F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5A4-98CF-4E41-9280-6BD0D9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9EB-BDB5-4B39-837C-09BDE9925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ведение в курс инфор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5721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80899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,  достигали более высокого культурного и экономического уровн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алеева Гульчачак</cp:lastModifiedBy>
  <dcterms:modified xsi:type="dcterms:W3CDTF">2019-08-05T10:19:06Z</dcterms:modified>
  <cp:revision>6</cp:revision>
  <dc:subject/>
  <dc:title>Презентация PowerPoint</dc:title>
</cp:coreProperties>
</file>