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58B-5651-40A8-BFA2-15EC4831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0AF-E922-4EEA-8F2E-F0B2D9CD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D56-6E58-4648-BEE0-53B62A32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BD9-BA6D-4850-979D-ACD819E4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260-233B-4703-8FBB-BB27ED06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BBC-5426-4BE7-B834-920B123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E2F-DF44-4BE0-9738-F75C6F6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5E8-2F98-4F26-882A-74BB8F1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8B6-84B4-4BBE-90AC-41C0F16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D1B-3869-43CD-8B54-F010D796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84B-87F8-4DC4-B67E-BC07C36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CD6-ECED-4F74-B623-47F4320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11C-18C9-410D-8E18-827C295F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7138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игра –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«Великая Отечественная вой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100080"/>
            <a:ext cx="424800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9500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ячеслав Михайлович Мол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198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годы Великой Отечественной войны дл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рганизации отпора врагу был создан Государственный Комитет Обороны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то его возглавля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6573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В.М.Молотов;                    3) И.В.Стал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Г.К.Жуков;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4) Л.П.Б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91280" cy="547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9500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осиф Виссарионович Ст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3325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ервое крупное поражение фашистских войск произош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33980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Под Брестом;           3) под Москв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Под Киевом;            4) под Ленингра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31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годы Великой Отечественной войны было утверждено звание Героя Советского Союза, которое присваивалось за совершение героических поступков, за особый героизм, проявленный в боях. Кто в ходе войны стал первым трижды Героем Советского Союз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8199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А.Покрышкин;                 3) А.Матро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И.Кожедуб;                         4)В.Талалих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6021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Иванович Покры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53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В ходе Великой Отечественной войны было решено в честь освобождения русских городов давать победный салют. В связи с освобождением каких городов был дан первый победный сал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Ленинграда и Риги;              3) Орла и Белг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Москвы и Сталинграда;       4) Киева и Харь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боях на Курской дуге получил смертельную рану командующий фронтом, самый молодой из всех командующий фронтами. Ему не было и сорока лет. Его любили солдаты за бесстрашие и простоту. О ком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Г.К.Жуков;                  3) И.Д.Черняховс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В.И.Чуйков;                4) И.С.Кон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35640" cy="568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021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Данилович Чернях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о какому озеру проходил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«Дорога жизни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Чудское озеро;        3) Онежское озе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Белое озеро;            4) Ладожское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каком городе находится знаменитый дом Павлова, названный «Дом солдатской славы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в Киеве;                  3) в Моск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в Брянске;              4) в Волгогр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052280"/>
            <a:ext cx="8147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Строки из личного письма поэта-фронтовика А.А.Суркова жене стали текстом пес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78900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«Землянка»;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«В лесу прифронтов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«Тёмная ноч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«Катюш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9760" y="404640"/>
            <a:ext cx="8666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38 воинов были удостоены звания Героя Советского Союза, проявленный при форсировании неприступной, по мнению немцев, системы укрепления («восточный вал»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О какой битве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4221000"/>
            <a:ext cx="749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сирование Днеп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Висло-Одерская опер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Форсирование Д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Харьковское с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47628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Великая Отечественная вой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a00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Кто выступил по радио перед народом в этот    день и сообщил о начале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4365720"/>
            <a:ext cx="88930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М.Молотов;        3) К.Е.Вороши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И.В.Сталин;           4) Г.К.Жуков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6:43Z</dcterms:created>
  <dc:creator>Admin</dc:creator>
  <dc:description/>
  <dc:language>en-US</dc:language>
  <cp:lastModifiedBy>Математика</cp:lastModifiedBy>
  <dcterms:modified xsi:type="dcterms:W3CDTF">2010-05-04T08:19:23Z</dcterms:modified>
  <cp:revision>8</cp:revision>
  <dc:subject/>
  <dc:title>Слайд 1</dc:title>
</cp:coreProperties>
</file>