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B27C-3224-4A5D-B73D-15665C18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926C-C423-4946-8043-04AA297D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DA2-279E-472F-9F1E-32072214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EF61-D1F7-467D-8175-9774A207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B80-2AB7-481E-922B-BC4D7C00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91F-A2A5-4A5E-8A42-F66B034A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424-2AA8-4271-BE2C-7792847A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490-0F30-46F5-B2A2-41CBEF60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7AD-CCC3-45C9-BB79-662A10D1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DAC-A57B-45C5-B90A-8D8A1194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D692-7E71-4A8D-8A3D-9BA1572A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272-BB2A-48A2-A02D-401A1E52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69DA-E283-4E6E-91E9-6D8AA55C7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260280"/>
            <a:ext cx="8713800" cy="24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orte"/>
              </a:rPr>
              <a:t>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Forte"/>
              </a:rPr>
              <a:t>игра – викто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«Великая Отечественная войн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40000" y="100080"/>
            <a:ext cx="4248000" cy="556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16000" y="59500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ячеслав Михайлович Моло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20c2"/>
            </a:gs>
            <a:gs pos="100000">
              <a:srgbClr val="16fa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6198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 годы Великой Отечественной войны для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организации отпора врагу был создан Государственный Комитет Обороны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то его возглавля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465732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В.М.Молотов;                    3) И.В.Стал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Г.К.Жуков;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4) Л.П.Бе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68360" y="260280"/>
            <a:ext cx="4391280" cy="5473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59500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осиф Виссарионович Ста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20c2"/>
            </a:gs>
            <a:gs pos="100000">
              <a:srgbClr val="16fa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3325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Первое крупное поражение фашистских войск произошл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339800"/>
            <a:ext cx="84358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Под Брестом;           3) под Москв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Под Киевом;            4) под Ленингра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569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8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20c2"/>
            </a:gs>
            <a:gs pos="100000">
              <a:srgbClr val="16fa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9311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В годы Великой Отечественной войны было утверждено звание Героя Советского Союза, которое присваивалось за совершение героических поступков, за особый героизм, проявленный в боях. Кто в ходе войны стал первым трижды Героем Советского Союз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5084280"/>
            <a:ext cx="8199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А.Покрышкин;                 3) А.Матро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И.Кожедуб;                         4)В.Талалих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602136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лександр Иванович Покры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9640" y="260280"/>
            <a:ext cx="4537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6fae4"/>
            </a:gs>
            <a:gs pos="100000">
              <a:srgbClr val="e820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В ходе Великой Отечественной войны было решено в честь освобождения русских городов давать победный салют. В связи с освобождением каких городов был дан первый победный салю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Ленинграда и Риги;              3) Орла и Белгор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Москвы и Сталинграда;       4) Киева и Харь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6fae4"/>
            </a:gs>
            <a:gs pos="100000">
              <a:srgbClr val="e820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В боях на Курской дуге получил смертельную рану командующий фронтом, самый молодой из всех командующий фронтами. Ему не было и сорока лет. Его любили солдаты за бесстрашие и простоту. О ком идет реч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Г.К.Жуков;                  3) И.Д.Черняховск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В.И.Чуйков;                4) И.С.Кон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24000" y="189000"/>
            <a:ext cx="4535640" cy="568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9640" y="6021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ван Данилович Чернях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4978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6fae4"/>
            </a:gs>
            <a:gs pos="100000">
              <a:srgbClr val="e820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По какому озеру проходила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«Дорога жизни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Чудское озеро;        3) Онежское озе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Белое озеро;            4) Ладожское озер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6fae4"/>
            </a:gs>
            <a:gs pos="100000">
              <a:srgbClr val="e820c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052640"/>
            <a:ext cx="821844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В каком городе находится знаменитый дом Павлова, названный «Дом солдатской славы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в Киеве;                  3) в Моск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в Брянске;              4) в Волгогра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20c2"/>
            </a:gs>
            <a:gs pos="100000">
              <a:srgbClr val="16fa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052280"/>
            <a:ext cx="81471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Строки из личного письма поэта-фронтовика А.А.Суркова жене стали текстом песн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3789000"/>
            <a:ext cx="91440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«Землянка»;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«В лесу прифронтовом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«Тёмная ночь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«Катюш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9760" y="404640"/>
            <a:ext cx="8666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20c2"/>
            </a:gs>
            <a:gs pos="100000">
              <a:srgbClr val="16fa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2438 воинов были удостоены звания Героя Советского Союза, проявленный при форсировании неприступной, по мнению немцев, системы укрепления («восточный вал»)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О какой битве идет реч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4221000"/>
            <a:ext cx="7499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рсирование Днепр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Висло-Одерская опера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Форсирование До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Харьковское ср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978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47628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гра – викто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«Великая Отечественная войн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6fae4"/>
            </a:gs>
            <a:gs pos="100000">
              <a:srgbClr val="ea00d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Кто выступил по радио перед народом в этот    день и сообщил о начале войн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4365720"/>
            <a:ext cx="88930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.М.Молотов;        3) К.Е.Вороши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И.В.Сталин;           4) Г.К.Жуков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6:16:43Z</dcterms:created>
  <dc:creator>Admin</dc:creator>
  <dc:description/>
  <dc:language>en-US</dc:language>
  <cp:lastModifiedBy>Математика</cp:lastModifiedBy>
  <dcterms:modified xsi:type="dcterms:W3CDTF">2010-05-04T08:19:23Z</dcterms:modified>
  <cp:revision>8</cp:revision>
  <dc:subject/>
  <dc:title>Слайд 1</dc:title>
</cp:coreProperties>
</file>