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dt" idx="3"/>
          </p:nvPr>
        </p:nvSpPr>
        <p:spPr>
          <a:xfrm>
            <a:off x="3884760" y="0"/>
            <a:ext cx="2947680" cy="4334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59" name="PlaceHolder 2"/>
          <p:cNvSpPr>
            <a:spLocks noGrp="1"/>
          </p:cNvSpPr>
          <p:nvPr>
            <p:ph type="sldImg"/>
          </p:nvPr>
        </p:nvSpPr>
        <p:spPr>
          <a:xfrm>
            <a:off x="1143000" y="685440"/>
            <a:ext cx="4548240" cy="340524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0" name="PlaceHolder 3"/>
          <p:cNvSpPr>
            <a:spLocks noGrp="1"/>
          </p:cNvSpPr>
          <p:nvPr>
            <p:ph type="body"/>
          </p:nvPr>
        </p:nvSpPr>
        <p:spPr>
          <a:xfrm>
            <a:off x="685800" y="4343400"/>
            <a:ext cx="5462640" cy="4091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4"/>
          <p:cNvSpPr>
            <a:spLocks noGrp="1"/>
          </p:cNvSpPr>
          <p:nvPr>
            <p:ph type="sldNum" idx="4"/>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BBE208-0E47-49FD-AA16-F1FBC3E2B2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2E7396-DE9F-4EA7-97AD-A1CB0C962F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70F5DC-260C-4F24-88CF-B699B9D008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058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52080"/>
            <a:ext cx="82058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4D0EA4B-68DD-49BF-926E-B22EB63A4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620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620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3592BC2-0D8C-4E2C-98EC-A6681490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1720" y="160020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06240" y="160020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5208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1720" y="395208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06240" y="395208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B5777F0-59A2-4638-93FF-CBF91D57FA9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05840" cy="4502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3CD080-3920-4730-B353-989EA661F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0584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429556-73CE-4075-AC26-7FB4AE751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620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AF75EF-BD75-4FF8-9BC0-371C393B1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94F41A6-6ACB-4C52-AF95-0318868AD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05840" cy="51894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0D518F5-CDC5-4CBA-8FE3-B353AA6DF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620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2FD66A-34DC-4AE8-985B-9CCED9777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620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620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548D75-FB55-42D5-A0CE-EAEB336F3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620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52080"/>
            <a:ext cx="82058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4127C2-8538-49C8-86A6-05BFBDB50F2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05840" cy="4502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09960" cy="341280"/>
          </a:xfrm>
          <a:prstGeom prst="rect">
            <a:avLst/>
          </a:prstGeom>
          <a:noFill/>
          <a:ln w="0">
            <a:noFill/>
          </a:ln>
        </p:spPr>
        <p:txBody>
          <a:bodyPr lIns="90000" rIns="90000" tIns="46800" bIns="4680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898989"/>
                </a:solidFill>
                <a:latin typeface="Calibri"/>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520"/>
            <a:ext cx="2109960" cy="341280"/>
          </a:xfrm>
          <a:prstGeom prst="rect">
            <a:avLst/>
          </a:prstGeom>
          <a:noFill/>
          <a:ln w="0">
            <a:noFill/>
          </a:ln>
        </p:spPr>
        <p:txBody>
          <a:bodyPr lIns="90000" rIns="90000" tIns="46800" bIns="4680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E2BE3A-488F-41F6-8A47-3480345CFCF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1143000"/>
            <a:ext cx="7772400" cy="2928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ff0000"/>
                </a:solidFill>
                <a:latin typeface="Times New Roman"/>
                <a:ea typeface="Times New Roman"/>
              </a:rPr>
              <a:t>«Использование приёмов технологии личностно-ориентированного обучения в преподавании английского языка»</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42920" y="214200"/>
            <a:ext cx="8786880" cy="642960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u="sng">
                <a:solidFill>
                  <a:srgbClr val="ff0000"/>
                </a:solidFill>
                <a:uFillTx/>
                <a:latin typeface="Times New Roman"/>
                <a:ea typeface="Times New Roman"/>
              </a:rPr>
              <a:t>Способы дифференциац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содержание задания одинаково для всего класса, но для сильных учеников время на выполнение работы уменьшается;</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содержание задания одинаково для всего класса, но для сильных учеников предлагаются задания большего объема или более сложные;</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задание общее для всего класса, а для слабых учеников дается вспомогательный материал, облегчающий выполнение задания (опорная схема, алгоритм, таблица, программированное задание, образец, ответ и т.д.);</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используются на одном этапе урока задания различного содержания и сложности для сильных, средних и слабых учеников;</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редоставляется самостоятельный выбор учениками одного из нескольких предложенных вариантов заданий. Чаще всего используется на этапе закрепления материала.</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2920" y="142920"/>
            <a:ext cx="878688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0000"/>
                </a:solidFill>
                <a:latin typeface="Times New Roman"/>
                <a:ea typeface="Times New Roman"/>
              </a:rPr>
              <a:t>Разноуровневые тестовые задания</a:t>
            </a:r>
            <a:endParaRPr b="0" lang="en-US" sz="2000" spc="-1" strike="noStrike">
              <a:solidFill>
                <a:srgbClr val="000000"/>
              </a:solidFill>
              <a:latin typeface="Arial"/>
            </a:endParaRPr>
          </a:p>
          <a:p>
            <a:pPr marL="318960" indent="-318960" algn="just">
              <a:lnSpc>
                <a:spcPct val="100000"/>
              </a:lnSpc>
              <a:spcBef>
                <a:spcPts val="4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Тест в данном случае - это разноуровневое задание для экспресс-контроля степени усвоения учащимися определенного учебного материала с правом выбора правильного ответа из нескольких предложенных. Для учителя и учащихся такой вид работы очень удобен. Во-первых, предлагая разноуровневые тесты, учитель обеспечивает достаточный интерес к работе и выполнение ее как слабыми, так и сильными учениками. Во-вторых, у всех школьников вырабатываются устойчивые умения и знания, которые зависят от их возможностей и предпочтений. В-третьих, педагогу легко увидеть общую картину усвоения темы в классе. В-четвертых, в процессе сравнения результатов выполненной работы с эталоном учащийся обучается самооценке, самоанализу и исправлению ошибок.</a:t>
            </a:r>
            <a:endParaRPr b="0" lang="en-US" sz="2000" spc="-1" strike="noStrike">
              <a:solidFill>
                <a:srgbClr val="000000"/>
              </a:solidFill>
              <a:latin typeface="Arial"/>
            </a:endParaRPr>
          </a:p>
          <a:p>
            <a:pPr marL="318960" indent="-318960" algn="just">
              <a:lnSpc>
                <a:spcPct val="100000"/>
              </a:lnSpc>
              <a:spcBef>
                <a:spcPts val="4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Разноуровневые тесты целесообразно применять в качестве текущего контроля после изучения небольшого по объему учебного материала в блоке. Учащимся предлагается выполнить задание из  5-6 вопросов,  за определенный отрезок времени (7—10 минут).</a:t>
            </a:r>
            <a:endParaRPr b="0" lang="en-US" sz="2000" spc="-1" strike="noStrike">
              <a:solidFill>
                <a:srgbClr val="000000"/>
              </a:solidFill>
              <a:latin typeface="Arial"/>
            </a:endParaRPr>
          </a:p>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76360" y="287280"/>
            <a:ext cx="7343640" cy="5618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887400" y="104760"/>
            <a:ext cx="6462720" cy="5692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792000" y="193680"/>
            <a:ext cx="6983640" cy="6141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2920" y="214200"/>
            <a:ext cx="8786880" cy="6429600"/>
          </a:xfrm>
          <a:prstGeom prst="rect">
            <a:avLst/>
          </a:prstGeom>
          <a:noFill/>
          <a:ln w="0">
            <a:noFill/>
          </a:ln>
        </p:spPr>
        <p:style>
          <a:lnRef idx="0"/>
          <a:fillRef idx="0"/>
          <a:effectRef idx="0"/>
          <a:fontRef idx="minor"/>
        </p:style>
        <p:txBody>
          <a:bodyPr anchor="t">
            <a:noAutofit/>
          </a:bodyPr>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Дидактический материал с разноуровневыми заданиями.</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READING.</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26880" indent="-31896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p:txBody>
      </p:sp>
      <p:sp>
        <p:nvSpPr>
          <p:cNvPr id="78" name=""/>
          <p:cNvSpPr/>
          <p:nvPr/>
        </p:nvSpPr>
        <p:spPr>
          <a:xfrm>
            <a:off x="-33480" y="1484280"/>
            <a:ext cx="9033120" cy="4205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ydney Wildlife World is an Australian zoo. Although it was opened in 2006, the zoo has become famous all over the world.</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The Australian zoo consists of 10 parts where visitors can see different kinds of animals, birds, reptiles and insects. In fact, there are more than 6000 creatures in the zoo. Some of them belong to the most endangered species on the planet.</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Sydney Wildlife World visitors can watch kangaroos, touch a snake, make friends with koala bears and meet Rex, who is the biggest salt water crocodile  in the world.</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There is always something happening in the zoo- exhibitions, shows, festivals. Visitors can take part in various activities and have a lot of fun.</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ydney Wildlife World is open every day except for Christmas Day and New Year’s Ev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333440" y="138240"/>
            <a:ext cx="5446800" cy="6629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152360" y="374760"/>
            <a:ext cx="5699160" cy="6392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016000" y="441360"/>
            <a:ext cx="5392800" cy="782640"/>
          </a:xfrm>
          <a:prstGeom prst="rect">
            <a:avLst/>
          </a:prstGeom>
          <a:ln w="0">
            <a:noFill/>
          </a:ln>
        </p:spPr>
      </p:pic>
      <p:pic>
        <p:nvPicPr>
          <p:cNvPr id="82" name="" descr=""/>
          <p:cNvPicPr/>
          <p:nvPr/>
        </p:nvPicPr>
        <p:blipFill>
          <a:blip r:embed="rId2"/>
          <a:stretch/>
        </p:blipFill>
        <p:spPr>
          <a:xfrm>
            <a:off x="1879560" y="1008000"/>
            <a:ext cx="5392800" cy="576360"/>
          </a:xfrm>
          <a:prstGeom prst="rect">
            <a:avLst/>
          </a:prstGeom>
          <a:ln w="0">
            <a:noFill/>
          </a:ln>
        </p:spPr>
      </p:pic>
      <p:graphicFrame>
        <p:nvGraphicFramePr>
          <p:cNvPr id="83" name=""/>
          <p:cNvGraphicFramePr/>
          <p:nvPr/>
        </p:nvGraphicFramePr>
        <p:xfrm>
          <a:off x="946080" y="2424240"/>
          <a:ext cx="6630840" cy="3885840"/>
        </p:xfrm>
        <a:graphic>
          <a:graphicData uri="http://schemas.openxmlformats.org/drawingml/2006/table">
            <a:tbl>
              <a:tblPr/>
              <a:tblGrid>
                <a:gridCol w="2583360"/>
                <a:gridCol w="1602360"/>
                <a:gridCol w="2445120"/>
              </a:tblGrid>
              <a:tr h="1224360">
                <a:tc>
                  <a: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ar-SA" sz="1600" spc="-1" strike="noStrike">
                          <a:solidFill>
                            <a:srgbClr val="333333"/>
                          </a:solidFill>
                          <a:latin typeface="Times New Roman;Times New Roman"/>
                          <a:ea typeface="Helvetica;Arial"/>
                        </a:rPr>
                        <a:t>Высокий уровень владения языком</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46800" bIns="46800" anchor="t">
                      <a:noAutofit/>
                    </a:bodyPr>
                    <a:p>
                      <a:pPr algn="ct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Средний уровень владения языком</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46800" bIns="46800" anchor="t">
                      <a:noAutofit/>
                    </a:bodyPr>
                    <a:p>
                      <a:pPr algn="ct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Слабое владение языком</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2661480">
                <a:tc>
                  <a:txBody>
                    <a:bodyPr lIns="90000" rIns="90000" tIns="46800" bIns="46800" anchor="t">
                      <a:noAutofit/>
                    </a:bodyPr>
                    <a:p>
                      <a:pP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Исключается чтение текста, текст только прослушивается, задание дается на карточке</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46800" bIns="46800" anchor="t">
                      <a:noAutofit/>
                    </a:bodyPr>
                    <a:p>
                      <a:pP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Предоставляются печатный и аудиотекст</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46800" bIns="46800" anchor="t">
                      <a:noAutofit/>
                    </a:bodyPr>
                    <a:p>
                      <a:pP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Предоставляются печатный и аудиотекст, а также карточка с семантизированными незнакомыми ключевыми словами.</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42920" y="142920"/>
            <a:ext cx="8786880" cy="6572160"/>
          </a:xfrm>
          <a:prstGeom prst="rect">
            <a:avLst/>
          </a:prstGeom>
          <a:noFill/>
          <a:ln w="0">
            <a:noFill/>
          </a:ln>
        </p:spPr>
        <p:style>
          <a:lnRef idx="0"/>
          <a:fillRef idx="0"/>
          <a:effectRef idx="0"/>
          <a:fontRef idx="minor"/>
        </p:style>
        <p:txBody>
          <a:bodyPr anchor="t">
            <a:noAutofit/>
          </a:bodyPr>
          <a:p>
            <a:pPr marL="343080" indent="-319320" algn="just">
              <a:lnSpc>
                <a:spcPct val="80000"/>
              </a:lnSpc>
              <a:spcBef>
                <a:spcPts val="4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1700" spc="-1" strike="noStrike">
                <a:solidFill>
                  <a:srgbClr val="ff0000"/>
                </a:solidFill>
                <a:latin typeface="Times New Roman"/>
                <a:ea typeface="Times New Roman"/>
              </a:rPr>
              <a:t>Список используемой литературы</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Бабанский Ю.Б. Оптимизация процесса обучения: Общедидактический аспект. -М., 1979.</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Дьяченко О.М. Проблема индивидуальных различий в интеллектуальном развитии ребёнка. // Вопросы психологии. - 1997.,№4</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Капустин Н.П. Педагогические технологии адаптивной школы. - М., «Академия», 2002.</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Кон И.С. Социология личности. - М., 1967.</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Монахов В.М., Орлов В.А., Фирсов В.В. Проблема дифференциации обучения в средней школе. - М., 1990.</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Перевозный А.В. Дифференциация школьного образования: история и современность. -М., 1996.</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Перевозный А.В. Педагогические основы дифференциации современного образования. - М., Академия последипломного образования, 1998.</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Унт И.Э. Индивидуализация и дифференциация обучения. - Педагогика, 1990.</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Чуприкова И.С. Психология умственного развития: принцип дифференциации. - М., 1997.</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Шамова Т.И. Активизация учения школьников. - М.: Педагогика, 1982.</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Якиманская И.С. Личностно-ориентированное обучение в современной школе. - М., 1996.</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Журнал «Профильное обучение». №1. 2003 г.</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Боброва В.Г. Дифференцированный подход при обучении истории //Школьные технологии , 2001/3//</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Гурина Р.В. Структурирование знаний как составная часть методики обучения //Школьные технологии , 2005/4//</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Ширяева В.А. Технология анализа информации и составления вопросов//Школьные технологии 2004/1//</a:t>
            </a:r>
            <a:endParaRPr b="0" lang="en-US" sz="1700" spc="-1" strike="noStrike">
              <a:solidFill>
                <a:srgbClr val="000000"/>
              </a:solidFill>
              <a:latin typeface="Arial"/>
            </a:endParaRPr>
          </a:p>
          <a:p>
            <a:pPr marL="343080" indent="-319320" algn="just">
              <a:lnSpc>
                <a:spcPct val="80000"/>
              </a:lnSpc>
              <a:spcBef>
                <a:spcPts val="4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Одним из исходных приоритетов современного образования   является развитие свободной, активной, творческой и ответственной личности. Современное педагогическое мышление ориентируется на необходимость формирования личности, обладающей индивидуальными чертами, имеющей собственные взгляды на события и процессы, умеющей критически мыслить и воспринимать различные точки зрения.</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Как показывают научные исследования и опыт современного преподавания, формирование такой личности невозможно без дифференцированного подхода к обучению, при котором создаются наиболее благоприятные условия для развития индивидуальных особенностей каждого ребенка. Ведь в школе обучаются разные ученики с разными способностями и интересами. Поэтому, одна из основных задач современного образования - создание условий для успешной реализации и самореализации каждого ребенка в соответствии с его способностями и склонностями.</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Таким образом, </a:t>
            </a:r>
            <a:r>
              <a:rPr b="1" lang="ru-RU" sz="1800" spc="-1" strike="noStrike">
                <a:solidFill>
                  <a:srgbClr val="ff0000"/>
                </a:solidFill>
                <a:latin typeface="Times New Roman"/>
                <a:ea typeface="Times New Roman"/>
              </a:rPr>
              <a:t>дифференциация обучения выступает как определенный фактор гуманизации образования, как необходимое условие разностороннего и гармоничного развития личности.</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ff0000"/>
                </a:solidFill>
                <a:latin typeface="Times New Roman"/>
                <a:ea typeface="Times New Roman"/>
              </a:rPr>
              <a:t>Дифференцированным считается такой учебно-воспитательный процесс, для которого характерен учет типичных индивидуальных различий учащихся.</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По степени обучаемости учащихся можно условно разделить на 3 уровня: слабые, хорошо подготовленные и сильные.</a:t>
            </a:r>
            <a:endParaRPr b="0" lang="en-US" sz="1800" spc="-1" strike="noStrike">
              <a:solidFill>
                <a:srgbClr val="000000"/>
              </a:solidFill>
              <a:latin typeface="Arial"/>
            </a:endParaRPr>
          </a:p>
          <a:p>
            <a:pPr marL="343080" indent="-31932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400" spc="-1" strike="noStrike">
              <a:solidFill>
                <a:srgbClr val="000000"/>
              </a:solidFill>
              <a:latin typeface="Arial"/>
            </a:endParaRPr>
          </a:p>
          <a:p>
            <a:pPr marL="343080" indent="-31932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Дифференциация обучения является одним из методов </a:t>
            </a:r>
            <a:r>
              <a:rPr b="1" lang="ru-RU" sz="2000" spc="-1" strike="noStrike">
                <a:solidFill>
                  <a:srgbClr val="ff0000"/>
                </a:solidFill>
                <a:latin typeface="Times New Roman"/>
                <a:ea typeface="Times New Roman"/>
              </a:rPr>
              <a:t>Технологии личностно-ориентированного обучения. (И. С. Якиманской).</a:t>
            </a:r>
            <a:endParaRPr b="0" lang="en-US" sz="2000" spc="-1" strike="noStrike">
              <a:solidFill>
                <a:srgbClr val="000000"/>
              </a:solidFill>
              <a:latin typeface="Arial"/>
            </a:endParaRPr>
          </a:p>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По мнению И. С. Якиманской, признание ученика главной действующей фигурой всего образовательного процесса и есть личностно-ориентированная педагогика. Для выстраивания модели личностно-ориентированного обучения она считает необходимым различать следующие понятия.</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Разноуровневый подход</a:t>
            </a:r>
            <a:r>
              <a:rPr b="0" lang="ru-RU" sz="2000" spc="-1" strike="noStrike">
                <a:solidFill>
                  <a:srgbClr val="000000"/>
                </a:solidFill>
                <a:latin typeface="Times New Roman"/>
                <a:ea typeface="Times New Roman"/>
              </a:rPr>
              <a:t> — ориентация на разный уровень сложности программного материала, доступного ученику.</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Дифференцированный подход</a:t>
            </a:r>
            <a:r>
              <a:rPr b="0" lang="ru-RU" sz="2000" spc="-1" strike="noStrike">
                <a:solidFill>
                  <a:srgbClr val="000000"/>
                </a:solidFill>
                <a:latin typeface="Times New Roman"/>
                <a:ea typeface="Times New Roman"/>
              </a:rPr>
              <a:t> — выделение групп детей на основе внешней (точнее, смешанной) дифференциации: по знаниям, способностям, типу образовательного учреждения.</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Индивидуальный подход</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распределение детей по однородным группам: успеваемости, способностям, социальной (профессиональной) направленности.</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Субъектно-личностный подход</a:t>
            </a:r>
            <a:r>
              <a:rPr b="0" lang="ru-RU" sz="2000" spc="-1" strike="noStrike">
                <a:solidFill>
                  <a:srgbClr val="000000"/>
                </a:solidFill>
                <a:latin typeface="Times New Roman"/>
                <a:ea typeface="Times New Roman"/>
              </a:rPr>
              <a:t> — отношение к каждому ребёнку как к уникальности, несхожести, неповторимости.</a:t>
            </a:r>
            <a:endParaRPr b="0" lang="en-US" sz="2000" spc="-1" strike="noStrike">
              <a:solidFill>
                <a:srgbClr val="000000"/>
              </a:solidFill>
              <a:latin typeface="Arial"/>
            </a:endParaRPr>
          </a:p>
          <a:p>
            <a:pPr marL="343080" indent="-31932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42920" y="142920"/>
            <a:ext cx="878688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д </a:t>
            </a:r>
            <a:r>
              <a:rPr b="1" i="1" lang="ru-RU" sz="2400" spc="-1" strike="noStrike">
                <a:solidFill>
                  <a:srgbClr val="ff0000"/>
                </a:solidFill>
                <a:latin typeface="Times New Roman"/>
                <a:ea typeface="Times New Roman"/>
              </a:rPr>
              <a:t>личностно-ориентированным обучением</a:t>
            </a:r>
            <a:r>
              <a:rPr b="0" lang="ru-RU" sz="2400" spc="-1" strike="noStrike">
                <a:solidFill>
                  <a:srgbClr val="000000"/>
                </a:solidFill>
                <a:latin typeface="Times New Roman"/>
                <a:ea typeface="Times New Roman"/>
              </a:rPr>
              <a:t> понимается такой тип образовательного процесса, в котором личность ученика и личность педагога выступают как его субъекты; </a:t>
            </a:r>
            <a:endParaRPr b="0" lang="en-US" sz="2400" spc="-1" strike="noStrike">
              <a:solidFill>
                <a:srgbClr val="000000"/>
              </a:solidFill>
              <a:latin typeface="Arial"/>
            </a:endParaRPr>
          </a:p>
          <a:p>
            <a:pPr marL="318960" indent="-318960" algn="just">
              <a:lnSpc>
                <a:spcPct val="100000"/>
              </a:lnSpc>
              <a:spcBef>
                <a:spcPts val="601"/>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a:solidFill>
                  <a:srgbClr val="ff0000"/>
                </a:solidFill>
                <a:latin typeface="Times New Roman"/>
                <a:ea typeface="Times New Roman"/>
              </a:rPr>
              <a:t>целью обучения</a:t>
            </a:r>
            <a:r>
              <a:rPr b="0" lang="ru-RU" sz="2400" spc="-1" strike="noStrike">
                <a:solidFill>
                  <a:srgbClr val="000000"/>
                </a:solidFill>
                <a:latin typeface="Times New Roman"/>
                <a:ea typeface="Times New Roman"/>
              </a:rPr>
              <a:t> является развитие личности ребёнка, его индивидуальности и неповторимости; </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в процессе обучения учитываются ценностные ориентации ребёнка и структура его убеждений, на основе которых формируется его «внутренняя модель мира», при этом процессы обучения и учения взаимно согласовываются с учётом механизмов познания, особенностей мыслительных и поведенческих стратегий учащихся, а отношения педагог-ученик построены на принципах сотрудничества и свободы выбора.</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42920" y="142920"/>
            <a:ext cx="878688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0000"/>
                </a:solidFill>
                <a:latin typeface="Times New Roman"/>
                <a:ea typeface="Times New Roman"/>
              </a:rPr>
              <a:t>Цель технологии личностно-ориентированного обучения – максимальное развитие (а не формирование заранее заданных) индивидуальных познавательных способностей ребенка на основе использования имеющегося у него опыта жизнедеятельности.</a:t>
            </a:r>
            <a:endParaRPr b="0" lang="en-US" sz="2000" spc="-1" strike="noStrike">
              <a:solidFill>
                <a:srgbClr val="000000"/>
              </a:solidFill>
              <a:latin typeface="Arial"/>
            </a:endParaRPr>
          </a:p>
          <a:p>
            <a:pPr marL="318960" indent="-318960" algn="just">
              <a:lnSpc>
                <a:spcPct val="100000"/>
              </a:lnSpc>
              <a:spcBef>
                <a:spcPts val="550"/>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200" spc="-1" strike="noStrike">
                <a:solidFill>
                  <a:srgbClr val="ff0000"/>
                </a:solidFill>
                <a:latin typeface="Times New Roman"/>
                <a:ea typeface="Times New Roman"/>
              </a:rPr>
              <a:t>Задача педагога</a:t>
            </a:r>
            <a:r>
              <a:rPr b="0" lang="ru-RU" sz="2200" spc="-1" strike="noStrike">
                <a:solidFill>
                  <a:srgbClr val="000000"/>
                </a:solidFill>
                <a:latin typeface="Times New Roman"/>
                <a:ea typeface="Times New Roman"/>
              </a:rPr>
              <a:t> – не «давать» материал, а пробудить интерес, раскрыть возможности каждого, организовать совместную познавательную, творческую деятельность каждого ребенка.</a:t>
            </a:r>
            <a:endParaRPr b="0" lang="en-US" sz="2200" spc="-1" strike="noStrike">
              <a:solidFill>
                <a:srgbClr val="000000"/>
              </a:solidFill>
              <a:latin typeface="Arial"/>
            </a:endParaRPr>
          </a:p>
          <a:p>
            <a:pPr marL="318960" indent="-318960" algn="just">
              <a:lnSpc>
                <a:spcPct val="100000"/>
              </a:lnSpc>
              <a:spcBef>
                <a:spcPts val="550"/>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200" spc="-1" strike="noStrike">
                <a:solidFill>
                  <a:srgbClr val="000000"/>
                </a:solidFill>
                <a:latin typeface="Times New Roman"/>
                <a:ea typeface="Times New Roman"/>
              </a:rPr>
              <a:t>В соответствии с данной технологией для каждого ученика составляется индивидуальная образовательная программа, которая в отличие от учебной носит индивидуальный характер, основывается на характеристиках, присущих данному ученику, гибко приспосабливается к его возможностям и динамике развития.</a:t>
            </a:r>
            <a:endParaRPr b="0" lang="en-US" sz="2200" spc="-1" strike="noStrike">
              <a:solidFill>
                <a:srgbClr val="000000"/>
              </a:solidFill>
              <a:latin typeface="Arial"/>
            </a:endParaRPr>
          </a:p>
          <a:p>
            <a:pPr marL="318960" indent="-318960" algn="just">
              <a:lnSpc>
                <a:spcPct val="100000"/>
              </a:lnSpc>
              <a:spcBef>
                <a:spcPts val="550"/>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200" spc="-1" strike="noStrike">
                <a:solidFill>
                  <a:srgbClr val="000000"/>
                </a:solidFill>
                <a:latin typeface="Times New Roman"/>
                <a:ea typeface="Times New Roman"/>
              </a:rPr>
              <a:t>В технологии личностно-ориентированного обучения центр всей образовательной системы – </a:t>
            </a:r>
            <a:r>
              <a:rPr b="1" i="1" lang="ru-RU" sz="2200" spc="-1" strike="noStrike">
                <a:solidFill>
                  <a:srgbClr val="ff0000"/>
                </a:solidFill>
                <a:latin typeface="Times New Roman"/>
                <a:ea typeface="Times New Roman"/>
              </a:rPr>
              <a:t>индивидуальность детской личности, следовательно, методическую основу этой технологии составляют дифференциация  обучения.</a:t>
            </a:r>
            <a:endParaRPr b="0" lang="en-US" sz="2200" spc="-1" strike="noStrike">
              <a:solidFill>
                <a:srgbClr val="000000"/>
              </a:solidFill>
              <a:latin typeface="Arial"/>
            </a:endParaRPr>
          </a:p>
          <a:p>
            <a:pPr marL="343080" indent="-319320" algn="just">
              <a:lnSpc>
                <a:spcPct val="100000"/>
              </a:lnSpc>
              <a:spcBef>
                <a:spcPts val="55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0000"/>
                </a:solidFill>
                <a:latin typeface="Times New Roman"/>
                <a:ea typeface="Times New Roman"/>
              </a:rPr>
              <a:t>Технология проведения учебного занятия в системе дифференцированного обучения  предполагает несколько этапов</a:t>
            </a:r>
            <a:r>
              <a:rPr b="0" lang="ru-RU" sz="2000" spc="-1" strike="noStrike">
                <a:solidFill>
                  <a:srgbClr val="ff0000"/>
                </a:solidFill>
                <a:latin typeface="Times New Roman"/>
                <a:ea typeface="Times New Roman"/>
              </a:rPr>
              <a:t>:</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Ориентационный этап</a:t>
            </a: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Педагог договаривается с детьми, о том, как они будут работать, к чему стремиться, чего достигнут. Каждый отвечает за результаты своего труда и имеет возможность работать на разных уровнях, который выбирает самостоятельно.</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Подготовительный этап.</a:t>
            </a:r>
            <a:r>
              <a:rPr b="0" lang="ru-RU" sz="2000" spc="-1" strike="noStrike">
                <a:solidFill>
                  <a:srgbClr val="000000"/>
                </a:solidFill>
                <a:latin typeface="Times New Roman"/>
                <a:ea typeface="Times New Roman"/>
              </a:rPr>
              <a:t> Дидактическая задача – обеспечить мотивацию, актуализировать опорные знания и умения. Необходимо объяснить, почему это нужно научиться делать, где это пригодиться и почему без этого нельзя (иными словами, «завести мотор»). На этом этапе вводный контроль (тест, упражнение). </a:t>
            </a:r>
            <a:r>
              <a:rPr b="1" lang="ru-RU" sz="2000" spc="-1" strike="noStrike">
                <a:solidFill>
                  <a:srgbClr val="ff0000"/>
                </a:solidFill>
                <a:latin typeface="Times New Roman"/>
                <a:ea typeface="Times New Roman"/>
              </a:rPr>
              <a:t>Дидактическая задача – восстановить в памяти все то, на чем строиться занятие.</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Основной этап</a:t>
            </a:r>
            <a:r>
              <a:rPr b="0" lang="ru-RU" sz="2000" spc="-1" strike="noStrike">
                <a:solidFill>
                  <a:srgbClr val="000000"/>
                </a:solidFill>
                <a:latin typeface="Times New Roman"/>
                <a:ea typeface="Times New Roman"/>
              </a:rPr>
              <a:t> – усвоение знаний и умений. Учебная информация излагается кратко, четко, ясно, с опорой на образцы. Затем дети должны перейти на самостоятельную работу и взаимопроверку. Основной принцип – каждый добывает знания сам.</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Итоговый этап</a:t>
            </a:r>
            <a:r>
              <a:rPr b="0" lang="ru-RU" sz="2000" spc="-1" strike="noStrike">
                <a:solidFill>
                  <a:srgbClr val="000000"/>
                </a:solidFill>
                <a:latin typeface="Times New Roman"/>
                <a:ea typeface="Times New Roman"/>
              </a:rPr>
              <a:t> – оценка лучших работ, ответов, обобщение пройденного на занятии.</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При контроле знаний дифференциация углубляется и переходит в индивидуализацию обучения, что означает организацию учебного процесса, при которой выбор способов, приемов, темпа обучения обусловлен индивидуальными особенностями детей.</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Дифференцированное образование обогащается в этом случае такими понятиями, как смысловая сфера, рефлексия, переживание, диалог как механизмы накопления личностного опыта ученика (Анциферов Л. И., Давыдов В. В., Петровский А. В., Семёнов И. Н., Тюков А. А.).</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С точки зрения дидактики дифференцированный подход в обучении включает в себя категории цели, содержания образования, методов и технологий обучения, способов организации деятельности преподавания и учения, критериев эффективности образовательного процесса ( Е.В. Бондаревская, З.И.Васильева, В.В Сериков, М.Н.Скаткин, И.А.Колесникова и др.)</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a:solidFill>
                  <a:srgbClr val="ff0000"/>
                </a:solidFill>
                <a:latin typeface="Times New Roman"/>
                <a:ea typeface="Times New Roman"/>
              </a:rPr>
              <a:t>Дифференцированное обучение не занимается формированием личности с заранее заданными свойствами, а создаёт условия для полноценного проявления и соответственно развития личностных функций субъектов образовательного процесса.</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42920" y="142920"/>
            <a:ext cx="8858160" cy="657216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u="sng">
                <a:solidFill>
                  <a:srgbClr val="ff0000"/>
                </a:solidFill>
                <a:uFillTx/>
                <a:latin typeface="Times New Roman"/>
                <a:ea typeface="Times New Roman"/>
              </a:rPr>
              <a:t>Типы дифференциац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а) внешняя - обеспечивает создание на основе определенных признаков (интересов, склонностей, способностей, достигнутых результатов, проектируемых профессий) относительно стабильных групп, отличающихся предъявляемыми к школьникам требованиям, отражающих различное содержание.</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б) внутренняя - организация учебного процесса, при которой учитываются индивидуальные особенности учащихся в условиях организации учебной деятельности. Таким образом, при внутренней дифференциации на уроке личностно-ориентированное обучение достигается за счет педагогических технологий.</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2920" y="142920"/>
            <a:ext cx="8858160" cy="657216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u="sng">
                <a:solidFill>
                  <a:srgbClr val="ff0000"/>
                </a:solidFill>
                <a:uFillTx/>
                <a:latin typeface="Times New Roman"/>
                <a:ea typeface="Times New Roman"/>
              </a:rPr>
              <a:t>Виды дифференциаций:</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общим способностям (на основании учета общего уровня обученности, развитием у учащихся отдельных особенностей психического развития: памяти, мышления, познавательной деятельност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частным способностям (различные уровни способностей к тем или иным предметам)</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неспособностям (речь идет о детях, обучающихся в классах коррекц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проектируемой професс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интересам</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обучаемости, определенной характером психических процессов (мышления, восприятия и т.д.).</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30T05:03:16Z</dcterms:created>
  <dc:creator>Наташа</dc:creator>
  <dc:description/>
  <dc:language>en-US</dc:language>
  <cp:lastModifiedBy/>
  <dcterms:modified xsi:type="dcterms:W3CDTF">2022-01-09T18:08:19Z</dcterms:modified>
  <cp:revision>23</cp:revision>
  <dc:subject/>
  <dc:title>«Возможности использования уровневой дифференциации в преподавании обществознания, права и экономики»</dc:title>
</cp:coreProperties>
</file>