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60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30760" y="0"/>
            <a:ext cx="2930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756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b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39780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30760" y="939780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661C-3AC0-4073-BF30-125B610ED5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23B-8751-43FC-A467-F791338E80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8460-CEA7-407A-B0A4-91440ECF28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2865-422F-48DA-820B-EA305C6002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A0C5-0C88-4D29-AE8F-C9FC8E62B3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4B2-4E55-4C9A-9E0F-D7C0C5354F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1B2B-0360-4EC0-8F91-B702BB0F33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C4CF-8C96-4927-81BB-A2BF3939A7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9965-06E1-4651-94CE-2E55D9292C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8608-6270-43EB-B0EE-11D507F668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61F4-3B23-4504-A6CE-E1CE6017E5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4173-FB24-407D-B369-313E144F3F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430E-C58C-4FEE-B81E-AEF15B0E4D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9ABD-B725-4C0B-97B4-133CF0F5BB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1A3D-D37D-4651-8292-A5664F5D1F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FCC1-D913-49E1-9CD4-816D84A1DA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8788-F73A-4FD3-9167-0B25E7E1EF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894-0BE5-4970-A26C-2E0F7158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48E-1462-46B3-932C-B9F1FF32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8CB-54F2-44BC-BB54-24B14777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53D-6A8F-4DEA-8E98-029CB0A7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9DB-A1DC-444B-9F30-031DE2EF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056-F4F2-45E8-859E-D36DAFE4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82A-0EE8-44F8-A97C-3A650B02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A04-FC62-41B7-A55B-66F2EC06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00F-2EE9-4339-BF92-B149AD57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4F7-0F95-4FA3-91B6-8747F183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E5C-ED66-44FA-A79A-015DB04A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2EF-123A-4114-9D72-90B99DF3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b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3b3b3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0E47-D625-4213-BC29-2221E53917C3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5CFB-3D6C-48B8-8BF4-838DB837D32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0" y="99072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13"/>
          <p:cNvGraphicFramePr/>
          <p:nvPr/>
        </p:nvGraphicFramePr>
        <p:xfrm>
          <a:off x="0" y="2362320"/>
          <a:ext cx="9144000" cy="16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362320"/>
                    <a:ext cx="9144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Rectangle 8"/>
          <p:cNvSpPr/>
          <p:nvPr/>
        </p:nvSpPr>
        <p:spPr>
          <a:xfrm>
            <a:off x="1440" y="4027320"/>
            <a:ext cx="914256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440" y="2220840"/>
            <a:ext cx="914256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b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3b3b3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szitcom.ru/elementy-prisposobleniy-dlya-ustanovki-zagotovki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6"/>
          <p:cNvSpPr/>
          <p:nvPr/>
        </p:nvSpPr>
        <p:spPr>
          <a:xfrm>
            <a:off x="2133720" y="4430880"/>
            <a:ext cx="5181480" cy="1523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WordArt 17" descr=""/>
          <p:cNvPicPr/>
          <p:nvPr/>
        </p:nvPicPr>
        <p:blipFill>
          <a:blip r:embed="rId1"/>
          <a:stretch/>
        </p:blipFill>
        <p:spPr>
          <a:xfrm>
            <a:off x="237960" y="2030400"/>
            <a:ext cx="8643960" cy="149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380880" y="4729320"/>
            <a:ext cx="8458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.В. – преподаватель спецдисцип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93B1-3B11-416C-BDDC-31E973878BB3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981080" y="228600"/>
            <a:ext cx="5562360" cy="533520"/>
            <a:chOff x="1981080" y="228600"/>
            <a:chExt cx="5562360" cy="533520"/>
          </a:xfrm>
        </p:grpSpPr>
        <p:sp>
          <p:nvSpPr>
            <p:cNvPr id="129" name="AutoShape 5"/>
            <p:cNvSpPr/>
            <p:nvPr/>
          </p:nvSpPr>
          <p:spPr>
            <a:xfrm>
              <a:off x="1981080" y="228600"/>
              <a:ext cx="556236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6"/>
            <p:cNvSpPr txBox="1"/>
            <p:nvPr/>
          </p:nvSpPr>
          <p:spPr>
            <a:xfrm>
              <a:off x="2062440" y="304560"/>
              <a:ext cx="53175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1" name="Rectangle 7"/>
          <p:cNvSpPr/>
          <p:nvPr/>
        </p:nvSpPr>
        <p:spPr>
          <a:xfrm>
            <a:off x="533520" y="1393560"/>
            <a:ext cx="8001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сновные оп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рные шты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рные пласт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рные шай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спомогательных опоры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устанавливающиеся опо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быстродействующие, с возможностью одновременного стопорения нескольких опор одним приводо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водимые опо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пособны выдержать значительные нагрузк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6667-E23F-460F-816A-F0BDC67317AC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2286000" y="304920"/>
            <a:ext cx="4952880" cy="457200"/>
            <a:chOff x="2286000" y="304920"/>
            <a:chExt cx="4952880" cy="457200"/>
          </a:xfrm>
        </p:grpSpPr>
        <p:sp>
          <p:nvSpPr>
            <p:cNvPr id="135" name="AutoShape 5"/>
            <p:cNvSpPr/>
            <p:nvPr/>
          </p:nvSpPr>
          <p:spPr>
            <a:xfrm>
              <a:off x="2286000" y="304920"/>
              <a:ext cx="4952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WordArt 6"/>
            <p:cNvSpPr txBox="1"/>
            <p:nvPr/>
          </p:nvSpPr>
          <p:spPr>
            <a:xfrm>
              <a:off x="2358360" y="370080"/>
              <a:ext cx="473472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37" name="Picture 8" descr="3_6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18687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457200" y="3658680"/>
            <a:ext cx="83818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Опорные штыри (ГОСТ 13440-68, ГОСТ 13441-68, ГОСТ 13442-68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с плоской головкой для установки детали по обработанной поверх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со сферической головкой для установки детали по необработанным поверхностя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с насечкой для установки детали по необработанным поверхностям и чугунных детал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опорный штырь, установленный в стальную закаленную переходную втулк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8686800" y="624996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BAB-28C9-4C8A-8D61-B695630D5AB4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2133720" y="304920"/>
            <a:ext cx="4952880" cy="457200"/>
            <a:chOff x="2133720" y="304920"/>
            <a:chExt cx="4952880" cy="457200"/>
          </a:xfrm>
        </p:grpSpPr>
        <p:sp>
          <p:nvSpPr>
            <p:cNvPr id="142" name="AutoShape 5"/>
            <p:cNvSpPr/>
            <p:nvPr/>
          </p:nvSpPr>
          <p:spPr>
            <a:xfrm>
              <a:off x="2133720" y="304920"/>
              <a:ext cx="4952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WordArt 6"/>
            <p:cNvSpPr txBox="1"/>
            <p:nvPr/>
          </p:nvSpPr>
          <p:spPr>
            <a:xfrm>
              <a:off x="2206080" y="370080"/>
              <a:ext cx="473472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4" name="Picture 4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200400" y="1295280"/>
            <a:ext cx="2584440" cy="3429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2"/>
          <p:cNvSpPr/>
          <p:nvPr/>
        </p:nvSpPr>
        <p:spPr>
          <a:xfrm>
            <a:off x="76320" y="4827600"/>
            <a:ext cx="89913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Times New Roman"/>
              </a:rPr>
              <a:t>Опорные пластины двух типов ГОСТ 4743-68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– плоские  для установки заготовок с обработанными базами больших размеров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- с наклонными пазами для размещения в пазах стружки (размещаются горизонтально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8686800" y="624996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2622-2F36-4E3F-A7DD-B6D3DF1B9BF3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057400" y="304920"/>
            <a:ext cx="4876920" cy="457200"/>
            <a:chOff x="2057400" y="304920"/>
            <a:chExt cx="4876920" cy="457200"/>
          </a:xfrm>
        </p:grpSpPr>
        <p:sp>
          <p:nvSpPr>
            <p:cNvPr id="149" name="AutoShape 5"/>
            <p:cNvSpPr/>
            <p:nvPr/>
          </p:nvSpPr>
          <p:spPr>
            <a:xfrm>
              <a:off x="2057400" y="304920"/>
              <a:ext cx="48769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6"/>
            <p:cNvSpPr txBox="1"/>
            <p:nvPr/>
          </p:nvSpPr>
          <p:spPr>
            <a:xfrm>
              <a:off x="2128680" y="370080"/>
              <a:ext cx="466200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51" name="Picture 26" descr="3_5"/>
          <p:cNvPicPr/>
          <p:nvPr/>
        </p:nvPicPr>
        <p:blipFill>
          <a:blip r:embed="rId1"/>
          <a:stretch/>
        </p:blipFill>
        <p:spPr>
          <a:xfrm>
            <a:off x="1143000" y="1600200"/>
            <a:ext cx="7162920" cy="28209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7"/>
          <p:cNvSpPr/>
          <p:nvPr/>
        </p:nvSpPr>
        <p:spPr>
          <a:xfrm>
            <a:off x="1254240" y="4723920"/>
            <a:ext cx="70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егулируемые винтовые опоры по ГОСТ 4085-68 и ГОСТ 4086-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 - регулируемый ви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6"/>
          <p:cNvSpPr/>
          <p:nvPr/>
        </p:nvSpPr>
        <p:spPr>
          <a:xfrm>
            <a:off x="8686800" y="632916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F56F-85A4-4D68-969C-36E9101C7A83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2209680" y="228600"/>
            <a:ext cx="5257440" cy="533520"/>
            <a:chOff x="2209680" y="228600"/>
            <a:chExt cx="5257440" cy="533520"/>
          </a:xfrm>
        </p:grpSpPr>
        <p:sp>
          <p:nvSpPr>
            <p:cNvPr id="156" name="AutoShape 5"/>
            <p:cNvSpPr/>
            <p:nvPr/>
          </p:nvSpPr>
          <p:spPr>
            <a:xfrm>
              <a:off x="2209680" y="228600"/>
              <a:ext cx="52574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WordArt 6"/>
            <p:cNvSpPr txBox="1"/>
            <p:nvPr/>
          </p:nvSpPr>
          <p:spPr>
            <a:xfrm>
              <a:off x="2286720" y="304560"/>
              <a:ext cx="50259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8" name="Rectangle 9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1" descr="3_7"/>
          <p:cNvPicPr/>
          <p:nvPr/>
        </p:nvPicPr>
        <p:blipFill>
          <a:blip r:embed="rId1"/>
          <a:stretch/>
        </p:blipFill>
        <p:spPr>
          <a:xfrm>
            <a:off x="2286000" y="1295280"/>
            <a:ext cx="4191120" cy="40561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2"/>
          <p:cNvSpPr/>
          <p:nvPr/>
        </p:nvSpPr>
        <p:spPr>
          <a:xfrm>
            <a:off x="982080" y="5439960"/>
            <a:ext cx="74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амоустанавливающаяся одноточечная оп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 - рукоятка; 2 - обрабатываемая деталь;  3, 6 - винты; 4, 5 - пальцы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, 8 - плунжеры; 8 - пружин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6"/>
          <p:cNvSpPr/>
          <p:nvPr/>
        </p:nvSpPr>
        <p:spPr>
          <a:xfrm>
            <a:off x="8686800" y="632916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11CA-6837-405C-945E-4B286706C00A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2133720" y="228600"/>
            <a:ext cx="5029200" cy="457200"/>
            <a:chOff x="2133720" y="228600"/>
            <a:chExt cx="5029200" cy="457200"/>
          </a:xfrm>
        </p:grpSpPr>
        <p:sp>
          <p:nvSpPr>
            <p:cNvPr id="165" name="AutoShape 11"/>
            <p:cNvSpPr/>
            <p:nvPr/>
          </p:nvSpPr>
          <p:spPr>
            <a:xfrm>
              <a:off x="2133720" y="228600"/>
              <a:ext cx="50292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WordArt 12"/>
            <p:cNvSpPr txBox="1"/>
            <p:nvPr/>
          </p:nvSpPr>
          <p:spPr>
            <a:xfrm>
              <a:off x="2207160" y="293760"/>
              <a:ext cx="480744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67" name="Picture 13" descr="3_8"/>
          <p:cNvPicPr/>
          <p:nvPr/>
        </p:nvPicPr>
        <p:blipFill>
          <a:blip r:embed="rId1"/>
          <a:stretch/>
        </p:blipFill>
        <p:spPr>
          <a:xfrm>
            <a:off x="2895480" y="1295280"/>
            <a:ext cx="3432240" cy="39625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4"/>
          <p:cNvSpPr/>
          <p:nvPr/>
        </p:nvSpPr>
        <p:spPr>
          <a:xfrm>
            <a:off x="609480" y="5409720"/>
            <a:ext cx="827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дводимая одноточечная клиновая оп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 - обрабатываемая деталь; 2 - регулируемый винт; 3 - плунжер; 4 - шпо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 - клин; 6 - винт; 7 - рукоятк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1595-49F5-4DC9-92F3-80A32BD8AF3C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10"/>
          <p:cNvGrpSpPr/>
          <p:nvPr/>
        </p:nvGrpSpPr>
        <p:grpSpPr>
          <a:xfrm>
            <a:off x="1066680" y="304920"/>
            <a:ext cx="7314840" cy="533160"/>
            <a:chOff x="1066680" y="304920"/>
            <a:chExt cx="7314840" cy="533160"/>
          </a:xfrm>
        </p:grpSpPr>
        <p:sp>
          <p:nvSpPr>
            <p:cNvPr id="173" name="AutoShape 11"/>
            <p:cNvSpPr/>
            <p:nvPr/>
          </p:nvSpPr>
          <p:spPr>
            <a:xfrm>
              <a:off x="1066680" y="304920"/>
              <a:ext cx="7314840" cy="53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WordArt 12"/>
            <p:cNvSpPr txBox="1"/>
            <p:nvPr/>
          </p:nvSpPr>
          <p:spPr>
            <a:xfrm>
              <a:off x="1173600" y="380880"/>
              <a:ext cx="699264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наружным цилиндрическим поверхностя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5" name="Rectangle 13"/>
          <p:cNvSpPr/>
          <p:nvPr/>
        </p:nvSpPr>
        <p:spPr>
          <a:xfrm>
            <a:off x="495360" y="154188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поры при базировании по наружной цилиндрической поверхно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72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мы (используются наиболее част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72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ул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испособлениях используют призмы с углами α, равными 60, 90 и 120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большее распространение получили призмы с α = 90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мы с α = 120° применяют, когда заготовка не имеет полной цилиндрической поверхности и по небольшой дуге окружности нужно определить положение оси детали. Заготовка, помещенная на таких призмах, имеет небольшую устойчивос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мы с углом α = 60° применяют для повышения устойчивости заготовки в том случае, когда имеются значительные силы резания, действующие параллельно основанию п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1C07-CAD8-4C76-B9F8-0C3686400DE1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33520" y="5639040"/>
            <a:ext cx="31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Призма ГОСТ 12195-6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8530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0"/>
          <p:cNvGrpSpPr/>
          <p:nvPr/>
        </p:nvGrpSpPr>
        <p:grpSpPr>
          <a:xfrm>
            <a:off x="1447920" y="228600"/>
            <a:ext cx="6400440" cy="533520"/>
            <a:chOff x="1447920" y="228600"/>
            <a:chExt cx="6400440" cy="533520"/>
          </a:xfrm>
        </p:grpSpPr>
        <p:sp>
          <p:nvSpPr>
            <p:cNvPr id="182" name="AutoShape 11"/>
            <p:cNvSpPr/>
            <p:nvPr/>
          </p:nvSpPr>
          <p:spPr>
            <a:xfrm>
              <a:off x="1447920" y="228600"/>
              <a:ext cx="64004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WordArt 12"/>
            <p:cNvSpPr txBox="1"/>
            <p:nvPr/>
          </p:nvSpPr>
          <p:spPr>
            <a:xfrm>
              <a:off x="1541520" y="304560"/>
              <a:ext cx="61185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цилиндрическим поверхностя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4" name="Rectangle 8"/>
          <p:cNvSpPr/>
          <p:nvPr/>
        </p:nvSpPr>
        <p:spPr>
          <a:xfrm>
            <a:off x="3886200" y="3584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установке заготовок с чисто обработанными базами применяют призмы с широкими опорными поверхностям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06AE-7AFD-4609-A85D-19B5D1B7F2BE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762120" y="1332000"/>
            <a:ext cx="3346200" cy="51814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4281480" y="1878840"/>
            <a:ext cx="448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установки по черновым базам применяют точечные опоры, запрессованные в рабочие поверхности призмы. При установке длинных заготовок применяют призмы с выемкой или две соосно установленные призмы, которые после установки на корпусе шлифуют одновременно по рабочим плоскостям для достижения соосности и равновысотности технологической базы, занимают в призме устойчивое и определенное полож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219320" y="257040"/>
            <a:ext cx="7086240" cy="533520"/>
            <a:chOff x="1219320" y="257040"/>
            <a:chExt cx="7086240" cy="533520"/>
          </a:xfrm>
        </p:grpSpPr>
        <p:sp>
          <p:nvSpPr>
            <p:cNvPr id="191" name="AutoShape 11"/>
            <p:cNvSpPr/>
            <p:nvPr/>
          </p:nvSpPr>
          <p:spPr>
            <a:xfrm>
              <a:off x="1219320" y="257040"/>
              <a:ext cx="70862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WordArt 12"/>
            <p:cNvSpPr txBox="1"/>
            <p:nvPr/>
          </p:nvSpPr>
          <p:spPr>
            <a:xfrm>
              <a:off x="1323000" y="333000"/>
              <a:ext cx="67741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наружным цилиндрическим поверхностя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392C-0248-47FF-85B3-DFD06913B7C2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1447920" y="228600"/>
            <a:ext cx="6400440" cy="533520"/>
            <a:chOff x="1447920" y="228600"/>
            <a:chExt cx="6400440" cy="533520"/>
          </a:xfrm>
        </p:grpSpPr>
        <p:sp>
          <p:nvSpPr>
            <p:cNvPr id="197" name="AutoShape 11"/>
            <p:cNvSpPr/>
            <p:nvPr/>
          </p:nvSpPr>
          <p:spPr>
            <a:xfrm>
              <a:off x="1447920" y="228600"/>
              <a:ext cx="64004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WordArt 12"/>
            <p:cNvSpPr txBox="1"/>
            <p:nvPr/>
          </p:nvSpPr>
          <p:spPr>
            <a:xfrm>
              <a:off x="2438280" y="304560"/>
              <a:ext cx="44197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отверстию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871560" y="1390320"/>
            <a:ext cx="7696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поры при базировании заготовок по отверстию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ль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а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тивно оправки делят 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жестк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­жимн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цанговые, гидропластные, тарельчатые и др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авки обычно устанавливаются в центрах или шпинделе стан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сткие оправки могут быт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линдрические для посадки заготовок с гарантированным натяг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линдрические для посадки заготовок с гарантированным зазо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A8AB-61DB-4BC4-9E85-C236233DFF2F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1981080" y="380880"/>
            <a:ext cx="5181480" cy="533520"/>
            <a:chOff x="1981080" y="380880"/>
            <a:chExt cx="5181480" cy="533520"/>
          </a:xfrm>
        </p:grpSpPr>
        <p:sp>
          <p:nvSpPr>
            <p:cNvPr id="100" name="AutoShape 11"/>
            <p:cNvSpPr/>
            <p:nvPr/>
          </p:nvSpPr>
          <p:spPr>
            <a:xfrm>
              <a:off x="1981080" y="380880"/>
              <a:ext cx="51814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WordArt 12"/>
            <p:cNvSpPr txBox="1"/>
            <p:nvPr/>
          </p:nvSpPr>
          <p:spPr>
            <a:xfrm>
              <a:off x="2057040" y="456840"/>
              <a:ext cx="495324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Назначение и классификация опор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2" name="Rectangle 13"/>
          <p:cNvSpPr/>
          <p:nvPr/>
        </p:nvSpPr>
        <p:spPr>
          <a:xfrm>
            <a:off x="533520" y="147744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становочными элементами (опорам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называют детали и механизмы приспособлений, обеспечивающие правильное и однообразное расположение обрабатываемых деталей относительно инструм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>
            <a:lum contrast="48000"/>
          </a:blip>
          <a:srcRect l="0" t="0" r="-9792" b="-16706"/>
          <a:stretch/>
        </p:blipFill>
        <p:spPr>
          <a:xfrm>
            <a:off x="2895480" y="3581280"/>
            <a:ext cx="36576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9A7-979B-4CFC-AE8B-5703660BA663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410080" cy="323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"/>
          <p:cNvSpPr/>
          <p:nvPr/>
        </p:nvSpPr>
        <p:spPr>
          <a:xfrm>
            <a:off x="309600" y="5008680"/>
            <a:ext cx="8480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19280" indent="-1619280" algn="ctr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Установочные пальцы приспособлений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 - постоянные цилиндрические ГОСТ 12209-6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 - сменные цилиндрические ГОСТ 12211-66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- постоянные срезанные ГОСТ 12210-66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0"/>
          <p:cNvGrpSpPr/>
          <p:nvPr/>
        </p:nvGrpSpPr>
        <p:grpSpPr>
          <a:xfrm>
            <a:off x="1447920" y="228600"/>
            <a:ext cx="6400440" cy="533520"/>
            <a:chOff x="1447920" y="228600"/>
            <a:chExt cx="6400440" cy="533520"/>
          </a:xfrm>
        </p:grpSpPr>
        <p:sp>
          <p:nvSpPr>
            <p:cNvPr id="206" name="AutoShape 11"/>
            <p:cNvSpPr/>
            <p:nvPr/>
          </p:nvSpPr>
          <p:spPr>
            <a:xfrm>
              <a:off x="1447920" y="228600"/>
              <a:ext cx="64004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WordArt 12"/>
            <p:cNvSpPr txBox="1"/>
            <p:nvPr/>
          </p:nvSpPr>
          <p:spPr>
            <a:xfrm>
              <a:off x="2438280" y="304560"/>
              <a:ext cx="44197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отверстию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1E0C-EF86-4942-B439-B00F7545E7F1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18184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"/>
          <p:cNvSpPr/>
          <p:nvPr/>
        </p:nvSpPr>
        <p:spPr>
          <a:xfrm>
            <a:off x="152280" y="4205520"/>
            <a:ext cx="88394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Times New Roman"/>
              </a:rPr>
              <a:t>Центровые оправки для установки цилиндрических заготовок в центрах на токарном станке: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а - конусная для высокой точности центрирования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б - оправка для установки заготовки с гарантированным зазором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в - оправка под запрессовку.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Условные обозначения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момент трения, М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ре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момент резания, Р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сдвигающая сила (сила сопротивления подаче);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 - расположение полей допусков соединения оправка-заготовка.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Условные обозначения: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изн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опуск на износ оправки;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изг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опуск на изготовление оправки;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mi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зазор между деталью и оправкой;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опуск на отверстие;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иаметр отверстия;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иаметр вала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995480" y="276120"/>
            <a:ext cx="5181480" cy="533520"/>
            <a:chOff x="1995480" y="276120"/>
            <a:chExt cx="5181480" cy="533520"/>
          </a:xfrm>
        </p:grpSpPr>
        <p:sp>
          <p:nvSpPr>
            <p:cNvPr id="214" name="AutoShape 11"/>
            <p:cNvSpPr/>
            <p:nvPr/>
          </p:nvSpPr>
          <p:spPr>
            <a:xfrm>
              <a:off x="1995480" y="276120"/>
              <a:ext cx="51814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WordArt 12"/>
            <p:cNvSpPr txBox="1"/>
            <p:nvPr/>
          </p:nvSpPr>
          <p:spPr>
            <a:xfrm>
              <a:off x="2071440" y="352080"/>
              <a:ext cx="495324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отверстию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A27B-4953-4905-B0DF-58939ED549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914400" y="114300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приспособлений для установки загото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Times New Roman"/>
                <a:hlinkClick r:id="rId1"/>
              </a:rPr>
              <a:t>https://szitcom.ru/elementy-prisposobleniy-dlya-ustanovki-zagotov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очные элементы приспособ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A5F9-70EF-40BA-AC17-57A823CF0A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304920" y="13716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детали в приспособлении определяется опорами, на которые заготовка устанавливается, а затем прижимается при ее закреплении. Опорами могут служить установочные штыри, пластины, призмы, пальцы и другие де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304920" y="37339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ы, форма и основные технические условия на изготовление определены ГОСТами: на штыри — ГОСТ 13440-68; пластины — ГОСТ 4743-68; призмы — ГОСТ 12193-66 – 12197-6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7592-D961-4C1F-8671-7A78BE7E93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157320" y="13716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ая поверхность опор должна обладать высокой износостойкостью, поэтому штыри, пластины и другие опоры изготовляют из сталей 15 и 20 с цементацией рабочей поверхности на глубину 0,8-1,2 мм и с последующей закалкой и отпуском до твердости HRC 55-60. Допускается изготовление опор из стали 45 с твердостью после термообработки HRC 40-45. Несущая поверхность опор шлифуется до Ra 0,4-0,32 шероховатости по ГОСТ 2789-73. Шлифование несущих поверхностей штырей производится после их запрессовки, чтобы обеспечить необходимую плоскостность, в связи с этим оставляют припуск 0,2-0,3 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201F-AAAA-4FCA-9293-56D05A7B40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мы чаще всего изготовляют из стали 20Х с цементацией на глубину 0,8-1,2 мм и последующей закалкой. К корпусу приспособления их крепят при помощи винтов с фиксацией контрольными штиф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228600" y="346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тех или иных конструкций опор определяется в основном формой поверхности детали, ее точностью, разме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4558-C78A-4F95-9FDB-D63E7ABFA2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152280" y="1295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установки заготовок в приспособлении с плоскими поверхностями рекомендуется использовать в качестве опор штыри и пластинки (рисунок 5.1 и 5.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Рисунок 3" descr="https://ok-t.ru/studopediaru/baza2/1958956046072.files/image443.jpg"/>
          <p:cNvPicPr/>
          <p:nvPr/>
        </p:nvPicPr>
        <p:blipFill>
          <a:blip r:embed="rId1"/>
          <a:stretch/>
        </p:blipFill>
        <p:spPr>
          <a:xfrm>
            <a:off x="2127240" y="3011400"/>
            <a:ext cx="4889520" cy="1408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177840" y="457200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унок 5.1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очные шты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тыри выполняются с плоской, сферической или насеченной головкой ( рисунок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диаметры стандартных штырей — 3-24 мм; диаметры головок — 5-40 мм; высота низких головок Н = 2-20 мм; высоких Н = 5-40 мм. Общая длина штырей с низкими головками L = 6-50 мм; с высокими L = 9-70 м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7088-F0B7-4BF3-9839-229A807149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228600" y="1371600"/>
            <a:ext cx="876312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рстия под штыри в корпусе приспособления выполняются сквозными; сопряжение штырей с отверсти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ы стандартных пластин рисунок 5.2 находятся в пределах: ширина В = 12-35 мм; длина L = 40-210 мм; высота Н = 8-25 мм; h = 4-13 мм;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= 0,8-3,0 мм; В = 9-22 мм; d = 6-13 мм; 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= 8,8-20 мм; С = 10-35 мм;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= 20-60 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Рисунок 3" descr="https://ok-t.ru/studopediaru/baza2/1958956046072.files/image445.jpg"/>
          <p:cNvPicPr/>
          <p:nvPr/>
        </p:nvPicPr>
        <p:blipFill>
          <a:blip r:embed="rId1"/>
          <a:stretch/>
        </p:blipFill>
        <p:spPr>
          <a:xfrm>
            <a:off x="4610160" y="4049640"/>
            <a:ext cx="3916440" cy="23954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1061280" y="6137280"/>
            <a:ext cx="31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исунок 5.2 – Установочные пласт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A49D-CB7C-4B2C-8277-D14EDB6C4C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228600" y="1371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ую необработанную поверхность деталей лучше всего устанавливат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 три опорных шты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акая установка позволяет выбрать для опор те места поверхности, которые смогут обеспечить наиболее точное положение устанавливаемой дета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8A00-CA17-4327-967C-F1352B7AA2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228600" y="13716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агать опорные штыри следует так, чтоб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разующийся так называемый опорный треугольник был наиболее благоприят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сходя из конфигурации и жесткости устанавливаемой заготовки, а также расположения точек приложения усилий для ее закрепления в приспособле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учшей устойчивости заготовки и уменьшения погрешности при установке желательно, чтобы опорный треугольник был по возмож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ьш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ирующие усилия для закрепления заготовки должны прилагать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еделах площади опорного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0503-9CE8-4513-8DA5-A779254498BD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1981080" y="380880"/>
            <a:ext cx="5181480" cy="533520"/>
            <a:chOff x="1981080" y="380880"/>
            <a:chExt cx="5181480" cy="533520"/>
          </a:xfrm>
        </p:grpSpPr>
        <p:sp>
          <p:nvSpPr>
            <p:cNvPr id="107" name="AutoShape 11"/>
            <p:cNvSpPr/>
            <p:nvPr/>
          </p:nvSpPr>
          <p:spPr>
            <a:xfrm>
              <a:off x="1981080" y="380880"/>
              <a:ext cx="51814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WordArt 12"/>
            <p:cNvSpPr txBox="1"/>
            <p:nvPr/>
          </p:nvSpPr>
          <p:spPr>
            <a:xfrm>
              <a:off x="2057040" y="456840"/>
              <a:ext cx="495324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Назначение и классификация опор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495360" y="108324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сновные опо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зывают элементы, лишающие заготовку при установке всех или нескольких степеней свободы и определяющие ее положение относительно рабочего инструмента. Основные опоры бывают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постоянными, регулируемыми и самоустанавливающими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спомогательные опо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спомогательными опор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называют детали или механизмы, предназначенные лишь для придания заготовке дополнительной жесткости и устойчивости в процессе обработки. Их индивидуально устанавливают по поверхности заготовки и фиксируют только после базирования заготовки на основных опорах. Вспомогательные опоры бывают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регулируемыми и самоустанавливающимис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72F8-030F-430C-9ADC-6333A0163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х случаях, когда площадь установочной поверхности заготовк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мала или устанавливаемая заготовка имеет недостаточную жестк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именять установку на три опоры не рекомендуется, лучше использовать опорные пласти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699D-1F75-42D7-AA6A-E0744C90DE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52280" y="13510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конструировании приспособления следует предусматривать возможность легкого и удобного удаления стружки с его установочных элементов. Для этого опорные поверхности установочных элементов должны располагаться выше уровня плоскости корпуса приспособления, на который они закрепл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22CB-C3D3-4279-B2F3-3162E080D8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228600" y="137160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установки в приспособлении деталей по наружным и внутренним цилиндрическим поверхностям принимаются опорные призмы, конусы, пальцы и другие установочные эле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6095880" y="2863800"/>
            <a:ext cx="24321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EA7F-3AE7-4AAD-AE3B-D632624E68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152280" y="13971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родолжени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мой в приспособлениях (рисунок 5.3) называется установочный элемент, имеющий две рабочие поверхности, расположенные под углом α. Нормативным углом призмы считают α = 90 о , хотя иногда применяют призмы с углами 60 о и 120 о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2FA3-B808-4DC2-AE81-7224CA0359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228600" y="14479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многих случаях удобно использовать для установки деталей в приспособлениях цилиндрические поверхности, расположенные в одной плоскости. Установочными элементами при этом служат так называемые «пальцы». Обычно установку производят на два пальца, так как это уже гарантирует определенное положение детали в приспособл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F8D2-57E1-4163-881C-27FF30D5D4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304920" y="1371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легчения установки деталей в приспособлении на два пальца один из них обычно имеет ромбическую форму. При этом ромбический палец закрепляется так, чтобы большая ось ромба была перпендикулярна к линии, проходящей через центры обоих паль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4F9B-7663-4478-8DF5-83F0FA7AEF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228600" y="14479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при установке деталей в приспособлении на два пальца один из них имеет ромбическую форм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числить установочные опоры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ть опору используемую для закрепления заготовки осевой форм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плоскую необработанную поверхность деталей лучше всего устанавливать на три опорные штыря? Поясн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м должен быть опорный треугольник? И для чего ? Поясн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19D0-6F14-46A9-9275-C25F5176FD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28600" y="139716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пример установки заготовки (рис.2.1) на основные и вспомогательные оп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рные точки базирования 1, 2, 3 (рис.2.1.а) лишают деталь трех степеней свободы и обеспечивают перпендикулярность оси обрабатываемого отверстия к плоскости основания заготовки; опорные точки базирования 4, 5 и 6 лишают заготовку остальных трех степеней свободы и обеспечивают положение отверстия относительно боковых поверхностей (по размерам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4041-CABB-4478-83CB-24844D38C8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2" descr="Описание: D:\15. Основы проектирования технологической оснастки\Лекции, конспекты, Пр.работы\image005 (1).png"/>
          <p:cNvPicPr/>
          <p:nvPr/>
        </p:nvPicPr>
        <p:blipFill>
          <a:blip r:embed="rId1"/>
          <a:stretch/>
        </p:blipFill>
        <p:spPr>
          <a:xfrm>
            <a:off x="152280" y="241200"/>
            <a:ext cx="883944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811-06C7-40A9-8E51-87AA52C2FD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28600" y="12952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испособлении опорные точки материализуют при помощи шести основных опор (рис.2.1, б). Заготовка лишается всех степеней свободы и перед обработкой занимает требуемое положение относительно режущего инструмента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днако в процессе обработки отверстия под действием осевой составляющей силы резания заготовка деформируется, в результате требование по расположению оси отверстия не будет выполнено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устранения этого недостатка установки вводят вспомогательную опор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ис.2.1, в), которая не участвует в базировании заготовки, но воспринимает осевую составляющую силы резания при сверлении и предотвращает деформацию загот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3415-934E-4FE3-BA31-E4E7873CCF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28600" y="1295280"/>
            <a:ext cx="876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установочным элементам предъявляют следующие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ые треб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оличество и расположение установочных элементов должны обеспечивать правильное и однообразное расположение заготовок относительно инструм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абочие поверхности установочных элементов должны быть небольших разм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Установочные элементы не должны портить базовые поверхности заготовок (особенно это относится при установке заготовки по обработанным поверхностя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Установочные элементы должны быть жесткими. Для этого необходимо повышать качество сопряжения поверхностей опоры и корпуса приспособления, применяя шабрение, притирку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B65-A5B4-4043-A040-AEE046AEB5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28600" y="1295280"/>
            <a:ext cx="876312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Рабочие поверхности установочных элементов должны обладать повышенной износостойкостью. Для этого опоры должны обладать твердостью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Р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56...6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поры небольших габаритных размеров до 16 мм изготовляют из углеродистых сталей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7А, У8А, У10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поры габаритных размеров свыше 16 мм изготовляют из сталей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0, 45, 20Х, 40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с цементацией рабочих поверхностей на глубину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0,8 – 1,2 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некоторых, особенно ответственных случаях на рабочие поверхности опор наплавляют твердый спла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Конструкция опор должна обеспечивать их быструю замену при износе или поврежд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5E65-BF05-42ED-BA16-D987F67668B5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438280" y="380880"/>
            <a:ext cx="4038840" cy="457200"/>
            <a:chOff x="2438280" y="380880"/>
            <a:chExt cx="4038840" cy="457200"/>
          </a:xfrm>
        </p:grpSpPr>
        <p:sp>
          <p:nvSpPr>
            <p:cNvPr id="123" name="AutoShape 5"/>
            <p:cNvSpPr/>
            <p:nvPr/>
          </p:nvSpPr>
          <p:spPr>
            <a:xfrm>
              <a:off x="2438280" y="380880"/>
              <a:ext cx="40388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WordArt 6"/>
            <p:cNvSpPr txBox="1"/>
            <p:nvPr/>
          </p:nvSpPr>
          <p:spPr>
            <a:xfrm>
              <a:off x="2497320" y="446040"/>
              <a:ext cx="386100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Требования к опор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5" name="Rectangle 8"/>
          <p:cNvSpPr/>
          <p:nvPr/>
        </p:nvSpPr>
        <p:spPr>
          <a:xfrm>
            <a:off x="228600" y="1294560"/>
            <a:ext cx="86104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Установочные элементы должны удовлетворять требованиям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исло и расположение опор должно обеспечивать необходимое базирование заготовки, устойчивость и жесткость её закрепл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чие поверхности опор должны быть небольших размеров при установке по черновым базам, для уменьшения влияния их неточностей на устойчивость заготов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оры не должны повреждать обработанные базы заготов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оры должны быть жесткими, иметь высокое качество сопрягаемых поверхносте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струкции опор должны обеспечивать быструю их замену при износе или поврежден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чие поверхности опор должны обладать высокой износостойкость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v</dc:creator>
  <dc:description/>
  <dc:language>en-US</dc:language>
  <cp:lastModifiedBy>iav</cp:lastModifiedBy>
  <dcterms:modified xsi:type="dcterms:W3CDTF">2022-09-22T12:25:48Z</dcterms:modified>
  <cp:revision>2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