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60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30760" y="0"/>
            <a:ext cx="29304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7560" y="741240"/>
            <a:ext cx="4946760" cy="371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b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397800"/>
            <a:ext cx="2930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30760" y="9397800"/>
            <a:ext cx="29304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4F65-4794-467F-9156-D94F1B2468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1623-3D89-4255-A382-2681AEFC09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93A9-53D8-4995-AF75-1668A73710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E39E-3708-4AC2-8C0D-87AACECEB5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16B5-A636-4296-9ADB-BE42829165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0DCE-872E-414F-89C9-A580534293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FFF2-E815-41A1-AC22-4296D2B133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70D1-D52D-4DBC-A2D4-825AB83787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5F1B-AA43-487B-AAFD-A40B0E5CE3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6F68-F8E9-4DF9-B0C7-4F0B76C589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25A8-A43D-49BB-8E8F-9DABFD0438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314F-C9F2-4474-80C7-C6A420C102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26D0-2585-49DF-894A-AB82DD443D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2012-4173-4E7D-B154-E83E7D2757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5C21-DBCA-43D8-AA13-0CD3307E42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EEED-2BEC-4EF8-AF35-C2F186D488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792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1440" y="4698720"/>
            <a:ext cx="49575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30760" y="9398160"/>
            <a:ext cx="2930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B77B-CD90-4598-A1D7-776C1CB86E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B65-6484-4EA0-B4B9-C1D32121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678-D305-4283-ABA7-7CEC4C4C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06E0-211E-43A6-BDC8-9705CA15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944-05C5-4C6C-941F-E6559B8D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D7F-E5CB-478B-90D3-7D84C3C6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B121-2151-440A-80FA-02EAB997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EA36-5ABE-47C7-A5D8-42B25D2B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2A4-8C62-4A84-8F38-F35C7773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BD1-7463-45C3-86AA-2E1646EB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34E-3D49-43D4-A11D-684E53E1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EE8-295F-4440-9590-619A89C0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B33-8E5E-4A62-9735-118F3F09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"/>
          <p:cNvGraphicFramePr/>
          <p:nvPr/>
        </p:nvGraphicFramePr>
        <p:xfrm>
          <a:off x="0" y="0"/>
          <a:ext cx="91440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b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3b3b3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3b3b3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3b3b3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3b3b3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4C33-90F3-46E0-AE4E-DE3A3CC7B2A0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99AB-FF78-43FE-A9EA-FDB6DDFBA14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440" y="99072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13"/>
          <p:cNvGraphicFramePr/>
          <p:nvPr/>
        </p:nvGraphicFramePr>
        <p:xfrm>
          <a:off x="0" y="2362320"/>
          <a:ext cx="9144000" cy="16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362320"/>
                    <a:ext cx="91440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Rectangle 8"/>
          <p:cNvSpPr/>
          <p:nvPr/>
        </p:nvSpPr>
        <p:spPr>
          <a:xfrm>
            <a:off x="1440" y="4027320"/>
            <a:ext cx="9142560" cy="1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440" y="2220840"/>
            <a:ext cx="914256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b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b3b3b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b3b3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3b3b3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3b3b3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3b3b3b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3b3b3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3b3b3b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szitcom.ru/elementy-prisposobleniy-dlya-ustanovki-zagotovki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16"/>
          <p:cNvSpPr/>
          <p:nvPr/>
        </p:nvSpPr>
        <p:spPr>
          <a:xfrm>
            <a:off x="2133720" y="4430880"/>
            <a:ext cx="5181480" cy="1523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WordArt 17" descr=""/>
          <p:cNvPicPr/>
          <p:nvPr/>
        </p:nvPicPr>
        <p:blipFill>
          <a:blip r:embed="rId1"/>
          <a:stretch/>
        </p:blipFill>
        <p:spPr>
          <a:xfrm>
            <a:off x="237960" y="2030400"/>
            <a:ext cx="8643960" cy="149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380880" y="4729320"/>
            <a:ext cx="84582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 А.В. – преподаватель спецдисципл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8458200" y="609768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83EC-4DFE-4200-892D-42AA601C06CA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1981080" y="228600"/>
            <a:ext cx="5562360" cy="533520"/>
            <a:chOff x="1981080" y="228600"/>
            <a:chExt cx="5562360" cy="533520"/>
          </a:xfrm>
        </p:grpSpPr>
        <p:sp>
          <p:nvSpPr>
            <p:cNvPr id="129" name="AutoShape 5"/>
            <p:cNvSpPr/>
            <p:nvPr/>
          </p:nvSpPr>
          <p:spPr>
            <a:xfrm>
              <a:off x="1981080" y="228600"/>
              <a:ext cx="556236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WordArt 6"/>
            <p:cNvSpPr txBox="1"/>
            <p:nvPr/>
          </p:nvSpPr>
          <p:spPr>
            <a:xfrm>
              <a:off x="2062440" y="304560"/>
              <a:ext cx="531756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плоским база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1" name="Rectangle 7"/>
          <p:cNvSpPr/>
          <p:nvPr/>
        </p:nvSpPr>
        <p:spPr>
          <a:xfrm>
            <a:off x="533520" y="1393560"/>
            <a:ext cx="8001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сновные опор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орные шты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орные пласт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орные шай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спомогательных опоры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оустанавливающиеся опо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быстродействующие, с возможностью одновременного стопорения нескольких опор одним приводо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водимые опор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пособны выдержать значительные нагрузки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8458200" y="609768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915F-883E-484D-829B-C71A682EE155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2286000" y="304920"/>
            <a:ext cx="4952880" cy="457200"/>
            <a:chOff x="2286000" y="304920"/>
            <a:chExt cx="4952880" cy="457200"/>
          </a:xfrm>
        </p:grpSpPr>
        <p:sp>
          <p:nvSpPr>
            <p:cNvPr id="135" name="AutoShape 5"/>
            <p:cNvSpPr/>
            <p:nvPr/>
          </p:nvSpPr>
          <p:spPr>
            <a:xfrm>
              <a:off x="2286000" y="304920"/>
              <a:ext cx="49528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WordArt 6"/>
            <p:cNvSpPr txBox="1"/>
            <p:nvPr/>
          </p:nvSpPr>
          <p:spPr>
            <a:xfrm>
              <a:off x="2358360" y="370080"/>
              <a:ext cx="4734720" cy="30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плоским база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37" name="Picture 8" descr="3_6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18687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457200" y="3658680"/>
            <a:ext cx="838188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Опорные штыри (ГОСТ 13440-68, ГОСТ 13441-68, ГОСТ 13442-68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с плоской головкой для установки детали по обработанной поверхност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со сферической головкой для установки детали по необработанным поверхностям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с насечкой для установки детали по необработанным поверхностям и чугунных деталей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опорный штырь, установленный в стальную закаленную переходную втулку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8686800" y="624996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E0CE-9577-4A23-A834-9F6456EAE589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2133720" y="304920"/>
            <a:ext cx="4952880" cy="457200"/>
            <a:chOff x="2133720" y="304920"/>
            <a:chExt cx="4952880" cy="457200"/>
          </a:xfrm>
        </p:grpSpPr>
        <p:sp>
          <p:nvSpPr>
            <p:cNvPr id="142" name="AutoShape 5"/>
            <p:cNvSpPr/>
            <p:nvPr/>
          </p:nvSpPr>
          <p:spPr>
            <a:xfrm>
              <a:off x="2133720" y="304920"/>
              <a:ext cx="49528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WordArt 6"/>
            <p:cNvSpPr txBox="1"/>
            <p:nvPr/>
          </p:nvSpPr>
          <p:spPr>
            <a:xfrm>
              <a:off x="2206080" y="370080"/>
              <a:ext cx="4734720" cy="30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плоским база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44" name="Picture 41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200400" y="1295280"/>
            <a:ext cx="2584440" cy="3429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2"/>
          <p:cNvSpPr/>
          <p:nvPr/>
        </p:nvSpPr>
        <p:spPr>
          <a:xfrm>
            <a:off x="76320" y="4827600"/>
            <a:ext cx="89913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Times New Roman"/>
              </a:rPr>
              <a:t>Опорные пластины двух типов ГОСТ 4743-68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Times New Roman"/>
              </a:rPr>
              <a:t>а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– плоские  для установки заготовок с обработанными базами больших размеров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Times New Roman"/>
              </a:rPr>
              <a:t>б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- с наклонными пазами для размещения в пазах стружки (размещаются горизонтально)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8686800" y="624996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ECED-8047-4257-9BB7-971FE48D5E17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2057400" y="304920"/>
            <a:ext cx="4876920" cy="457200"/>
            <a:chOff x="2057400" y="304920"/>
            <a:chExt cx="4876920" cy="457200"/>
          </a:xfrm>
        </p:grpSpPr>
        <p:sp>
          <p:nvSpPr>
            <p:cNvPr id="149" name="AutoShape 5"/>
            <p:cNvSpPr/>
            <p:nvPr/>
          </p:nvSpPr>
          <p:spPr>
            <a:xfrm>
              <a:off x="2057400" y="304920"/>
              <a:ext cx="48769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WordArt 6"/>
            <p:cNvSpPr txBox="1"/>
            <p:nvPr/>
          </p:nvSpPr>
          <p:spPr>
            <a:xfrm>
              <a:off x="2128680" y="370080"/>
              <a:ext cx="4662000" cy="30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плоским база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51" name="Picture 26" descr="3_5"/>
          <p:cNvPicPr/>
          <p:nvPr/>
        </p:nvPicPr>
        <p:blipFill>
          <a:blip r:embed="rId1"/>
          <a:stretch/>
        </p:blipFill>
        <p:spPr>
          <a:xfrm>
            <a:off x="1143000" y="1600200"/>
            <a:ext cx="7162920" cy="28209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7"/>
          <p:cNvSpPr/>
          <p:nvPr/>
        </p:nvSpPr>
        <p:spPr>
          <a:xfrm>
            <a:off x="1254240" y="4723920"/>
            <a:ext cx="70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Регулируемые винтовые опоры по ГОСТ 4085-68 и ГОСТ 4086-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1 - регулируемый вин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омер слайда 6"/>
          <p:cNvSpPr/>
          <p:nvPr/>
        </p:nvSpPr>
        <p:spPr>
          <a:xfrm>
            <a:off x="8686800" y="632916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B842-F4E9-4716-983B-2E65AF251163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2209680" y="228600"/>
            <a:ext cx="5257440" cy="533520"/>
            <a:chOff x="2209680" y="228600"/>
            <a:chExt cx="5257440" cy="533520"/>
          </a:xfrm>
        </p:grpSpPr>
        <p:sp>
          <p:nvSpPr>
            <p:cNvPr id="156" name="AutoShape 5"/>
            <p:cNvSpPr/>
            <p:nvPr/>
          </p:nvSpPr>
          <p:spPr>
            <a:xfrm>
              <a:off x="2209680" y="228600"/>
              <a:ext cx="525744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WordArt 6"/>
            <p:cNvSpPr txBox="1"/>
            <p:nvPr/>
          </p:nvSpPr>
          <p:spPr>
            <a:xfrm>
              <a:off x="2286720" y="304560"/>
              <a:ext cx="502596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плоским база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8" name="Rectangle 9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1" descr="3_7"/>
          <p:cNvPicPr/>
          <p:nvPr/>
        </p:nvPicPr>
        <p:blipFill>
          <a:blip r:embed="rId1"/>
          <a:stretch/>
        </p:blipFill>
        <p:spPr>
          <a:xfrm>
            <a:off x="2286000" y="1295280"/>
            <a:ext cx="4191120" cy="40561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2"/>
          <p:cNvSpPr/>
          <p:nvPr/>
        </p:nvSpPr>
        <p:spPr>
          <a:xfrm>
            <a:off x="982080" y="5439960"/>
            <a:ext cx="745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амоустанавливающаяся одноточечная оп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1 - рукоятка; 2 - обрабатываемая деталь;  3, 6 - винты; 4, 5 - пальцы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, 8 - плунжеры; 8 - пружин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6"/>
          <p:cNvSpPr/>
          <p:nvPr/>
        </p:nvSpPr>
        <p:spPr>
          <a:xfrm>
            <a:off x="8686800" y="632916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581D-4BF5-4E75-9824-892C5C3605D6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2133720" y="228600"/>
            <a:ext cx="5029200" cy="457200"/>
            <a:chOff x="2133720" y="228600"/>
            <a:chExt cx="5029200" cy="457200"/>
          </a:xfrm>
        </p:grpSpPr>
        <p:sp>
          <p:nvSpPr>
            <p:cNvPr id="165" name="AutoShape 11"/>
            <p:cNvSpPr/>
            <p:nvPr/>
          </p:nvSpPr>
          <p:spPr>
            <a:xfrm>
              <a:off x="2133720" y="228600"/>
              <a:ext cx="50292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WordArt 12"/>
            <p:cNvSpPr txBox="1"/>
            <p:nvPr/>
          </p:nvSpPr>
          <p:spPr>
            <a:xfrm>
              <a:off x="2207160" y="293760"/>
              <a:ext cx="4807440" cy="30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плоским база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67" name="Picture 13" descr="3_8"/>
          <p:cNvPicPr/>
          <p:nvPr/>
        </p:nvPicPr>
        <p:blipFill>
          <a:blip r:embed="rId1"/>
          <a:stretch/>
        </p:blipFill>
        <p:spPr>
          <a:xfrm>
            <a:off x="2895480" y="1295280"/>
            <a:ext cx="3432240" cy="39625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4"/>
          <p:cNvSpPr/>
          <p:nvPr/>
        </p:nvSpPr>
        <p:spPr>
          <a:xfrm>
            <a:off x="609480" y="5409720"/>
            <a:ext cx="827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одводимая одноточечная клиновая опо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1 - обрабатываемая деталь; 2 - регулируемый винт; 3 - плунжер; 4 - шпонк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 - клин; 6 - винт; 7 - рукоятк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6"/>
          <p:cNvSpPr/>
          <p:nvPr/>
        </p:nvSpPr>
        <p:spPr>
          <a:xfrm>
            <a:off x="8534520" y="6330960"/>
            <a:ext cx="45720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C7E7-25F8-4C12-A5A8-EAD03ED7D800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10"/>
          <p:cNvGrpSpPr/>
          <p:nvPr/>
        </p:nvGrpSpPr>
        <p:grpSpPr>
          <a:xfrm>
            <a:off x="1066680" y="304920"/>
            <a:ext cx="7314840" cy="533160"/>
            <a:chOff x="1066680" y="304920"/>
            <a:chExt cx="7314840" cy="533160"/>
          </a:xfrm>
        </p:grpSpPr>
        <p:sp>
          <p:nvSpPr>
            <p:cNvPr id="173" name="AutoShape 11"/>
            <p:cNvSpPr/>
            <p:nvPr/>
          </p:nvSpPr>
          <p:spPr>
            <a:xfrm>
              <a:off x="1066680" y="304920"/>
              <a:ext cx="7314840" cy="53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WordArt 12"/>
            <p:cNvSpPr txBox="1"/>
            <p:nvPr/>
          </p:nvSpPr>
          <p:spPr>
            <a:xfrm>
              <a:off x="1173600" y="380880"/>
              <a:ext cx="699264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наружным цилиндрическим поверхностя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5" name="Rectangle 13"/>
          <p:cNvSpPr/>
          <p:nvPr/>
        </p:nvSpPr>
        <p:spPr>
          <a:xfrm>
            <a:off x="495360" y="1541880"/>
            <a:ext cx="8458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поры при базировании по наружной цилиндрической поверхност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728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змы (используются наиболее часто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728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тул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риспособлениях используют призмы с углами α, равными 60, 90 и 120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ибольшее распространение получили призмы с α = 90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змы с α = 120° применяют, когда заготовка не имеет полной цилиндрической поверхности и по небольшой дуге окружности нужно определить положение оси детали. Заготовка, помещенная на таких призмах, имеет небольшую устойчивос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змы с углом α = 60° применяют для повышения устойчивости заготовки в том случае, когда имеются значительные силы резания, действующие параллельно основанию приз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6"/>
          <p:cNvSpPr/>
          <p:nvPr/>
        </p:nvSpPr>
        <p:spPr>
          <a:xfrm>
            <a:off x="8534520" y="6330960"/>
            <a:ext cx="45720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DEAE-A40F-4565-B8E2-3BC461336211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533520" y="5639040"/>
            <a:ext cx="31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Призма ГОСТ 12195-6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28530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0"/>
          <p:cNvGrpSpPr/>
          <p:nvPr/>
        </p:nvGrpSpPr>
        <p:grpSpPr>
          <a:xfrm>
            <a:off x="1447920" y="228600"/>
            <a:ext cx="6400440" cy="533520"/>
            <a:chOff x="1447920" y="228600"/>
            <a:chExt cx="6400440" cy="533520"/>
          </a:xfrm>
        </p:grpSpPr>
        <p:sp>
          <p:nvSpPr>
            <p:cNvPr id="182" name="AutoShape 11"/>
            <p:cNvSpPr/>
            <p:nvPr/>
          </p:nvSpPr>
          <p:spPr>
            <a:xfrm>
              <a:off x="1447920" y="228600"/>
              <a:ext cx="640044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WordArt 12"/>
            <p:cNvSpPr txBox="1"/>
            <p:nvPr/>
          </p:nvSpPr>
          <p:spPr>
            <a:xfrm>
              <a:off x="1541520" y="304560"/>
              <a:ext cx="611856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цилиндрическим поверхностя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84" name="Rectangle 8"/>
          <p:cNvSpPr/>
          <p:nvPr/>
        </p:nvSpPr>
        <p:spPr>
          <a:xfrm>
            <a:off x="3886200" y="35848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 установке заготовок с чисто обработанными базами применяют призмы с широкими опорными поверхностями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6"/>
          <p:cNvSpPr/>
          <p:nvPr/>
        </p:nvSpPr>
        <p:spPr>
          <a:xfrm>
            <a:off x="8534520" y="6330960"/>
            <a:ext cx="45720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0D04-15D6-4EB1-9BCD-238B829ECC85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762120" y="1332000"/>
            <a:ext cx="3346200" cy="51814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"/>
          <p:cNvSpPr/>
          <p:nvPr/>
        </p:nvSpPr>
        <p:spPr>
          <a:xfrm>
            <a:off x="4281480" y="1878840"/>
            <a:ext cx="448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установки по черновым базам применяют точечные опоры, запрессованные в рабочие поверхности призмы. При установке длинных заготовок применяют призмы с выемкой или две соосно установленные призмы, которые после установки на корпусе шлифуют одновременно по рабочим плоскостям для достижения соосности и равновысотности технологической базы, занимают в призме устойчивое и определенное полож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1219320" y="257040"/>
            <a:ext cx="7086240" cy="533520"/>
            <a:chOff x="1219320" y="257040"/>
            <a:chExt cx="7086240" cy="533520"/>
          </a:xfrm>
        </p:grpSpPr>
        <p:sp>
          <p:nvSpPr>
            <p:cNvPr id="191" name="AutoShape 11"/>
            <p:cNvSpPr/>
            <p:nvPr/>
          </p:nvSpPr>
          <p:spPr>
            <a:xfrm>
              <a:off x="1219320" y="257040"/>
              <a:ext cx="708624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WordArt 12"/>
            <p:cNvSpPr txBox="1"/>
            <p:nvPr/>
          </p:nvSpPr>
          <p:spPr>
            <a:xfrm>
              <a:off x="1323000" y="333000"/>
              <a:ext cx="677412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наружным цилиндрическим поверхностя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6"/>
          <p:cNvSpPr/>
          <p:nvPr/>
        </p:nvSpPr>
        <p:spPr>
          <a:xfrm>
            <a:off x="8534520" y="6330960"/>
            <a:ext cx="45720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2EA0-9EBC-4857-8938-5AA35A92F201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0"/>
          <p:cNvGrpSpPr/>
          <p:nvPr/>
        </p:nvGrpSpPr>
        <p:grpSpPr>
          <a:xfrm>
            <a:off x="1447920" y="228600"/>
            <a:ext cx="6400440" cy="533520"/>
            <a:chOff x="1447920" y="228600"/>
            <a:chExt cx="6400440" cy="533520"/>
          </a:xfrm>
        </p:grpSpPr>
        <p:sp>
          <p:nvSpPr>
            <p:cNvPr id="197" name="AutoShape 11"/>
            <p:cNvSpPr/>
            <p:nvPr/>
          </p:nvSpPr>
          <p:spPr>
            <a:xfrm>
              <a:off x="1447920" y="228600"/>
              <a:ext cx="640044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WordArt 12"/>
            <p:cNvSpPr txBox="1"/>
            <p:nvPr/>
          </p:nvSpPr>
          <p:spPr>
            <a:xfrm>
              <a:off x="2438280" y="304560"/>
              <a:ext cx="441972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отверстию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9" name="Rectangle 13"/>
          <p:cNvSpPr/>
          <p:nvPr/>
        </p:nvSpPr>
        <p:spPr>
          <a:xfrm>
            <a:off x="871560" y="1390320"/>
            <a:ext cx="7696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Опоры при базировании заготовок по отверстию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аль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ав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руктивно оправки делят н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жестк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­жимны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цанговые, гидропластные, тарельчатые и др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авки обычно устанавливаются в центрах или шпинделе стан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Жесткие оправки могут быть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иче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илиндрические для посадки заготовок с гарантированным натяг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илиндрические для посадки заготовок с гарантированным зазор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6"/>
          <p:cNvSpPr/>
          <p:nvPr/>
        </p:nvSpPr>
        <p:spPr>
          <a:xfrm>
            <a:off x="8458200" y="609768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675F-9182-4FCB-816C-290C646E381D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1981080" y="380880"/>
            <a:ext cx="5181480" cy="533520"/>
            <a:chOff x="1981080" y="380880"/>
            <a:chExt cx="5181480" cy="533520"/>
          </a:xfrm>
        </p:grpSpPr>
        <p:sp>
          <p:nvSpPr>
            <p:cNvPr id="100" name="AutoShape 11"/>
            <p:cNvSpPr/>
            <p:nvPr/>
          </p:nvSpPr>
          <p:spPr>
            <a:xfrm>
              <a:off x="1981080" y="380880"/>
              <a:ext cx="518148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WordArt 12"/>
            <p:cNvSpPr txBox="1"/>
            <p:nvPr/>
          </p:nvSpPr>
          <p:spPr>
            <a:xfrm>
              <a:off x="2057040" y="456840"/>
              <a:ext cx="495324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Назначение и классификация опор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2" name="Rectangle 13"/>
          <p:cNvSpPr/>
          <p:nvPr/>
        </p:nvSpPr>
        <p:spPr>
          <a:xfrm>
            <a:off x="533520" y="147744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становочными элементами (опорами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называют детали и механизмы приспособлений, обеспечивающие правильное и однообразное расположение обрабатываемых деталей относительно инструмен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9" descr=""/>
          <p:cNvPicPr/>
          <p:nvPr/>
        </p:nvPicPr>
        <p:blipFill>
          <a:blip r:embed="rId1">
            <a:lum contrast="48000"/>
          </a:blip>
          <a:srcRect l="0" t="0" r="-9792" b="-16706"/>
          <a:stretch/>
        </p:blipFill>
        <p:spPr>
          <a:xfrm>
            <a:off x="2895480" y="3581280"/>
            <a:ext cx="365760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6"/>
          <p:cNvSpPr/>
          <p:nvPr/>
        </p:nvSpPr>
        <p:spPr>
          <a:xfrm>
            <a:off x="8534520" y="6330960"/>
            <a:ext cx="45720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7FA4-679E-4729-A175-BF399C8DB5F0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5410080" cy="3235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8"/>
          <p:cNvSpPr/>
          <p:nvPr/>
        </p:nvSpPr>
        <p:spPr>
          <a:xfrm>
            <a:off x="309600" y="5008680"/>
            <a:ext cx="8480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619280" indent="-1619280" algn="ctr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Установочные пальцы приспособлений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 - постоянные цилиндрические ГОСТ 12209-66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619280" indent="-1619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 - сменные цилиндрические ГОСТ 12211-66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 - постоянные срезанные ГОСТ 12210-66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10"/>
          <p:cNvGrpSpPr/>
          <p:nvPr/>
        </p:nvGrpSpPr>
        <p:grpSpPr>
          <a:xfrm>
            <a:off x="1447920" y="228600"/>
            <a:ext cx="6400440" cy="533520"/>
            <a:chOff x="1447920" y="228600"/>
            <a:chExt cx="6400440" cy="533520"/>
          </a:xfrm>
        </p:grpSpPr>
        <p:sp>
          <p:nvSpPr>
            <p:cNvPr id="206" name="AutoShape 11"/>
            <p:cNvSpPr/>
            <p:nvPr/>
          </p:nvSpPr>
          <p:spPr>
            <a:xfrm>
              <a:off x="1447920" y="228600"/>
              <a:ext cx="640044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WordArt 12"/>
            <p:cNvSpPr txBox="1"/>
            <p:nvPr/>
          </p:nvSpPr>
          <p:spPr>
            <a:xfrm>
              <a:off x="2438280" y="304560"/>
              <a:ext cx="441972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отверстию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6"/>
          <p:cNvSpPr/>
          <p:nvPr/>
        </p:nvSpPr>
        <p:spPr>
          <a:xfrm>
            <a:off x="8534520" y="6330960"/>
            <a:ext cx="45720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7881-73DE-4197-BB92-4A635BE52E04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181840" cy="30225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0"/>
          <p:cNvSpPr/>
          <p:nvPr/>
        </p:nvSpPr>
        <p:spPr>
          <a:xfrm>
            <a:off x="152280" y="4205520"/>
            <a:ext cx="883944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Times New Roman"/>
              </a:rPr>
              <a:t>Центровые оправки для установки цилиндрических заготовок в центрах на токарном станке: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а - конусная для высокой точности центрирования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б - оправка для установки заготовки с гарантированным зазором;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в - оправка под запрессовку.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Условные обозначения: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тр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момент трения, М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рез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момент резания, Р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сдвигающая сила (сила сопротивления подаче);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г - расположение полей допусков соединения оправка-заготовка.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Условные обозначения: d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изн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допуск на износ оправки; d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изг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допуск на изготовление оправки;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mim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зазор между деталью и оправкой; d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допуск на отверстие; d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диаметр отверстия;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- диаметр вала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1995480" y="276120"/>
            <a:ext cx="5181480" cy="533520"/>
            <a:chOff x="1995480" y="276120"/>
            <a:chExt cx="5181480" cy="533520"/>
          </a:xfrm>
        </p:grpSpPr>
        <p:sp>
          <p:nvSpPr>
            <p:cNvPr id="214" name="AutoShape 11"/>
            <p:cNvSpPr/>
            <p:nvPr/>
          </p:nvSpPr>
          <p:spPr>
            <a:xfrm>
              <a:off x="1995480" y="276120"/>
              <a:ext cx="518148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WordArt 12"/>
            <p:cNvSpPr txBox="1"/>
            <p:nvPr/>
          </p:nvSpPr>
          <p:spPr>
            <a:xfrm>
              <a:off x="2071440" y="352080"/>
              <a:ext cx="495324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Установка заготовок по отверстию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3FA8-EF5A-4612-93A0-DC476A6979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914400" y="114300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лементы приспособлений для установки заготов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8c3"/>
                </a:solidFill>
                <a:uFillTx/>
                <a:latin typeface="Times New Roman"/>
                <a:hlinkClick r:id="rId1"/>
              </a:rPr>
              <a:t>https://szitcom.ru/elementy-prisposobleniy-dlya-ustanovki-zagotovk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очные элементы приспособл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2BE7-DDF2-431C-B719-63F8137F46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304920" y="137160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ение детали в приспособлении определяется опорами, на которые заготовка устанавливается, а затем прижимается при ее закреплении. Опорами могут служить установочные штыри, пластины, призмы, пальцы и другие дета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оугольник 3"/>
          <p:cNvSpPr/>
          <p:nvPr/>
        </p:nvSpPr>
        <p:spPr>
          <a:xfrm>
            <a:off x="304920" y="373392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ы, форма и основные технические условия на изготовление определены ГОСТами: на штыри — ГОСТ 13440-68; пластины — ГОСТ 4743-68; призмы — ГОСТ 12193-66 – 12197-6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6D34-7A79-4971-BCF3-7314FB134A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157320" y="1371600"/>
            <a:ext cx="8686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чая поверхность опор должна обладать высокой износостойкостью, поэтому штыри, пластины и другие опоры изготовляют из сталей 15 и 20 с цементацией рабочей поверхности на глубину 0,8-1,2 мм и с последующей закалкой и отпуском до твердости HRC 55-60. Допускается изготовление опор из стали 45 с твердостью после термообработки HRC 40-45. Несущая поверхность опор шлифуется до Ra 0,4-0,32 шероховатости по ГОСТ 2789-73. Шлифование несущих поверхностей штырей производится после их запрессовки, чтобы обеспечить необходимую плоскостность, в связи с этим оставляют припуск 0,2-0,3 м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09BC-02F2-4C59-94BF-1A7EA1BBE5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змы чаще всего изготовляют из стали 20Х с цементацией на глубину 0,8-1,2 мм и последующей закалкой. К корпусу приспособления их крепят при помощи винтов с фиксацией контрольными штифт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Прямоугольник 3"/>
          <p:cNvSpPr/>
          <p:nvPr/>
        </p:nvSpPr>
        <p:spPr>
          <a:xfrm>
            <a:off x="228600" y="3463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тех или иных конструкций опор определяется в основном формой поверхности детали, ее точностью, размер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8816-0F31-4552-91B3-FDD056EFB0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оугольник 2"/>
          <p:cNvSpPr/>
          <p:nvPr/>
        </p:nvSpPr>
        <p:spPr>
          <a:xfrm>
            <a:off x="152280" y="12952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установки заготовок в приспособлении с плоскими поверхностями рекомендуется использовать в качестве опор штыри и пластинки (рисунок 5.1 и 5.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Рисунок 3" descr="https://ok-t.ru/studopediaru/baza2/1958956046072.files/image443.jpg"/>
          <p:cNvPicPr/>
          <p:nvPr/>
        </p:nvPicPr>
        <p:blipFill>
          <a:blip r:embed="rId1"/>
          <a:stretch/>
        </p:blipFill>
        <p:spPr>
          <a:xfrm>
            <a:off x="2127240" y="3011400"/>
            <a:ext cx="4889520" cy="14083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177840" y="4572000"/>
            <a:ext cx="883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исунок 5.1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очные штыр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тыри выполняются с плоской, сферической или насеченной головкой ( рисунок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ельные диаметры стандартных штырей — 3-24 мм; диаметры головок — 5-40 мм; высота низких головок Н = 2-20 мм; высоких Н = 5-40 мм. Общая длина штырей с низкими головками L = 6-50 мм; с высокими L = 9-70 м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FA26-A680-4DFF-A882-E3B0814DD0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228600" y="1371600"/>
            <a:ext cx="876312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рстия под штыри в корпусе приспособления выполняются сквозными; сопряжение штырей с отверсти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ы стандартных пластин рисунок 5.2 находятся в пределах: ширина В = 12-35 мм; длина L = 40-210 мм; высота Н = 8-25 мм; h = 4-13 мм; 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= 0,8-3,0 мм; В = 9-22 мм; d = 6-13 мм; d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= 8,8-20 мм; С = 10-35 мм;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= 20-60 м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Рисунок 3" descr="https://ok-t.ru/studopediaru/baza2/1958956046072.files/image445.jpg"/>
          <p:cNvPicPr/>
          <p:nvPr/>
        </p:nvPicPr>
        <p:blipFill>
          <a:blip r:embed="rId1"/>
          <a:stretch/>
        </p:blipFill>
        <p:spPr>
          <a:xfrm>
            <a:off x="4610160" y="4049640"/>
            <a:ext cx="3916440" cy="239544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1061280" y="6137280"/>
            <a:ext cx="31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исунок 5.2 – Установочные пласти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3F2C-AB21-48C7-9451-6C7F8AB14E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228600" y="13716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ую необработанную поверхность деталей лучше всего устанавливать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 три опорных шты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Такая установка позволяет выбрать для опор те места поверхности, которые смогут обеспечить наиболее точное положение устанавливаемой дета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C718-85B3-4E52-A6BE-359F898C2A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228600" y="13716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родолжени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олагать опорные штыри следует так, чтобы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бразующийся так называемый опорный треугольник был наиболее благоприят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исходя из конфигурации и жесткости устанавливаемой заготовки, а также расположения точек приложения усилий для ее закрепления в приспособлен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лучшей устойчивости заготовки и уменьшения погрешности при установке желательно, чтобы опорный треугольник был по возмож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ибольш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ирующие усилия для закрепления заготовки должны прилагать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ределах площади опорного треуголь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6"/>
          <p:cNvSpPr/>
          <p:nvPr/>
        </p:nvSpPr>
        <p:spPr>
          <a:xfrm>
            <a:off x="8458200" y="609768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F4B8-8E07-455C-8045-ABB77414816D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1981080" y="380880"/>
            <a:ext cx="5181480" cy="533520"/>
            <a:chOff x="1981080" y="380880"/>
            <a:chExt cx="5181480" cy="533520"/>
          </a:xfrm>
        </p:grpSpPr>
        <p:sp>
          <p:nvSpPr>
            <p:cNvPr id="107" name="AutoShape 11"/>
            <p:cNvSpPr/>
            <p:nvPr/>
          </p:nvSpPr>
          <p:spPr>
            <a:xfrm>
              <a:off x="1981080" y="380880"/>
              <a:ext cx="5181480" cy="53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WordArt 12"/>
            <p:cNvSpPr txBox="1"/>
            <p:nvPr/>
          </p:nvSpPr>
          <p:spPr>
            <a:xfrm>
              <a:off x="2057040" y="456840"/>
              <a:ext cx="4953240" cy="352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Назначение и классификация опор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9" name="Rectangle 13"/>
          <p:cNvSpPr/>
          <p:nvPr/>
        </p:nvSpPr>
        <p:spPr>
          <a:xfrm>
            <a:off x="495360" y="108324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Основные опо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зывают элементы, лишающие заготовку при установке всех или нескольких степеней свободы и определяющие ее положение относительно рабочего инструмента. Основные опоры бывают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постоянными, регулируемыми и самоустанавливающими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спомогательные опор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спомогательными опор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называют детали или механизмы, предназначенные лишь для придания заготовке дополнительной жесткости и устойчивости в процессе обработки. Их индивидуально устанавливают по поверхности заготовки и фиксируют только после базирования заготовки на основных опорах. Вспомогательные опоры бывают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регулируемыми и самоустанавливающимис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E658-9248-41EF-971E-0C9EC51C7E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х случаях, когда площадь установочной поверхности заготовки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мала или устанавливаемая заготовка имеет недостаточную жестк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рименять установку на три опоры не рекомендуется, лучше использовать опорные пластин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E798-E634-4829-8F5F-2493DEB137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152280" y="135108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конструировании приспособления следует предусматривать возможность легкого и удобного удаления стружки с его установочных элементов. Для этого опорные поверхности установочных элементов должны располагаться выше уровня плоскости корпуса приспособления, на который они закрепле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B818-024F-4076-BA27-91FA3F65C0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228600" y="137160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установки в приспособлении деталей по наружным и внутренним цилиндрическим поверхностям принимаются опорные призмы, конусы, пальцы и другие установочные элемен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1"/>
          <a:stretch/>
        </p:blipFill>
        <p:spPr>
          <a:xfrm>
            <a:off x="6095880" y="2863800"/>
            <a:ext cx="243216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866B-07B4-4A7E-8DFA-757C2C4030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152280" y="13971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родолжени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змой в приспособлениях (рисунок 5.3) называется установочный элемент, имеющий две рабочие поверхности, расположенные под углом α. Нормативным углом призмы считают α = 90 о , хотя иногда применяют призмы с углами 60 о и 120 о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E613-A474-4243-868F-7731157FE1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оугольник 2"/>
          <p:cNvSpPr/>
          <p:nvPr/>
        </p:nvSpPr>
        <p:spPr>
          <a:xfrm>
            <a:off x="228600" y="144792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многих случаях удобно использовать для установки деталей в приспособлениях цилиндрические поверхности, расположенные в одной плоскости. Установочными элементами при этом служат так называемые «пальцы». Обычно установку производят на два пальца, так как это уже гарантирует определенное положение детали в приспособле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EE77-82A9-4CB3-AA68-1C41F10497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304920" y="13716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легчения установки деталей в приспособлении на два пальца один из них обычно имеет ромбическую форму. При этом ромбический палец закрепляется так, чтобы большая ось ромба была перпендикулярна к линии, проходящей через центры обоих пальце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57F2-0080-4171-840D-21B6A63CE6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Прямоугольник 2"/>
          <p:cNvSpPr/>
          <p:nvPr/>
        </p:nvSpPr>
        <p:spPr>
          <a:xfrm>
            <a:off x="228600" y="144792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при установке деталей в приспособлении на два пальца один из них имеет ромбическую форм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числить установочные опоры (пример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вать опору используемую для закрепления заготовки осевой форм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плоскую необработанную поверхность деталей лучше всего устанавливать на три опорные штыря? Поясн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им должен быть опорный треугольник? И для чего ? Поясн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8390-690A-4127-BAE6-2F44108097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5"/>
          <p:cNvSpPr/>
          <p:nvPr/>
        </p:nvSpPr>
        <p:spPr>
          <a:xfrm>
            <a:off x="228600" y="139716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пример установки заготовки (рис.2.1) на основные и вспомогательные оп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орные точки базирования 1, 2, 3 (рис.2.1.а) лишают деталь трех степеней свободы и обеспечивают перпендикулярность оси обрабатываемого отверстия к плоскости основания заготовки; опорные точки базирования 4, 5 и 6 лишают заготовку остальных трех степеней свободы и обеспечивают положение отверстия относительно боковых поверхностей (по размерам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C092-DA7B-4E0C-8130-06EB345C63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Рисунок 2" descr="Описание: D:\15. Основы проектирования технологической оснастки\Лекции, конспекты, Пр.работы\image005 (1).png"/>
          <p:cNvPicPr/>
          <p:nvPr/>
        </p:nvPicPr>
        <p:blipFill>
          <a:blip r:embed="rId1"/>
          <a:stretch/>
        </p:blipFill>
        <p:spPr>
          <a:xfrm>
            <a:off x="152280" y="241200"/>
            <a:ext cx="883944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EB48-F07F-4BE6-8AE0-C5AF82F23C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228600" y="129528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испособлении опорные точки материализуют при помощи шести основных опор (рис.2.1, б). Заготовка лишается всех степеней свободы и перед обработкой занимает требуемое положение относительно режущего инструмента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днако в процессе обработки отверстия под действием осевой составляющей силы резания заготовка деформируется, в результате требование по расположению оси отверстия не будет выполнено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устранения этого недостатка установки вводят вспомогательную опор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ис.2.1, в), которая не участвует в базировании заготовки, но воспринимает осевую составляющую силы резания при сверлении и предотвращает деформацию заготов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1127-D866-4496-A3EB-9C33EEB402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28600" y="1295280"/>
            <a:ext cx="8763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установочным элементам предъявляют следующие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сновные требо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оличество и расположение установочных элементов должны обеспечивать правильное и однообразное расположение заготовок относительно инструмен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Рабочие поверхности установочных элементов должны быть небольших разме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Установочные элементы не должны портить базовые поверхности заготовок (особенно это относится при установке заготовки по обработанным поверхностям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Установочные элементы должны быть жесткими. Для этого необходимо повышать качество сопряжения поверхностей опоры и корпуса приспособления, применяя шабрение, притирку и т.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1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DEE6-01B3-46A5-862E-6FA7E54AC4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228600" y="1295280"/>
            <a:ext cx="8763120" cy="55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Рабочие поверхности установочных элементов должны обладать повышенной износостойкостью. Для этого опоры должны обладать твердостью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РС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</a:rPr>
              <a:t>э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56...6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поры небольших габаритных размеров до 16 мм изготовляют из углеродистых сталей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7А, У8А, У10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Опоры габаритных размеров свыше 16 мм изготовляют из сталей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0, 45, 20Х, 40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с цементацией рабочих поверхностей на глубину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0,8 – 1,2 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некоторых, особенно ответственных случаях на рабочие поверхности опор наплавляют твердый спла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Конструкция опор должна обеспечивать их быструю замену при износе или поврежде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8458200" y="6097680"/>
            <a:ext cx="304920" cy="366840"/>
          </a:xfrm>
          <a:prstGeom prst="rect">
            <a:avLst/>
          </a:prstGeom>
          <a:gradFill rotWithShape="0">
            <a:gsLst>
              <a:gs pos="0">
                <a:srgbClr val="32525d"/>
              </a:gs>
              <a:gs pos="100000">
                <a:srgbClr val="69a3b5"/>
              </a:gs>
            </a:gsLst>
            <a:lin ang="5400000"/>
          </a:gradFill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083E-8D06-42E6-99FC-427A3E954AC7}" type="slidenum"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6694560"/>
            <a:ext cx="9144000" cy="1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438280" y="380880"/>
            <a:ext cx="4038840" cy="457200"/>
            <a:chOff x="2438280" y="380880"/>
            <a:chExt cx="4038840" cy="457200"/>
          </a:xfrm>
        </p:grpSpPr>
        <p:sp>
          <p:nvSpPr>
            <p:cNvPr id="123" name="AutoShape 5"/>
            <p:cNvSpPr/>
            <p:nvPr/>
          </p:nvSpPr>
          <p:spPr>
            <a:xfrm>
              <a:off x="2438280" y="380880"/>
              <a:ext cx="40388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e2c32"/>
                </a:gs>
                <a:gs pos="50000">
                  <a:srgbClr val="635f6d"/>
                </a:gs>
                <a:gs pos="100000">
                  <a:srgbClr val="2e2c32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WordArt 6"/>
            <p:cNvSpPr txBox="1"/>
            <p:nvPr/>
          </p:nvSpPr>
          <p:spPr>
            <a:xfrm>
              <a:off x="2497320" y="446040"/>
              <a:ext cx="3861000" cy="30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Требования к опорам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5" name="Rectangle 8"/>
          <p:cNvSpPr/>
          <p:nvPr/>
        </p:nvSpPr>
        <p:spPr>
          <a:xfrm>
            <a:off x="228600" y="1294560"/>
            <a:ext cx="86104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Установочные элементы должны удовлетворять требованиям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исло и расположение опор должно обеспечивать необходимое базирование заготовки, устойчивость и жесткость её закрепл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бочие поверхности опор должны быть небольших размеров при установке по черновым базам, для уменьшения влияния их неточностей на устойчивость заготовк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оры не должны повреждать обработанные базы заготовк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оры должны быть жесткими, иметь высокое качество сопрягаемых поверхностей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струкции опор должны обеспечивать быструю их замену при износе или повреждени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бочие поверхности опор должны обладать высокой износостойкость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v</dc:creator>
  <dc:description/>
  <dc:language>en-US</dc:language>
  <cp:lastModifiedBy>iav</cp:lastModifiedBy>
  <dcterms:modified xsi:type="dcterms:W3CDTF">2022-09-22T12:25:48Z</dcterms:modified>
  <cp:revision>2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