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BFA-E127-465A-869B-184F85EA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A87-CEC7-4B50-B9BA-B6B60CD4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907-16C5-4CD9-91B2-6A9A5A28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902-600D-4D2E-8128-7E36B9D3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299-42B5-4710-97C0-54E66421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8A7-3016-431C-A686-FC292950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475-9CD2-49EC-BAC7-1408185C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DCE-B42C-4DBD-A4C9-18182265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931-4072-4A3B-ABC4-03574472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341-308A-415F-904F-21DA2F3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434-3A66-40D0-B9F2-443B68DD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6D4-9668-4B47-A6B3-5A0E65A7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7955-A8C1-4407-A515-28EB1E9F7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72;&#1088;&#1086;&#1085;&#1077;&#1090;" TargetMode="External"/><Relationship Id="rId2" Type="http://schemas.openxmlformats.org/officeDocument/2006/relationships/hyperlink" Target="http://ru.wikipedia.org/w/index.php?title=&#1057;&#1077;&#1084;&#1077;&#1081;&#1085;&#1072;&#1103;_&#1083;&#1077;&#1075;&#1077;&#1085;&#1076;&#1072;&amp;action=edit&amp;redlink=1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тур 'Конан Дойл- автор детективного цикла о Шерлоке Холмс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Понятие о цикле и о детективном жанр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olmes%5F-%5FPaget%5F1903%5F-%5FThe%5FEmpty%5FHouse%5F-%5FThe%5FReturn%5Fof%5FSherlock%5FHolmes"/>
          <p:cNvPicPr/>
          <p:nvPr/>
        </p:nvPicPr>
        <p:blipFill>
          <a:blip r:embed="rId1"/>
          <a:stretch/>
        </p:blipFill>
        <p:spPr>
          <a:xfrm>
            <a:off x="155520" y="46080"/>
            <a:ext cx="1724040" cy="2104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лока Холмса. Кто 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tru%2812%29"/>
          <p:cNvPicPr/>
          <p:nvPr/>
        </p:nvPicPr>
        <p:blipFill>
          <a:blip r:embed="rId1"/>
          <a:stretch/>
        </p:blipFill>
        <p:spPr>
          <a:xfrm>
            <a:off x="4572000" y="2438280"/>
            <a:ext cx="365760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ерлока Холмса. Кто 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ерлок Холмс - популярный литературный гер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ычность детект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блюдательность; н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ипи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лубина мыш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ворческая выдумка сыщ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агородство, поряд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ужество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бескорыст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рет популярности этого гер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tru%2812%29"/>
          <p:cNvPicPr/>
          <p:nvPr/>
        </p:nvPicPr>
        <p:blipFill>
          <a:blip r:embed="rId1"/>
          <a:stretch/>
        </p:blipFill>
        <p:spPr>
          <a:xfrm>
            <a:off x="4572000" y="2438280"/>
            <a:ext cx="365760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чем секрет популярности рассказов о Шерлоке Холмс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Наш друг Шерлок Холмс"/>
          <p:cNvPicPr/>
          <p:nvPr/>
        </p:nvPicPr>
        <p:blipFill>
          <a:blip r:embed="rId1"/>
          <a:stretch/>
        </p:blipFill>
        <p:spPr>
          <a:xfrm>
            <a:off x="533520" y="1981080"/>
            <a:ext cx="29178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Diagram 5"/>
          <p:cNvGrpSpPr/>
          <p:nvPr/>
        </p:nvGrpSpPr>
        <p:grpSpPr>
          <a:xfrm>
            <a:off x="2652840" y="1727280"/>
            <a:ext cx="3838320" cy="3468600"/>
            <a:chOff x="2652840" y="1727280"/>
            <a:chExt cx="3838320" cy="3468600"/>
          </a:xfrm>
        </p:grpSpPr>
        <p:sp>
          <p:nvSpPr>
            <p:cNvPr id="82" name="_s2052"/>
            <p:cNvSpPr/>
            <p:nvPr/>
          </p:nvSpPr>
          <p:spPr>
            <a:xfrm flipH="1">
              <a:off x="3647880" y="4127400"/>
              <a:ext cx="461880" cy="2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53"/>
            <p:cNvSpPr/>
            <p:nvPr/>
          </p:nvSpPr>
          <p:spPr>
            <a:xfrm>
              <a:off x="265284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54"/>
            <p:cNvSpPr/>
            <p:nvPr/>
          </p:nvSpPr>
          <p:spPr>
            <a:xfrm>
              <a:off x="5032440" y="41292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55"/>
            <p:cNvSpPr/>
            <p:nvPr/>
          </p:nvSpPr>
          <p:spPr>
            <a:xfrm>
              <a:off x="542448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56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57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58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ро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ши 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Diagram 3"/>
          <p:cNvGrpSpPr/>
          <p:nvPr/>
        </p:nvGrpSpPr>
        <p:grpSpPr>
          <a:xfrm>
            <a:off x="2652840" y="1727280"/>
            <a:ext cx="3838320" cy="3468600"/>
            <a:chOff x="2652840" y="1727280"/>
            <a:chExt cx="3838320" cy="3468600"/>
          </a:xfrm>
        </p:grpSpPr>
        <p:sp>
          <p:nvSpPr>
            <p:cNvPr id="46" name="_s1028"/>
            <p:cNvSpPr/>
            <p:nvPr/>
          </p:nvSpPr>
          <p:spPr>
            <a:xfrm flipH="1">
              <a:off x="3647880" y="4127400"/>
              <a:ext cx="461880" cy="2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29"/>
            <p:cNvSpPr/>
            <p:nvPr/>
          </p:nvSpPr>
          <p:spPr>
            <a:xfrm>
              <a:off x="265284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0"/>
            <p:cNvSpPr/>
            <p:nvPr/>
          </p:nvSpPr>
          <p:spPr>
            <a:xfrm>
              <a:off x="5032440" y="41292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1"/>
            <p:cNvSpPr/>
            <p:nvPr/>
          </p:nvSpPr>
          <p:spPr>
            <a:xfrm>
              <a:off x="542448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2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езульта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уро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ТЕКТИВ И ШЕРЛОК ХОЛМ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685800" y="195624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ольшое сердце, большого роста и с большой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ушой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жером К. Дже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какие детективы не могут сравниться в популяр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сти с детективами Конан Дойля, и следует зн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он заслужил популярность уже только за то, что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думал Шерлока Холм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Моэ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Наш друг Шерлок Холмс"/>
          <p:cNvPicPr/>
          <p:nvPr/>
        </p:nvPicPr>
        <p:blipFill>
          <a:blip r:embed="rId1"/>
          <a:stretch/>
        </p:blipFill>
        <p:spPr>
          <a:xfrm>
            <a:off x="533520" y="3809880"/>
            <a:ext cx="1743120" cy="27147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в разных источниках понятие о детективе, запишите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edium%5Fad055ccba20bdb06e402df2a48ef4225"/>
          <p:cNvPicPr/>
          <p:nvPr/>
        </p:nvPicPr>
        <p:blipFill>
          <a:blip r:embed="rId1"/>
          <a:stretch/>
        </p:blipFill>
        <p:spPr>
          <a:xfrm>
            <a:off x="1600200" y="1828800"/>
            <a:ext cx="5715000" cy="40752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в разных источниках понятие о детективе, запишите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екти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(от англ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iv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агент розыс-ка) - это разновидность приключенческой литературы ,в которой раскрывается тайна, чаще всего связанная с преступ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кл - ( от греч. - круг) связанные между  собой художественные произведения одного жанра, которые объединяются по замыслу автора в одно цел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несите стрелочками элементы композиции с композицией рассказа  «Голубой карбунку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Экспозиция.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1. Старая шляпа, (дедуктивный мето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кти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авязк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2. Необычный гусь. Нить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ступления в рука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рлока   Холм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азвитие 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3. Ш. Холмс проводит расследование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сещение лавки,              тракти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ульминац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4. «Игра проиграна, Райдер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азвитие дей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5. Исповедь преступ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азвяз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6.Ш.Холмс освобождает преступ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ишите события согласно композиционному порядку детек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877503"/>
          <p:cNvPicPr/>
          <p:nvPr/>
        </p:nvPicPr>
        <p:blipFill>
          <a:blip r:embed="rId1"/>
          <a:stretch/>
        </p:blipFill>
        <p:spPr>
          <a:xfrm>
            <a:off x="2362320" y="1828800"/>
            <a:ext cx="49528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28600" y="228600"/>
          <a:ext cx="8915400" cy="6591240"/>
        </p:xfrm>
        <a:graphic>
          <a:graphicData uri="http://schemas.openxmlformats.org/drawingml/2006/table">
            <a:tbl>
              <a:tblPr/>
              <a:tblGrid>
                <a:gridCol w="2327400"/>
                <a:gridCol w="1763640"/>
                <a:gridCol w="2397240"/>
                <a:gridCol w="24271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ы компози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«Голубой карбункул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«Пестрая лент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«Собака Баскертвилей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Экспозиция.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ая шляпа, метод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ктив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 Шерлоку Холмсу обратилась за помощью женщина, по имени Элен Стоунер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гадочные обстоятельства смерти  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барон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 сэра Чарльза Баскерви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Завяз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ыный гусь. Нить                                                   преступления в руках Шерлока   Холм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а года назад девушка потеряла свою сестру Джулию, она умерла за две недели до своей свадьбы, при очень не понятных обстоятельств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семейная леген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о призрачной соба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Развити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. Холмс проводит расследование                                  (посещение лавки,              трактира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сколько ночей до смерти она слышала странный свист в доме, это очень пугало 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ермеры несколько раз видели ночью чудовищный светящийся призр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Кульминация.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гра проиграна, Райдер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жулия крикнула «Это была пестрая лента!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ытка испугать  сэра Генри Баскерв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Развитие действия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ведь преступ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чим затеял ремонт в доме, и Элен пришлось временно перейти в комнату покойной сес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Развя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.Холмс освобождает преступ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олмс и Ватсон проводят ночь в комнате Элен Стоунер, сталкиваются с самой змеей, и заставляют ее напасть на самого докт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ытку проделать то же самое в отношении сэра Генри Баскервиля Холмсу и Ватсону удалось предотвра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дуктивный способ расследован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ЛЯ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1079640" y="2971800"/>
            <a:ext cx="684504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 rot="10800000">
            <a:off x="1064880" y="5983920"/>
            <a:ext cx="708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дукция — (от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ductio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- способ размышления, с по-мощью которого новая мысль или вывод возникает путем раздумий над многими фак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2-10-01T12:01:5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