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himes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1DC-FF75-401E-A03F-6E051081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2E52-6604-4D99-9938-8FC3044F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C23-4D1E-42E4-8419-6EAD5B87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9BA-CA50-4679-8229-5CE04064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D66-316D-4706-B4AC-ECEBAA44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6C3C-57FE-44DE-A3D0-7B2E71A6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FD87-C4FF-4109-A6B1-9E38A2F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2419-0B8C-4FEF-8228-B018A52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8407-9587-4C02-814F-3E83F5F1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B1A5-2662-45B8-9451-C1A0685D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D18E-CE73-4253-A188-C44DCFF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3C2-9594-4A36-A716-51896CB9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D25E-7A9F-4B8C-B414-CAB1279A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6938-B48A-44C5-BFDF-BEBB218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0CA9-E048-40FF-B9B7-CFB400A5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4F6-796B-4B8E-AF2B-70E999B8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AB55-17B0-4D34-AD21-AFFF8182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8D88-0696-4F20-B9C3-2A0AAE45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1272-AE0C-4A8A-BAFE-1996CCB3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F8BB-C23E-4262-B2B7-B896A08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73C5-24EF-43BE-92CF-B4576F39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1206-DC92-4901-9E71-8F997CE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C8D-BF06-4510-8220-4A520E94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A132-D079-4EA6-8722-39AE4238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C7F67-AFD5-4AC4-B170-4DF46251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7C35-73E1-4E23-AB19-F5FBF0B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B12F-1D7D-4FD1-B958-3201E8F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BC28-E346-4E9B-959D-A931DD80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9731-2026-4F30-88E6-1C3F51BD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EE67-BC52-4EA7-B3EA-3A58509F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2522D-2C08-4A60-904E-E4CB3788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D5AF-19CA-44FA-9B5E-B59AB3CE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EEAB0-D6AD-4FCF-A7E2-19D9D16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43B-5353-429C-91C2-60935C59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871A6-B67C-450F-BC02-549091B2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763A2-83A8-4F11-B75C-87E987F3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CD38-D377-489E-A6D5-C7703573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8FF35-C3BD-4A26-AFFB-32404AE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B74F-B88E-4FD6-A5EB-C9FB53C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3914-69F0-42DE-B543-A9442F2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59C30-7D02-4019-A7A6-61D93D0C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9021C-97CF-40A7-A95B-5432C699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ABB1-22CA-45F8-96CC-A7242E0A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F539-811E-40A4-BB82-C02D2F07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E1E-7BD4-4588-AAA4-BEEB625C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DDFE8-2F15-4BBC-A1DA-2C42B5F0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CB56B-81DE-4846-9D86-F556134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C5297-C349-42EE-8DA9-74DE0229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F908-A748-4D44-A9B9-773828F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21A8-9B44-4A19-98F8-C0AD7DA8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2E76A-70AA-426C-8D5A-CFC1DE3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6B44-EB80-4275-BF0C-F9AB7C3E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46A1-8B50-44A0-9CE5-4C4B6CF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4574-F3BD-4249-AD53-9D4CFE5F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FC32A-D0C4-4DBD-ABC2-279DE5EB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7A1-4066-4C03-A06B-5C863B0B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DB67-DD40-4F37-A23F-DADBAF51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2DD-68CE-4677-961C-573468D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8E3-7AF1-40C2-889A-26E147C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811-38F1-4121-B582-FAE75169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278-05DF-4B92-9424-C83B04A7A7C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8D02-A4D0-4377-899E-433328ECD23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b4ecf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ecf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b4ecf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F89D-B0BF-43C4-A68E-DBA02728B9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214-5C9E-405F-A812-1069B26C5A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A78-E4B9-4F69-B6C0-B60325C9DB6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1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4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9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1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8.xml"/><Relationship Id="rId8" Type="http://schemas.openxmlformats.org/officeDocument/2006/relationships/slide" Target="slide27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" Target="slide24.xml"/><Relationship Id="rId12" Type="http://schemas.openxmlformats.org/officeDocument/2006/relationships/slide" Target="slide23.xml"/><Relationship Id="rId13" Type="http://schemas.openxmlformats.org/officeDocument/2006/relationships/slide" Target="slide22.xml"/><Relationship Id="rId14" Type="http://schemas.openxmlformats.org/officeDocument/2006/relationships/slide" Target="slide21.xml"/><Relationship Id="rId15" Type="http://schemas.openxmlformats.org/officeDocument/2006/relationships/slide" Target="slide20.xml"/><Relationship Id="rId16" Type="http://schemas.openxmlformats.org/officeDocument/2006/relationships/slide" Target="slide19.xml"/><Relationship Id="rId17" Type="http://schemas.openxmlformats.org/officeDocument/2006/relationships/slide" Target="slide18.xml"/><Relationship Id="rId18" Type="http://schemas.openxmlformats.org/officeDocument/2006/relationships/slide" Target="slide17.xml"/><Relationship Id="rId19" Type="http://schemas.openxmlformats.org/officeDocument/2006/relationships/slide" Target="slide16.xml"/><Relationship Id="rId20" Type="http://schemas.openxmlformats.org/officeDocument/2006/relationships/slide" Target="slide15.xml"/><Relationship Id="rId21" Type="http://schemas.openxmlformats.org/officeDocument/2006/relationships/slide" Target="slide14.xml"/><Relationship Id="rId22" Type="http://schemas.openxmlformats.org/officeDocument/2006/relationships/slide" Target="slide13.xml"/><Relationship Id="rId23" Type="http://schemas.openxmlformats.org/officeDocument/2006/relationships/slide" Target="slide12.xml"/><Relationship Id="rId24" Type="http://schemas.openxmlformats.org/officeDocument/2006/relationships/slide" Target="slide11.xml"/><Relationship Id="rId25" Type="http://schemas.openxmlformats.org/officeDocument/2006/relationships/slide" Target="slide10.xml"/><Relationship Id="rId26" Type="http://schemas.openxmlformats.org/officeDocument/2006/relationships/slide" Target="slide9.xml"/><Relationship Id="rId27" Type="http://schemas.openxmlformats.org/officeDocument/2006/relationships/slide" Target="slide8.xml"/><Relationship Id="rId28" Type="http://schemas.openxmlformats.org/officeDocument/2006/relationships/slide" Target="slide7.xml"/><Relationship Id="rId29" Type="http://schemas.openxmlformats.org/officeDocument/2006/relationships/slide" Target="slide6.xml"/><Relationship Id="rId30" Type="http://schemas.openxmlformats.org/officeDocument/2006/relationships/slide" Target="slide5.xml"/><Relationship Id="rId3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0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1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3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4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6.xml"/><Relationship Id="rId3" Type="http://schemas.openxmlformats.org/officeDocument/2006/relationships/slide" Target="slide36.xml"/><Relationship Id="rId4" Type="http://schemas.openxmlformats.org/officeDocument/2006/relationships/slide" Target="slide36.xm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7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9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308800" cy="19512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71320" y="32148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оссия при Петре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b4ecfc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Высшее правительствующее учреждение с 1711 год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ой орган ведал церковными делами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о реформе 1718-1720 гг. вместо приказов были введены ОНИ. В современном мире это министерства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ие документы уравнивали аристократию в личном и служебном положении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Реформы Петра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 какие административные единицы делилась страна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Денежная единица какой либо страны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Именно на их нужды было ориентированно все промышленное развитие страны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оддержка развития отечественной промышленности и вывоза товаров за границу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реобладание вывоза товаров из страны над ввозом с целью концентрации денежных средств внутри страны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Экономика России 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Основной прямой налог, взимавшийся с мужского населения податных сословий, вне зависимости от возраста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28760" y="428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аствуют три команды. Каждая команда представляет название и капитана команды. Проводится жеребьевк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анда делает ход – выбор вопрос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обдумывание дается 30 секунд, после чего звучит отве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манда дает правильный ответ, то она продолжает отвечат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ьное количество ходов подряд –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манда ошиблась, в этом случае баллы у нее отнимаются и ход переходит к другой команде, (она выбирают новый вопрос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команда не может дать ответ, то ход переходит к другой команде и та отвечает на этот вопрос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питан каждой команды перед ответом называет участника команды, который будет давать отве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участник команды за время игры должен дать хотя бы один ответ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конце игры проводится финал. Команды, зная количество баллов, делают ставки. И затем письменно отвечают на финальный вопрос. За правильный ответ прибавляется количество баллов ставки, за неправильный - отнимае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 итогам игры подсчитывается количество заработанных баллов и переводится в оценку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Поводом к какому восстанию послужил указ об обрезании бород и платьев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иболее распространенная форма протеста работных людей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ое восстание носило ярко выраженный национальный характер? Главной движущей силой его были мусульман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рестьяне, вынужденные уходить на заработки из родных мест как на мануфактуры, так и на сельскохозяйственные работы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Народные движения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Восстание, главной движущей силой которого были казаки и крестьяне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 называлась первая печатная газета, издававшаяся с 1703 года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то автор энциклопедии математических знаний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Собрание-бал с участием женщин в домах российской знат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Чем известен Иван Никитич Никитин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Культура и быт_x000b_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2" action="ppaction://hlinksldjump"/>
              </a:rPr>
              <a:t>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До петровского указа с какого числа и какого месяца начинался новый год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1"/>
          <p:cNvSpPr/>
          <p:nvPr/>
        </p:nvSpPr>
        <p:spPr>
          <a:xfrm>
            <a:off x="7524720" y="5197320"/>
            <a:ext cx="1162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0"/>
          <p:cNvSpPr/>
          <p:nvPr/>
        </p:nvSpPr>
        <p:spPr>
          <a:xfrm>
            <a:off x="6300720" y="519732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5076720" y="519732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3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8"/>
          <p:cNvSpPr/>
          <p:nvPr/>
        </p:nvSpPr>
        <p:spPr>
          <a:xfrm>
            <a:off x="3851280" y="5197320"/>
            <a:ext cx="1225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4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7"/>
          <p:cNvSpPr/>
          <p:nvPr/>
        </p:nvSpPr>
        <p:spPr>
          <a:xfrm>
            <a:off x="2627280" y="519732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6"/>
          <p:cNvSpPr/>
          <p:nvPr/>
        </p:nvSpPr>
        <p:spPr>
          <a:xfrm>
            <a:off x="457200" y="5197320"/>
            <a:ext cx="2170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е 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5"/>
          <p:cNvSpPr/>
          <p:nvPr/>
        </p:nvSpPr>
        <p:spPr>
          <a:xfrm>
            <a:off x="7524720" y="4267080"/>
            <a:ext cx="1162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6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4"/>
          <p:cNvSpPr/>
          <p:nvPr/>
        </p:nvSpPr>
        <p:spPr>
          <a:xfrm>
            <a:off x="6300720" y="426708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7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3"/>
          <p:cNvSpPr/>
          <p:nvPr/>
        </p:nvSpPr>
        <p:spPr>
          <a:xfrm>
            <a:off x="5076720" y="426708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3851280" y="4267080"/>
            <a:ext cx="1225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2627280" y="426708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57200" y="4267080"/>
            <a:ext cx="2170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льтура и б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9"/>
          <p:cNvSpPr/>
          <p:nvPr/>
        </p:nvSpPr>
        <p:spPr>
          <a:xfrm>
            <a:off x="7524720" y="3338640"/>
            <a:ext cx="1162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1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6300720" y="3338640"/>
            <a:ext cx="122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7"/>
          <p:cNvSpPr/>
          <p:nvPr/>
        </p:nvSpPr>
        <p:spPr>
          <a:xfrm>
            <a:off x="5076720" y="3338640"/>
            <a:ext cx="122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3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6"/>
          <p:cNvSpPr/>
          <p:nvPr/>
        </p:nvSpPr>
        <p:spPr>
          <a:xfrm>
            <a:off x="3851280" y="3338640"/>
            <a:ext cx="1225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5"/>
          <p:cNvSpPr/>
          <p:nvPr/>
        </p:nvSpPr>
        <p:spPr>
          <a:xfrm>
            <a:off x="2627280" y="3338640"/>
            <a:ext cx="12240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4"/>
          <p:cNvSpPr/>
          <p:nvPr/>
        </p:nvSpPr>
        <p:spPr>
          <a:xfrm>
            <a:off x="457200" y="3338640"/>
            <a:ext cx="2170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ные 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7524720" y="2408400"/>
            <a:ext cx="1162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6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6300720" y="240840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7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5076720" y="240840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3851280" y="2408400"/>
            <a:ext cx="1225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1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9"/>
          <p:cNvSpPr/>
          <p:nvPr/>
        </p:nvSpPr>
        <p:spPr>
          <a:xfrm>
            <a:off x="2627280" y="240840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0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457200" y="2408400"/>
            <a:ext cx="2170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ка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7524720" y="1479600"/>
            <a:ext cx="1162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1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6300720" y="147960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5076720" y="147960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3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"/>
          <p:cNvSpPr/>
          <p:nvPr/>
        </p:nvSpPr>
        <p:spPr>
          <a:xfrm>
            <a:off x="3851280" y="1479600"/>
            <a:ext cx="12254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4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627280" y="1479600"/>
            <a:ext cx="122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5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457200" y="1479600"/>
            <a:ext cx="21700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формы П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7524720" y="549360"/>
            <a:ext cx="1162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6" action="ppaction://hlinksldjump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6300720" y="54936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7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5076720" y="54936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8" action="ppaction://hlinksldjump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3851280" y="549360"/>
            <a:ext cx="12254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29" action="ppaction://hlinksldjump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2627280" y="549360"/>
            <a:ext cx="12240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Arial"/>
                <a:hlinkClick r:id="rId30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57200" y="549360"/>
            <a:ext cx="2170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2"/>
          <p:cNvSpPr/>
          <p:nvPr/>
        </p:nvSpPr>
        <p:spPr>
          <a:xfrm>
            <a:off x="457200" y="54936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3"/>
          <p:cNvSpPr/>
          <p:nvPr/>
        </p:nvSpPr>
        <p:spPr>
          <a:xfrm>
            <a:off x="457200" y="14796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457200" y="24084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457200" y="33386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457200" y="4267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457200" y="51973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457200" y="549360"/>
            <a:ext cx="0" cy="5576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262728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385128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507672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630072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7524720" y="549360"/>
            <a:ext cx="0" cy="557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8686800" y="549360"/>
            <a:ext cx="0" cy="5576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талья Кирилловна Нарышкина – это…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</a:t>
            </a: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2" action="ppaction://hlinksldjump"/>
              </a:rPr>
              <a:t>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Какое место во власти занимала Софья при Петре и Иване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Монах, позже придворный поэт и воспитатель Фёдора и Софьи Романовых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Чем известен урядник Преображенского полка Петр Михайлов?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Известные имена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Главой какого государства был Карл </a:t>
            </a:r>
            <a:r>
              <a:rPr b="0" lang="en-US" sz="60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XII</a:t>
            </a: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4" action="ppaction://hlinksldjump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1700-1721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Мать полтавской битвы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олтавская битв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У мыса Гангут и острова Гренга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еверная войн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Выход к Балтийскому морю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Финал</a:t>
            </a:r>
            <a:endParaRPr b="0" lang="en-US" sz="20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равительствующий сенат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Святейший Правительствующий синод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Коллегии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Указ о единонаследии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Табель о рангах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Реформы Петра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Губернии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Уезды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Провинции 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Валют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Армия и флот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ротекциониз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Меркантилизм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кономика России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Подушная подать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1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Годы начала и окончания Северной войны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1" action="ppaction://hlinksldjump"/>
              </a:rPr>
              <a:t>К Астраханскому восстанию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Побеги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Башкирское восстание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Отходники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ародные движения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осстание К. А. Булавина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0004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«Ведомости»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Леонид Филиппович Магницкий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Ассамблея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Портретист, основоположник русской светской живописи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ультура и быт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1 сентября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2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Как Петр </a:t>
            </a:r>
            <a:r>
              <a:rPr b="0" lang="en-US" sz="6600" spc="-1" strike="noStrike" u="sng">
                <a:solidFill>
                  <a:srgbClr val="002060"/>
                </a:solidFill>
                <a:uFillTx/>
                <a:latin typeface="Constantia"/>
                <a:hlinkClick r:id="rId3" action="ppaction://hlinksldjump"/>
              </a:rPr>
              <a:t>I </a:t>
            </a: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4" action="ppaction://hlinksldjump"/>
              </a:rPr>
              <a:t> назвал сражение у деревни Лесной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Мать Петра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I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Она была регентшей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Симеон Полоцкий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Это Петр </a:t>
            </a:r>
            <a:r>
              <a:rPr b="1" lang="en-US" sz="6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звестные имена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Constantia"/>
              </a:rPr>
              <a:t>Швеции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Фина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ыход к какому морю был завоеван в период правления Петра </a:t>
            </a:r>
            <a:r>
              <a:rPr b="1" lang="en-US" sz="60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Финал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nstantia"/>
              </a:rPr>
              <a:t>Выход к Балтийскому морю.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4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Название битвы, которая произошла 27 июня 1709 года.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6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Где проходили морские сражения 1714 и 1720 годов?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2060"/>
                </a:solidFill>
                <a:uFillTx/>
                <a:latin typeface="Calibri"/>
                <a:hlinkClick r:id="rId1" action="ppaction://hlinksldjump"/>
              </a:rPr>
              <a:t>Северная война_x000b_80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2060"/>
                </a:solidFill>
                <a:uFillTx/>
                <a:latin typeface="Constantia"/>
                <a:hlinkClick r:id="rId2" action="ppaction://hlinksldjump"/>
              </a:rPr>
              <a:t>Что получала Россия по Ништадтскому мирному договору 1721 года?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xit" presetID="2" presetSubtype="4">
                                  <p:stCondLst>
                                    <p:cond delay="3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5:05:17Z</dcterms:created>
  <dc:creator>Ленуся</dc:creator>
  <dc:description/>
  <dc:language>en-US</dc:language>
  <cp:lastModifiedBy>Ленуся</cp:lastModifiedBy>
  <dcterms:modified xsi:type="dcterms:W3CDTF">2009-01-03T14:14:03Z</dcterms:modified>
  <cp:revision>45</cp:revision>
  <dc:subject/>
  <dc:title>Своя игра </dc:title>
</cp:coreProperties>
</file>