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himes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E1D-7424-48C9-8AA7-C037726A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289-500B-4703-96CC-F92914FA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3BD-F04B-45AE-9D50-1D52FFEA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B80-6462-43DB-B01C-596E63F6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D0C2-A31D-42D5-AA79-EFD0BE0C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5B3D-7F9F-48B0-81FF-EB3A1C60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130F-352C-4BE7-8B99-0BA79BB7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62AC-AA6B-4255-8B72-561E712D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9014-4E03-4742-9CB3-3DEDEC7B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9357-A07C-4F19-A534-1DA6E39E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0EDE-11EB-417B-AFEB-BC169DFB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8E4-011C-447A-B8F2-3D4EC760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43EA-269D-434D-9413-52C42B6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7BB8-5893-4F6B-8A74-51FEA4F4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D8D7-AAAF-40F0-8A44-332A5154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0848-4D8E-4D84-9B46-455ED84F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7BAD-6428-45AA-9673-CEE08983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4266-D627-4882-8978-B8AFE7AC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2F0A-8D47-4977-8C2C-5453AB75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84B4-5BCE-4A0D-A29C-D4A20F0E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6686-FC4F-4408-B49A-09ED17B3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EECE-B7A4-4716-98AB-80DA6F05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FCE-F658-4E4F-B799-D81EF258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4283-C277-4218-858E-D1A6CACB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5630-7C4C-4870-803C-2B2E4479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DD43-3BAE-4200-8170-1099941D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19EB-53C4-4ACA-B7F1-9E5B092D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5377-FC9A-4F9D-B308-57B44777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3670-B5AD-4A4A-AB18-C8812E39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C5DB2-6E60-4854-9711-6301AF11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1B941-F630-46A7-A020-6AFD0E4A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5177A-D03F-4FA7-89A7-FB367606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7EB7F-1291-40DB-9A55-AAF43D24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93A-394A-497A-B797-1375CCF4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81FC4-69A9-4D31-9288-AC0EC6FE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ED0F-4726-4224-AEB5-894A5A88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3979E-C28B-4E12-AB04-10D88599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00A31-4B63-46A1-A42F-67490B35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C63C-1284-4C39-A558-F172821D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DE7A-BF1F-4DE1-AD29-F84B2465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108F-EDEC-47B4-A134-CCCEDCAB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11676-8716-40E4-8188-B7092D7A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A8D1-4134-4B26-BAB7-2CDC9BF8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1FACD-52D1-4E01-820F-972AB56C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5D3-9303-4A19-B8DB-6D0C4661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43D4A-D0F0-4782-B464-797A8C0A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76E79-6384-4C3E-A5DC-F0E8E4F4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8D4F-FC04-4AA4-955A-1DD152DD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7138E-5D55-4836-92A4-2F03D7EF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A46D4-0B92-45D0-ACDD-CD168C42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46C5-0E20-480C-94BA-8462B711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1717A-D707-413B-A6B6-70E2E683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8D9EA-BF60-4BC3-BC5B-D3D2AD09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DC09C-BDAA-4D44-BEBA-AC3A5357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2A3EE-F99C-4688-A2F1-C9BCDEEF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0BA-B0F8-43C0-8709-A91FBF87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5E0F9-4CAE-47FF-8598-D6042A21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234-FBE3-4D1D-8447-F0EAB6DE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729-EEB2-49FF-8585-8F07FCE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353-3623-4FD3-8BC8-45C21DA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1381-93C7-4C63-B905-54DA9ECCC84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b4ec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b4ec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3032-B915-4473-896E-71E3B6DF471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b4ec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b4ec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BD4A-02E7-4CFD-9BB1-DD133B5448B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5043-1E5D-41A5-AB7F-8BC6BFE58E0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B71B-D99E-4A6C-8E24-F816AB84A08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9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8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9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8.xml"/><Relationship Id="rId8" Type="http://schemas.openxmlformats.org/officeDocument/2006/relationships/slide" Target="slide27.xml"/><Relationship Id="rId9" Type="http://schemas.openxmlformats.org/officeDocument/2006/relationships/slide" Target="slide26.xml"/><Relationship Id="rId10" Type="http://schemas.openxmlformats.org/officeDocument/2006/relationships/slide" Target="slide25.xml"/><Relationship Id="rId11" Type="http://schemas.openxmlformats.org/officeDocument/2006/relationships/slide" Target="slide24.xml"/><Relationship Id="rId12" Type="http://schemas.openxmlformats.org/officeDocument/2006/relationships/slide" Target="slide23.xml"/><Relationship Id="rId13" Type="http://schemas.openxmlformats.org/officeDocument/2006/relationships/slide" Target="slide22.xml"/><Relationship Id="rId14" Type="http://schemas.openxmlformats.org/officeDocument/2006/relationships/slide" Target="slide21.xml"/><Relationship Id="rId15" Type="http://schemas.openxmlformats.org/officeDocument/2006/relationships/slide" Target="slide20.xml"/><Relationship Id="rId16" Type="http://schemas.openxmlformats.org/officeDocument/2006/relationships/slide" Target="slide19.xml"/><Relationship Id="rId17" Type="http://schemas.openxmlformats.org/officeDocument/2006/relationships/slide" Target="slide18.xml"/><Relationship Id="rId18" Type="http://schemas.openxmlformats.org/officeDocument/2006/relationships/slide" Target="slide17.xml"/><Relationship Id="rId19" Type="http://schemas.openxmlformats.org/officeDocument/2006/relationships/slide" Target="slide16.xml"/><Relationship Id="rId20" Type="http://schemas.openxmlformats.org/officeDocument/2006/relationships/slide" Target="slide15.xml"/><Relationship Id="rId21" Type="http://schemas.openxmlformats.org/officeDocument/2006/relationships/slide" Target="slide14.xml"/><Relationship Id="rId22" Type="http://schemas.openxmlformats.org/officeDocument/2006/relationships/slide" Target="slide13.xml"/><Relationship Id="rId23" Type="http://schemas.openxmlformats.org/officeDocument/2006/relationships/slide" Target="slide12.xml"/><Relationship Id="rId24" Type="http://schemas.openxmlformats.org/officeDocument/2006/relationships/slide" Target="slide11.xml"/><Relationship Id="rId25" Type="http://schemas.openxmlformats.org/officeDocument/2006/relationships/slide" Target="slide10.xml"/><Relationship Id="rId26" Type="http://schemas.openxmlformats.org/officeDocument/2006/relationships/slide" Target="slide9.xml"/><Relationship Id="rId27" Type="http://schemas.openxmlformats.org/officeDocument/2006/relationships/slide" Target="slide8.xml"/><Relationship Id="rId28" Type="http://schemas.openxmlformats.org/officeDocument/2006/relationships/slide" Target="slide7.xml"/><Relationship Id="rId29" Type="http://schemas.openxmlformats.org/officeDocument/2006/relationships/slide" Target="slide6.xml"/><Relationship Id="rId30" Type="http://schemas.openxmlformats.org/officeDocument/2006/relationships/slide" Target="slide5.xml"/><Relationship Id="rId3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1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4.xml"/><Relationship Id="rId3" Type="http://schemas.openxmlformats.org/officeDocument/2006/relationships/slide" Target="slide64.xml"/><Relationship Id="rId4" Type="http://schemas.openxmlformats.org/officeDocument/2006/relationships/slide" Target="slide64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6.xml"/><Relationship Id="rId3" Type="http://schemas.openxmlformats.org/officeDocument/2006/relationships/slide" Target="slide36.xml"/><Relationship Id="rId4" Type="http://schemas.openxmlformats.org/officeDocument/2006/relationships/slide" Target="slide36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8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9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19512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32148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Россия при Петре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b4ecfc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Реформы Петра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Высшее правительствующее учреждение с 1711 года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Реформы Петра_x000b_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акой орган ведал церковными делами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Реформы Петра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По реформе 1718-1720 гг. вместо приказов были введены ОНИ. В современном мире это министерства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Реформы Петра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акие документы уравнивали аристократию в личном и служебном положении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Реформы Петра_x000b_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На какие административные единицы делилась страна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Экономика России 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Денежная единица какой либо страны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Экономика России _x000b_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Именно на их нужды было ориентированно все промышленное развитие страны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Экономика России 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Поддержка развития отечественной промышленности и вывоза товаров за границу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Экономика России 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Преобладание вывоза товаров из страны над ввозом с целью концентрации денежных средств внутри страны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Экономика России _x000b_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Основной прямой налог, взимавшийся с мужского населения податных сословий, вне зависимости от возраста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28760" y="428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аствуют три команды. Каждая команда представляет название и капитана команды. Проводится жеребьев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анда делает ход – выбор вопрос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обдумывание дается 30 секунд, после чего звучит отве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команда дает правильный ответ, то она продолжает отвечат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ое количество ходов подряд –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команда ошиблась, в этом случае баллы у нее отнимаются и ход переходит к другой команде, (она выбирают новый вопрос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команда не может дать ответ, то ход переходит к другой команде и та отвечает на этот вопрос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питан каждой команды перед ответом называет участника команды, который будет давать отве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ждый участник команды за время игры должен дать хотя бы один отве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конце игры проводится финал. Команды, зная количество баллов, делают ставки. И затем письменно отвечают на финальный вопрос. За правильный ответ прибавляется количество баллов ставки, за неправильный - отнимает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итогам игры подсчитывается количество заработанных баллов и переводится в оценк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Народные движения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Поводом к какому восстанию послужил указ об обрезании бород и платьев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Народные движения_x000b_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Наиболее распространенная форма протеста работных людей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Народные движения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акое восстание носило ярко выраженный национальный характер? Главной движущей силой его были мусульмане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Народные движения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рестьяне, вынужденные уходить на заработки из родных мест как на мануфактуры, так и на сельскохозяйственные работы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Народные движения_x000b_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Восстание, главной движущей силой которого были казаки и крестьяне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Культура и быт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ак называлась первая печатная газета, издававшаяся с 1703 года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Культура и быт_x000b_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то автор энциклопедии математических знаний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Культура и быт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Собрание-бал с участием женщин в домах российской знати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Культура и быт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Чем известен Иван Никитич Никитин?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Культура и быт_x000b_</a:t>
            </a: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2" action="ppaction://hlinksldjump"/>
              </a:rPr>
              <a:t>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3" action="ppaction://hlinksldjump"/>
              </a:rPr>
              <a:t>До петровского указа с какого числа и какого месяца начинался новый год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1"/>
          <p:cNvSpPr/>
          <p:nvPr/>
        </p:nvSpPr>
        <p:spPr>
          <a:xfrm>
            <a:off x="7524720" y="5197320"/>
            <a:ext cx="1162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6300720" y="519732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5076720" y="519732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3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3851280" y="5197320"/>
            <a:ext cx="1225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4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7"/>
          <p:cNvSpPr/>
          <p:nvPr/>
        </p:nvSpPr>
        <p:spPr>
          <a:xfrm>
            <a:off x="2627280" y="519732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6"/>
          <p:cNvSpPr/>
          <p:nvPr/>
        </p:nvSpPr>
        <p:spPr>
          <a:xfrm>
            <a:off x="457200" y="5197320"/>
            <a:ext cx="2170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ые и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7524720" y="4267080"/>
            <a:ext cx="1162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6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4"/>
          <p:cNvSpPr/>
          <p:nvPr/>
        </p:nvSpPr>
        <p:spPr>
          <a:xfrm>
            <a:off x="6300720" y="426708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7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5076720" y="426708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8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3851280" y="4267080"/>
            <a:ext cx="1225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2627280" y="426708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0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57200" y="4267080"/>
            <a:ext cx="2170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ьтура и б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7524720" y="3338640"/>
            <a:ext cx="1162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1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6300720" y="3338640"/>
            <a:ext cx="1224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2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7"/>
          <p:cNvSpPr/>
          <p:nvPr/>
        </p:nvSpPr>
        <p:spPr>
          <a:xfrm>
            <a:off x="5076720" y="3338640"/>
            <a:ext cx="1224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3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6"/>
          <p:cNvSpPr/>
          <p:nvPr/>
        </p:nvSpPr>
        <p:spPr>
          <a:xfrm>
            <a:off x="3851280" y="3338640"/>
            <a:ext cx="12254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4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5"/>
          <p:cNvSpPr/>
          <p:nvPr/>
        </p:nvSpPr>
        <p:spPr>
          <a:xfrm>
            <a:off x="2627280" y="3338640"/>
            <a:ext cx="1224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5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4"/>
          <p:cNvSpPr/>
          <p:nvPr/>
        </p:nvSpPr>
        <p:spPr>
          <a:xfrm>
            <a:off x="457200" y="3338640"/>
            <a:ext cx="2170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одные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7524720" y="2408400"/>
            <a:ext cx="1162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6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6300720" y="240840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7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5076720" y="240840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3851280" y="2408400"/>
            <a:ext cx="1225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9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9"/>
          <p:cNvSpPr/>
          <p:nvPr/>
        </p:nvSpPr>
        <p:spPr>
          <a:xfrm>
            <a:off x="2627280" y="240840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0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457200" y="2408400"/>
            <a:ext cx="2170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ка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7524720" y="1479600"/>
            <a:ext cx="1162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1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6300720" y="147960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2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5076720" y="147960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3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3851280" y="1479600"/>
            <a:ext cx="1225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4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627280" y="147960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5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457200" y="1479600"/>
            <a:ext cx="2170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формы П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7524720" y="549360"/>
            <a:ext cx="1162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6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6300720" y="54936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7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5076720" y="54936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8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3851280" y="549360"/>
            <a:ext cx="1225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9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2627280" y="54936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30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57200" y="549360"/>
            <a:ext cx="2170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н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2"/>
          <p:cNvSpPr/>
          <p:nvPr/>
        </p:nvSpPr>
        <p:spPr>
          <a:xfrm>
            <a:off x="457200" y="54936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3"/>
          <p:cNvSpPr/>
          <p:nvPr/>
        </p:nvSpPr>
        <p:spPr>
          <a:xfrm>
            <a:off x="457200" y="14796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457200" y="24084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457200" y="33386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457200" y="4267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457200" y="51973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457200" y="549360"/>
            <a:ext cx="0" cy="5576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2627280" y="549360"/>
            <a:ext cx="0" cy="557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3851280" y="549360"/>
            <a:ext cx="0" cy="557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5076720" y="549360"/>
            <a:ext cx="0" cy="557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6300720" y="549360"/>
            <a:ext cx="0" cy="557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7524720" y="549360"/>
            <a:ext cx="0" cy="557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8686800" y="549360"/>
            <a:ext cx="0" cy="5576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Известные имена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Наталья Кирилловна Нарышкина – это…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Известные имена_x000b_</a:t>
            </a: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2" action="ppaction://hlinksldjump"/>
              </a:rPr>
              <a:t>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3" action="ppaction://hlinksldjump"/>
              </a:rPr>
              <a:t>Какое место во власти занимала Софья при Петре и Иване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Известные имена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Монах, позже придворный поэт и воспитатель Фёдора и Софьи Романовых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Известные имена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Чем известен урядник Преображенского полка Петр Михайлов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5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Известные имена_x000b_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Главой какого государства был Карл </a:t>
            </a:r>
            <a:r>
              <a:rPr b="0" lang="en-US" sz="6000" spc="-1" strike="noStrike" u="sng">
                <a:solidFill>
                  <a:srgbClr val="002060"/>
                </a:solidFill>
                <a:uFillTx/>
                <a:latin typeface="Constantia"/>
                <a:hlinkClick r:id="rId3" action="ppaction://hlinksldjump"/>
              </a:rPr>
              <a:t>XII</a:t>
            </a: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4" action="ppaction://hlinksldjump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еверная войн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1700-1721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еверная войн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Мать полтавской битвы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еверная войн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Полтавская битва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еверная войн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У мыса Гангут и острова Гренгам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еверная войн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Выход к Балтийскому морю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Финал</a:t>
            </a:r>
            <a:endParaRPr b="0" lang="en-US" sz="20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ормы Петр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Правительствующий сенат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ормы Петр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Святейший Правительствующий синод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ормы Петр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Коллегии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ормы Петр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Указ о единонаследии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Табель о рангах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ормы Петр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Губернии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Уезды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3" action="ppaction://hlinksldjump"/>
              </a:rPr>
              <a:t>Провинции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кономика России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Валюта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кономика России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Армия и флот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кономика России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Протекционизм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кономика России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Меркантилизм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кономика России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Подушная подать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Северная война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Годы начала и окончания Северной войны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Народные движения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К Астраханскому восстанию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ародные движения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Побеги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ародные движения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Башкирское восстание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ародные движения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Отходники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ародные движения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Восстание К. А. Булавина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ультура и быт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Ведомости»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ультура и быт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Леонид Филиппович Магницкий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ультура и быт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Ассамблея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ультура и быт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Портретист, основоположник русской светской живописи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ультура и быт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1 сентября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Северная война_x000b_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ак Петр </a:t>
            </a:r>
            <a:r>
              <a:rPr b="0" lang="en-US" sz="6600" spc="-1" strike="noStrike" u="sng">
                <a:solidFill>
                  <a:srgbClr val="002060"/>
                </a:solidFill>
                <a:uFillTx/>
                <a:latin typeface="Constantia"/>
                <a:hlinkClick r:id="rId3" action="ppaction://hlinksldjump"/>
              </a:rPr>
              <a:t>I </a:t>
            </a: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4" action="ppaction://hlinksldjump"/>
              </a:rPr>
              <a:t> назвал сражение у деревни Лесной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звестные имена.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Мать Петра </a:t>
            </a:r>
            <a:r>
              <a:rPr b="1" lang="en-US" sz="6600" spc="-1" strike="noStrike">
                <a:solidFill>
                  <a:srgbClr val="000000"/>
                </a:solidFill>
                <a:latin typeface="Constantia"/>
              </a:rPr>
              <a:t>I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звестные имена.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Она была регентшей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звестные имена.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Симеон Полоцкий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звестные имена.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Это Петр </a:t>
            </a:r>
            <a:r>
              <a:rPr b="1" lang="en-US" sz="6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звестные имена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Швеции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Фина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Выход к какому морю был завоеван в период правления Петра </a:t>
            </a: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Финал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Выход к Балтийскому морю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Северная война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Название битвы, которая произошла 27 июня 1709 года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Северная война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Где проходили морские сражения 1714 и 1720 годов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Северная война_x000b_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Что получала Россия по Ништадтскому мирному договору 1721 года?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5:05:17Z</dcterms:created>
  <dc:creator>Ленуся</dc:creator>
  <dc:description/>
  <dc:language>en-US</dc:language>
  <cp:lastModifiedBy>Ленуся</cp:lastModifiedBy>
  <dcterms:modified xsi:type="dcterms:W3CDTF">2009-01-03T14:14:03Z</dcterms:modified>
  <cp:revision>45</cp:revision>
  <dc:subject/>
  <dc:title>Своя игра </dc:title>
</cp:coreProperties>
</file>