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0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42.jpeg" ContentType="image/jpeg"/>
  <Override PartName="/ppt/media/image13.png" ContentType="image/png"/>
  <Override PartName="/ppt/media/image46.wmf" ContentType="image/x-wmf"/>
  <Override PartName="/ppt/media/image37.png" ContentType="image/png"/>
  <Override PartName="/ppt/media/image34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47.wmf" ContentType="image/x-wmf"/>
  <Override PartName="/ppt/media/image51.jpeg" ContentType="image/jpeg"/>
  <Override PartName="/ppt/media/image48.png" ContentType="image/png"/>
  <Override PartName="/ppt/media/image11.png" ContentType="image/png"/>
  <Override PartName="/ppt/media/image6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6A04-BB3C-4E8B-99D3-C9AAD0138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0E37-7F4C-4213-A09C-6C3CF59DD3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1D0-B671-4748-AB45-A1E87E61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494-FA8E-4662-A8BC-91D2026F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C9C-DA77-450A-AAE7-F461C88C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8AB-0AFC-4496-A723-419079E2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F9F-8630-4D64-A9B5-BA6AA6A8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4EC-FEFE-486E-B694-962C0C27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7BA-E7BC-41BC-899D-222A053D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316-CFE0-4A7A-AD46-1480D01E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458-40A8-4048-9793-80BFB9E0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35F-BF7A-4CDC-B906-95FBD13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0C8-7EDF-43DA-A32E-C3286622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849-41CE-4FC6-9507-6C668CAD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E799-6512-4548-A204-61E2F5122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06292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cc"/>
                </a:solidFill>
                <a:latin typeface="Arial"/>
              </a:rPr>
              <a:t>КВН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Математика в нашей жизн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7720" y="4508280"/>
            <a:ext cx="6816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Бувашкина И.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МБОУ «Лицей №2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85840" y="3857760"/>
            <a:ext cx="2714400" cy="25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570720" y="3008160"/>
            <a:ext cx="25732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5.Что есть у каждого слова, растения и уравн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ор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203560" cy="298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411280" y="3429000"/>
            <a:ext cx="333396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52072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6.Название какого государства скрывается в формуле А</a:t>
            </a:r>
            <a:r>
              <a:rPr b="1" lang="ru-RU" sz="4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уб А-Ку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26654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7.Какую формулу прославили Фанхио, Лауда, Прост, Шумах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Автогонки Формула-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8.Какие геометрические фигуры дружат с солнц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Лу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28749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9.Какая геометрическая фигура нужна для наказания дет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Уго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46054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0.Обманный финансовый многогранник – это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ирами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952640" y="2637000"/>
            <a:ext cx="339084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1.Какую форму имеют соты пчел, ячейки глаз насеком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Форму правильного шестиуголь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335124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2.Вечнозеленый конус – э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ипар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0658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3.Многогранник из Египта – э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ирами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41911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4.Как называется перпендикуляр к рельс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п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361656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7BFB-66C6-4E1B-A5A6-5C7EE3A5F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81200" y="171360"/>
            <a:ext cx="79977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54" name="Подзаголовок 2"/>
          <p:cNvGrpSpPr/>
          <p:nvPr/>
        </p:nvGrpSpPr>
        <p:grpSpPr>
          <a:xfrm>
            <a:off x="469800" y="2419200"/>
            <a:ext cx="7193160" cy="4030920"/>
            <a:chOff x="469800" y="2419200"/>
            <a:chExt cx="7193160" cy="4030920"/>
          </a:xfrm>
        </p:grpSpPr>
        <p:pic>
          <p:nvPicPr>
            <p:cNvPr id="55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469800" y="2419200"/>
              <a:ext cx="7193160" cy="40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"/>
            <p:cNvSpPr/>
            <p:nvPr/>
          </p:nvSpPr>
          <p:spPr>
            <a:xfrm>
              <a:off x="541440" y="2517840"/>
              <a:ext cx="6900840" cy="37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Целеустремленность, сильную волю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стойчивое внимание, сосредоточеннос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Хорошую памя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мение логически мысли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пособность к творчеству и научной фантази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мение прикидывать и оценивать результат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ботоспособнос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ходчивость и смекалк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Чувство юмор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7" descr="j0301252"/>
          <p:cNvPicPr/>
          <p:nvPr/>
        </p:nvPicPr>
        <p:blipFill>
          <a:blip r:embed="rId3"/>
          <a:stretch/>
        </p:blipFill>
        <p:spPr>
          <a:xfrm>
            <a:off x="6156360" y="4241880"/>
            <a:ext cx="284472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5.Какая цифра широко известна в мировой политике, да ещё с эпитетом «большая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«Большая восьмерка»-неформальный клуб президентов восьми государ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17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6.Какую геометрическую фигуру украшают брильянт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ольц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7.Эмблемой какого автомобиля являются четыре кольц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«Ауд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43909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8. Сколько вы знаете чудес све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ем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979640" y="2500200"/>
            <a:ext cx="4392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643040" y="1571760"/>
            <a:ext cx="528624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4143240" y="785880"/>
            <a:ext cx="442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Двое друзей собрались поехать на электричке за город. Они договорились встретиться в пятом ваг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днако они не согласовали один важный момент: не уточнили, встретятся они в пятом вагоне от начала или от конца по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 один из приятелей сел в пятый вагон от начала, а второй -в пятый вагон от конца. Но они все-таки встретились. Ответьте: сколько всего вагонов было в поез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2" descr=""/>
          <p:cNvPicPr/>
          <p:nvPr/>
        </p:nvPicPr>
        <p:blipFill>
          <a:blip r:embed="rId1"/>
          <a:stretch/>
        </p:blipFill>
        <p:spPr>
          <a:xfrm>
            <a:off x="1133640" y="-139680"/>
            <a:ext cx="6516360" cy="950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85840" y="68580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Девять ваг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:\Users\км\Pictures\Юля\п2.jpg"/>
          <p:cNvPicPr/>
          <p:nvPr/>
        </p:nvPicPr>
        <p:blipFill>
          <a:blip r:embed="rId2"/>
          <a:stretch/>
        </p:blipFill>
        <p:spPr>
          <a:xfrm>
            <a:off x="0" y="1000080"/>
            <a:ext cx="3929040" cy="3714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7574760" y="28584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9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2 </a:t>
            </a:r>
            <a:br>
              <a:rPr sz="4400"/>
            </a:b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« Выгодная поезд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857840" cy="45054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7717680" y="7858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7308720" y="6237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00040" y="214200"/>
            <a:ext cx="82868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е решают, как им дешевле доехать из города А в город Б – на поезде или автомобиле. Билет на поезд стоит 540 рублей. Автомобиль расходует 6 л бензина на 100 км пути. Расстояние по шоссе 700 км. Цена бензина за литр 18 рублей. Сколько рублей будет стоить наиболее выгодная поезд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285920" y="4643280"/>
            <a:ext cx="678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1) 540*2=1080(р)-поездка на по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)6*7*18=756(р)-поездка на м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756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P9010390.JPG"/>
          <p:cNvPicPr/>
          <p:nvPr/>
        </p:nvPicPr>
        <p:blipFill>
          <a:blip r:embed="rId2"/>
          <a:stretch/>
        </p:blipFill>
        <p:spPr>
          <a:xfrm>
            <a:off x="142920" y="5000760"/>
            <a:ext cx="2190600" cy="1643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SAAB_9-3 Convertible_Cabriolet_2007.jpg"/>
          <p:cNvPicPr/>
          <p:nvPr/>
        </p:nvPicPr>
        <p:blipFill>
          <a:blip r:embed="rId3"/>
          <a:stretch/>
        </p:blipFill>
        <p:spPr>
          <a:xfrm>
            <a:off x="6858000" y="5143680"/>
            <a:ext cx="2131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3 « Лекарство для больног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857840" cy="4505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7503480" y="114300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308720" y="6237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14200" y="54936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ному прописан курс лекарства: 3 раза в день по 1 таблетке в течение трех недель. В одной упаковке 10 таблеток. Цена 1 упаковки 66 рублей. Сколько рублей надо заплатить в аптеке за лекарств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071800" y="4643280"/>
            <a:ext cx="6643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)3*7*3=63( таб)-на три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63:10=6(упаковок+3 таблетки)-надо купить 7 упако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7*66=462(ру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вет: 462 руб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4" descr="1257259684_image002.jpg"/>
          <p:cNvPicPr/>
          <p:nvPr/>
        </p:nvPicPr>
        <p:blipFill>
          <a:blip r:embed="rId2"/>
          <a:stretch/>
        </p:blipFill>
        <p:spPr>
          <a:xfrm>
            <a:off x="7054920" y="3429000"/>
            <a:ext cx="2089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иветствие коман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matematika_carica_nauk1.jpg"/>
          <p:cNvPicPr/>
          <p:nvPr/>
        </p:nvPicPr>
        <p:blipFill>
          <a:blip r:embed="rId1"/>
          <a:stretch/>
        </p:blipFill>
        <p:spPr>
          <a:xfrm>
            <a:off x="1928880" y="1428840"/>
            <a:ext cx="542916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4 </a:t>
            </a:r>
            <a:br>
              <a:rPr sz="4400"/>
            </a:b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«Математика о вреде ку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85840" y="2714760"/>
            <a:ext cx="407196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6400" y="2349000"/>
            <a:ext cx="59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дно себе представить то благотворное изменение, которое произошло бы во всей жизни людской, если бы люди перестали одурманивать и отравлять себя водкой, табаком и опиу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6027840" y="580536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. 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ttp://dic.academic.ru/pictures/bse/jpg/0257679502.jpg"/>
          <p:cNvPicPr/>
          <p:nvPr/>
        </p:nvPicPr>
        <p:blipFill>
          <a:blip r:embed="rId1"/>
          <a:stretch/>
        </p:blipFill>
        <p:spPr>
          <a:xfrm>
            <a:off x="122400" y="1219320"/>
            <a:ext cx="32112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ая стат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4200" y="121428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мире проживает боле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,1 млрд курильщ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0% курильщиков начали курить в школ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оссии каждые 9 секунд из-за болезней, вызванных курением, умирает один челове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0% среди 12-летних подростков курят,  к 14 годам эта цифра возрастает почти вдв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 18 годам сигарету попробовали хотя бы раз уже 80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7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468360" y="2276640"/>
          <a:ext cx="8229600" cy="3124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Если человек курит в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сокращает 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0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до 9 сигар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4,6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19 сигар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5,5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9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 до 39 сигар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6,2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3640320" y="285840"/>
            <a:ext cx="17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дача 1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826920" y="765000"/>
            <a:ext cx="460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вес новорождённого ребё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кг 300г. Если у ребёнка курит отец, то вес новорождённого будет меньше среднего на 125г,а если мать- то на 400 г. Определите, вес новорожденного  ребенка, есл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курит па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курит ма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 курят и папа и ма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733120" y="5857920"/>
            <a:ext cx="63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) 3кг175г;  б) 2кг 900 г;  в) 2 кг 775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ttp://www.resimbul.com/sonuc/c/tup-bebek/bahceci-tup-bebek-merkezi/bahceci-tup-bebek-merkezi-71f12d.jpg"/>
          <p:cNvPicPr/>
          <p:nvPr/>
        </p:nvPicPr>
        <p:blipFill>
          <a:blip r:embed="rId1"/>
          <a:stretch/>
        </p:blipFill>
        <p:spPr>
          <a:xfrm>
            <a:off x="5315040" y="1285920"/>
            <a:ext cx="3848040" cy="5737320"/>
          </a:xfrm>
          <a:prstGeom prst="rect">
            <a:avLst/>
          </a:prstGeom>
          <a:ln w="0">
            <a:noFill/>
          </a:ln>
        </p:spPr>
      </p:pic>
      <p:sp>
        <p:nvSpPr>
          <p:cNvPr id="159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3579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1004040" y="59292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Ответ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3"/>
          <p:cNvSpPr/>
          <p:nvPr/>
        </p:nvSpPr>
        <p:spPr>
          <a:xfrm>
            <a:off x="3934800" y="214200"/>
            <a:ext cx="182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39640" y="549360"/>
            <a:ext cx="766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ящие дети сокращают себе жизнь в среднем на 15 %. На сколько лет уменьшают свою жизнь курящие дети, если средняя продолжительность жизни в России 56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75280" y="62150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10800"/>
                </a:moveTo>
                <a:lnTo>
                  <a:pt x="33993" y="3794"/>
                </a:lnTo>
                <a:lnTo>
                  <a:pt x="339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"/>
          <p:cNvSpPr/>
          <p:nvPr/>
        </p:nvSpPr>
        <p:spPr>
          <a:xfrm>
            <a:off x="2500200" y="578628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56:100*15=8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8,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4808_deti.jpg"/>
          <p:cNvPicPr/>
          <p:nvPr/>
        </p:nvPicPr>
        <p:blipFill>
          <a:blip r:embed="rId1"/>
          <a:stretch/>
        </p:blipFill>
        <p:spPr>
          <a:xfrm>
            <a:off x="4143240" y="2428920"/>
            <a:ext cx="4476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3434760" y="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дач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68360" y="69228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школьников норма суточной потребности в различных витаминах составляет в среднем 125 мг. Одна выкуренная сигарета нейтрализует (уничтожает) 20% витаминов. Сколько миллиграммов витаминов ворует у себя курильщик с каждой сигарет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642960" y="62150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www.trainmuscles.ru/wp-content/uploads/2012/01/vitamini-i-minerali.jpg"/>
          <p:cNvPicPr/>
          <p:nvPr/>
        </p:nvPicPr>
        <p:blipFill>
          <a:blip r:embed="rId1"/>
          <a:stretch/>
        </p:blipFill>
        <p:spPr>
          <a:xfrm>
            <a:off x="5786280" y="3286080"/>
            <a:ext cx="3009960" cy="30099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9"/>
          <p:cNvSpPr/>
          <p:nvPr/>
        </p:nvSpPr>
        <p:spPr>
          <a:xfrm>
            <a:off x="500040" y="3500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лезная информаци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статок витаминов вызывает повышенную утомляемость при умственной работе, а также боли в конечностях, одышку, бессонницу, усиленное сердцеби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10800"/>
                </a:moveTo>
                <a:lnTo>
                  <a:pt x="33993" y="3794"/>
                </a:lnTo>
                <a:lnTo>
                  <a:pt x="339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860200" y="5572080"/>
            <a:ext cx="36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) 125:100*20=25 м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2435760" y="621504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5 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>
            <a:off x="2863440" y="28584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дача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611280" y="692280"/>
            <a:ext cx="453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дце нормально тренированного человека бьется с частотой 70 ударов в минуту. Сердце курильщика вынуждено делать на 5-10 ударов в минуту больше. Сколько дополнительных ударов приходится делать сердцу курильщика за су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0" y="61437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fishki.net/picsw/102012/30/post_anti/serdce/tn.jpg"/>
          <p:cNvPicPr/>
          <p:nvPr/>
        </p:nvPicPr>
        <p:blipFill>
          <a:blip r:embed="rId1"/>
          <a:stretch/>
        </p:blipFill>
        <p:spPr>
          <a:xfrm>
            <a:off x="5408640" y="476280"/>
            <a:ext cx="3222720" cy="4167000"/>
          </a:xfrm>
          <a:prstGeom prst="rect">
            <a:avLst/>
          </a:prstGeom>
          <a:ln w="0">
            <a:noFill/>
          </a:ln>
        </p:spPr>
      </p:pic>
      <p:sp>
        <p:nvSpPr>
          <p:cNvPr id="179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7956720" y="638172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"/>
          <p:cNvSpPr/>
          <p:nvPr/>
        </p:nvSpPr>
        <p:spPr>
          <a:xfrm>
            <a:off x="1729080" y="6215040"/>
            <a:ext cx="39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 200 – 14 400 уд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214200" y="4643280"/>
            <a:ext cx="52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)5*60*24=7200(уда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)10*60*24=14 400(уда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3863520" y="21420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дача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57120" y="642960"/>
            <a:ext cx="832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которые зарубежные фирмы за одну и ту же работу курильщикам устанавливают заработную плату на 15% ниже, чем некурящим. Средняя заработная плата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40 в месяц. На сколько долларов меньше получит курящий работ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400680" y="602136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://static5.depositphotos.com/1001030/513/i/950/depositphotos_5134234-Happy-office--workers.jpg"/>
          <p:cNvPicPr/>
          <p:nvPr/>
        </p:nvPicPr>
        <p:blipFill>
          <a:blip r:embed="rId1"/>
          <a:stretch/>
        </p:blipFill>
        <p:spPr>
          <a:xfrm>
            <a:off x="714240" y="3429000"/>
            <a:ext cx="4025880" cy="222408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10800"/>
                </a:moveTo>
                <a:lnTo>
                  <a:pt x="33993" y="3794"/>
                </a:lnTo>
                <a:lnTo>
                  <a:pt x="339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2079720" y="60008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3593520" y="571500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)340:100*15=51(долл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900000" y="765000"/>
            <a:ext cx="58327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ах Китая юного курильщика ожидает изнурительное наказание. Как вы думаете, как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ировка на велотренаже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 на 1,5 к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тьё полов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520080" y="21420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опрос 6.-бо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image01.otto.de/pool/formata/533184.jpg"/>
          <p:cNvPicPr/>
          <p:nvPr/>
        </p:nvPicPr>
        <p:blipFill>
          <a:blip r:embed="rId1"/>
          <a:stretch/>
        </p:blipFill>
        <p:spPr>
          <a:xfrm>
            <a:off x="539640" y="263700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Ижевский бегун завоевал «серебро» Кубка России"/>
          <p:cNvPicPr/>
          <p:nvPr/>
        </p:nvPicPr>
        <p:blipFill>
          <a:blip r:embed="rId2"/>
          <a:stretch/>
        </p:blipFill>
        <p:spPr>
          <a:xfrm>
            <a:off x="3406680" y="3860640"/>
            <a:ext cx="3979800" cy="2664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https://encrypted-tbn3.gstatic.com/images?q=tbn:ANd9GcQrGmQgBqs2drJtgnbQIYF7Q85my5HVvqOHKv3KW_GJ1euD92M2EQ"/>
          <p:cNvPicPr/>
          <p:nvPr/>
        </p:nvPicPr>
        <p:blipFill>
          <a:blip r:embed="rId3"/>
          <a:stretch/>
        </p:blipFill>
        <p:spPr>
          <a:xfrm>
            <a:off x="5219640" y="1557360"/>
            <a:ext cx="3168720" cy="21081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687960" y="6093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право 10">
            <a:hlinkClick r:id="rId4" action="ppaction://hlinksldjump"/>
          </p:cNvPr>
          <p:cNvSpPr/>
          <p:nvPr/>
        </p:nvSpPr>
        <p:spPr>
          <a:xfrm>
            <a:off x="7885080" y="623736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1995840" y="60958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Конкурс болельщ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наибольшее число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букв данного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треуголь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5 </a:t>
            </a:r>
            <a:br>
              <a:rPr sz="4400"/>
            </a:b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«Ремонт в квартир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857840" cy="45054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7717680" y="6429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Задание  6 </a:t>
            </a:r>
            <a:br>
              <a:rPr sz="4000"/>
            </a:b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«Музыкально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MCj04398950000[1]"/>
          <p:cNvPicPr/>
          <p:nvPr/>
        </p:nvPicPr>
        <p:blipFill>
          <a:blip r:embed="rId1"/>
          <a:stretch/>
        </p:blipFill>
        <p:spPr>
          <a:xfrm>
            <a:off x="755640" y="1989000"/>
            <a:ext cx="4176720" cy="388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BD18223_"/>
          <p:cNvPicPr/>
          <p:nvPr/>
        </p:nvPicPr>
        <p:blipFill>
          <a:blip r:embed="rId2"/>
          <a:stretch/>
        </p:blipFill>
        <p:spPr>
          <a:xfrm>
            <a:off x="6215040" y="3286080"/>
            <a:ext cx="1984320" cy="1974960"/>
          </a:xfrm>
          <a:prstGeom prst="rect">
            <a:avLst/>
          </a:prstGeom>
          <a:ln w="0">
            <a:noFill/>
          </a:ln>
        </p:spPr>
      </p:pic>
      <p:sp>
        <p:nvSpPr>
          <p:cNvPr id="203" name="Заголовок 1"/>
          <p:cNvSpPr/>
          <p:nvPr/>
        </p:nvSpPr>
        <p:spPr>
          <a:xfrm>
            <a:off x="500040" y="285840"/>
            <a:ext cx="82296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7432200" y="6429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Detskie-pesni-Chemu-uchat-v-shkole-MИNUS-uchitelyam(muzofon.com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Detskie-pesni-Chemu-uchat-v-shkole-MИNUS-uchitelyam(muzofon.com).mp3" descr=""/>
          <p:cNvPicPr/>
          <p:nvPr/>
        </p:nvPicPr>
        <p:blipFill>
          <a:blip r:embed="rId4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34978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134978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одведение итогов иг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000160" y="1428840"/>
            <a:ext cx="53578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066D-0AE5-4232-9EE8-46C404BF9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324000" y="1847880"/>
            <a:ext cx="8319960" cy="4387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j0149481"/>
          <p:cNvPicPr/>
          <p:nvPr/>
        </p:nvPicPr>
        <p:blipFill>
          <a:blip r:embed="rId2"/>
          <a:stretch/>
        </p:blipFill>
        <p:spPr>
          <a:xfrm>
            <a:off x="6807240" y="4508640"/>
            <a:ext cx="2054160" cy="208728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pic>
        <p:nvPicPr>
          <p:cNvPr id="212" name="Picture 5" descr="22646384_matika_2"/>
          <p:cNvPicPr/>
          <p:nvPr/>
        </p:nvPicPr>
        <p:blipFill>
          <a:blip r:embed="rId3"/>
          <a:stretch/>
        </p:blipFill>
        <p:spPr>
          <a:xfrm>
            <a:off x="468360" y="260280"/>
            <a:ext cx="1641600" cy="216072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sp>
        <p:nvSpPr>
          <p:cNvPr id="213" name="TextBox 5"/>
          <p:cNvSpPr/>
          <p:nvPr/>
        </p:nvSpPr>
        <p:spPr>
          <a:xfrm>
            <a:off x="2724480" y="357120"/>
            <a:ext cx="578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Награжд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ABEB-38B6-47F6-A9C8-AC1274423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619280" y="1268280"/>
            <a:ext cx="5905440" cy="439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9097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Разминка</a:t>
            </a:r>
            <a:br>
              <a:rPr sz="4400"/>
            </a:b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(балл за правильный и быстрый отв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49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.Какой город в России назван «в честь» знака математической опера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Минусинск, Красноярский кра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.Назовите «математические» раст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Тысячелистник, столетни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2089440" cy="274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2395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3.Какие цифры «пишут» летчики в неб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Восьмер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39798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4.Без чего не могут обойтись охотники, барабанщики и матема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Без дроб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2281320" cy="206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3492360" y="3213000"/>
            <a:ext cx="1662120" cy="2111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012000" y="3716280"/>
            <a:ext cx="2273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9:20:48Z</dcterms:created>
  <dc:creator>1</dc:creator>
  <dc:description/>
  <dc:language>en-US</dc:language>
  <cp:lastModifiedBy>Арина Бувашкина</cp:lastModifiedBy>
  <dcterms:modified xsi:type="dcterms:W3CDTF">2022-09-25T05:46:23Z</dcterms:modified>
  <cp:revision>43</cp:revision>
  <dc:subject/>
  <dc:title>Математика в жизни</dc:title>
</cp:coreProperties>
</file>