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20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13.png" ContentType="image/png"/>
  <Override PartName="/ppt/media/image46.wmf" ContentType="image/x-wmf"/>
  <Override PartName="/ppt/media/image37.png" ContentType="image/png"/>
  <Override PartName="/ppt/media/image34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47.wmf" ContentType="image/x-wmf"/>
  <Override PartName="/ppt/media/image51.jpeg" ContentType="image/jpeg"/>
  <Override PartName="/ppt/media/image48.png" ContentType="image/png"/>
  <Override PartName="/ppt/media/image11.png" ContentType="image/png"/>
  <Override PartName="/ppt/media/image6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media/image39.jpeg" ContentType="image/jpeg"/>
  <Override PartName="/ppt/media/image8.jpeg" ContentType="image/jpe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9046-F33F-4CE7-9B5D-7DB4D5666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B84-E0FF-4C6F-A66B-63DAA36492F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A1D-918D-42B4-AE48-6EFF2B2C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8DE-B074-4ECC-A5B6-543787DC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778-16C2-443B-B0E8-0FCD3290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D6C-0F79-4EF3-B0D3-1AEA118C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27E-C12C-4EE5-A024-D848464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C6F-283E-487B-BFB1-07F286E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3839-B5E3-4499-B5A0-43AA45E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89D-5B3D-44FE-9214-D2AD9FB7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6EF-87B2-41A7-AEC7-E9B53A67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A52-DAF0-4AF1-A4FF-F854485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ED3-5D07-40C2-9D5D-D9A5479D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044-F7E1-4B44-834F-711E2B8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8C40-5C0D-4707-BFED-BA510B977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06292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33cc"/>
                </a:solidFill>
                <a:latin typeface="Arial"/>
              </a:rPr>
              <a:t>КВН </a:t>
            </a: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«Математика в нашей жизн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7720" y="4508280"/>
            <a:ext cx="6816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Бувашкина И.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МБОУ «Лицей №21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5840" y="3857760"/>
            <a:ext cx="2714400" cy="2523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6570720" y="3008160"/>
            <a:ext cx="25732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5.Что есть у каждого слова, растения и уравн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р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2203560" cy="298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2411280" y="3429000"/>
            <a:ext cx="333396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6012000" y="2852640"/>
            <a:ext cx="252072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6.Название какого государства скрывается в формуле А</a:t>
            </a:r>
            <a:r>
              <a:rPr b="1" lang="ru-RU" sz="4000" spc="-1" strike="noStrike" baseline="30000">
                <a:solidFill>
                  <a:srgbClr val="0033cc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уб А-Куб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26654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7.Какую формулу прославили Фанхио, Лауда, Прост, Шумахе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Автогонки Формула-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763640" y="3141720"/>
            <a:ext cx="4286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8.Какие геометрические фигуры дружат с солнц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у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28749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9.Какая геометрическая фигура нужна для наказания де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Уго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46054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0.Обманный финансовый многогранник – это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ирамид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952640" y="2637000"/>
            <a:ext cx="339084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1.Какую форму имеют соты пчел, ячейки глаз насеком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Форму правильного шестиуголь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335124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2.Вечнозеленый конус – 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ипар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40658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3.Многогранник из Египта – э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ирами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41911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4.Как называется перпендикуляр к рельс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Шпа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6165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95E-B220-4543-A46B-3465CE903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81200" y="171360"/>
            <a:ext cx="79977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54" name="Подзаголовок 2"/>
          <p:cNvGrpSpPr/>
          <p:nvPr/>
        </p:nvGrpSpPr>
        <p:grpSpPr>
          <a:xfrm>
            <a:off x="469800" y="2419200"/>
            <a:ext cx="7193160" cy="4030920"/>
            <a:chOff x="469800" y="2419200"/>
            <a:chExt cx="7193160" cy="4030920"/>
          </a:xfrm>
        </p:grpSpPr>
        <p:pic>
          <p:nvPicPr>
            <p:cNvPr id="55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469800" y="2419200"/>
              <a:ext cx="7193160" cy="40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5"/>
            <p:cNvSpPr/>
            <p:nvPr/>
          </p:nvSpPr>
          <p:spPr>
            <a:xfrm>
              <a:off x="541440" y="2517840"/>
              <a:ext cx="6900840" cy="37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Целеустремленность, сильную волю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стойчивое внимание, сосредоточен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Хорошую памя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мение логически мысли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собность к творчеству и научной фантази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Умение прикидывать и оценивать результаты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аботоспособность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ходчивость и смекалку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увство юмор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SzPct val="6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7" descr="j0301252"/>
          <p:cNvPicPr/>
          <p:nvPr/>
        </p:nvPicPr>
        <p:blipFill>
          <a:blip r:embed="rId3"/>
          <a:stretch/>
        </p:blipFill>
        <p:spPr>
          <a:xfrm>
            <a:off x="6156360" y="4241880"/>
            <a:ext cx="284472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5.Какая цифра широко известна в мировой политике, да ещё с эпитетом «больша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Большая восьмерка»-неформальный клуб президентов восьми государст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364000" y="4149720"/>
            <a:ext cx="31719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6.Какую геометрическую фигуру украшают брильянт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Кольц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7.Эмблемой какого автомобиля являются четыре кольц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«Ауд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43909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8. Сколько вы знаете чудес све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Сем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979640" y="2500200"/>
            <a:ext cx="439272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43040" y="1571760"/>
            <a:ext cx="52862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4143240" y="785880"/>
            <a:ext cx="4429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Двое друзей собрались поехать на электричке за город. Они договорились встретиться в пятом ваг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Однако они не согласовали один важный момент: не уточнили, встретятся они в пятом вагоне от начала или от конца пое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И один из приятелей сел в пятый вагон от начала, а второй -в пятый вагон от конца. Но они все-таки встретились. Ответьте: сколько всего вагонов было в поез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Прямоугольник 2" descr=""/>
          <p:cNvPicPr/>
          <p:nvPr/>
        </p:nvPicPr>
        <p:blipFill>
          <a:blip r:embed="rId1"/>
          <a:stretch/>
        </p:blipFill>
        <p:spPr>
          <a:xfrm>
            <a:off x="1133640" y="-139680"/>
            <a:ext cx="6516360" cy="950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285840" y="68580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Franklin Gothic Book"/>
              </a:rPr>
              <a:t>Девять ваг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C:\Users\км\Pictures\Юля\п2.jpg"/>
          <p:cNvPicPr/>
          <p:nvPr/>
        </p:nvPicPr>
        <p:blipFill>
          <a:blip r:embed="rId2"/>
          <a:stretch/>
        </p:blipFill>
        <p:spPr>
          <a:xfrm>
            <a:off x="0" y="1000080"/>
            <a:ext cx="3929040" cy="37148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7574760" y="2858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2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 Выгодная поезд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7717680" y="7858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730872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500040" y="214200"/>
            <a:ext cx="82868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е решают, как им дешевле доехать из города А в город Б – на поезде или автомобиле. Билет на поезд стоит 540 рублей. Автомобиль расходует 6 л бензина на 100 км пути. Расстояние по шоссе 700 км. Цена бензина за литр 18 рублей. Сколько рублей будет стоить наиболее выгодная поезд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285920" y="4643280"/>
            <a:ext cx="678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1) 540*2=1080(р)-поездка на по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)6*7*18=756(р)-поездка на маш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ЕТ: 756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P9010390.JPG"/>
          <p:cNvPicPr/>
          <p:nvPr/>
        </p:nvPicPr>
        <p:blipFill>
          <a:blip r:embed="rId2"/>
          <a:stretch/>
        </p:blipFill>
        <p:spPr>
          <a:xfrm>
            <a:off x="142920" y="5000760"/>
            <a:ext cx="2190600" cy="1643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6" descr="SAAB_9-3 Convertible_Cabriolet_2007.jpg"/>
          <p:cNvPicPr/>
          <p:nvPr/>
        </p:nvPicPr>
        <p:blipFill>
          <a:blip r:embed="rId3"/>
          <a:stretch/>
        </p:blipFill>
        <p:spPr>
          <a:xfrm>
            <a:off x="6858000" y="5143680"/>
            <a:ext cx="2131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3 « Лекарство для больного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7503480" y="114300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7308720" y="623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верну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14200" y="549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ьному прописан курс лекарства: 3 раза в день по 1 таблетке в течение трех недель. В одной упаковке 10 таблеток. Цена 1 упаковки 66 рублей. Сколько рублей надо заплатить в аптеке за лекарство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071800" y="4643280"/>
            <a:ext cx="6643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)3*7*3=63( таб)-на три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)63:10=6(упаковок+3 таблетки)-надо купить 7 упак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7*66=462(ру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вет: 462 руб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1257259684_image002.jpg"/>
          <p:cNvPicPr/>
          <p:nvPr/>
        </p:nvPicPr>
        <p:blipFill>
          <a:blip r:embed="rId2"/>
          <a:stretch/>
        </p:blipFill>
        <p:spPr>
          <a:xfrm>
            <a:off x="7054920" y="342900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иветствие коман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Содержимое 3" descr="matematika_carica_nauk1.jpg"/>
          <p:cNvPicPr/>
          <p:nvPr/>
        </p:nvPicPr>
        <p:blipFill>
          <a:blip r:embed="rId1"/>
          <a:stretch/>
        </p:blipFill>
        <p:spPr>
          <a:xfrm>
            <a:off x="1928880" y="1428840"/>
            <a:ext cx="542916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4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Математика о вреде кур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285840" y="2714760"/>
            <a:ext cx="407196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46400" y="2349000"/>
            <a:ext cx="59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табаком и опиу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6027840" y="580536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. 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http://dic.academic.ru/pictures/bse/jpg/0257679502.jpg"/>
          <p:cNvPicPr/>
          <p:nvPr/>
        </p:nvPicPr>
        <p:blipFill>
          <a:blip r:embed="rId1"/>
          <a:stretch/>
        </p:blipFill>
        <p:spPr>
          <a:xfrm>
            <a:off x="122400" y="1219320"/>
            <a:ext cx="32112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14200" y="121428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мире проживает боле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,1 млрд курильщ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80% курильщиков начали курить в школ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России каждые 9 секунд из-за болезней, вызванных курением, умирает один челове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0% среди 12-летних подростков курят,  к 14 годам эта цифра возрастает почти вдво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 18 годам сигарету попробовали хотя бы раз уже 80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468360" y="2276640"/>
          <a:ext cx="8229600" cy="312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сли человек курит в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сокращает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20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до 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4,6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1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5,5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9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 до 39 сигар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6,2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640320" y="285840"/>
            <a:ext cx="17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1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826920" y="765000"/>
            <a:ext cx="460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вес новорождённого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кг 300г. Если у ребёнка курит отец, то вес новорождённого будет меньше среднего на 125г,а если мать- то на 400 г. Определите, вес новорожденного  ребенка, есл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курит пап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) курит мам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)  курят и папа и ма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2733120" y="5857920"/>
            <a:ext cx="63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) 3кг175г;  б) 2кг 900 г;  в) 2 кг 775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ttp://www.resimbul.com/sonuc/c/tup-bebek/bahceci-tup-bebek-merkezi/bahceci-tup-bebek-merkezi-71f12d.jpg"/>
          <p:cNvPicPr/>
          <p:nvPr/>
        </p:nvPicPr>
        <p:blipFill>
          <a:blip r:embed="rId1"/>
          <a:stretch/>
        </p:blipFill>
        <p:spPr>
          <a:xfrm>
            <a:off x="5315040" y="1285920"/>
            <a:ext cx="3848040" cy="5737320"/>
          </a:xfrm>
          <a:prstGeom prst="rect">
            <a:avLst/>
          </a:prstGeom>
          <a:ln w="0">
            <a:noFill/>
          </a:ln>
        </p:spPr>
      </p:pic>
      <p:sp>
        <p:nvSpPr>
          <p:cNvPr id="159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7786800" y="635796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10800"/>
                </a:moveTo>
                <a:lnTo>
                  <a:pt x="31337" y="3794"/>
                </a:lnTo>
                <a:lnTo>
                  <a:pt x="31337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"/>
          <p:cNvSpPr/>
          <p:nvPr/>
        </p:nvSpPr>
        <p:spPr>
          <a:xfrm>
            <a:off x="1004040" y="59292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твет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3"/>
          <p:cNvSpPr/>
          <p:nvPr/>
        </p:nvSpPr>
        <p:spPr>
          <a:xfrm>
            <a:off x="3934800" y="214200"/>
            <a:ext cx="182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39640" y="549360"/>
            <a:ext cx="766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рящие дети сокращают себе жизнь в среднем на 15 %. На сколько лет уменьшают свою жизнь курящие дети, если средняя продолжительность жизни в России 56 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75280" y="62150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Управляющая кнопка: назад 11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"/>
          <p:cNvSpPr/>
          <p:nvPr/>
        </p:nvSpPr>
        <p:spPr>
          <a:xfrm>
            <a:off x="2500200" y="578628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56:100*15=8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8,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4808_deti.jpg"/>
          <p:cNvPicPr/>
          <p:nvPr/>
        </p:nvPicPr>
        <p:blipFill>
          <a:blip r:embed="rId1"/>
          <a:stretch/>
        </p:blipFill>
        <p:spPr>
          <a:xfrm>
            <a:off x="4143240" y="2428920"/>
            <a:ext cx="4476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3434760" y="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дача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468360" y="692280"/>
            <a:ext cx="835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школьников норма суточной потребности в различных витаминах составляет в среднем 125 мг. Одна выкуренная сигарета нейтрализует (уничтожает) 20% витаминов. Сколько миллиграммов витаминов ворует у себя курильщик с каждой сигарет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642960" y="6215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trainmuscles.ru/wp-content/uploads/2012/01/vitamini-i-minerali.jpg"/>
          <p:cNvPicPr/>
          <p:nvPr/>
        </p:nvPicPr>
        <p:blipFill>
          <a:blip r:embed="rId1"/>
          <a:stretch/>
        </p:blipFill>
        <p:spPr>
          <a:xfrm>
            <a:off x="5786280" y="328608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9"/>
          <p:cNvSpPr/>
          <p:nvPr/>
        </p:nvSpPr>
        <p:spPr>
          <a:xfrm>
            <a:off x="500040" y="3500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олезная информация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статок витаминов вызывает повышенную утомляемость при умственной работе, а также боли в конечностях, одышку, бессонницу, усиленное сердцеби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Управляющая кнопка: назад 10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"/>
          <p:cNvSpPr/>
          <p:nvPr/>
        </p:nvSpPr>
        <p:spPr>
          <a:xfrm>
            <a:off x="2860200" y="5572080"/>
            <a:ext cx="36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 125:100*20=25 м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2435760" y="621504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5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2863440" y="28584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611280" y="692280"/>
            <a:ext cx="453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 нормально тренированного человека бьется с частотой 70 ударов в минуту. Сердце курильщика вынуждено делать на 5-10 ударов в минуту больше. Сколько дополнительных ударов приходится делать сердцу курильщика за сут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0" y="61437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fishki.net/picsw/102012/30/post_anti/serdce/tn.jpg"/>
          <p:cNvPicPr/>
          <p:nvPr/>
        </p:nvPicPr>
        <p:blipFill>
          <a:blip r:embed="rId1"/>
          <a:stretch/>
        </p:blipFill>
        <p:spPr>
          <a:xfrm>
            <a:off x="5408640" y="476280"/>
            <a:ext cx="3222720" cy="4167000"/>
          </a:xfrm>
          <a:prstGeom prst="rect">
            <a:avLst/>
          </a:prstGeom>
          <a:ln w="0">
            <a:noFill/>
          </a:ln>
        </p:spPr>
      </p:pic>
      <p:sp>
        <p:nvSpPr>
          <p:cNvPr id="179" name="Управляющая кнопка: назад 7">
            <a:hlinkClick r:id="" action="ppaction://hlinkshowjump?jump=previousslide"/>
          </p:cNvPr>
          <p:cNvSpPr/>
          <p:nvPr/>
        </p:nvSpPr>
        <p:spPr>
          <a:xfrm>
            <a:off x="7956720" y="638172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1729080" y="6215040"/>
            <a:ext cx="39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 200 – 14 400 уда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214200" y="4643280"/>
            <a:ext cx="52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5*60*24=7200(уд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)10*60*24=14 400(уда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3863520" y="21420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Задача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57120" y="642960"/>
            <a:ext cx="8321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которые зарубежные фирмы за одну и ту же работу курильщикам устанавливают заработную плату на 15% ниже, чем некурящим. Средняя заработная плата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40 в месяц. На сколько долларов меньше получит курящий работни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400680" y="6021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Отв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://static5.depositphotos.com/1001030/513/i/950/depositphotos_5134234-Happy-office--workers.jpg"/>
          <p:cNvPicPr/>
          <p:nvPr/>
        </p:nvPicPr>
        <p:blipFill>
          <a:blip r:embed="rId1"/>
          <a:stretch/>
        </p:blipFill>
        <p:spPr>
          <a:xfrm>
            <a:off x="714240" y="3429000"/>
            <a:ext cx="4025880" cy="2224080"/>
          </a:xfrm>
          <a:prstGeom prst="rect">
            <a:avLst/>
          </a:prstGeom>
          <a:ln w="0">
            <a:noFill/>
          </a:ln>
        </p:spPr>
      </p:pic>
      <p:sp>
        <p:nvSpPr>
          <p:cNvPr id="18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7885080" y="6165720"/>
            <a:ext cx="719280" cy="28764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53973" h="21600">
                <a:moveTo>
                  <a:pt x="0" y="0"/>
                </a:moveTo>
                <a:lnTo>
                  <a:pt x="53973" y="0"/>
                </a:lnTo>
                <a:lnTo>
                  <a:pt x="53973" y="21600"/>
                </a:lnTo>
                <a:lnTo>
                  <a:pt x="0" y="21600"/>
                </a:lnTo>
                <a:close/>
              </a:path>
              <a:path fill="lightenLess" w="53973" h="21600">
                <a:moveTo>
                  <a:pt x="0" y="0"/>
                </a:moveTo>
                <a:lnTo>
                  <a:pt x="53973" y="0"/>
                </a:lnTo>
                <a:lnTo>
                  <a:pt x="52573" y="1400"/>
                </a:lnTo>
                <a:lnTo>
                  <a:pt x="1400" y="1400"/>
                </a:lnTo>
                <a:close/>
              </a:path>
              <a:path fill="darken" w="53973" h="21600">
                <a:moveTo>
                  <a:pt x="53973" y="0"/>
                </a:moveTo>
                <a:lnTo>
                  <a:pt x="53973" y="21600"/>
                </a:lnTo>
                <a:lnTo>
                  <a:pt x="52573" y="20200"/>
                </a:lnTo>
                <a:lnTo>
                  <a:pt x="52573" y="1400"/>
                </a:lnTo>
                <a:close/>
              </a:path>
              <a:path fill="darkenLess" w="53973" h="21600">
                <a:moveTo>
                  <a:pt x="53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3" y="20200"/>
                </a:lnTo>
                <a:close/>
              </a:path>
              <a:path fill="lighten" w="53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3" h="21600">
                <a:moveTo>
                  <a:pt x="19980" y="10800"/>
                </a:moveTo>
                <a:lnTo>
                  <a:pt x="33993" y="3794"/>
                </a:lnTo>
                <a:lnTo>
                  <a:pt x="33993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2079720" y="600084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5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3593520" y="571500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)340:100*15=51(долла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900000" y="765000"/>
            <a:ext cx="5832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колах Китая юного курильщика ожидает изнурительное наказание. Как вы думаете, как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нировка на велотренаже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 на 1,5 к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тьё полов в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3520080" y="21420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Вопрос 6.-бо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image01.otto.de/pool/formata/533184.jpg"/>
          <p:cNvPicPr/>
          <p:nvPr/>
        </p:nvPicPr>
        <p:blipFill>
          <a:blip r:embed="rId1"/>
          <a:stretch/>
        </p:blipFill>
        <p:spPr>
          <a:xfrm>
            <a:off x="539640" y="263700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Ижевский бегун завоевал «серебро» Кубка России"/>
          <p:cNvPicPr/>
          <p:nvPr/>
        </p:nvPicPr>
        <p:blipFill>
          <a:blip r:embed="rId2"/>
          <a:stretch/>
        </p:blipFill>
        <p:spPr>
          <a:xfrm>
            <a:off x="3406680" y="3860640"/>
            <a:ext cx="3979800" cy="2664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https://encrypted-tbn3.gstatic.com/images?q=tbn:ANd9GcQrGmQgBqs2drJtgnbQIYF7Q85my5HVvqOHKv3KW_GJ1euD92M2EQ"/>
          <p:cNvPicPr/>
          <p:nvPr/>
        </p:nvPicPr>
        <p:blipFill>
          <a:blip r:embed="rId3"/>
          <a:stretch/>
        </p:blipFill>
        <p:spPr>
          <a:xfrm>
            <a:off x="5219640" y="1557360"/>
            <a:ext cx="3168720" cy="21081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687960" y="6093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право 10">
            <a:hlinkClick r:id="rId4" action="ppaction://hlinksldjump"/>
          </p:cNvPr>
          <p:cNvSpPr/>
          <p:nvPr/>
        </p:nvSpPr>
        <p:spPr>
          <a:xfrm>
            <a:off x="7885080" y="623736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"/>
          <p:cNvSpPr/>
          <p:nvPr/>
        </p:nvSpPr>
        <p:spPr>
          <a:xfrm>
            <a:off x="1995840" y="6095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Конкурс болельщ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ь наибольшее число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букв данного сло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треуголь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Задание5 </a:t>
            </a:r>
            <a:br>
              <a:rPr sz="4400"/>
            </a:b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«Ремонт в квартир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4857840" cy="45054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7717680" y="6429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Задание  6 </a:t>
            </a:r>
            <a:br>
              <a:rPr sz="4000"/>
            </a:br>
            <a:r>
              <a:rPr b="1" lang="ru-RU" sz="4000" spc="-1" strike="noStrike" u="sng">
                <a:solidFill>
                  <a:srgbClr val="00b050"/>
                </a:solidFill>
                <a:uFillTx/>
                <a:latin typeface="Arial"/>
              </a:rPr>
              <a:t>«Музыка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MCj04398950000[1]"/>
          <p:cNvPicPr/>
          <p:nvPr/>
        </p:nvPicPr>
        <p:blipFill>
          <a:blip r:embed="rId1"/>
          <a:stretch/>
        </p:blipFill>
        <p:spPr>
          <a:xfrm>
            <a:off x="755640" y="1989000"/>
            <a:ext cx="4176720" cy="388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BD18223_"/>
          <p:cNvPicPr/>
          <p:nvPr/>
        </p:nvPicPr>
        <p:blipFill>
          <a:blip r:embed="rId2"/>
          <a:stretch/>
        </p:blipFill>
        <p:spPr>
          <a:xfrm>
            <a:off x="6215040" y="3286080"/>
            <a:ext cx="1984320" cy="197496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00040" y="285840"/>
            <a:ext cx="8229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7432200" y="6429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Detskie-pesni-Chemu-uchat-v-shkole-MИNUS-uchitelyam(muzofon.com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Detskie-pesni-Chemu-uchat-v-shkole-MИNUS-uchitelyam(muzofon.com).mp3" descr=""/>
          <p:cNvPicPr/>
          <p:nvPr/>
        </p:nvPicPr>
        <p:blipFill>
          <a:blip r:embed="rId4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578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3497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134978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одведение итогов иг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000160" y="1428840"/>
            <a:ext cx="53578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451-D281-4E5D-A375-A7BB4D465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324000" y="1847880"/>
            <a:ext cx="8319960" cy="438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j0149481"/>
          <p:cNvPicPr/>
          <p:nvPr/>
        </p:nvPicPr>
        <p:blipFill>
          <a:blip r:embed="rId2"/>
          <a:stretch/>
        </p:blipFill>
        <p:spPr>
          <a:xfrm>
            <a:off x="6807240" y="4508640"/>
            <a:ext cx="2054160" cy="20872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212" name="Picture 5" descr="22646384_matika_2"/>
          <p:cNvPicPr/>
          <p:nvPr/>
        </p:nvPicPr>
        <p:blipFill>
          <a:blip r:embed="rId3"/>
          <a:stretch/>
        </p:blipFill>
        <p:spPr>
          <a:xfrm>
            <a:off x="468360" y="260280"/>
            <a:ext cx="1641600" cy="21607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213" name="TextBox 5"/>
          <p:cNvSpPr/>
          <p:nvPr/>
        </p:nvSpPr>
        <p:spPr>
          <a:xfrm>
            <a:off x="2724480" y="357120"/>
            <a:ext cx="578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одведение итог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Награжд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66A9-823B-4EE2-8B5C-31A242861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619280" y="1268280"/>
            <a:ext cx="5905440" cy="439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9097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Разминка</a:t>
            </a:r>
            <a:br>
              <a:rPr sz="4400"/>
            </a:b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(балл за правильный и быстрый отв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071720" y="1928880"/>
            <a:ext cx="49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1.Какой город в России назван «в честь» знака математической операц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Минусинск, Красноярский кра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.Назовите «математические» раст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Тысячелистник, столетни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2089440" cy="274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23954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3.Какие цифры «пишут» летчики в неб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Восьмер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39798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4.Без чего не могут обойтись охотники, барабанщики и математи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Без дроб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2281320" cy="206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3492360" y="3213000"/>
            <a:ext cx="1662120" cy="211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012000" y="3716280"/>
            <a:ext cx="22730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9:20:48Z</dcterms:created>
  <dc:creator>1</dc:creator>
  <dc:description/>
  <dc:language>en-US</dc:language>
  <cp:lastModifiedBy>Арина Бувашкина</cp:lastModifiedBy>
  <dcterms:modified xsi:type="dcterms:W3CDTF">2022-09-25T05:46:23Z</dcterms:modified>
  <cp:revision>43</cp:revision>
  <dc:subject/>
  <dc:title>Математика в жизни</dc:title>
</cp:coreProperties>
</file>