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9AB-55E5-4873-975D-1B1642F5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8EA-5A1D-4E28-B1EA-F65D216E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9A5-089E-4C43-A3EC-A767E02F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787-62AA-4C32-A5A9-0DB050E5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24EB-484C-4E3A-AE5A-962602FF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48B7-6C49-456E-9362-900766B6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39E0-6150-4B9D-8228-CFC690A8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93D3-94EB-4E62-8942-6560032F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BB9B-27B3-46BB-AF57-52672355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2D95-1654-4C89-B316-205C2B23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2B9B-78DA-403B-885B-5889B510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7F6-35BF-4631-95AA-286A14A2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56A3-DC74-4A73-B681-29446A63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03BB-76D4-4A23-AA33-BD1CF9EA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6887-824B-4415-978D-203669D5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BE93-3B9F-4CF4-8AAB-56B8367D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5F3B-F0C2-4B29-ACB0-C2362106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3729-EAA3-4984-81AC-50713B64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6B3C-4FA0-4B7A-8BA8-F0ABB01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7FDB-DABB-4518-B205-5AE6C8E0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6852-1D1C-4AE0-8F79-9C37C3F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7E50-5620-4C5B-BA8C-0BD74D0E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C37-4CC3-4D8B-96F8-1695F891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32874-8189-44F1-9718-62BCEE99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AA49-B9E4-41E3-8FCE-EBD44B76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D392-F63A-4ECB-A002-947ABA3A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4418D-26C1-4AED-BD45-2C39F52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1CC2-82FD-451E-AE80-1B56917A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2678-9CB2-4CF6-B54F-D5D99D0A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258C2-EE90-4A15-957B-308A277E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44458-37B3-45A2-BED3-212B76D2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3082-82D4-4920-8FC9-2633942C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4CB7D-C69A-4902-95EE-84D22C7B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D15-336E-4872-A12A-D517A7A3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CDB4C-407D-4E6F-9BF7-DF01DDDE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64290-9F07-4934-95F2-3F82C90D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796A8-8258-4C3C-8FF0-A60BD231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451D-921A-4242-BEAD-5B0B0511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65A7-DEA5-486C-A104-A8FE5BC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A6C2-FDCA-452C-9B9E-87EEED77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0C64-567D-4545-ACA1-1E0E5F47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6F92B-5ADE-456C-9205-78410724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F2B1-BC3E-487D-A954-B99CE42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1251-E3EF-4E8B-BFED-75AC4325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0C6-7054-4431-8CB7-20876BF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33E8-3F8D-465B-A72E-0359BCF5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5FE3E-4517-4236-AEEB-9E60A4CE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60B6-DDA2-4AA3-AF18-231B84F2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2838-2C4C-45A1-A890-7413CEB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F1622-A043-4D93-B437-2987CA59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FD0A4-48B2-4A25-8B6F-10FA834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BDF19-006A-4865-943D-8AAF53E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46B37-459A-41C7-917B-8EFAE98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F08E-3E4D-4982-9412-B67ED25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B78D-DE6B-4475-AC67-A24FECF8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C2BF-2E5B-4305-95B3-A7224679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7595-4DDE-4340-9193-93B97B02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4A72B-D401-4ED9-B199-F2D26548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FE710-732D-4D1D-8DE4-A40F6D3D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CFD9D-FB67-4A64-AEA8-69A2A58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B948D-91E8-4D35-BE45-4064F83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4C86-992D-4906-84B4-28B11D39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AAA19-C283-4DA1-959F-66379BB2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ECEA7-FE2C-4E16-BE95-F115BA41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ADA9-163B-4C4D-8EF9-64577BF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9FD9F-1F39-44D8-BAA8-61FCB76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80E-5059-47F9-835A-0D9BC081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FD009-2A7D-40C5-B370-99ADFFD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BB78B-9469-43B3-AD57-C2B19E74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6A342-9F72-4A20-9C8E-F1DD6BB3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3796-F1DF-4A25-A97C-7F10B185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B2513-1697-49B5-BC9C-EC5CEB7E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4F4CA-9DC1-4E87-815F-2C9F9B64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D4DD-B265-4326-B75E-E1CE83A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7D310-5D11-45F2-86F9-39487806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04DFB-BDC9-4D36-8247-3812976A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94D90-F425-4629-8F0D-AF94222B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F92-0A19-4A5C-8F65-D340CBC0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74C1-FA41-47F6-89F0-E9794B41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E7B6A-4631-4B9F-9718-C601F20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C400-9977-4AA1-989B-E7D26966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B2EF1-1753-4EF4-B02E-25E1B059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F3189-A01C-4FB7-8B94-F5F408D2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9F1-D0F2-480A-A0AE-473AC85B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1DDA-590D-4F08-A45A-65C71C5915E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FF87-4691-4376-9DD5-EB91CED2328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FEFA-720E-4266-AD8F-396FE5DE8C2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EF84-BB42-4A6C-8FA1-89D88EBEE00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6326-2890-4302-96AD-08CF035F154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3A68-06DE-449B-9CBC-01542CA3CBC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C2C-190A-4D22-99A1-589E86C8BBC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Рисунок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496000" cy="20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17436"/>
                </a:solidFill>
                <a:latin typeface="바탕"/>
                <a:ea typeface="바탕"/>
              </a:rPr>
              <a:t>Система физического воспитания обучающихся с умственной отсталостью (интеллектуальными нарушениями)</a:t>
            </a:r>
            <a:br>
              <a:rPr sz="2900"/>
            </a:br>
            <a:r>
              <a:rPr b="1" lang="ru-RU" sz="2900" spc="-1" strike="noStrike">
                <a:solidFill>
                  <a:srgbClr val="217436"/>
                </a:solidFill>
                <a:latin typeface="바탕"/>
                <a:ea typeface="바탕"/>
              </a:rPr>
              <a:t> в КГК ОУ Школа 1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79280" y="4581360"/>
            <a:ext cx="878544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ческое объединение учителей-предметников № 3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Бородкина Марина  Григорьевна – учитель физкультур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КГКОК Школа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Г. Комсомольск-на-Амур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87d6"/>
                </a:solidFill>
                <a:latin typeface="Times New Roman"/>
                <a:ea typeface="Times New Roman"/>
              </a:rPr>
              <a:t>202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1258560" y="126828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 Дети с нарушениями зрения (слепые, слабовидящие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 Дети с нарушениями слуха (глухие, слабослышащие, позднооглохшие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  Дети с тяжелыми нарушениями речи (ТНР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4.  Дети с нарушениями опорно-двигательного аппарата (НОДА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49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егории детей с ОВЗ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763280" y="1484280"/>
            <a:ext cx="720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5.  Дети с задержкой психического развития (ЗПР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6. Дети с нарушением интеллекта (умственно отсталые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7.  Дети с расстройствами аутистического спектра (РАС)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8.  Дети с тяжелыми множественными нарушениями развития (ТМНР).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тегории детей с ОВЗ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2195280" y="1197000"/>
            <a:ext cx="676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ребенок, у которого имеется стойкое нарушение познавательной деятельности вследствие органических повреждений головного мозга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С.Я. Рубинштейн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ственно отсталый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3276720" y="227628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егкая (IQ —69-50)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меренная (IQ —50-35)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яжелая (IQ —34-20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лубокая (IQ&lt;20)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Классификация умственной отсталост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http://hochurebenka.net/_pu/4/16716173.jpg"/>
          <p:cNvPicPr/>
          <p:nvPr/>
        </p:nvPicPr>
        <p:blipFill>
          <a:blip r:embed="rId2"/>
          <a:stretch/>
        </p:blipFill>
        <p:spPr>
          <a:xfrm>
            <a:off x="179280" y="3789360"/>
            <a:ext cx="28828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826560" y="1197000"/>
            <a:ext cx="8137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олее чем 50% генетические аномалии (в том числе болезнь Дауна, аномалии половых хромосом и т. д.)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10% случаев - врожденные нарушения активности ферментов, обмена аминокислот, металлов, солей, жиров и углеводов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авмы, полученные при родах, и гипоксия плод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ричины умственной отсталост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1187280" y="1197000"/>
            <a:ext cx="777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авмы, отравления, инфекционные заболевания (токсоплазмоз, краснуха), перенесенные будущей матерью в первую половину беременности, когда происходит  формирование зачатков головного мозга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нарушениях развития плода и в результате воздействия различных вредностей в раннем детств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632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Причины умственной отсталост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1547280" y="184464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формированность высших форм познавательной деятельности (анализа, синтеза, обобщения, абстракции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нкретность и поверхностность мышления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медленное развитие речи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зрелость эмоционально-волевой сферы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сновные особенности психического развития детей с легкой умственной отсталость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1187280" y="1196640"/>
            <a:ext cx="7777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развитие познавательных интересов;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медленный темп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личается  меньшей дифференцированностью (острота зрения, а также цветоразличение у них значительно ниже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кость объема восприят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ушение избирательности восприят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статочная активность восприят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Первая ступень познания - восприятие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268000" y="1557360"/>
            <a:ext cx="66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овершенства анализа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не улавливают главное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бессистемный процесс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не выделяют индивидуальные призна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овершенства синтеза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не выделяют связи между предметами, явлениями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338040"/>
            <a:ext cx="72104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ление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1116000" y="1557360"/>
            <a:ext cx="784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ражен тотально и равномерно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статочность формирования понятий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способность к самостоятельному обобщению и отвлечению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ушена функция предметного анализ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 отмечается существенной разницы в уровне достижений вербального и невербального интеллект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76000" y="338040"/>
            <a:ext cx="72104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собенности интеллекта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детей с ЛУ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900000" y="1197000"/>
            <a:ext cx="77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сихические заболевания (30%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врологические (20%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ражения органов слуха (17%)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ражения зрения (18%)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ные виды патолог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1258560" y="333360"/>
            <a:ext cx="7705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ятельность этих детей, связанная восприятием и воспроизведением воспринятого, характеризуется </a:t>
            </a:r>
            <a:r>
              <a:rPr b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глобальностью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тсутствие целенаправленных приемов — анализа, сравнения, систематического поиска, полного охвата материала, применения адекватных способов действий — приводит к тому, что их деятельность </a:t>
            </a:r>
            <a:r>
              <a:rPr b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приобретает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хаотичный, беспорядочный и неосмысленный характер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1979280" y="1125360"/>
            <a:ext cx="69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обладает непроизвольное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ратковременное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кая концентрац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ности переключе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ности распределе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зкий объем внимания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изкая устойчивость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лабость целенаправленного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иман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58560" y="338040"/>
            <a:ext cx="7427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Особенности внимания детей с ЛУО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1979280" y="980640"/>
            <a:ext cx="69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ссматривал слабость произвольного внимания как одну из причин, препятствующих формированию понятий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едостаточную произвольность внимания связывал с недоразвитием речи, знака, а, в конечном счете — самообладания, как стадии овладения собственным поведением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58560" y="-243000"/>
            <a:ext cx="7427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 С. Выготский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979280" y="1267920"/>
            <a:ext cx="69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лебания психической активности, являющиеся проявлением летучих, кратковременных фазовых состояний в коре головного мозга (быстрая истощаемость психических процессов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атологическая инертность нервных процессов, нарушение их подвижности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27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Причины невнимательности</a:t>
            </a: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у детей с ЛУО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1979280" y="1341360"/>
            <a:ext cx="6985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рушены все виды памяти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осредованное ассоциативное запоминание заметно снижено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ербальная память остается малодоступной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обладает механическое запоминани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27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</a:rPr>
              <a:t>Особенности памяти детей с ЛУ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411280" y="691920"/>
            <a:ext cx="6553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рекционная направленность определяет собой специфику физического воспитания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187280" y="1052640"/>
            <a:ext cx="7777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 основе полноценного использования факторов физической культуры реализовать возможности оптимального  физического развития детей, всестороннего развития свойственных каждому  ребенку физических качеств и связанных с ними способностей в единстве с воспитанием духовных и нравственных качеств, характеризующих общественно  активную личность; обеспечить на этой основе подготовку каждого из выпускников школы к плодотворной трудовой и другим общественно важным видам деятельност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74278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 физического воспитания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556000" y="1773360"/>
            <a:ext cx="640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здоровительные;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овательные;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ательны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ррекционны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 физического воспитания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1908000" y="1267920"/>
            <a:ext cx="70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крепление здоровья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ние правильной осанки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тижение достаточного уровня работоспособности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правление развитием физических качеств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дорови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908000" y="1699920"/>
            <a:ext cx="70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учение двигательным действиям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общение определенных знаний в области физической культуры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2268360" y="765000"/>
            <a:ext cx="6012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ермин </a:t>
            </a:r>
            <a:r>
              <a:rPr b="1" i="1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едагогика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(от греч. paides-ребенок, gogos-вести) 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ловно обозначает - </a:t>
            </a:r>
            <a:r>
              <a:rPr b="1" i="1" lang="ru-RU" sz="4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овождение 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2340000" y="1412640"/>
            <a:ext cx="66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ание достаточно устойчивого интереса и привычки к занятиям  физической культурой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оспитание положительных морально-волевых качеств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2340000" y="1412640"/>
            <a:ext cx="66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собствовать формированию нервных процессов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вивать работоспособность нервной системы обучающихся с УО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900000" y="1412640"/>
            <a:ext cx="806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истема педагогических мер, направленных на исправление или ослабление недостатков психофизического развития детей. Под коррекцией также подразумевается как исправление отдельных дефектов, так и целостное влияние на личность аномального ребенка в целях достижения положительного результата в процессе его обучения, воспитания и развит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я - эт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826920" y="1125360"/>
            <a:ext cx="8498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ать деятельность сердечно-сосудистой и дыхательной систем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истем в которых имеются отклонения у УО дете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ормализовать тонус мышц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ать подвижность в суставах (разработка контрактур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лучшать мышечно-суставное чувство (кинестезию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ть вестибулярные реакции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атическое и динамическое равновесие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иентировку в пространстве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помогательные  </a:t>
            </a:r>
            <a:r>
              <a:rPr b="0" lang="ru-RU" sz="36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1476360" y="1628640"/>
            <a:ext cx="7848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здана на основе ФГОС для обучающихся с умственной отсталостью (интеллектуальными нарушениями), предполагает достижение ими двух видов результатов: </a:t>
            </a:r>
            <a:r>
              <a:rPr b="1" i="1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чностных и предметных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1618920" y="1628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структуре планируемых результатов ведущее место принадлежит </a:t>
            </a: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чностным </a:t>
            </a: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ам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1618920" y="1628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метные</a:t>
            </a:r>
            <a:r>
              <a:rPr b="0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зультаты</a:t>
            </a:r>
            <a:r>
              <a:rPr b="0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своения включают освоенные обучающимися знания и умения, специфичные для каждой предметной области, готовность их применения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1618920" y="1628640"/>
            <a:ext cx="7705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ределяет два уровня овладения предметными результатами: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инимальный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остаточный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39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щеобразовательная программа (АООП)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755640" y="141264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ставления о физической культуре как средстве укрепления здоровья, физического развития и физической подготовки человека;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полнение комплексов утренней гимнастики под руководством учител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488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нимальный  уровен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755640" y="141264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актическое освоение элементов гимнастики, легкой атлетики, лыжной подготовки, спортивных и подвижных игр и других видов физической культуры;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амостоятельное выполнение комплексов утренней гимнастики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;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488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аточный  уровень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0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ая (специальная) педагогика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- это область педагогики, изучающая условия обучения и воспитания, необходимые детям с различными психофизическими нарушениями для достижения максимально возможного уровня личностного развития, образования и готовности к самостоятельной взрослой жизн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1834920" y="1196640"/>
            <a:ext cx="748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лассно-урочная форма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Уроки физической культуры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егкая атлетик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движные игр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ртивные игры: пионербол, баскетбол, настольный теннис, воланбо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лементы гимнастик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культурно-оздоровительные мероприятия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Утренняя гимнастик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изкультминутки во время уроко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движные перемен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Спортивный час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еклассная работа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ортивные секции: баскетбол, настольный теннис, бадминтон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ФП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итмика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ФК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щешкольные мероприятия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Спартакиада среди обучающихс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артакиада среди педагогов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ервенства по: армрестлингу, настольному теннису, легкой атлетик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День здоровья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«Веселые старты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уристские походы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596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физического воспита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195640" y="1196640"/>
            <a:ext cx="712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ЛАГОДАРЮ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НИМАНИЕ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2" name="Picture 2" descr="C:\Users\User\Desktop\20.06.2021 рабочий стол\Школьные картинки-ассорти, для презентаций\images (3).jpg"/>
          <p:cNvPicPr/>
          <p:nvPr/>
        </p:nvPicPr>
        <p:blipFill>
          <a:blip r:embed="rId2"/>
          <a:stretch/>
        </p:blipFill>
        <p:spPr>
          <a:xfrm>
            <a:off x="755640" y="299880"/>
            <a:ext cx="799308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71280" y="337680"/>
            <a:ext cx="7715160" cy="561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с ограниченными возможностями - дети, имеющие функциональные ограничения в результате заболевания, отклонений или недостатков развития, состояния здоровья, внешности, вследствие неприспособленности внешней (окружающей) среды к их особым нуждам, из-за негативных стереотипов, предрассудков в отношении общества к людям-инвалидам в целом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1619280" y="1197000"/>
            <a:ext cx="7067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1.Психолого-педагогическое изучение детей с отклонениями в развити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2.Изучение и обобщение передового педагогического опыт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3.Разработка педагогических технологий по воспитанию, обучению и коррекции психофизических недостатков аномальных дете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 задачи 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й педагогики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684000" y="1197000"/>
            <a:ext cx="8459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урдопедагогика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surdus-глухой), изучающая вопросы воспитания и обучения детей с недостатками слуха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ифлопедагогика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tiphlos-слепой) - вопросы воспитания и обучения детей с дефектами зрения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лигофренопедагогика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olygos-малый, phren-ум) - вопросы воспитания и обучения детей с умственной отсталостью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- </a:t>
            </a:r>
            <a:r>
              <a:rPr b="1" i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огопедия</a:t>
            </a:r>
            <a:r>
              <a:rPr b="0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(от греч. logos-слово, paideia-воспитание, обучение) - вопросы изучения и исправления недостатков реч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ая педагогика объединяет ряд самостоятельных отраслей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340000" y="83664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дагогическая психолог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вропат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ологическая анатом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офизи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ая и медицинская генетика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пат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ая психиатр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оларинголог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фтальмолог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15280" indent="-2152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топсихологи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499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жные  науки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4" descr="Рисунок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763280" y="119700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слуха (глухие, слабослышащие, позднооглохшие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зрения (слепые, слабовидящие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речи (логопаты)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нарушением опорно-двигательного аппарата;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73e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Дети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с умственной отсталостью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зологические  групп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3:29:17Z</dcterms:created>
  <dc:creator>User</dc:creator>
  <dc:description/>
  <dc:language>en-US</dc:language>
  <cp:lastModifiedBy>User</cp:lastModifiedBy>
  <dcterms:modified xsi:type="dcterms:W3CDTF">2021-10-21T14:00:32Z</dcterms:modified>
  <cp:revision>48</cp:revision>
  <dc:subject/>
  <dc:title>Слайд 1</dc:title>
</cp:coreProperties>
</file>