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60A-E098-4038-B102-61F3BBC0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B03-BCA9-489A-B568-C4B534D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AEC-21B5-481B-856C-07E03D2E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052-4EDB-4D02-A89C-584C5013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27E1-8D45-4A2F-BD35-58FDFFB6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FC4-3EB4-4187-9B07-9B0C45AC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1D60-790C-451E-A47E-717B54C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B9D-18DD-43D4-A239-5E0D1BB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9CB4-51F5-490F-92D2-C72C151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5DAA-5CC9-48E9-B48A-EE0049D2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52B4-2026-479D-A15B-B382FAC5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41B-9E78-40F4-9D25-140852B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CB5-606F-466E-B513-C817FE3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33E-5237-4B69-9C05-A275FFB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83E9-45F4-4103-B76C-2D97290E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6E2-7277-4EEE-9FEB-CDF696F0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668E-AA49-438C-BFB0-EBB2C749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FF7B-FA0D-4C74-98FD-FCB6CF3A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F11C-FE58-4009-A135-4333B2D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BACF-19C2-4E6D-AAF2-B4EAC18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0E62-7A39-4A15-89BE-F12372D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E5BA-7153-4BBC-8641-3E903F3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304-84B3-454F-B569-3290A79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C35A-8A10-4BF6-ABD6-C90DA0F2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67BF-6261-4381-8D13-CF42A95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DD7A-1B82-485D-A52A-B150F79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453C-A289-4AD0-853B-45FD877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10E9-3AFE-410A-A0FD-BB8A7D2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1B37-B21E-4365-8AA0-BF41280F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1182-3964-4F19-B6BE-6BE90736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F537-DDD9-40E9-88E8-9BB6151E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930B-5D55-41E7-8443-165CFAAD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AA0B-E83B-4EFD-B895-20F085A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BBC-7BD8-4EDE-8F0B-164541B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F4D8-4AED-497D-84A9-8824A423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8E68-2E89-46C7-BDDD-D38C818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74F2-3389-4073-824F-DE42579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D1CE-FB9C-4F35-8957-A71ACD0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FB18-64AA-4394-82FA-C772F027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4D1DA-B8CD-4449-8525-172B938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EDC5-2A3D-42E8-ADCC-07D775F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A54E-40B5-48C5-9190-8AE7348A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FC8D7-3B97-4F94-A2E4-8092608E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0E66-CF95-4D28-AB76-2AFEE8C6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E7C-1169-40EF-AC66-DE19855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ACC7-14B0-47D9-BFCF-8B755964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3CE8-6069-4E9E-94F4-2DDD426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5A591-DD2B-4039-B544-A37F9731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BDB5-C552-42F5-9A4C-4A0C1A03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46D59-251D-47A7-BDD4-399CC1E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8DC8-D336-44A0-BB7C-5F0C951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CBBD-56F4-4E56-B80A-D9DE3E35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353B-A00B-4FF3-82AC-D0CB664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5804-79D7-44B4-B89C-2AF95FE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E768-2070-444D-B6DA-30A59593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E82-CF04-41D3-BD18-685CEF89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D403-599A-4C28-909C-A902A558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96C7-DD79-4011-A978-9DEB1833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E750-AB2D-44B0-8CBA-B9FDDDBB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208F-246C-4147-90B6-534C2920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E786-5735-442D-81FD-5D9A4436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22F5C-DA25-4C3F-AB06-8FF37F3D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D03E-F79F-4D67-BFFD-FA2A40C9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14CD-F35A-478C-88FA-30A44DB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373E-B8A9-454C-B42C-E2F13E5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710F-9A3F-483F-9B32-FFAC5DB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DC1-2B40-488B-ACB4-9C71451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1B2B-4FC6-41A6-AE84-8222C50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AF31-E1B2-4516-9FB9-EC10EE6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EC32-BEAE-40E5-94E7-5D7E2936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ACFA-DFCB-41B7-91AB-0EFDA4FD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99DB-19BD-4979-B6F9-0B403A8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DF8F-C0CC-441B-9003-38387F97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B5D3-2F38-4AC3-AD9A-FB4A1BF8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7474-4E5A-40D7-A359-0146DE7E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5372-960B-4C3B-B339-86C2953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C0CE6-C714-47F7-8C68-DC40BFF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2EA-B24B-45B5-A686-98B1A73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45A3-E449-4667-9B25-A4FE1D1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091C-59BE-4150-9082-C1CDBA5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07C4-AFFB-437A-B8BA-CA07001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3009-E764-46C9-9B72-8644407A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983E-2B07-485A-A715-4BF245F4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3E7-E25A-4BD2-A55A-573C000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964C-F0CC-4C4D-9792-3B06E2B700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C492-DC76-4A1B-808E-E5DF6E1A400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D78-D57B-42D7-86BB-2505005C4CA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4C4B-DC7D-4919-A5B9-F8BC76C8E4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D2AD-923F-4AE5-B4D3-850B0E2171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8E3-ACB3-4EC7-9445-302C3DD005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C035-D2E0-4F44-A8B1-E357A3F356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Рисунок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496000" cy="20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17436"/>
                </a:solidFill>
                <a:latin typeface="바탕"/>
                <a:ea typeface="바탕"/>
              </a:rPr>
              <a:t>Система физического воспитания обучающихся с умственной отсталостью (интеллектуальными нарушениями)</a:t>
            </a:r>
            <a:br>
              <a:rPr sz="2900"/>
            </a:br>
            <a:r>
              <a:rPr b="1" lang="ru-RU" sz="2900" spc="-1" strike="noStrike">
                <a:solidFill>
                  <a:srgbClr val="217436"/>
                </a:solidFill>
                <a:latin typeface="바탕"/>
                <a:ea typeface="바탕"/>
              </a:rPr>
              <a:t> в КГК ОУ Школа 1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79280" y="4581360"/>
            <a:ext cx="8785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ое объединение учителей-предметников № 3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Бородкина Марина  Григорьевна – учитель физкультур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КГКОК Школа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Г. Комсомольск-на-Амур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202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258560" y="126828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Дети с нарушениями зрения (слепые, слабовидящи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Дети с нарушениями слуха (глухие, слабослышащие, позднооглохши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 Дети с тяжелыми нарушениями речи (ТНР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 Дети с нарушениями опорно-двигательного аппарата (НОДА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763280" y="1484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 Дети с задержкой психического развития (ЗПР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Дети с нарушением интеллекта (умственно отсталы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7.  Дети с расстройствами аутистического спектра (РАС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8.  Дети с тяжелыми множественными нарушениями развития (ТМНР).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2195280" y="1197000"/>
            <a:ext cx="67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ребенок, у которого имеется стойкое нарушение познавательной деятельности вследствие органических повреждений головного мозг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С.Я. Рубинштейн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ственно отсталый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276720" y="227628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егкая (IQ —69-50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меренная (IQ —50-35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яжелая (IQ —34-20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лубокая (IQ&lt;20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умственной отсталост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179280" y="378936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826560" y="1197000"/>
            <a:ext cx="813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олее чем 50% генетические аномалии (в том числе болезнь Дауна, аномалии половых хромосом и т. д.)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10% случаев - врожденные нарушения активности ферментов, обмена аминокислот, металлов, солей, жиров и углеводов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авмы, полученные при родах, и гипоксия плод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ины умственной отсталост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187280" y="1197000"/>
            <a:ext cx="777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авмы, отравления, инфекционные заболевания (токсоплазмоз, краснуха), перенесенные будущей матерью в первую половину беременности, когда происходит  формирование зачатков головного мозга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нарушениях развития плода и в результате воздействия различных вредностей в раннем детств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ины умственной отсталост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1547280" y="184464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формированность высших форм познавательной деятельности (анализа, синтеза, обобщения, абстракции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нкретность и поверхностность мышления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медленное развитие речи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зрелость эмоционально-волевой сфер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сновные особенности психического развития детей с легкой умственной отсталость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187280" y="1196640"/>
            <a:ext cx="777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развитие познавательных интересов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медленный темп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личается  меньшей дифференцированностью (острота зрения, а также цветоразличение у них значительно ниж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кость объема восприят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ие избирательности восприят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ая активность восприят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ервая ступень познания - восприят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268000" y="1557360"/>
            <a:ext cx="66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овершенства анализ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улавливают глав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бессистемный процесс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выделяют индивидуальные призна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овершенства синтез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выделяют связи между предметами, явлениями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338040"/>
            <a:ext cx="72104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ление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116000" y="1557360"/>
            <a:ext cx="784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 тотально и равномерн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ость формирования поняти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пособность к самостоятельному обобщению и отвлечению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а функция предметного анализ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 отмечается существенной разницы в уровне достижений вербального и невербального интеллект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76000" y="338040"/>
            <a:ext cx="72104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собенности интеллекта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етей с ЛУ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900000" y="119700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сихические заболевания (30%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врологические (20%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ия органов слуха (17%)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ия зрения (18%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виды патолог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258560" y="33336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ятельность этих детей, связанная восприятием и воспроизведением воспринятого, характеризуется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глобальностью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сутствие целенаправленных приемов — анализа, сравнения, систематического поиска, полного охвата материала, применения адекватных способов действий — приводит к тому, что их деятельность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приобретает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хаотичный, беспорядочный и неосмысленный характер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979280" y="1125360"/>
            <a:ext cx="69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обладает непроизволь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атковремен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кая концентрац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сти переключ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сти распредел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кий объем внима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кая устойчивость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абость целенаправленного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338040"/>
            <a:ext cx="7427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собенности внимания детей с ЛУ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979280" y="980640"/>
            <a:ext cx="69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сматривал слабость произвольного внимания как одну из причин, препятствующих формированию поняти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ую произвольность внимания связывал с недоразвитием речи, знака, а, в конечном счете — самообладания, как стадии овладения собственным поведением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-243000"/>
            <a:ext cx="7427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 С. Выготский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979280" y="1267920"/>
            <a:ext cx="69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лебания психической активности, являющиеся проявлением летучих, кратковременных фазовых состояний в коре головного мозга (быстрая истощаемость психических процессов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тологическая инертность нервных процессов, нарушение их подвижности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ричины невнима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у детей с ЛУ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979280" y="1341360"/>
            <a:ext cx="698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ы все виды памяти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осредованное ассоциативное запоминание заметно снижен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рбальная память остается малодоступно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обладает механическое запоминани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Особенности памяти детей с ЛУ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411280" y="691920"/>
            <a:ext cx="65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ционная направленность определяет собой специфику физического воспитания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187280" y="1052640"/>
            <a:ext cx="7777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основе полноценного использования факторов физической культуры реализовать возможности оптимального  физического развития детей, всестороннего развития свойственных каждому  ребенку физических качеств и связанных с ними способностей в единстве с воспитанием духовных и нравственных качеств, характеризующих общественно  активную личность; обеспечить на этой основе подготовку каждого из выпускников школы к плодотворной трудовой и другим общественно важным видам деятельност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физического воспитания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56000" y="1773360"/>
            <a:ext cx="64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здоровительные;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овательные;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ционны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физического воспитания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1908000" y="1267920"/>
            <a:ext cx="70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крепление здоровья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ние правильной осанки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тижение достаточного уровня работоспособности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правление развитием физических качест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дорови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908000" y="1699920"/>
            <a:ext cx="70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учение двигательным действиям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общение определенных знаний в области физической культуры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268360" y="765000"/>
            <a:ext cx="6012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рмин </a:t>
            </a:r>
            <a:r>
              <a:rPr b="1" i="1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дагогика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от греч. paides-ребенок, gogos-вести) 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ловно обозначает - </a:t>
            </a:r>
            <a:r>
              <a:rPr b="1" i="1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овождение 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2340000" y="1412640"/>
            <a:ext cx="66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ние достаточно устойчивого интереса и привычки к занятиям  физической культурой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ние положительных морально-волевых качеств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340000" y="1412640"/>
            <a:ext cx="66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собствовать формированию нервных процессов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работоспособность нервной системы обучающихся с У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900000" y="141264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истема педагогических мер, направленных на исправление или ослабление недостатков психофизического развития детей. Под коррекцией также подразумевается как исправление отдельных дефектов, так и целостное влияние на личность аномального ребенка в целях достижения положительного результата в процессе его обучения, воспитания и развит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я - эт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826920" y="1125360"/>
            <a:ext cx="8498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деятельность сердечно-сосудистой и дыхательной систем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истем в которых имеются отклонения у УО дете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ормализовать тонус мышц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подвижность в суставах (разработка контрактур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мышечно-суставное чувство (кинестезию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ть вестибулярные реакци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ическое и динамическое равновес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ку в пространств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ог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476360" y="162864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здана на основе ФГОС для обучающихся с умственной отсталостью (интеллектуальными нарушениями), предполагает достижение ими двух видов результатов: </a:t>
            </a:r>
            <a:r>
              <a:rPr b="1" i="1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ых и предметных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структуре планируемых результатов ведущее место принадлежит </a:t>
            </a: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ым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ам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метные</a:t>
            </a:r>
            <a:r>
              <a:rPr b="0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</a:t>
            </a:r>
            <a:r>
              <a:rPr b="0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своения включают освоенные обучающимися знания и умения, специфичные для каждой предметной области, готовность их применения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яет два уровня овладения предметными результатами: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инимальный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таточный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755640" y="1412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ставления о физической культуре как средстве укрепления здоровья, физического развития и физической подготовки человека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полнение комплексов утренней гимнастики под руководством учител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8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имальный  уровен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755640" y="1412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ктическое освоение элементов гимнастики, легкой атлетики, лыжной подготовки, спортивных и подвижных игр и других видов физической культуры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амостоятельное выполнение комплексов утренней гимнастики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8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очный  уровен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(специальная) педагогика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это область педагогики, изучающая условия обучения и воспитания, необходимые детям с различными психофизическими нарушениями для достижения максимально возможного уровня личностного развития, образования и готовности к самостоятельной взрослой жизн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1834920" y="119664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лассно-урочная форма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Уроки физической культуры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егкая атле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игры: пионербол, баскетбол, настольный теннис, воланбо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лементы гимнасти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культурно-оздоровительные мероприятия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культминутки во время уроко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вижные перемен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Спортивный час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еклассная работа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секции: баскетбол, настольный теннис, бадминтон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ФП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итмика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ФК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щешкольные мероприятия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Спартакиада среди обучающихс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артакиада среди педагого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рвенства по: армрестлингу, настольному теннису, легкой атлетик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День здоровья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Веселые старты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уристские походы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2" name="Picture 2" descr="C:\Users\User\Desktop\20.06.2021 рабочий стол\Школьные картинки-ассорти, для презентаций\images (3).jpg"/>
          <p:cNvPicPr/>
          <p:nvPr/>
        </p:nvPicPr>
        <p:blipFill>
          <a:blip r:embed="rId2"/>
          <a:stretch/>
        </p:blipFill>
        <p:spPr>
          <a:xfrm>
            <a:off x="755640" y="299880"/>
            <a:ext cx="79930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7715160" cy="561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ограниченными возможностями - дети, имеющие функциональные ограничения в результате заболевания, отклонений или недостатков развития, состояния здоровья, внешности, вследствие неприспособленности внешней (окружающей) среды к их особым нуждам, из-за негативных стереотипов, предрассудков в отношении общества к людям-инвалидам в цело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619280" y="1197000"/>
            <a:ext cx="706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Психолого-педагогическое изучение детей с отклонениями в развити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Изучение и обобщение передового педагогического опыт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Разработка педагогических технологий по воспитанию, обучению и коррекции психофизических недостатков аномальных дете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 задачи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й педагогики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684000" y="119700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урд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surdus-глухой), изучающая вопросы воспитания и обучения детей с недостатками слуха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ифл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tiphlos-слепой) - вопросы воспитания и обучения детей с дефектами зрени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лигофрен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olygos-малый, phren-ум) - вопросы воспитания и обучения детей с умственной отсталостью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огопедия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logos-слово, paideia-воспитание, обучение) - вопросы изучения и исправления недостатков реч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педагогика объединяет ряд самостоятельных отраслей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340000" y="836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псих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ропат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логическая анатом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физи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ая и медицинская гене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пат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ая психиатр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ларинг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тальм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псих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жные  наук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763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слуха (глухие, слабослышащие, позднооглохши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зрения (слепые, слабовидящи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речи (логопаты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опорно-двигательного аппарат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умственной отсталостью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зологические  групп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29:17Z</dcterms:created>
  <dc:creator>User</dc:creator>
  <dc:description/>
  <dc:language>en-US</dc:language>
  <cp:lastModifiedBy>User</cp:lastModifiedBy>
  <dcterms:modified xsi:type="dcterms:W3CDTF">2021-10-21T14:00:32Z</dcterms:modified>
  <cp:revision>48</cp:revision>
  <dc:subject/>
  <dc:title>Слайд 1</dc:title>
</cp:coreProperties>
</file>