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dt" idx="2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DCCFF-1FC7-4650-9553-EBD2DD7E68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E0C36-ED13-46E1-AD9F-10B70CF513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A9F47-4FD4-4537-8CE1-38A24EE53A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23127-6CD6-42EB-81C0-2E5D63066C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B7521-4BEB-49A8-9030-0EC6B4F370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0C10D-DEA4-40A1-B0F1-57470D8E0D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2D667-FC29-4450-8423-E6AB96ABC3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12B-BDF1-4B92-9B12-11A16588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CDDC-EA26-42DC-8676-E6A45FA4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3E5-AB66-4C28-AA17-1F52F485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000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FF7-E27C-4347-ACBC-75065354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373F-3DD6-450F-AE01-288DDCAB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1234-8FEB-4FE0-AE23-CBFBF89C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2CBC-A43B-4847-8450-76F52D8A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DB49-A62A-42D0-9F89-759EDF8B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C0B9-CFC9-4DDA-A820-A153A7E1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CA3D-5935-4653-9373-40114B3E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FDBD-E359-40E8-B5E3-7B80B5CA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597-841D-4348-A944-14CC70B8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7D6E-435F-4705-88CA-12375246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A4A7-954B-4387-9427-14405ED2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A7BA-1BCC-4838-BF18-996FAA23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E687-6369-410A-8697-D176AB3D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1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0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000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7A3D-0AD0-4C4A-9629-282EE9C2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8EFCD-4754-4331-AAF6-A4C4BC9A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42BFA-2596-4194-9503-073A6EB6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EA584-53B6-4F73-B31E-867ACE1E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0AB02-C828-44D5-AF75-3FE9662A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483B1-0026-413B-B885-6E0C2188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9D7-7C83-4C68-B5B5-56E13C5F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A1321-84FD-4101-894C-4F213D61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46432-5C3A-47C9-80E0-0A7A7CC4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AD534-03D0-4376-B44D-E062A651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6A27C-323D-4D72-8E4E-4705D66E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B37B9-6494-46C8-B58E-E58B38CF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64BD1-2D06-4B95-8832-EE9AB449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91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0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9000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A8F42-012A-4D04-9A34-B8B7D7D9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0956F-A487-4843-95DF-9E6A0775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9D49B-1690-45D9-AA3A-6870DBC5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4C818-F5D5-42A6-8C42-7DC16363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CF4B-D144-4075-8DF6-280F8A92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B93DA-1824-4373-91B7-54F0D7B9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57E04-33F0-483F-ADB7-6D095D44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B3ED9-491F-453B-B460-774A79FE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33DC3-CE25-4BAC-B652-106F9BE0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458C5-9709-4B8D-93A9-04C57305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D36DC-2660-4745-8534-5268C08C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01004-A510-45D1-B405-B7AA4890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5B048-CA6A-4FE5-B2E6-EA05F657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91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0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9000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88D2A-0F7F-410A-8617-491CC168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3F916-202A-4E85-9B87-A4039815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2FCD-4257-4DFE-A646-691C20AB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0D6A5-B064-4691-AD89-D1094EAD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7916C-2B94-44CB-8F21-7C650660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FD08F-96C4-4A4C-A93E-EB41E55E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7889C-C5D5-4740-9305-59EE2680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D3545-E2F5-4BA4-A953-6F30FB65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437A3-3C7F-4549-8BCC-1B3BC533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48CD0-77D2-448F-92B9-6D6D2B8E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19458-51CC-4A9F-A4F3-E358761C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B7DC6-1D8C-4F1A-86AA-D691638B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66222-E1AE-4458-BDCE-936971D8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EA5-2D1E-4DD2-9959-1209BA71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91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0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9000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1F0A1-D0F1-44BA-9A96-0649F3D4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08E6E-55C7-4416-AA17-229DCDF6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D0415-6E2A-4B13-BFFE-1D4CFA8E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55DD9-B411-4803-A085-4905A5D7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5891E-D958-447D-961B-5C0BA8F2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1A89C-82B3-4D36-861D-BE1B652C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B5528-A29A-4E91-A2AF-5B7CF39D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1F8B2-C438-49AC-95C5-6554DBEF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FE940-A44F-474D-9A9B-933B80A2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094B1-416B-4487-9302-37541E8C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013A-A4A4-4648-A427-9295BBE0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5FDFA-006E-4F76-833E-76ED6870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5EFB6-C24F-4CC2-80E0-FD586810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91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0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9000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77CAB-E2D9-4D35-94C3-4F0AD38C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4D4C3-4067-4807-8DA6-D37ED056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24551-6008-4CC5-A10C-98A102C9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0BB2B-0B76-40AF-A576-EF2D11A1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EDB23-1F74-40A4-AD57-426BDC3A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E83DC-6F6E-4CB0-8800-244B30F5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EB437-E3CF-4632-B530-FCFBBB45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41186-4352-47B1-86D0-1FEF28B6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5B19-3A37-46B3-8C82-9351ABE2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44D15-CAD1-4DB3-9DDD-64D840E5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D1830-0A9F-4139-AE41-F40B001D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7C408-FD52-4B0F-9756-DC1F19EE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4B441-F22D-4414-967F-6B0A1CE6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91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90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39000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6FB51-3BE6-4BEF-9547-6CE89693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A5E83-ACD9-45B5-8627-F61AA655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F803C-78FA-4D61-BDD7-B2148C7C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1A7FF-2CE4-4FA7-A4B5-0CC82DCE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89338-7C3C-4936-97F5-9E0EDF00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109ED-031E-4307-BDE9-D99BEF99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E96F-722C-41A7-B690-D35380DA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9E78B-9FBF-4167-A30A-74813835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E224F-8F29-429B-8258-9FE09289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DED1E-1827-403C-8282-F36D6C54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ABC54-20B4-431E-AB26-2D24FEE8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89C5B-1CF0-4B0C-B24D-496893C5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9D973-034F-4F3A-B6D7-C26431CB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91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0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9000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4E0BB-77FF-4248-AEEC-BEB07F49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141FA-4CAE-46B5-A49C-BF49B1E876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98432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72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454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8336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7CAC7-7504-421C-BDE1-9B4F715AE4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99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D984C-1DA8-48FF-8353-D37E726251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458200" cy="5829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76080" y="630072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19280" y="6318360"/>
            <a:ext cx="3220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1720" y="63183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AF1A9-488C-450A-8B88-D2DA3E6FD8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7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D4231-1714-417B-8FF0-BE4A12328A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60000" y="301320"/>
            <a:ext cx="8278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134200" cy="7539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14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35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D1C75-3F6C-40F3-B860-CDD5226391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979640" y="1767960"/>
            <a:ext cx="7773840" cy="1284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763640" y="60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203720" y="670716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515000" y="67071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AB846-3DDD-4B68-A141-8D1B99400D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3964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41988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8336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9F43A-5E52-4C58-8335-2E26E929E5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1008000" y="1763640"/>
            <a:ext cx="7920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rmAutofit fontScale="89000"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Работа над текстом по теме «Профе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Составитель: Новикова Анна Никола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учитель-логопед ГБОУ СОШ №5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Красногвардей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979640"/>
            <a:ext cx="406260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006520" y="1979640"/>
            <a:ext cx="40640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36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7219800" cy="755964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5" descr=""/>
          <p:cNvPicPr/>
          <p:nvPr/>
        </p:nvPicPr>
        <p:blipFill>
          <a:blip r:embed="rId2"/>
          <a:stretch/>
        </p:blipFill>
        <p:spPr>
          <a:xfrm>
            <a:off x="6719760" y="-3240"/>
            <a:ext cx="336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2920" y="56016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смотри внимательно на картинку и расскажи об инструментах повара. Как он их использует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791640" y="1979640"/>
            <a:ext cx="406260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006520" y="1979640"/>
            <a:ext cx="40640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366" name="Picture 2" descr="http://navigatum.ru/assets/images/anima/VMP/PROFESSIYa-POVAR.png"/>
          <p:cNvPicPr/>
          <p:nvPr/>
        </p:nvPicPr>
        <p:blipFill>
          <a:blip r:embed="rId1"/>
          <a:stretch/>
        </p:blipFill>
        <p:spPr>
          <a:xfrm>
            <a:off x="792000" y="2409840"/>
            <a:ext cx="85662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скажи кем ты хочешь стать, когда вырастешь и почему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791640" y="1979640"/>
            <a:ext cx="406260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006520" y="1979640"/>
            <a:ext cx="40640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370" name="Picture 2" descr="http://www.zanimatika.narod.ru/Profi1.png"/>
          <p:cNvPicPr/>
          <p:nvPr/>
        </p:nvPicPr>
        <p:blipFill>
          <a:blip r:embed="rId1"/>
          <a:stretch/>
        </p:blipFill>
        <p:spPr>
          <a:xfrm>
            <a:off x="1346040" y="1814400"/>
            <a:ext cx="71820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91640" y="1979640"/>
            <a:ext cx="406260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06520" y="1979640"/>
            <a:ext cx="40640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374" name="Рисунок 4" descr=""/>
          <p:cNvPicPr/>
          <p:nvPr/>
        </p:nvPicPr>
        <p:blipFill>
          <a:blip r:embed="rId1"/>
          <a:stretch/>
        </p:blipFill>
        <p:spPr>
          <a:xfrm>
            <a:off x="406440" y="522360"/>
            <a:ext cx="904716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ставление описательного рассказа по схем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792000" y="197964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и на картинки с изображением людей разных профессий и представь, что когда ты вырастешь, то станешь известным врачом,композитором,учителем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ьзуясь схемой описания, расскажи о своей будущей профессии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" descr=""/>
          <p:cNvPicPr/>
          <p:nvPr/>
        </p:nvPicPr>
        <p:blipFill>
          <a:blip r:embed="rId2"/>
          <a:stretch/>
        </p:blipFill>
        <p:spPr>
          <a:xfrm>
            <a:off x="0" y="1079640"/>
            <a:ext cx="3600360" cy="4319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"/>
          <p:cNvPicPr/>
          <p:nvPr/>
        </p:nvPicPr>
        <p:blipFill>
          <a:blip r:embed="rId3"/>
          <a:stretch/>
        </p:blipFill>
        <p:spPr>
          <a:xfrm>
            <a:off x="3600360" y="1260360"/>
            <a:ext cx="3240000" cy="4140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4"/>
          <a:stretch/>
        </p:blipFill>
        <p:spPr>
          <a:xfrm>
            <a:off x="6840360" y="1440000"/>
            <a:ext cx="3060720" cy="39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" descr=""/>
          <p:cNvPicPr/>
          <p:nvPr/>
        </p:nvPicPr>
        <p:blipFill>
          <a:blip r:embed="rId2"/>
          <a:stretch/>
        </p:blipFill>
        <p:spPr>
          <a:xfrm>
            <a:off x="0" y="1087560"/>
            <a:ext cx="3600360" cy="503208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"/>
          <p:cNvSpPr/>
          <p:nvPr/>
        </p:nvSpPr>
        <p:spPr>
          <a:xfrm>
            <a:off x="5033880" y="1979640"/>
            <a:ext cx="404028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3"/>
          <a:stretch/>
        </p:blipFill>
        <p:spPr>
          <a:xfrm>
            <a:off x="6958080" y="1087560"/>
            <a:ext cx="3301920" cy="4852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4"/>
          <a:stretch/>
        </p:blipFill>
        <p:spPr>
          <a:xfrm>
            <a:off x="3541680" y="1087560"/>
            <a:ext cx="3478320" cy="50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" descr=""/>
          <p:cNvPicPr/>
          <p:nvPr/>
        </p:nvPicPr>
        <p:blipFill>
          <a:blip r:embed="rId1"/>
          <a:stretch/>
        </p:blipFill>
        <p:spPr>
          <a:xfrm>
            <a:off x="0" y="360360"/>
            <a:ext cx="1008072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2000" y="2124000"/>
            <a:ext cx="85694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Послушай текст, перескажи его и ответь на вопросы: Кого спасают пожарные на картинке и зачем пожарному специальная одежда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40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33520" y="1979640"/>
            <a:ext cx="4040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3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006520" y="1979640"/>
            <a:ext cx="40640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354" name="Рисунок 4" descr=""/>
          <p:cNvPicPr/>
          <p:nvPr/>
        </p:nvPicPr>
        <p:blipFill>
          <a:blip r:embed="rId1"/>
          <a:stretch/>
        </p:blipFill>
        <p:spPr>
          <a:xfrm>
            <a:off x="3938760" y="-14400"/>
            <a:ext cx="6141960" cy="75740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502920" y="2273040"/>
            <a:ext cx="343548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Расскажи что ты видишь на картинке, что мальчик делает неправильно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тавь предложения в нужном порядке так, чтобы получился связный текст. О ком этот текст? Перескажи его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718920" y="2266920"/>
            <a:ext cx="871380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</a:rPr>
              <a:t>1.Человек этой профессии должен быть очень добрым и любить животных, ведь чтобы животное позволило ему себя лечить, оно должно чувствовать, что человек не хочет причинить ему зла.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</a:rPr>
              <a:t>2.Врач, который лечит животных называется ветеринар и работает он в ветеринарной клинике.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</a:rPr>
              <a:t>3.Это тоже врач, только врач необычный.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</a:rPr>
              <a:t>4.Его главная задача – это осмотр животных, назначение им лечения и необходимых прививок.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3T10:50:50Z</dcterms:created>
  <dc:creator>Ксюша</dc:creator>
  <dc:description/>
  <dc:language>en-US</dc:language>
  <cp:lastModifiedBy>Home</cp:lastModifiedBy>
  <dcterms:modified xsi:type="dcterms:W3CDTF">2022-10-01T15:00:21Z</dcterms:modified>
  <cp:revision>5</cp:revision>
  <dc:subject/>
  <dc:title>Презентация PowerPoint</dc:title>
</cp:coreProperties>
</file>