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dt" idx="2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0C7C7-C95F-4B54-A3F5-01C1F6F325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CCFC8-20E7-466F-B338-B530B8DD36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EF7C3-B232-40E4-BB66-058591DD73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85425-97D3-486C-A96C-0734107672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18A8D-CE00-4B41-8DBC-839CCDFBBB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02798-AD62-4B58-981E-DABC837AF8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3DE5B-A39A-45C3-8026-FE0C27D1F3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AC8-1C9E-479C-B4F4-821797E1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12E-B01D-4A2C-8B09-F53018E5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89BA-2AC3-44D6-8E87-E15E52F7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BC63-2E75-4F60-B0CF-05D45A58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E191-1CD9-4890-AB42-7EF1CF75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6AC4-3350-4E0A-BDE3-04E02DCC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A51D-29F6-4AC4-8CBA-C1F89E91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A1CA-F192-4ACD-9C21-1BC9E25D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6C1A-693C-474F-B1F2-C7CF5F45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7DE8-9E74-4AEB-BE31-ABF95330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7E3D-CC69-4ADC-978A-CDE0F61D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9C3-D0E7-4932-BCE2-BC91225E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DC25-151B-4FD3-8C07-14E0F8E6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3233-7D30-4C8B-93C1-AF3D445B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33F1-F24E-45DD-A2EB-31C0B18C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E32E-367F-4C22-B7BD-198D1083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5D12-37DD-4CCD-9288-439D488B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4D7E2-A5BC-414F-ACFB-14FAD7E9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C69B-20D7-4ED9-B2FC-7DE41C61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35B8-0849-4D07-83AF-D49EC937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103C-872D-491C-A177-AFB0FD93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E5E0E-FB9C-426E-9D17-F731173F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0C1-16B8-4025-844E-CAC9F2CA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88BF-4E45-4A3E-BCB3-BFD920D7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D94A-15D1-482E-9476-6325E71A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8D51-5F02-401B-9E4D-67790890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088B-93B5-4795-BE6E-853569A0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B91CE-5546-42C9-B281-A9CBDDB7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8588-2866-41A1-A2E7-DCC915C9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688B-442C-43A1-869C-B2C46675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8650-6252-4F25-B2C0-4E6A056F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3DA4D-9420-4F14-874B-BF9042D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5F944-F2B0-4058-88B9-073E9997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869-24DC-4739-AC5F-464E430C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B7944-CCB6-4D89-89DC-79076583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8D73-E30D-4A9A-AB21-27540FB2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38C41-44A6-44B9-BED6-349EE58F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4AE0-CF75-4C20-ADD3-E2176413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2A9E1-C950-49AA-BA9F-0FB1062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D8A0D-F9FD-4814-8551-998EE17B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72FC-7A28-4B2D-A2B7-9F175882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0A87-3D73-40A7-A5A1-8429F5FC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0FD7B-A6AA-488C-8BAB-00B89E45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90C8-BB70-44F3-8C5C-0498D59F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168-B58D-4C95-A638-80712D1A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34B33-531E-45AD-A735-C2E3BD38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2953-0DE4-447C-BCB5-8F985D06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E3902-24F1-430F-8936-C39ACC1E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97183-7D5E-4464-93AB-C7FBE45D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9CF43-4D17-4A85-B78A-B1CE2620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24D57-6837-42D0-B998-0F78B93E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B890-9520-4C84-A8EE-C4841441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8B063-2383-4A8E-98C7-DB5B2F35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509BC-FB41-4B0A-A8B0-2E14D494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AA22-731F-4258-B80B-DC87115E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ED2-DE4B-4C0C-B1FF-9DA49993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2F075-93AC-4A38-A05A-2CCAAE7C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748E7-D572-490A-83D6-A8875D36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62A8-B4AB-4442-9613-B7996598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ACAE2-29E0-42EE-B446-67BF54D4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6CD9B-FF57-4381-9049-0D38BAD1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D101F-7B73-46F5-88AC-767A04B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F097B-954C-4E47-8BD6-616449E1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8429C-D0B1-4FEF-8401-43AB475A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0BFAB-65E4-441E-AFEA-1F3D3B5A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46C60-98F4-42AA-8052-75647653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155-23CD-4362-8E1B-8A60C2E1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FDAB4-3D74-4868-84BB-753D4489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671E2-48B1-467C-A9A3-8397A3D6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84BE8-E5CE-4F32-9E8C-BE378C48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644CB-2172-4A42-B9A0-18F4D3C0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BF67C-9D6A-445C-9447-A29C1114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564EC-22BA-4FB5-8103-5E4DF8B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082B9-C57B-43BC-9F76-895D0686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10FD0-803A-4DFE-AA1F-1F5DDD8A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68777-24EE-4AF7-A190-78E3AE25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21C54-0209-460F-A6F3-3350411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27A-A35F-47BA-9883-9FA977BB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6BF0B-9F07-4A5C-BC06-9944770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AF368-F244-4F74-8071-BC9818B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5BBB5-ABBB-493C-97F8-B486015D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97C5-0078-43E8-ABC4-A04FCDD4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938B4-1F9E-4F02-8088-F1DD6386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B40BC-A512-471B-9CC9-4ACF5690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34592-8309-47B7-815F-663BEA95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B8FCD-B3B7-4635-9147-569AE433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5499C-76D3-46F6-90B2-CEEC32E1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7A8D0-7FA1-425B-A8AA-59516EF5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444-4E7C-40D8-B020-7E15DFE3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2920" y="553680"/>
            <a:ext cx="88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7088C-8929-4A49-ADCB-8084318D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B874B-5548-4E07-AF59-43EE15B3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73E1-FAE3-4FCD-AF91-179D02AA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96175-8353-4C83-9801-A7520A27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91640" y="5322600"/>
            <a:ext cx="8278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629EE-2ED6-42A8-A9A2-76150A06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33880" y="197964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164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33880" y="5322600"/>
            <a:ext cx="403992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8DDE6-6C08-49D6-A0C2-D154BBA3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9064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90000" y="197964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91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9064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90000" y="5322600"/>
            <a:ext cx="2665440" cy="305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D901A-D4F9-4C57-AA5D-723DF41B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49820-F4F7-4A0F-A737-C0C580FC24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553680"/>
            <a:ext cx="8639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98432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454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83360" y="6454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C41D4-0FDA-4E42-98FD-6162D6F0BA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89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99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0E71A-6ACA-45F1-BA41-5413DD7E4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640"/>
            <a:ext cx="8458200" cy="58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76080" y="630072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19280" y="6318360"/>
            <a:ext cx="3220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1720" y="63183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01D91-3AAD-4F92-8A6E-0E5C4700E0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C891A-0A2C-49A7-821F-A269CE14A2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000" y="301320"/>
            <a:ext cx="8278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198a8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134200" cy="753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14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35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3388E-3903-4907-985F-D710F5B66F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979640" y="1767960"/>
            <a:ext cx="7773840" cy="128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CFEF6-707C-4662-92B0-0376444651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91640" y="1979640"/>
            <a:ext cx="827892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3964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41988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83360" y="641988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D8F95-9E15-419A-B41C-34D6A9D88A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008000" y="1763640"/>
            <a:ext cx="79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rmAutofit fontScale="89000"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Работа над текстом по теме «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Составитель: Новикова Анна Никола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итель-логопед ГБОУ СОШ №5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Красногвардей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979640"/>
            <a:ext cx="40626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6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7219800" cy="7559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5" descr=""/>
          <p:cNvPicPr/>
          <p:nvPr/>
        </p:nvPicPr>
        <p:blipFill>
          <a:blip r:embed="rId2"/>
          <a:stretch/>
        </p:blipFill>
        <p:spPr>
          <a:xfrm>
            <a:off x="6719760" y="-3240"/>
            <a:ext cx="336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2920" y="56016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мотри внимательно на картинку и расскажи об инструментах повара. Как он их использует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91640" y="1979640"/>
            <a:ext cx="40626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66" name="Picture 2" descr="http://navigatum.ru/assets/images/anima/VMP/PROFESSIYa-POVAR.png"/>
          <p:cNvPicPr/>
          <p:nvPr/>
        </p:nvPicPr>
        <p:blipFill>
          <a:blip r:embed="rId1"/>
          <a:stretch/>
        </p:blipFill>
        <p:spPr>
          <a:xfrm>
            <a:off x="792000" y="2409840"/>
            <a:ext cx="8566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сскажи кем ты хочешь стать, когда вырастешь и почему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91640" y="1979640"/>
            <a:ext cx="40626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70" name="Picture 2" descr="http://www.zanimatika.narod.ru/Profi1.png"/>
          <p:cNvPicPr/>
          <p:nvPr/>
        </p:nvPicPr>
        <p:blipFill>
          <a:blip r:embed="rId1"/>
          <a:stretch/>
        </p:blipFill>
        <p:spPr>
          <a:xfrm>
            <a:off x="1346040" y="1814400"/>
            <a:ext cx="7182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91640" y="1979640"/>
            <a:ext cx="40626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74" name="Рисунок 4" descr=""/>
          <p:cNvPicPr/>
          <p:nvPr/>
        </p:nvPicPr>
        <p:blipFill>
          <a:blip r:embed="rId1"/>
          <a:stretch/>
        </p:blipFill>
        <p:spPr>
          <a:xfrm>
            <a:off x="406440" y="522360"/>
            <a:ext cx="904716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ление описательного рассказа по схем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792000" y="197964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и на картинки с изображением людей разных профессий и представь, что когда ты вырастешь, то станешь известным врачом,композитором,учителем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уясь схемой описания, расскажи о своей будущей профессии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" descr=""/>
          <p:cNvPicPr/>
          <p:nvPr/>
        </p:nvPicPr>
        <p:blipFill>
          <a:blip r:embed="rId2"/>
          <a:stretch/>
        </p:blipFill>
        <p:spPr>
          <a:xfrm>
            <a:off x="0" y="1079640"/>
            <a:ext cx="3600360" cy="4319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3"/>
          <a:stretch/>
        </p:blipFill>
        <p:spPr>
          <a:xfrm>
            <a:off x="3600360" y="1260360"/>
            <a:ext cx="3240000" cy="4140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4"/>
          <a:stretch/>
        </p:blipFill>
        <p:spPr>
          <a:xfrm>
            <a:off x="6840360" y="1440000"/>
            <a:ext cx="3060720" cy="39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0" y="1087560"/>
            <a:ext cx="3600360" cy="503208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033880" y="1979640"/>
            <a:ext cx="404028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3"/>
          <a:stretch/>
        </p:blipFill>
        <p:spPr>
          <a:xfrm>
            <a:off x="6958080" y="1087560"/>
            <a:ext cx="3301920" cy="4852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4"/>
          <a:stretch/>
        </p:blipFill>
        <p:spPr>
          <a:xfrm>
            <a:off x="3541680" y="1087560"/>
            <a:ext cx="3478320" cy="50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0" y="360360"/>
            <a:ext cx="10080720" cy="70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2000" y="2124000"/>
            <a:ext cx="85694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Послушай текст, перескажи его и ответь на вопросы: Кого спасают пожарные на картинке и зачем пожарному специальная одежда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554040"/>
            <a:ext cx="88567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91640" y="1979640"/>
            <a:ext cx="4040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33520" y="1979640"/>
            <a:ext cx="404028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006520" y="1979640"/>
            <a:ext cx="406404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354" name="Рисунок 4" descr=""/>
          <p:cNvPicPr/>
          <p:nvPr/>
        </p:nvPicPr>
        <p:blipFill>
          <a:blip r:embed="rId1"/>
          <a:stretch/>
        </p:blipFill>
        <p:spPr>
          <a:xfrm>
            <a:off x="3938760" y="-14400"/>
            <a:ext cx="6141960" cy="75740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502920" y="2273040"/>
            <a:ext cx="343548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</a:rPr>
              <a:t>Расскажи что ты видишь на картинке, что мальчик делает неправильно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2920" y="553680"/>
            <a:ext cx="88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тавь предложения в нужном порядке так, чтобы получился связный текст. О ком этот текст? Перескажи его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18920" y="2266920"/>
            <a:ext cx="8713800" cy="639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1.Человек этой профессии должен быть очень добрым и любить животных, ведь чтобы животное позволило ему себя лечить, оно должно чувствовать, что человек не хочет причинить ему зла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2.Врач, который лечит животных называется ветеринар и работает он в ветеринарной клинике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3.Это тоже врач, только врач необычный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4.Его главная задача – это осмотр животных, назначение им лечения и необходимых прививок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10:50:50Z</dcterms:created>
  <dc:creator>Ксюша</dc:creator>
  <dc:description/>
  <dc:language>en-US</dc:language>
  <cp:lastModifiedBy>Home</cp:lastModifiedBy>
  <dcterms:modified xsi:type="dcterms:W3CDTF">2022-10-01T15:00:21Z</dcterms:modified>
  <cp:revision>5</cp:revision>
  <dc:subject/>
  <dc:title>Презентация PowerPoint</dc:title>
</cp:coreProperties>
</file>