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jpeg" ContentType="image/jpe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E65-64B8-4B29-9FF7-4C4069C1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23E-F39E-499D-9C94-829F11B2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FCF-2F10-4832-A16E-D6B78482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56B-EB9A-4829-A513-CB2A96DD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74B-A5F5-42DE-BDCE-0EA5E7F3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636-FC0A-4663-BF41-DF17205C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2286-E25B-4F70-A73C-8F89AB54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34A-A222-4DA7-8B37-3712539D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907-2B8B-4549-A6D8-A1EB3245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6262-B64A-4C1A-A91C-C2478688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FF2-DBEC-49DB-BE0F-09D40AB6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3CE-94EB-464C-9AEB-EB88FF30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8576-5BDE-4180-AB60-CAE51D4B6B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зима"/>
          <p:cNvPicPr/>
          <p:nvPr/>
        </p:nvPicPr>
        <p:blipFill>
          <a:blip r:embed="rId1"/>
          <a:stretch/>
        </p:blipFill>
        <p:spPr>
          <a:xfrm>
            <a:off x="4284720" y="260280"/>
            <a:ext cx="4103640" cy="46814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9"/>
          <p:cNvSpPr/>
          <p:nvPr/>
        </p:nvSpPr>
        <p:spPr>
          <a:xfrm rot="20391600">
            <a:off x="0" y="3860280"/>
            <a:ext cx="4248000" cy="2049480"/>
          </a:xfrm>
          <a:prstGeom prst="rightArrow">
            <a:avLst>
              <a:gd name="adj1" fmla="val 50000"/>
              <a:gd name="adj2" fmla="val 5181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1"/>
          <p:cNvSpPr txBox="1"/>
          <p:nvPr/>
        </p:nvSpPr>
        <p:spPr>
          <a:xfrm rot="20325600">
            <a:off x="250560" y="4652640"/>
            <a:ext cx="3619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УТУЛ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4" name="AutoShape 13"/>
          <p:cNvSpPr/>
          <p:nvPr/>
        </p:nvSpPr>
        <p:spPr>
          <a:xfrm>
            <a:off x="3276720" y="981000"/>
            <a:ext cx="576000" cy="57636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4427640" y="47628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5"/>
          <p:cNvSpPr/>
          <p:nvPr/>
        </p:nvSpPr>
        <p:spPr>
          <a:xfrm>
            <a:off x="1979640" y="404640"/>
            <a:ext cx="576360" cy="576360"/>
          </a:xfrm>
          <a:custGeom>
            <a:avLst/>
            <a:gdLst>
              <a:gd name="textAreaLeft" fmla="*/ 237600 w 576360"/>
              <a:gd name="textAreaRight" fmla="*/ 338760 w 57636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6"/>
          <p:cNvSpPr/>
          <p:nvPr/>
        </p:nvSpPr>
        <p:spPr>
          <a:xfrm>
            <a:off x="5148360" y="189000"/>
            <a:ext cx="576000" cy="57600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240 h 576000"/>
              <a:gd name="textAreaBottom" fmla="*/ 3387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7"/>
          <p:cNvSpPr/>
          <p:nvPr/>
        </p:nvSpPr>
        <p:spPr>
          <a:xfrm>
            <a:off x="7956720" y="260280"/>
            <a:ext cx="576000" cy="576360"/>
          </a:xfrm>
          <a:custGeom>
            <a:avLst/>
            <a:gdLst>
              <a:gd name="textAreaLeft" fmla="*/ 237240 w 576000"/>
              <a:gd name="textAreaRight" fmla="*/ 338760 w 576000"/>
              <a:gd name="textAreaTop" fmla="*/ 237600 h 576360"/>
              <a:gd name="textAreaBottom" fmla="*/ 338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4788000" y="55897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9"/>
          <p:cNvSpPr/>
          <p:nvPr/>
        </p:nvSpPr>
        <p:spPr>
          <a:xfrm>
            <a:off x="5003640" y="4653000"/>
            <a:ext cx="648000" cy="69696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0"/>
          <p:cNvSpPr/>
          <p:nvPr/>
        </p:nvSpPr>
        <p:spPr>
          <a:xfrm>
            <a:off x="4932360" y="5157720"/>
            <a:ext cx="792000" cy="698400"/>
          </a:xfrm>
          <a:prstGeom prst="triangle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5219640" y="6524640"/>
            <a:ext cx="216000" cy="333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2"/>
          <a:stretch/>
        </p:blipFill>
        <p:spPr>
          <a:xfrm>
            <a:off x="2987640" y="1989000"/>
            <a:ext cx="565200" cy="57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d2cb88548b80da1cbb645576ccc50fd8"/>
          <p:cNvPicPr/>
          <p:nvPr/>
        </p:nvPicPr>
        <p:blipFill>
          <a:blip r:embed="rId3"/>
          <a:stretch/>
        </p:blipFill>
        <p:spPr>
          <a:xfrm>
            <a:off x="539640" y="6206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d2cb88548b80da1cbb645576ccc50fd8"/>
          <p:cNvPicPr/>
          <p:nvPr/>
        </p:nvPicPr>
        <p:blipFill>
          <a:blip r:embed="rId4"/>
          <a:stretch/>
        </p:blipFill>
        <p:spPr>
          <a:xfrm>
            <a:off x="1042920" y="256536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5"/>
          <a:stretch/>
        </p:blipFill>
        <p:spPr>
          <a:xfrm>
            <a:off x="8388360" y="2781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d2cb88548b80da1cbb645576ccc50fd8"/>
          <p:cNvPicPr/>
          <p:nvPr/>
        </p:nvPicPr>
        <p:blipFill>
          <a:blip r:embed="rId6"/>
          <a:stretch/>
        </p:blipFill>
        <p:spPr>
          <a:xfrm>
            <a:off x="3995640" y="544500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7"/>
          <a:stretch/>
        </p:blipFill>
        <p:spPr>
          <a:xfrm flipH="1" rot="10800000">
            <a:off x="6012000" y="5949720"/>
            <a:ext cx="523800" cy="50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323\Рабочий стол\Портфель\Рисунки,анимашки\анимашки\06bda9bd896c26e0cc2feaaaa2232d33 - копия.gif"/>
          <p:cNvPicPr/>
          <p:nvPr/>
        </p:nvPicPr>
        <p:blipFill>
          <a:blip r:embed="rId8"/>
          <a:stretch/>
        </p:blipFill>
        <p:spPr>
          <a:xfrm>
            <a:off x="7596360" y="5661000"/>
            <a:ext cx="523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66680" y="3860640"/>
            <a:ext cx="1596960" cy="28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8043840" y="4037040"/>
            <a:ext cx="920880" cy="2705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24" name="TextBox 14"/>
          <p:cNvSpPr/>
          <p:nvPr/>
        </p:nvSpPr>
        <p:spPr>
          <a:xfrm>
            <a:off x="2411280" y="227160"/>
            <a:ext cx="381636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ОТДОХНИ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Группа 15"/>
          <p:cNvGrpSpPr/>
          <p:nvPr/>
        </p:nvGrpSpPr>
        <p:grpSpPr>
          <a:xfrm>
            <a:off x="1658880" y="1341360"/>
            <a:ext cx="5770800" cy="5316480"/>
            <a:chOff x="1658880" y="1341360"/>
            <a:chExt cx="5770800" cy="5316480"/>
          </a:xfrm>
        </p:grpSpPr>
        <p:pic>
          <p:nvPicPr>
            <p:cNvPr id="126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3"/>
            <a:stretch/>
          </p:blipFill>
          <p:spPr>
            <a:xfrm>
              <a:off x="165888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4"/>
            <a:stretch/>
          </p:blipFill>
          <p:spPr>
            <a:xfrm>
              <a:off x="3916800" y="35132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5"/>
            <a:stretch/>
          </p:blipFill>
          <p:spPr>
            <a:xfrm>
              <a:off x="1694160" y="336852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6"/>
            <a:stretch/>
          </p:blipFill>
          <p:spPr>
            <a:xfrm>
              <a:off x="5752080" y="36590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7"/>
            <a:stretch/>
          </p:blipFill>
          <p:spPr>
            <a:xfrm>
              <a:off x="373356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8"/>
            <a:stretch/>
          </p:blipFill>
          <p:spPr>
            <a:xfrm>
              <a:off x="3145320" y="51062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9"/>
            <a:stretch/>
          </p:blipFill>
          <p:spPr>
            <a:xfrm>
              <a:off x="589464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Группа 16"/>
          <p:cNvGrpSpPr/>
          <p:nvPr/>
        </p:nvGrpSpPr>
        <p:grpSpPr>
          <a:xfrm>
            <a:off x="826920" y="2508120"/>
            <a:ext cx="7383600" cy="3548160"/>
            <a:chOff x="826920" y="2508120"/>
            <a:chExt cx="7383600" cy="3548160"/>
          </a:xfrm>
        </p:grpSpPr>
        <p:pic>
          <p:nvPicPr>
            <p:cNvPr id="134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0"/>
            <a:stretch/>
          </p:blipFill>
          <p:spPr>
            <a:xfrm>
              <a:off x="2915280" y="28915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1"/>
            <a:stretch/>
          </p:blipFill>
          <p:spPr>
            <a:xfrm>
              <a:off x="1866240" y="491940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2"/>
            <a:stretch/>
          </p:blipFill>
          <p:spPr>
            <a:xfrm>
              <a:off x="5003640" y="25999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3"/>
            <a:stretch/>
          </p:blipFill>
          <p:spPr>
            <a:xfrm>
              <a:off x="826920" y="25081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4"/>
            <a:stretch/>
          </p:blipFill>
          <p:spPr>
            <a:xfrm>
              <a:off x="7020000" y="27043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5"/>
            <a:stretch/>
          </p:blipFill>
          <p:spPr>
            <a:xfrm>
              <a:off x="4787640" y="4919400"/>
              <a:ext cx="1190520" cy="11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ЗВЕРОБИКА.mp3" descr=""/>
          <p:cNvPicPr/>
          <p:nvPr/>
        </p:nvPicPr>
        <p:blipFill>
          <a:blip r:embed="rId16"/>
          <a:stretch/>
        </p:blipFill>
        <p:spPr>
          <a:xfrm>
            <a:off x="217440" y="774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9695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4"/>
          <p:cNvSpPr/>
          <p:nvPr/>
        </p:nvSpPr>
        <p:spPr>
          <a:xfrm>
            <a:off x="39528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61928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84328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406728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5292720" y="18900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9528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529272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161928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284328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4067280" y="126828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469800" y="5229360"/>
            <a:ext cx="1225800" cy="1079280"/>
          </a:xfrm>
          <a:custGeom>
            <a:avLst/>
            <a:gdLst>
              <a:gd name="textAreaLeft" fmla="*/ 378720 w 1225800"/>
              <a:gd name="textAreaRight" fmla="*/ 847080 w 12258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5"/>
          <p:cNvSpPr/>
          <p:nvPr/>
        </p:nvSpPr>
        <p:spPr>
          <a:xfrm>
            <a:off x="468360" y="407664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693800" y="522936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7"/>
          <p:cNvSpPr/>
          <p:nvPr/>
        </p:nvSpPr>
        <p:spPr>
          <a:xfrm>
            <a:off x="1693800" y="407664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8"/>
          <p:cNvSpPr/>
          <p:nvPr/>
        </p:nvSpPr>
        <p:spPr>
          <a:xfrm>
            <a:off x="2917800" y="522936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2917800" y="407664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0"/>
          <p:cNvSpPr/>
          <p:nvPr/>
        </p:nvSpPr>
        <p:spPr>
          <a:xfrm>
            <a:off x="4140360" y="4076640"/>
            <a:ext cx="1225440" cy="107964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5364000" y="4076640"/>
            <a:ext cx="1225800" cy="1079640"/>
          </a:xfrm>
          <a:custGeom>
            <a:avLst/>
            <a:gdLst>
              <a:gd name="textAreaLeft" fmla="*/ 378720 w 1225800"/>
              <a:gd name="textAreaRight" fmla="*/ 847080 w 1225800"/>
              <a:gd name="textAreaTop" fmla="*/ 412200 h 1079640"/>
              <a:gd name="textAreaBottom" fmla="*/ 824760 h 107964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5364000" y="5229360"/>
            <a:ext cx="1225800" cy="1079280"/>
          </a:xfrm>
          <a:custGeom>
            <a:avLst/>
            <a:gdLst>
              <a:gd name="textAreaLeft" fmla="*/ 378720 w 1225800"/>
              <a:gd name="textAreaRight" fmla="*/ 847080 w 12258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4140360" y="5229360"/>
            <a:ext cx="1225440" cy="1079280"/>
          </a:xfrm>
          <a:custGeom>
            <a:avLst/>
            <a:gdLst>
              <a:gd name="textAreaLeft" fmla="*/ 378720 w 1225440"/>
              <a:gd name="textAreaRight" fmla="*/ 846720 w 122544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5550" h="1079500">
                <a:moveTo>
                  <a:pt x="1" y="412331"/>
                </a:moveTo>
                <a:lnTo>
                  <a:pt x="468121" y="412334"/>
                </a:lnTo>
                <a:lnTo>
                  <a:pt x="612775" y="0"/>
                </a:lnTo>
                <a:lnTo>
                  <a:pt x="757429" y="412334"/>
                </a:lnTo>
                <a:lnTo>
                  <a:pt x="1225549" y="412331"/>
                </a:lnTo>
                <a:lnTo>
                  <a:pt x="846830" y="667164"/>
                </a:lnTo>
                <a:lnTo>
                  <a:pt x="991491" y="1079496"/>
                </a:lnTo>
                <a:lnTo>
                  <a:pt x="612775" y="824659"/>
                </a:lnTo>
                <a:lnTo>
                  <a:pt x="234059" y="1079496"/>
                </a:lnTo>
                <a:lnTo>
                  <a:pt x="378720" y="66716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5148360" y="270828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– это 2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,20,30,40,50,60,70,80,90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324000" y="2379600"/>
            <a:ext cx="367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розвени-ка, друж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Голосистый зво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еремену ждут ребя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Поиграть, попрыгать над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1а"/>
          <p:cNvPicPr/>
          <p:nvPr/>
        </p:nvPicPr>
        <p:blipFill>
          <a:blip r:embed="rId1"/>
          <a:stretch/>
        </p:blipFill>
        <p:spPr>
          <a:xfrm>
            <a:off x="4211640" y="1341360"/>
            <a:ext cx="4176720" cy="3527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колокольчик"/>
          <p:cNvPicPr/>
          <p:nvPr/>
        </p:nvPicPr>
        <p:blipFill>
          <a:blip r:embed="rId2"/>
          <a:stretch/>
        </p:blipFill>
        <p:spPr>
          <a:xfrm rot="19685400">
            <a:off x="1042560" y="404640"/>
            <a:ext cx="1944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66680" y="3860640"/>
            <a:ext cx="1596960" cy="28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8043840" y="4037040"/>
            <a:ext cx="920880" cy="2705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68" name="TextBox 14"/>
          <p:cNvSpPr/>
          <p:nvPr/>
        </p:nvSpPr>
        <p:spPr>
          <a:xfrm>
            <a:off x="2484360" y="260280"/>
            <a:ext cx="381636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ОТДОХНИ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5"/>
          <p:cNvGrpSpPr/>
          <p:nvPr/>
        </p:nvGrpSpPr>
        <p:grpSpPr>
          <a:xfrm>
            <a:off x="1658880" y="1341360"/>
            <a:ext cx="5770800" cy="5316480"/>
            <a:chOff x="1658880" y="1341360"/>
            <a:chExt cx="5770800" cy="5316480"/>
          </a:xfrm>
        </p:grpSpPr>
        <p:pic>
          <p:nvPicPr>
            <p:cNvPr id="170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3"/>
            <a:stretch/>
          </p:blipFill>
          <p:spPr>
            <a:xfrm>
              <a:off x="165888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4"/>
            <a:stretch/>
          </p:blipFill>
          <p:spPr>
            <a:xfrm>
              <a:off x="3916800" y="35132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5"/>
            <a:stretch/>
          </p:blipFill>
          <p:spPr>
            <a:xfrm>
              <a:off x="1694160" y="336852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6"/>
            <a:stretch/>
          </p:blipFill>
          <p:spPr>
            <a:xfrm>
              <a:off x="5752080" y="36590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7"/>
            <a:stretch/>
          </p:blipFill>
          <p:spPr>
            <a:xfrm>
              <a:off x="373356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8"/>
            <a:stretch/>
          </p:blipFill>
          <p:spPr>
            <a:xfrm>
              <a:off x="3145320" y="5106240"/>
              <a:ext cx="1535040" cy="155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" descr="E:\Documents and Settings\Мама\Мои документы\1 класс\Презентация по математике\Картинки для презентации\0_5b74f_d94cdabf_XL.png"/>
            <p:cNvPicPr/>
            <p:nvPr/>
          </p:nvPicPr>
          <p:blipFill>
            <a:blip r:embed="rId9"/>
            <a:stretch/>
          </p:blipFill>
          <p:spPr>
            <a:xfrm>
              <a:off x="5894640" y="1341360"/>
              <a:ext cx="1535040" cy="155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Группа 16"/>
          <p:cNvGrpSpPr/>
          <p:nvPr/>
        </p:nvGrpSpPr>
        <p:grpSpPr>
          <a:xfrm>
            <a:off x="826920" y="2508120"/>
            <a:ext cx="7383600" cy="3548160"/>
            <a:chOff x="826920" y="2508120"/>
            <a:chExt cx="7383600" cy="3548160"/>
          </a:xfrm>
        </p:grpSpPr>
        <p:pic>
          <p:nvPicPr>
            <p:cNvPr id="178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0"/>
            <a:stretch/>
          </p:blipFill>
          <p:spPr>
            <a:xfrm>
              <a:off x="2915280" y="28915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1"/>
            <a:stretch/>
          </p:blipFill>
          <p:spPr>
            <a:xfrm>
              <a:off x="1866240" y="491940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2"/>
            <a:stretch/>
          </p:blipFill>
          <p:spPr>
            <a:xfrm>
              <a:off x="5003640" y="25999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3"/>
            <a:stretch/>
          </p:blipFill>
          <p:spPr>
            <a:xfrm>
              <a:off x="826920" y="25081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4"/>
            <a:stretch/>
          </p:blipFill>
          <p:spPr>
            <a:xfrm>
              <a:off x="7020000" y="2704320"/>
              <a:ext cx="1190520" cy="11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5" descr="E:\Documents and Settings\Мама\Мои документы\1 класс\Презентация по математике\Картинки для презентации\Bilde1.png"/>
            <p:cNvPicPr/>
            <p:nvPr/>
          </p:nvPicPr>
          <p:blipFill>
            <a:blip r:embed="rId15"/>
            <a:stretch/>
          </p:blipFill>
          <p:spPr>
            <a:xfrm>
              <a:off x="4787640" y="4919400"/>
              <a:ext cx="1190520" cy="11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ЗВЕРОБИКА.mp3" descr=""/>
          <p:cNvPicPr/>
          <p:nvPr/>
        </p:nvPicPr>
        <p:blipFill>
          <a:blip r:embed="rId16"/>
          <a:stretch/>
        </p:blipFill>
        <p:spPr>
          <a:xfrm>
            <a:off x="468360" y="1216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96953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5"/>
          <p:cNvSpPr/>
          <p:nvPr/>
        </p:nvSpPr>
        <p:spPr>
          <a:xfrm>
            <a:off x="1428840" y="428760"/>
            <a:ext cx="691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3399"/>
                </a:solidFill>
                <a:latin typeface="Arial"/>
              </a:rPr>
              <a:t>Всем спасибо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8" descr="http://s4.rimg.info/06bda9bd896c26e0cc2feaaaa2232d33.gif"/>
          <p:cNvPicPr/>
          <p:nvPr/>
        </p:nvPicPr>
        <p:blipFill>
          <a:blip r:embed="rId1"/>
          <a:stretch/>
        </p:blipFill>
        <p:spPr>
          <a:xfrm>
            <a:off x="3419640" y="558972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6" descr="d2cb88548b80da1cbb645576ccc50fd8"/>
          <p:cNvPicPr/>
          <p:nvPr/>
        </p:nvPicPr>
        <p:blipFill>
          <a:blip r:embed="rId2"/>
          <a:stretch/>
        </p:blipFill>
        <p:spPr>
          <a:xfrm>
            <a:off x="857160" y="164304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http://s4.rimg.info/06bda9bd896c26e0cc2feaaaa2232d33.gif"/>
          <p:cNvPicPr/>
          <p:nvPr/>
        </p:nvPicPr>
        <p:blipFill>
          <a:blip r:embed="rId3"/>
          <a:stretch/>
        </p:blipFill>
        <p:spPr>
          <a:xfrm>
            <a:off x="7885080" y="76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http://s4.rimg.info/06bda9bd896c26e0cc2feaaaa2232d33.gif"/>
          <p:cNvPicPr/>
          <p:nvPr/>
        </p:nvPicPr>
        <p:blipFill>
          <a:blip r:embed="rId4"/>
          <a:stretch/>
        </p:blipFill>
        <p:spPr>
          <a:xfrm>
            <a:off x="7740720" y="2852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6" descr="d2cb88548b80da1cbb645576ccc50fd8"/>
          <p:cNvPicPr/>
          <p:nvPr/>
        </p:nvPicPr>
        <p:blipFill>
          <a:blip r:embed="rId5"/>
          <a:stretch/>
        </p:blipFill>
        <p:spPr>
          <a:xfrm>
            <a:off x="8101080" y="3716280"/>
            <a:ext cx="638280" cy="47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6" descr="d2cb88548b80da1cbb645576ccc50fd8"/>
          <p:cNvPicPr/>
          <p:nvPr/>
        </p:nvPicPr>
        <p:blipFill>
          <a:blip r:embed="rId6"/>
          <a:stretch/>
        </p:blipFill>
        <p:spPr>
          <a:xfrm>
            <a:off x="6786720" y="6000840"/>
            <a:ext cx="637920" cy="476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http://s4.rimg.info/06bda9bd896c26e0cc2feaaaa2232d33.gif"/>
          <p:cNvPicPr/>
          <p:nvPr/>
        </p:nvPicPr>
        <p:blipFill>
          <a:blip r:embed="rId7"/>
          <a:stretch/>
        </p:blipFill>
        <p:spPr>
          <a:xfrm>
            <a:off x="8286840" y="600084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0" descr="http://s4.rimg.info/06bda9bd896c26e0cc2feaaaa2232d33.gif"/>
          <p:cNvPicPr/>
          <p:nvPr/>
        </p:nvPicPr>
        <p:blipFill>
          <a:blip r:embed="rId8"/>
          <a:stretch/>
        </p:blipFill>
        <p:spPr>
          <a:xfrm>
            <a:off x="755640" y="508464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6" descr="http://s4.rimg.info/06bda9bd896c26e0cc2feaaaa2232d33.gif"/>
          <p:cNvPicPr/>
          <p:nvPr/>
        </p:nvPicPr>
        <p:blipFill>
          <a:blip r:embed="rId9"/>
          <a:stretch/>
        </p:blipFill>
        <p:spPr>
          <a:xfrm>
            <a:off x="755640" y="2997360"/>
            <a:ext cx="5238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571760" y="164304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, 5, 8, 6, 2, 1, 2, 10,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857680" y="214200"/>
            <a:ext cx="41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означные и двузначные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85acd8b597ddt"/>
          <p:cNvPicPr/>
          <p:nvPr/>
        </p:nvPicPr>
        <p:blipFill>
          <a:blip r:embed="rId1"/>
          <a:stretch/>
        </p:blipFill>
        <p:spPr>
          <a:xfrm>
            <a:off x="1571760" y="2643120"/>
            <a:ext cx="5689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with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324000" y="40464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916360" y="47628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619280" y="47628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4284720" y="54936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580000" y="54936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250920" y="170028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1619280" y="170028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2987640" y="170028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284720" y="1773360"/>
            <a:ext cx="1079280" cy="93636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360"/>
              <a:gd name="textAreaBottom" fmla="*/ 592920 h 93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3"/>
          <p:cNvSpPr/>
          <p:nvPr/>
        </p:nvSpPr>
        <p:spPr>
          <a:xfrm>
            <a:off x="5651640" y="1773360"/>
            <a:ext cx="1079280" cy="93636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360"/>
              <a:gd name="textAreaBottom" fmla="*/ 592920 h 93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2700360" y="508464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5"/>
          <p:cNvSpPr/>
          <p:nvPr/>
        </p:nvSpPr>
        <p:spPr>
          <a:xfrm>
            <a:off x="1619280" y="4437000"/>
            <a:ext cx="1079640" cy="936720"/>
          </a:xfrm>
          <a:custGeom>
            <a:avLst/>
            <a:gdLst>
              <a:gd name="textAreaLeft" fmla="*/ 251640 w 1079640"/>
              <a:gd name="textAreaRight" fmla="*/ 827640 w 107964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436680" y="5205240"/>
            <a:ext cx="1079280" cy="936720"/>
          </a:xfrm>
          <a:custGeom>
            <a:avLst/>
            <a:gdLst>
              <a:gd name="textAreaLeft" fmla="*/ 251640 w 1079280"/>
              <a:gd name="textAreaRight" fmla="*/ 827280 w 1079280"/>
              <a:gd name="textAreaTop" fmla="*/ 98640 h 936720"/>
              <a:gd name="textAreaBottom" fmla="*/ 593280 h 936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4"/>
          <p:cNvSpPr/>
          <p:nvPr/>
        </p:nvSpPr>
        <p:spPr>
          <a:xfrm>
            <a:off x="39528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154764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399564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277164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5292720" y="333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95280" y="1557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5292720" y="1557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1619280" y="155736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4067280" y="155736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2843280" y="155736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4"/>
          <p:cNvSpPr/>
          <p:nvPr/>
        </p:nvSpPr>
        <p:spPr>
          <a:xfrm>
            <a:off x="539640" y="551664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5"/>
          <p:cNvSpPr/>
          <p:nvPr/>
        </p:nvSpPr>
        <p:spPr>
          <a:xfrm>
            <a:off x="539640" y="436572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6"/>
          <p:cNvSpPr/>
          <p:nvPr/>
        </p:nvSpPr>
        <p:spPr>
          <a:xfrm>
            <a:off x="539640" y="321300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7"/>
          <p:cNvSpPr/>
          <p:nvPr/>
        </p:nvSpPr>
        <p:spPr>
          <a:xfrm>
            <a:off x="1763640" y="436572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2843280" y="551664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9"/>
          <p:cNvSpPr/>
          <p:nvPr/>
        </p:nvSpPr>
        <p:spPr>
          <a:xfrm>
            <a:off x="2843280" y="4365720"/>
            <a:ext cx="1079280" cy="100800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2771640" y="3213000"/>
            <a:ext cx="1079640" cy="1008000"/>
          </a:xfrm>
          <a:custGeom>
            <a:avLst/>
            <a:gdLst>
              <a:gd name="textAreaLeft" fmla="*/ 246240 w 1079640"/>
              <a:gd name="textAreaRight" fmla="*/ 833400 w 1079640"/>
              <a:gd name="textAreaTop" fmla="*/ 230040 h 1008000"/>
              <a:gd name="textAreaBottom" fmla="*/ 7779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4"/>
          <p:cNvSpPr/>
          <p:nvPr/>
        </p:nvSpPr>
        <p:spPr>
          <a:xfrm>
            <a:off x="395280" y="33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547640" y="33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2771640" y="33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3995640" y="40464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219640" y="40464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324000" y="141300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5364000" y="141300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4067280" y="148428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843280" y="14842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1619280" y="14842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324000" y="573408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324000" y="458136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324000" y="3500280"/>
            <a:ext cx="93636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1547640" y="57340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8"/>
          <p:cNvSpPr/>
          <p:nvPr/>
        </p:nvSpPr>
        <p:spPr>
          <a:xfrm>
            <a:off x="2771640" y="573408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"/>
          <p:cNvSpPr/>
          <p:nvPr/>
        </p:nvSpPr>
        <p:spPr>
          <a:xfrm>
            <a:off x="1476360" y="465300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>
            <a:off x="1547640" y="357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1"/>
          <p:cNvSpPr/>
          <p:nvPr/>
        </p:nvSpPr>
        <p:spPr>
          <a:xfrm>
            <a:off x="2771640" y="3573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>
            <a:off x="2771640" y="4581360"/>
            <a:ext cx="936720" cy="863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000680" y="4857840"/>
            <a:ext cx="1312560" cy="158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3" name="Прямоугольник 15" descr=""/>
          <p:cNvPicPr/>
          <p:nvPr/>
        </p:nvPicPr>
        <p:blipFill>
          <a:blip r:embed="rId2"/>
          <a:stretch/>
        </p:blipFill>
        <p:spPr>
          <a:xfrm>
            <a:off x="938160" y="42840"/>
            <a:ext cx="7261200" cy="166356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17" descr=""/>
          <p:cNvPicPr/>
          <p:nvPr/>
        </p:nvPicPr>
        <p:blipFill>
          <a:blip r:embed="rId3"/>
          <a:stretch/>
        </p:blipFill>
        <p:spPr>
          <a:xfrm>
            <a:off x="-378000" y="1066680"/>
            <a:ext cx="10112400" cy="288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4"/>
          <a:stretch/>
        </p:blipFill>
        <p:spPr>
          <a:xfrm>
            <a:off x="166680" y="3860640"/>
            <a:ext cx="1596960" cy="28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16" name="Picture 3" descr=""/>
          <p:cNvPicPr/>
          <p:nvPr/>
        </p:nvPicPr>
        <p:blipFill>
          <a:blip r:embed="rId5"/>
          <a:stretch/>
        </p:blipFill>
        <p:spPr>
          <a:xfrm>
            <a:off x="8043840" y="4037040"/>
            <a:ext cx="920880" cy="2705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а второго деся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16000" y="292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Arial"/>
              </a:rPr>
              <a:t>13 ,17,1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I                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азряд             Разр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есятков           едини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07:17:55Z</dcterms:created>
  <dc:creator>470</dc:creator>
  <dc:description/>
  <dc:language>en-US</dc:language>
  <cp:lastModifiedBy>Anna123</cp:lastModifiedBy>
  <dcterms:modified xsi:type="dcterms:W3CDTF">2017-02-12T19:53:30Z</dcterms:modified>
  <cp:revision>30</cp:revision>
  <dc:subject/>
  <dc:title>Слайд 1</dc:title>
</cp:coreProperties>
</file>