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F0F8-452B-49E0-A913-2A5A838B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B3B-7855-4C22-991D-EB3B9DAB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114-464D-4225-858B-977FAE91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7D0-CC85-4962-B2B4-16A14C11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2528-1578-48FA-8AEB-2DDC118C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D1BE-677C-4E9B-AD14-20397623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DA15-875D-4678-93DF-C2EA0533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28FB-EBB2-4AE7-885F-979943D4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9D4F-28F1-4C72-88B8-19038A18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635B-47E1-4C99-8E77-AC5B8CD2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3556-F739-4B55-B0F6-3C8479AD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F85-752E-415E-AE0A-1752AAA3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F664-EED9-4752-9212-6B067A96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C52A-6CFC-45DB-914F-B89015A4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F997-DEB5-4847-8882-981DD009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D279-A49F-4049-B668-E30156F8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9115-91A5-40AC-832F-78FA458C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FC0B-7B2E-4A79-917C-7715C031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7266-E2F7-4191-B413-6B804713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241E-69BF-4B8A-8E51-E31B1288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437F6-643D-46EA-80B6-FD5D6A0A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466C-EAC3-4D9A-A807-B7C2105F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D56-B695-4376-AC26-A0D554E9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7FE8-0920-4B9A-A41D-6322933F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E747-90EC-421C-8087-9169687A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8641-F15E-4D25-ABA4-7C8933A0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2B26-924D-4776-92EA-F1B49F15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2D2F-1B53-4C92-9425-70236D7F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EF934-03A0-4B72-85E3-5DFE9E4D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89977-01DA-44D6-844F-C85FFC4D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0B0-EC58-4529-9444-8C4A9C65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EF2-A6F3-448F-A637-6FF7E046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821-A57C-4D57-87A2-E53445B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F40-9F29-4CBA-B582-D4CE8582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14D-819D-43D8-819C-DF38BD1B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9CB-9863-4041-9DC5-ACE76328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D8E-FBFC-4D5E-889E-A3DA854BF39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7137-57DF-4786-86E8-05200C8473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http://i012.radikal.ru/0711/ef/6ab662759382.png"/>
          <p:cNvPicPr/>
          <p:nvPr/>
        </p:nvPicPr>
        <p:blipFill>
          <a:blip r:embed="rId3"/>
          <a:stretch/>
        </p:blipFill>
        <p:spPr>
          <a:xfrm>
            <a:off x="0" y="4191120"/>
            <a:ext cx="3095640" cy="25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ABAF-A735-4FC4-936F-C1F708A0F43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Лукяненко Э.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F3A9-2D9E-4397-BD96-769679BE0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http://fotoramky.narod.ru/images_big/ramka22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i012.radikal.ru/0711/ef/6ab662759382.png"/>
          <p:cNvPicPr/>
          <p:nvPr/>
        </p:nvPicPr>
        <p:blipFill>
          <a:blip r:embed="rId3"/>
          <a:stretch/>
        </p:blipFill>
        <p:spPr>
          <a:xfrm>
            <a:off x="0" y="4191120"/>
            <a:ext cx="3095640" cy="2514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4AA8-C0B7-4E5A-AFF7-0D43DBED2CF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13A9-1C84-4173-A87F-2F2D82D06E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7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4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514600"/>
            <a:ext cx="51051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Математи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http://sdvk-oboi.ru/i/7539_7647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2" descr="&amp;tscy;&amp;icy;&amp;fcy;&amp;rcy;&amp;acy; 7 "/>
          <p:cNvPicPr/>
          <p:nvPr/>
        </p:nvPicPr>
        <p:blipFill>
          <a:blip r:embed="rId2"/>
          <a:stretch/>
        </p:blipFill>
        <p:spPr>
          <a:xfrm>
            <a:off x="6858000" y="3759120"/>
            <a:ext cx="2286000" cy="3098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" descr="&amp;tscy;&amp;icy;&amp;fcy;&amp;rcy;&amp;acy; 7 "/>
          <p:cNvPicPr/>
          <p:nvPr/>
        </p:nvPicPr>
        <p:blipFill>
          <a:blip r:embed="rId2"/>
          <a:stretch/>
        </p:blipFill>
        <p:spPr>
          <a:xfrm>
            <a:off x="6858000" y="3759120"/>
            <a:ext cx="2286000" cy="3098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1905120" y="3886200"/>
            <a:ext cx="2325600" cy="2971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4"/>
          <a:stretch/>
        </p:blipFill>
        <p:spPr>
          <a:xfrm>
            <a:off x="0" y="3809880"/>
            <a:ext cx="1981080" cy="3048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zvenddt.ru/images/112.gif"/>
          <p:cNvPicPr/>
          <p:nvPr/>
        </p:nvPicPr>
        <p:blipFill>
          <a:blip r:embed="rId1"/>
          <a:stretch/>
        </p:blipFill>
        <p:spPr>
          <a:xfrm>
            <a:off x="152280" y="61920"/>
            <a:ext cx="8918640" cy="65674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" descr="&amp;tscy;&amp;icy;&amp;fcy;&amp;rcy;&amp;acy; 7 "/>
          <p:cNvPicPr/>
          <p:nvPr/>
        </p:nvPicPr>
        <p:blipFill>
          <a:blip r:embed="rId2"/>
          <a:stretch/>
        </p:blipFill>
        <p:spPr>
          <a:xfrm>
            <a:off x="533520" y="3124080"/>
            <a:ext cx="2286000" cy="3098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114300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2819520" y="1143000"/>
            <a:ext cx="2666880" cy="304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 flipH="1">
            <a:off x="3124080" y="1219320"/>
            <a:ext cx="2286000" cy="4647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3581280" y="3733920"/>
            <a:ext cx="12956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2743200" y="1371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3429000" y="365760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1"/>
          <a:stretch/>
        </p:blipFill>
        <p:spPr>
          <a:xfrm rot="7451400">
            <a:off x="1958400" y="9828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2"/>
          <a:srcRect l="29035" t="0" r="25805" b="18185"/>
          <a:stretch/>
        </p:blipFill>
        <p:spPr>
          <a:xfrm>
            <a:off x="74674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3"/>
          <a:srcRect l="29035" t="0" r="25805" b="18185"/>
          <a:stretch/>
        </p:blipFill>
        <p:spPr>
          <a:xfrm>
            <a:off x="5638680" y="228600"/>
            <a:ext cx="1303560" cy="1676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"/>
          <p:cNvPicPr/>
          <p:nvPr/>
        </p:nvPicPr>
        <p:blipFill>
          <a:blip r:embed="rId4"/>
          <a:srcRect l="29035" t="7435" r="25805" b="21907"/>
          <a:stretch/>
        </p:blipFill>
        <p:spPr>
          <a:xfrm>
            <a:off x="7467480" y="198108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"/>
          <p:cNvPicPr/>
          <p:nvPr/>
        </p:nvPicPr>
        <p:blipFill>
          <a:blip r:embed="rId5"/>
          <a:srcRect l="29035" t="7435" r="25805" b="18185"/>
          <a:stretch/>
        </p:blipFill>
        <p:spPr>
          <a:xfrm>
            <a:off x="7543800" y="3352680"/>
            <a:ext cx="1303200" cy="1524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/>
          <p:cNvPicPr/>
          <p:nvPr/>
        </p:nvPicPr>
        <p:blipFill>
          <a:blip r:embed="rId6"/>
          <a:srcRect l="29035" t="11157" r="25805" b="18185"/>
          <a:stretch/>
        </p:blipFill>
        <p:spPr>
          <a:xfrm>
            <a:off x="5715000" y="3429000"/>
            <a:ext cx="1303200" cy="1447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"/>
          <p:cNvPicPr/>
          <p:nvPr/>
        </p:nvPicPr>
        <p:blipFill>
          <a:blip r:embed="rId7"/>
          <a:srcRect l="29035" t="7435" r="25805" b="21907"/>
          <a:stretch/>
        </p:blipFill>
        <p:spPr>
          <a:xfrm>
            <a:off x="5715000" y="1905120"/>
            <a:ext cx="1303200" cy="1447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"/>
          <p:cNvPicPr/>
          <p:nvPr/>
        </p:nvPicPr>
        <p:blipFill>
          <a:blip r:embed="rId8"/>
          <a:srcRect l="29035" t="7435" r="25805" b="18185"/>
          <a:stretch/>
        </p:blipFill>
        <p:spPr>
          <a:xfrm>
            <a:off x="6553080" y="4800600"/>
            <a:ext cx="1303560" cy="1523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9"/>
          <a:stretch/>
        </p:blipFill>
        <p:spPr>
          <a:xfrm>
            <a:off x="-76320" y="3276720"/>
            <a:ext cx="2362320" cy="3581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8 -2.94172E-006 C 0.02378 -0.00948 0.03316 -0.01896 0.04566 -0.02428 C 0.05816 -0.0296 0.07326 -0.03446 0.08923 -0.03191 C 0.10521 -0.02937 0.12517 -0.01711 0.14132 -0.00948 C 0.15746 -0.00185 0.17361 0.0111 0.18646 0.01319 C 0.1993 0.01527 0.20086 0.01064 0.21875 0.0037 C 0.23663 -0.00323 0.28194 -0.02474 0.2934 -0.02821 C 0.30486 -0.03168 0.29236 -0.02821 0.28784 -0.01688 C 0.28333 -0.00555 0.30781 -0.07262 0.26666 0.03932 C 0.22552 0.15125 0.07882 0.5525 0.04132 0.65472 E">
                                      <p:cBhvr>
                                        <p:cTn id="6" dur="5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125 0.33812 L 0.23125 0.33812 E">
                                      <p:cBhvr>
                                        <p:cTn id="9" dur="5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Oval 4"/>
          <p:cNvSpPr/>
          <p:nvPr/>
        </p:nvSpPr>
        <p:spPr>
          <a:xfrm>
            <a:off x="0" y="9907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/>
          <p:cNvSpPr/>
          <p:nvPr/>
        </p:nvSpPr>
        <p:spPr>
          <a:xfrm>
            <a:off x="1371600" y="1066680"/>
            <a:ext cx="1371600" cy="1067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2743200" y="1066680"/>
            <a:ext cx="1371600" cy="1067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4114800" y="1066680"/>
            <a:ext cx="1371600" cy="1067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486400" y="1066680"/>
            <a:ext cx="1371600" cy="1067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6858000" y="1066680"/>
            <a:ext cx="1371600" cy="10670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152280" y="213372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2"/>
          <p:cNvSpPr/>
          <p:nvPr/>
        </p:nvSpPr>
        <p:spPr>
          <a:xfrm>
            <a:off x="1523880" y="220968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2895480" y="220968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4"/>
          <p:cNvSpPr/>
          <p:nvPr/>
        </p:nvSpPr>
        <p:spPr>
          <a:xfrm>
            <a:off x="4343400" y="21337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5"/>
          <p:cNvSpPr/>
          <p:nvPr/>
        </p:nvSpPr>
        <p:spPr>
          <a:xfrm>
            <a:off x="5638680" y="213372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6"/>
          <p:cNvSpPr/>
          <p:nvPr/>
        </p:nvSpPr>
        <p:spPr>
          <a:xfrm>
            <a:off x="7010280" y="213372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0" y="320040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37160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74320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411480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8"/>
          <p:cNvSpPr/>
          <p:nvPr/>
        </p:nvSpPr>
        <p:spPr>
          <a:xfrm>
            <a:off x="548640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6858000" y="533520"/>
            <a:ext cx="1371600" cy="1066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228600" y="16765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8077320" y="16765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1523880" y="167652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3"/>
          <p:cNvSpPr/>
          <p:nvPr/>
        </p:nvSpPr>
        <p:spPr>
          <a:xfrm>
            <a:off x="2819520" y="16765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4"/>
          <p:cNvSpPr/>
          <p:nvPr/>
        </p:nvSpPr>
        <p:spPr>
          <a:xfrm>
            <a:off x="4191120" y="16765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5"/>
          <p:cNvSpPr/>
          <p:nvPr/>
        </p:nvSpPr>
        <p:spPr>
          <a:xfrm>
            <a:off x="5638680" y="1676520"/>
            <a:ext cx="106704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6934320" y="1676520"/>
            <a:ext cx="1066680" cy="9144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2865600"/>
            <a:ext cx="3124080" cy="3992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9000" y="1752120"/>
            <a:ext cx="49528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6+1=7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3200400" cy="473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1716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Verdana"/>
              </a:rPr>
              <a:t>Составь  число 7</a:t>
            </a:r>
            <a:br>
              <a:rPr sz="6000"/>
            </a:b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7 = 6 + …    7 = 1 +…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7 = 5 + …    7 = 2 +…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7 = 4 + …    7 = 3 +…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0" y="3895560"/>
            <a:ext cx="1523880" cy="296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1447920" y="3733920"/>
            <a:ext cx="2325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79599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Какое число меньше 6 или 7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96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152280" y="2814480"/>
            <a:ext cx="3048120" cy="40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Verdana"/>
              </a:rPr>
              <a:t>Оцени свою работу        на урок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3276720" y="1752480"/>
            <a:ext cx="1600200" cy="1524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3276720" y="3352680"/>
            <a:ext cx="1600200" cy="1524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6"/>
          <p:cNvSpPr/>
          <p:nvPr/>
        </p:nvSpPr>
        <p:spPr>
          <a:xfrm>
            <a:off x="3352680" y="4952880"/>
            <a:ext cx="1524240" cy="1524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0" y="2133720"/>
            <a:ext cx="3270240" cy="4498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5129280" y="1981080"/>
            <a:ext cx="3481200" cy="4675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59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438280" y="2362320"/>
            <a:ext cx="1357560" cy="24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2325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9320" y="28951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000000"/>
                </a:solidFill>
                <a:latin typeface="Calibri"/>
              </a:rPr>
              <a:t>Спасибо </a:t>
            </a:r>
            <a:br>
              <a:rPr sz="5900"/>
            </a:br>
            <a:r>
              <a:rPr b="1" i="1" lang="ru-RU" sz="5900" spc="-1" strike="noStrike">
                <a:solidFill>
                  <a:srgbClr val="000000"/>
                </a:solidFill>
                <a:latin typeface="Calibri"/>
              </a:rPr>
              <a:t>за работу!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003480" cy="288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3352680" y="533520"/>
            <a:ext cx="2646360" cy="2798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tretch/>
        </p:blipFill>
        <p:spPr>
          <a:xfrm>
            <a:off x="6172200" y="609480"/>
            <a:ext cx="2498760" cy="26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4"/>
          <a:stretch/>
        </p:blipFill>
        <p:spPr>
          <a:xfrm>
            <a:off x="3124080" y="3657600"/>
            <a:ext cx="2916360" cy="2805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5"/>
          <a:stretch/>
        </p:blipFill>
        <p:spPr>
          <a:xfrm>
            <a:off x="6095880" y="3657600"/>
            <a:ext cx="275292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6"/>
          <a:stretch/>
        </p:blipFill>
        <p:spPr>
          <a:xfrm>
            <a:off x="0" y="3505320"/>
            <a:ext cx="2895480" cy="3047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1365480" cy="1338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3429000"/>
            <a:ext cx="1438200" cy="140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0" y="1828800"/>
            <a:ext cx="1441440" cy="141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4343400" y="3352680"/>
            <a:ext cx="1481040" cy="141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5"/>
          <a:stretch/>
        </p:blipFill>
        <p:spPr>
          <a:xfrm>
            <a:off x="2895480" y="3352680"/>
            <a:ext cx="1519200" cy="1455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6"/>
          <a:stretch/>
        </p:blipFill>
        <p:spPr>
          <a:xfrm>
            <a:off x="7442280" y="3352680"/>
            <a:ext cx="1701720" cy="1271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7"/>
          <a:stretch/>
        </p:blipFill>
        <p:spPr>
          <a:xfrm>
            <a:off x="5867280" y="3352680"/>
            <a:ext cx="1683000" cy="1257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8"/>
          <a:stretch/>
        </p:blipFill>
        <p:spPr>
          <a:xfrm>
            <a:off x="1447920" y="1905120"/>
            <a:ext cx="1392120" cy="1434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9"/>
          <a:stretch/>
        </p:blipFill>
        <p:spPr>
          <a:xfrm>
            <a:off x="2971800" y="1905120"/>
            <a:ext cx="1432080" cy="1425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10"/>
          <a:stretch/>
        </p:blipFill>
        <p:spPr>
          <a:xfrm>
            <a:off x="4419720" y="1828800"/>
            <a:ext cx="1357200" cy="135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11"/>
          <a:stretch/>
        </p:blipFill>
        <p:spPr>
          <a:xfrm>
            <a:off x="2895480" y="152280"/>
            <a:ext cx="1428840" cy="142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12"/>
          <a:stretch/>
        </p:blipFill>
        <p:spPr>
          <a:xfrm>
            <a:off x="7315200" y="1905120"/>
            <a:ext cx="1577880" cy="1236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13"/>
          <a:stretch/>
        </p:blipFill>
        <p:spPr>
          <a:xfrm>
            <a:off x="7462800" y="304920"/>
            <a:ext cx="1681200" cy="1317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14"/>
          <a:stretch/>
        </p:blipFill>
        <p:spPr>
          <a:xfrm>
            <a:off x="0" y="152280"/>
            <a:ext cx="1460520" cy="1401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15"/>
          <a:stretch/>
        </p:blipFill>
        <p:spPr>
          <a:xfrm>
            <a:off x="1447920" y="152280"/>
            <a:ext cx="146844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16"/>
          <a:stretch/>
        </p:blipFill>
        <p:spPr>
          <a:xfrm>
            <a:off x="4343400" y="228600"/>
            <a:ext cx="1503360" cy="1428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"/>
          <p:cNvPicPr/>
          <p:nvPr/>
        </p:nvPicPr>
        <p:blipFill>
          <a:blip r:embed="rId17"/>
          <a:stretch/>
        </p:blipFill>
        <p:spPr>
          <a:xfrm>
            <a:off x="5867280" y="380880"/>
            <a:ext cx="1633680" cy="1251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"/>
          <p:cNvPicPr/>
          <p:nvPr/>
        </p:nvPicPr>
        <p:blipFill>
          <a:blip r:embed="rId18"/>
          <a:stretch/>
        </p:blipFill>
        <p:spPr>
          <a:xfrm>
            <a:off x="5791320" y="1981080"/>
            <a:ext cx="1584360" cy="1212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19"/>
          <a:stretch/>
        </p:blipFill>
        <p:spPr>
          <a:xfrm>
            <a:off x="0" y="4800600"/>
            <a:ext cx="1371600" cy="2079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0"/>
          <a:stretch/>
        </p:blipFill>
        <p:spPr>
          <a:xfrm>
            <a:off x="1295280" y="4724280"/>
            <a:ext cx="190512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15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Рисунок 2" descr="&amp;tscy;&amp;icy;&amp;fcy;&amp;rcy;&amp;acy; 7 "/>
          <p:cNvPicPr/>
          <p:nvPr/>
        </p:nvPicPr>
        <p:blipFill>
          <a:blip r:embed="rId1"/>
          <a:stretch/>
        </p:blipFill>
        <p:spPr>
          <a:xfrm>
            <a:off x="3581280" y="533520"/>
            <a:ext cx="4496040" cy="5775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0" y="1770120"/>
            <a:ext cx="3124080" cy="4987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Посмотрите, где число </a:t>
            </a:r>
            <a:r>
              <a:rPr b="1" lang="ru-RU" sz="48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 находится на числовой линейке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3143160"/>
            <a:ext cx="9144000" cy="3714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Рисунок 2" descr="&amp;tscy;&amp;icy;&amp;fcy;&amp;rcy;&amp;acy; 7 "/>
          <p:cNvPicPr/>
          <p:nvPr/>
        </p:nvPicPr>
        <p:blipFill>
          <a:blip r:embed="rId1"/>
          <a:stretch/>
        </p:blipFill>
        <p:spPr>
          <a:xfrm>
            <a:off x="152280" y="304920"/>
            <a:ext cx="3581640" cy="6324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5181480" cy="6451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Рисунок 2" descr="&amp;tscy;&amp;icy;&amp;fcy;&amp;rcy;&amp;acy; 7 "/>
          <p:cNvPicPr/>
          <p:nvPr/>
        </p:nvPicPr>
        <p:blipFill>
          <a:blip r:embed="rId1"/>
          <a:stretch/>
        </p:blipFill>
        <p:spPr>
          <a:xfrm>
            <a:off x="228600" y="914400"/>
            <a:ext cx="3200400" cy="5943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3429000" y="990720"/>
            <a:ext cx="5715000" cy="518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Елена</cp:lastModifiedBy>
  <dcterms:modified xsi:type="dcterms:W3CDTF">2022-10-01T14:44:51Z</dcterms:modified>
  <cp:revision>17</cp:revision>
  <dc:subject/>
  <dc:title>Слайд 1</dc:title>
</cp:coreProperties>
</file>