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38951-8937-475A-9F57-D2964857A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ECDC5-6F72-4908-93E7-23E68FF4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14916-3A50-4213-9F87-30E9EA9ED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DE367-5456-4362-ADB2-811318FA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B199F-A451-4251-93EE-C943E9E5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5C210-11E3-4555-8FE7-B5331BC1B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25D7A-CAFF-4877-8AB2-60CBBDC03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CF26E-3988-455B-964A-2A54F55C6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41886-2BD1-4265-995A-F25EE10D4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17A7-05DB-44F8-B7F4-69F4BE64C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7A1CF-D4EF-4C18-993D-FDAE66401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8D877-0C5B-4703-9803-7ABD80D78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D836E-7885-40AD-9448-BB580154A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E5C6E-E271-427F-8BDC-CB01A8171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ABB8B-742A-4A15-9D80-5494C5E7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0CDD1-F576-4C9C-A046-2E9DCC98E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28260-3ABD-4C8C-8660-FE05AF730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5718E-F6D7-4C8C-BDA9-D1E81BD3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7526D-9407-4B6F-82D4-108CF02ED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494CB-E374-4079-B399-96AA9B19A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7F337-B95F-476F-BDC4-BDA0FB32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FC548-1061-474B-9016-F2F569486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CD0DA-8F16-4447-8E6A-029508DB3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54679-29AE-4C56-873F-214B050F5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C48C4-F525-46DE-940F-B5EA0DB2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285840" y="142920"/>
            <a:ext cx="828684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ование читательской грамотности как фактор создания успешности обучения в образовательном простран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61680" y="428760"/>
            <a:ext cx="3375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Синкве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user\Desktop\читатель\IMG_20211217_120607.jpg"/>
          <p:cNvPicPr/>
          <p:nvPr/>
        </p:nvPicPr>
        <p:blipFill>
          <a:blip r:embed="rId1"/>
          <a:srcRect l="832" t="45834" r="5038" b="22917"/>
          <a:stretch/>
        </p:blipFill>
        <p:spPr>
          <a:xfrm>
            <a:off x="0" y="857160"/>
            <a:ext cx="4357800" cy="19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0" t="29229" r="14422" b="45996"/>
          <a:stretch/>
        </p:blipFill>
        <p:spPr>
          <a:xfrm>
            <a:off x="3429000" y="2357280"/>
            <a:ext cx="5489640" cy="21434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5"/>
          <p:cNvSpPr/>
          <p:nvPr/>
        </p:nvSpPr>
        <p:spPr>
          <a:xfrm>
            <a:off x="4606920" y="500040"/>
            <a:ext cx="403704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Верные – неверные утвержд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234000" y="3857760"/>
            <a:ext cx="340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«Письмо с дыркам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500040" y="4286160"/>
            <a:ext cx="45720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___, лучшее архитектурное сооружение г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ад сонными, заплесневевшими 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_________ …шатается, точно дряхлый стар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шепчутся берёзы над ______________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5438880" y="500076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ём «Таблиц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ём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Письмо с дырками (пробелами)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читательского умения интегрировать и интерпретировать сообщения текста</a:t>
            </a: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 рекомендуется этот прием. Он подойдет в качестве проверки усвоенных ранее знаний и для работы с параграфом при изучении нового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Знакомство с порядком морфологического разбора имени существительного. Составление рассказа о существительном по опорным словам. (6 клас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1) Имя существительное обознач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вечает на вопросы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Начальная форма имени существительного - … падеж…чис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2) Имена существительные имеют следующие постоянные призна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Calibri"/>
              </a:rPr>
              <a:t>… </a:t>
            </a: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ли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Относятся к … или …, или … роду, к … , или … , или ….. склоне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ена существительные имеют следующие непостоянные признаки: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Существительные изменяются по … и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3) В предложении имя существительное может быть как …, … , … , … , …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Calibri"/>
              </a:rPr>
              <a:t>Имя существительное не является членом предложения, есл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5732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560" y="549000"/>
            <a:ext cx="7417080" cy="599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0. Приём «Тонкие и толстые вопросы»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и учатся  различать те вопросы, на которые можно дать однозначный ответ (тонкие вопросы), и те, на которые ответить  определенно невозможно, проблемные (толстые) вопрос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имеры ключевых слов толстых и тонких вопрос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1) Толстые вопросы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йте несколько объяснений, почему...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чему Вы считаете (думаете)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чем различие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положите, что будет, если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то, если…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2) Тонкие в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то…?               Что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гда…?           Может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удет…?           Мог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ерно ли …?     Было 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звали 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гласны ли Вы…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анная работа способствует развитию мышления и внимания учащихся, а также развивает умение задавать ''умные'' вопросы. Классификация вопросов заставляет вдумываться в текст и помогает лучше усвоить его содержани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26"/>
              </a:spcBef>
              <a:buClr>
                <a:srgbClr val="000000"/>
              </a:buClr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нна\Desktop\IMG_0441.JPG"/>
          <p:cNvPicPr/>
          <p:nvPr/>
        </p:nvPicPr>
        <p:blipFill>
          <a:blip r:embed="rId1"/>
          <a:stretch/>
        </p:blipFill>
        <p:spPr>
          <a:xfrm>
            <a:off x="0" y="0"/>
            <a:ext cx="8858160" cy="69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-252360" y="657360"/>
            <a:ext cx="100458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ерите ли вы, что…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936720" y="1268280"/>
            <a:ext cx="7920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Формируем умения: связывать разрозненные факты в единую картину; систематизировать уже имеющуюся информацию. Этот прием может стать нетрадиционным началом урока и в то же время способствовать вдумчивой работе с текстом, критически воспринимать информацию, делать выводы о точности и ценности информации. Учащимся предлагаются утверждения,  с которыми они работают дважды: до чтения текста параграфа учебника и после знакомства с ни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7059600" y="5430960"/>
            <a:ext cx="193824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ssandra"/>
              </a:rPr>
              <a:t>Прием «Ассоциация»</a:t>
            </a:r>
            <a:br>
              <a:rPr sz="6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946080" y="1125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 теме или конкретному понятию урока нужно выписать в столбик слова-ассоциации. Выход будет следующи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ряд получился сравнительно правильным и достаточным, дать задание составить определение, используя записанные слова; затем выслушать, сравнить со словарным вариантом, можно добавить новые слова в ассоциативный ря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ставить запись на доске, объяснить новую тему, в конце урока вернуться, что-либо добавить или стер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796160" y="5919840"/>
            <a:ext cx="13478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24000" y="297000"/>
            <a:ext cx="88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Составление класт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Кластер является приемом графической систематизации материала. Этот прием формирует умения выделять смысловые единицы текста и графически оформлять в определенном порядке в виде грозди, компонуя материал по катего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6924600" y="4595760"/>
            <a:ext cx="1944720" cy="1427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3309840" y="4608360"/>
            <a:ext cx="2432160" cy="18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Опорный конспект» или «Конкурс шпаргал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Для формирования </a:t>
            </a:r>
            <a:r>
              <a:rPr b="1" i="1" lang="ru-RU" sz="3200" spc="-1" strike="noStrike">
                <a:solidFill>
                  <a:srgbClr val="000066"/>
                </a:solidFill>
                <a:latin typeface="Calibri"/>
              </a:rPr>
              <a:t>читательского умения находить и извлекать информацию из текста</a:t>
            </a: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 предлагаем задания, в которых требуется работать с графической информацией: извлекать информацию, ориентируясь на слова (подписи под рисунками, названия столбиков диаграммы, название таблиц, схем); понимать язык графика, схемы, диа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918560" y="5913360"/>
            <a:ext cx="109692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Письмо по кругу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71280" y="1197000"/>
            <a:ext cx="885528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Класс делится на группы от трех до восьми человек. У каждого ученика должен быть лист бумаги. Предлагается детям записать одно-два предложения по определенной теме. Затем листы передаются по часовой стрелке. Каждый должен прочитать написанное и продолжить записи. Так продолжается, пока лист не вернется к первому автору. Затем слово предоставляется одному ученику, который вслух читает записи. Остальные дополняют, если не прозвучало то, что они считают важ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6967440" y="5121360"/>
            <a:ext cx="21574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297000"/>
            <a:ext cx="8856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Приём «Лови ошибку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87280" y="1206360"/>
            <a:ext cx="8569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учащимся информацию, содержащую неизвестное количество ошибок. Учащиеся ищут ошибку группой или индивидуально, спорят, совещаются. Придя к определенному мнению, группа выбирает спикера. Спикер передает результаты учителю или оглашает задание и результат его решения перед всем классом. Чтобы обсуждение не затянулось, заранее определите на него вре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7236000" y="5546880"/>
            <a:ext cx="1731960" cy="129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503280" y="1160640"/>
            <a:ext cx="8299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тать – это ещё ничего не значит: что читать и как понимать читаемое – вот в чём главное дел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. Д. Уши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 «Выделяем существенные призна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накомое ученикам понятие определяется ими посредством перечисления его признаков, среди которых выделяются существенные и несуществе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Например, для определения слова «бал» наличие оркестра, праздничной атмосферы, нарядов и т.д. - признаки несущественные, потому что есть ситуации, в которых те же самые признаки наличествуют, но балом это явление не назовешь (так, оркестр играет и на военном параде и т.д.), существенным же можно назвать определение бала как «танцевального вечера отдых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832880" y="2309760"/>
            <a:ext cx="1182600" cy="8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7296120" y="5711760"/>
            <a:ext cx="154296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Прием «Мозаика».</a:t>
            </a:r>
            <a:r>
              <a:rPr b="0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 </a:t>
            </a:r>
            <a:br>
              <a:rPr sz="4400"/>
            </a:br>
            <a:r>
              <a:rPr b="1" lang="ru-RU" sz="4400" spc="-1" strike="noStrike" u="sng">
                <a:solidFill>
                  <a:srgbClr val="000066"/>
                </a:solidFill>
                <a:uFillTx/>
                <a:latin typeface="Cassandra"/>
              </a:rPr>
              <a:t>«Реставрация текст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50920" y="1593720"/>
            <a:ext cx="8604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ложение целого текста из частей. Эффективен при изучении, например,  в 5 классе тем: “Текст”, “ Тема текста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Текст разделяется на части (предложения, абзац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ченикам предлагается собрать текст из разрозненных частей, разложив их в правильной последовательности. В качестве варианта выполнения задания ученики могут предложить несколько различных путей последовательного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7448400" y="5553000"/>
            <a:ext cx="157320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Мозговой штурм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934920" y="155736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обращается к ученикам с вопросом: "Какие ассоциации возникли у вас, когда вы услышали тему?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записывает все называемые ассоци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рочитать текст и определить, были ли школьники пра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997680" y="5303880"/>
            <a:ext cx="186048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285920" y="-487080"/>
            <a:ext cx="714384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  <a:ea typeface="Times New Roman"/>
              </a:rPr>
              <a:t>«Перепутанные логические цепочк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Arial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На доске   написаны верные и неправильные цитаты, ученики должны прочитать и поставить знак “+” там, где они считают, что высказывание прави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и знак “-” там,  где по их мнению оно невер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765840" y="5254560"/>
            <a:ext cx="2140200" cy="16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 u="sng">
                <a:solidFill>
                  <a:srgbClr val="000066"/>
                </a:solidFill>
                <a:uFillTx/>
                <a:latin typeface="Cassandra"/>
              </a:rPr>
              <a:t>"Чтение с пометками"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дает ученикам задание написать на полях значками информацию по следующему алгорит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v Знаком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+ Нов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-- Я думал (думала)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? Это меня заинтересовало (удивило), хочу узнать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6357960" y="2743200"/>
            <a:ext cx="25002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 u="sng">
                <a:solidFill>
                  <a:srgbClr val="000066"/>
                </a:solidFill>
                <a:uFillTx/>
                <a:latin typeface="Cassandra"/>
              </a:rPr>
              <a:t>"Глоссарий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34920" y="1593720"/>
            <a:ext cx="79200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итель предлагает посмотреть на список слов и отметить те, которые могут быть связаны с текстом.После прочтения текста ученики возвращаются к данным словам и сравнивают их значение и употребление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6192720" y="4290840"/>
            <a:ext cx="250056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68360" y="441360"/>
            <a:ext cx="845964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ение, - говорил выдающийся педагог В. А. Сухомлинский, - это окошко, через которое дети видят и познают мир и самих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едовательно, необходима, систематическая, целенаправленная работа над развитием и совершенствованием навыков беглого, осознанного чтения от класса к клас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сли мы будем использовать приемы и методы быстрого и эффективного чтения, то получим читающего уче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369880" y="4149720"/>
            <a:ext cx="3742920" cy="642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дготовила презентацию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Жмуле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125280" y="1341360"/>
            <a:ext cx="88934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826920" y="512640"/>
            <a:ext cx="792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Раскрыв понятие «читательская грамотность», можно сделать вывод, что для того, чтобы опереться на чтение как на основной вид учебной деятельности в школе, у выпускников школы должны быть сформированы специальные читательские умения, которые необходимы для полноценной работы с текс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Групп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должны показать, что понимают, о чем говорится в тексте, определить тему и главную мысль; найти и выявить в тексте информацию, которая представлена в различном виде; сформулировать прямые выводы и заключения на основе фактов, которые имеются в 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6335640" y="917640"/>
            <a:ext cx="21970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826920" y="71136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анализируют, интерпретируют и обобщают информацию, которая представлена в тексте, формулируют на ее основе сложные выводы и оценочные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7080120" y="4281480"/>
            <a:ext cx="2048040" cy="245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571920" y="5035680"/>
            <a:ext cx="243216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826920" y="689040"/>
            <a:ext cx="7920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6000" spc="-1" strike="noStrike">
                <a:solidFill>
                  <a:srgbClr val="000066"/>
                </a:solidFill>
                <a:latin typeface="Cassandra"/>
              </a:rPr>
              <a:t>3 группы умений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34920" y="1593720"/>
            <a:ext cx="7920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Группа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Calibri"/>
              </a:rPr>
              <a:t>Учащиеся используют информацию из текста для различных целей: решают учебно-познавательные и учебно-практические задачи без привлечения или с привлечением дополнительных знаний и лич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5332320" y="4581360"/>
            <a:ext cx="36306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260280"/>
            <a:ext cx="8207280" cy="61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000" spc="-1" strike="noStrike">
                <a:solidFill>
                  <a:srgbClr val="000066"/>
                </a:solidFill>
                <a:latin typeface="Calibri"/>
              </a:rPr>
              <a:t>Для формирования читательской грамотности очень важно организовать «читательское пространств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т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обно-поисковые ситуац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Беседы-дискусси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ам задай вопрос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Личный пример учител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Приём устного словесного рисова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Словарно-стилистическая рабо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211800" y="2457360"/>
            <a:ext cx="291312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179280" y="297000"/>
            <a:ext cx="86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1800"/>
            </a:br>
            <a:r>
              <a:rPr b="1" lang="ru-RU" sz="4800" spc="-1" strike="noStrike" u="sng">
                <a:solidFill>
                  <a:srgbClr val="000066"/>
                </a:solidFill>
                <a:uFillTx/>
                <a:latin typeface="Cassandra"/>
              </a:rPr>
              <a:t>Приемы формирования Ч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826920" y="1268280"/>
            <a:ext cx="792036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Calibri"/>
              </a:rPr>
              <a:t>Приём «Лингвистическая сказ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Wingdings 2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alibri"/>
              </a:rPr>
              <a:t>Формируем умение извлекать необходимую информацию из прослушанного текста, применять её как при решении задачи, вызвавшей затруднение, так и при решении задач такого класса или типа. Можно   пригласить на урок сказочных персонажей и удивлять их своими познаниями, можно стать капитанами и отправиться на паруснике в Страну Ошибок спасать безударную глас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39160" y="5651640"/>
            <a:ext cx="1723680" cy="12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Дом</cp:lastModifiedBy>
  <dcterms:modified xsi:type="dcterms:W3CDTF">2022-01-30T10:23:16Z</dcterms:modified>
  <cp:revision>111</cp:revision>
  <dc:subject/>
  <dc:title>Слайд 1</dc:title>
</cp:coreProperties>
</file>