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FF96C-DDF9-4724-A9C2-B8736A4A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21EE-4DCC-4DEA-B776-8DE766AD7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13CD8-3BAC-44C1-954A-E17A57A6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BFACD-762E-4DED-A623-5A9345B4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4A3E8-A5B2-4DFA-92AF-F169BAF37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143BA-645C-455B-A4DA-3B6605E60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FD28-E954-495B-9F3C-F82936547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C813E-CBD0-45F5-95A7-E5524CAB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1F243-F698-4A3F-9CF7-7FE7EB77A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2BD2A-9A4B-4055-8680-003A62486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80AE7-363B-4D32-AFB3-4D8BB4CFB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CDFC0-8A2B-4444-8E5C-2144D693F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B2926-D490-4D01-A064-6914361A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CD727-49AD-4A9F-9076-2370D7A02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DB9D6-6FD0-4006-B70D-C4231851E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D487E-BB39-4F1C-A4E0-0FB08A91A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60173-109C-473B-867F-113033EE2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FAD39-D9A4-4111-846C-7FA85E5C7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55DFD-B801-4A9C-8D43-937417736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B4ED0-F778-4F0E-A97F-6488C86F0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A7CCE-0197-4715-AE0B-ED589DFE4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C9BE9-E678-4E7B-B2C9-1B166608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2FE6C-530E-41C8-85C7-B30180696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0A6EA-0FB0-4668-AAC5-36BEE742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B21F1-3001-47D8-869B-DF0580779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85840" y="142920"/>
            <a:ext cx="82868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ование читательской грамотности как фактор создания успешности обучения в образовательном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61680" y="428760"/>
            <a:ext cx="3375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Синкве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user\Desktop\читатель\IMG_20211217_120607.jpg"/>
          <p:cNvPicPr/>
          <p:nvPr/>
        </p:nvPicPr>
        <p:blipFill>
          <a:blip r:embed="rId1"/>
          <a:srcRect l="832" t="45834" r="5038" b="22917"/>
          <a:stretch/>
        </p:blipFill>
        <p:spPr>
          <a:xfrm>
            <a:off x="0" y="857160"/>
            <a:ext cx="4357800" cy="19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rcRect l="0" t="29229" r="14422" b="45996"/>
          <a:stretch/>
        </p:blipFill>
        <p:spPr>
          <a:xfrm>
            <a:off x="3429000" y="2357280"/>
            <a:ext cx="5489640" cy="2143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4606920" y="500040"/>
            <a:ext cx="4037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Верные – неверные утвержд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34000" y="3857760"/>
            <a:ext cx="340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Письмо с дыр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040" y="4286160"/>
            <a:ext cx="4572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___, лучшее архитектурное сооружение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д сонными, заплесневевшими 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 …шатается, точно дряхлый стар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епчутся берёзы над ____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5438880" y="500076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 «Табли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ём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Письмо с дырками (пробелами)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читательского умения интегрировать и интерпретировать сообщения текста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 рекомендуется этот прием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Знакомство с порядком морфологического разбора имени существительного. Составление рассказа о существительном по опорным словам. (6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1) Имя существительное обознач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вечает на вопрос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Начальная форма имени существительного - … падеж…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2) Имена существительные имеют следующие постоянные призна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носятся к … или …, или … роду, к … , или … , или ….. скло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ена существительные имеют следующие непостоянные признаки: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Существительные изменяются по … и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3) В предложении имя существительное может быть как …, … , … , … ,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я существительное не является членом предложения, ес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732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560" y="549000"/>
            <a:ext cx="741708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0. Приём «Тонкие и толстые вопросы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и учатся  различать те вопросы, на которые можно дать однозначный ответ (тонкие вопросы), и те, на которые ответить  определенно невозможно, проблемные (толстые) вопрос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имеры ключевых слов толстых и тонких вопро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1) Толстые вопрос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йте несколько объяснений, почему..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чему Вы считаете (думаете)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чем различие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ожите, что будет, если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, если…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2) Тонкие 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то…?               Что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…?           Может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удет…?           Мог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рно ли …?     Было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зва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ы ли Вы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ая работа способствует развитию мышления и внимания учащихся, а также развивает умение задавать ''умные'' вопросы. Классификация вопросов заставляет вдумываться в текст и помогает лучше усвоить его содержа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нна\Desktop\IMG_0441.JPG"/>
          <p:cNvPicPr/>
          <p:nvPr/>
        </p:nvPicPr>
        <p:blipFill>
          <a:blip r:embed="rId1"/>
          <a:stretch/>
        </p:blipFill>
        <p:spPr>
          <a:xfrm>
            <a:off x="0" y="0"/>
            <a:ext cx="88581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ерите ли вы, что…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36720" y="126828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ируем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059600" y="5430960"/>
            <a:ext cx="19382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ssandra"/>
              </a:rPr>
              <a:t>Прием «Ассоциация»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946080" y="1125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 теме или конкретному понятию урока нужно выписать в столбик слова-ассоциации. Выход будет следующ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ряд получился сравнительно правильным и достаточным, дать задание составить определение, используя записанные слова; затем выслушать, сравнить со словарным вариантом, можно добавить новые слова в ассоциативный р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ставить запись на доске, объяснить новую тему, в конце урока вернуться, что-либо добавить или ст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796160" y="5919840"/>
            <a:ext cx="13478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24000" y="29700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Составление класт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 и графически оформлять в определенном порядке в виде грозди, компонуя материал по катего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309840" y="4608360"/>
            <a:ext cx="2432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Опорный конспект» или «Конкурс шпаргал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читательского умения находить и извлекать информацию из текст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 предлагаем задания, в которых требуется работать с графической информацией: извлекать информацию, ориентируясь на слова (подписи под рисунками, названия столбиков диаграммы, название таблиц, схем); понимать язык графика, схемы,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918560" y="5913360"/>
            <a:ext cx="1096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Письмо по кру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1280" y="1197000"/>
            <a:ext cx="88552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ласс делится на группы от трех до восьми человек. У каждого ученика должен быть лист бумаги. Предлагается детям записать одно-два предложения по определенной теме. Затем листы передаются по часовой стрелке. Каждый должен прочитать написанное и продолжить записи. Так продолжается, пока лист не вернется к первому автору. Затем слово предоставляется одному ученику, который вслух читает записи. Остальные дополняют, если не прозвучало то, что они считают ва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967440" y="5121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 «Лови ошибк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87280" y="1206360"/>
            <a:ext cx="856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учащимся информацию, содержащую неизвестное количество ошибок. Учащиеся ищут ошибку группой или индивидуально, спорят, совещаются. Придя к определенному мнению, группа выбирает спикера. Спикер передает результаты учителю или оглашает задание и результат его решения перед всем классом. Чтобы обсуждение не затянулось, заранее определите на нег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236000" y="5546880"/>
            <a:ext cx="173196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ыделяем существенные призна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накомое ученикам понятие определяется ими посредством перечисления его признаков, среди которых выделяются существенные и несуще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ример, для определения слова «бал» наличие оркестра, праздничной атмосферы, нарядов и т.д. - признаки несущественные, потому что есть ситуации, в которых те же самые признаки наличествуют, но балом это явление не назовешь (так, оркестр играет и на военном параде и т.д.), существенным же можно назвать определение бала как «танцевального вечера отды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832880" y="2309760"/>
            <a:ext cx="11826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96120" y="5711760"/>
            <a:ext cx="15429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Мозаика».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br>
              <a:rPr sz="4400"/>
            </a:br>
            <a:r>
              <a:rPr b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Реставрация текс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ложение целого текста из частей. Эффективен при изучении, например,  в 5 классе тем: “Текст”, “ 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448400" y="5553000"/>
            <a:ext cx="1573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Мозговой штур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934920" y="1557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обращается к ученикам с вопросом: "Какие ассоциации возникли у вас, когда вы услышали тему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записывает все называем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рочитать текст и определить, были ли школьники п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997680" y="5303880"/>
            <a:ext cx="1860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285920" y="-487080"/>
            <a:ext cx="714384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 доске   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765840" y="5254560"/>
            <a:ext cx="21402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"Чтение с пометками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v Знаком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+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- Я думал (думала)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? Это меня заинтересовало (удивило), хочу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357960" y="2743200"/>
            <a:ext cx="25002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Глоссарий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осмотреть на список слов и отметить те, которые могут быть связаны с текстом.После прочтения текста ученики возвращаются к данным словам и сравнивают их значение и употребление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192720" y="4290840"/>
            <a:ext cx="250056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68360" y="441360"/>
            <a:ext cx="84596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ение, - говорил выдающийся педагог 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овательно, необходима, систематическая, целенаправленная работа над развитием и совершенствованием навыков беглого,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826920" y="512640"/>
            <a:ext cx="792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Раскрыв понятие «читательская грамотность», можно сделать вывод, что для того, чтобы опереться на чтение как на основной вид учебной деятельности в школе, у выпускников школы должны быть сформированы специальные читательские умения, которые необходимы для полноценной работы с текс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рупп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должны показать, что понимают, о чем говорится в тексте, определить тему и главную мысль; найти и выявить в тексте информацию, которая представлена в различном виде; сформулировать прямые выводы и заключения на основе фактов, которые имеются в 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335640" y="917640"/>
            <a:ext cx="2197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6920" y="71136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анализируют, интерпретируют и обобщают информацию, которая представлена в тексте, формулируют на ее основе сложные выводы и оценочные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080120" y="4281480"/>
            <a:ext cx="2048040" cy="245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571920" y="5035680"/>
            <a:ext cx="24321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826920" y="68904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используют информацию из текста для различных целей: решают учебно-познавательные и учебно-практические задачи без привлечения или с привлечением дополнительных знаний и лич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2320" y="4581360"/>
            <a:ext cx="36306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Для формирования читательской грамотности очень важно организовать «читательское простран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обно-поисковые ситу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Беседы-дискусс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ам задай вопро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Личный пример уч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иём устного словесного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ловарно-стилистическая рабо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211800" y="2457360"/>
            <a:ext cx="29131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79280" y="29700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ы формирования Ч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26920" y="1268280"/>
            <a:ext cx="7920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libri"/>
              </a:rPr>
              <a:t>Приём «Лингвист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Формируем умение извлекать необходимую информацию из прослушанного текста, применять её как при решении задачи, вызвавшей затруднение, так и при решении задач такого класса или типа. Можно   пригласить на урок сказочных персонажей и удивлять их своими познаниями, можно стать капитанами и отправиться на паруснике в Страну Ошибок спасать безударную глас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39160" y="5651640"/>
            <a:ext cx="1723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Дом</cp:lastModifiedBy>
  <dcterms:modified xsi:type="dcterms:W3CDTF">2022-10-01T16:05:38Z</dcterms:modified>
  <cp:revision>112</cp:revision>
  <dc:subject/>
  <dc:title>Слайд 1</dc:title>
</cp:coreProperties>
</file>