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746EC-5624-4A30-A2BE-9BB92CF93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FD46F-3C7D-4860-983A-311742944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18E63-C999-409B-BD5C-2C6CA9A8F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F9361-DC7C-4EED-824D-C43388DC9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3CA4A-B30D-419D-9AC7-178ACDADD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D3643-5685-4BB9-9C2A-57D2B5C29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574ED-8DB5-4723-8B05-B7E5B87FD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44714-1156-4260-8D69-DAB3CD6D1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CF56A-9188-4B41-86CD-AC85F0051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FDAB7-4914-4A2E-9E47-63B92D373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6247D-1E5E-407E-B050-89D4ED2D4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80A2B-48C6-4E4F-9DCE-DE1F844C5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6793C-E7EA-424B-95F0-D5AE8CB52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44866-6285-48DA-B7D8-B6157F4A5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1FB75-178F-460D-963F-54866F6C7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3554E-7437-4A23-A099-3BE8A4DB2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5431D-AC63-4BEC-B17F-DA167F4B0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D1160-E23F-4E07-AAB1-C9B737ABE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4F11E-AD00-4AA4-BB31-C67739675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D21BE-A359-4A38-A470-1A524C05B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6718F-316E-4666-A3AB-C825E1C45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6626E-406B-455D-8513-10F5E68ED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CE6B0-A47B-4F55-87F3-5E933923B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FAB76-EABB-4F28-A4B7-2AC356763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3C7BB-4CD9-42E3-AC85-D48DAAAE6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285840" y="142920"/>
            <a:ext cx="828684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ирование читательской грамотности как фактор создания успешности обучения в образовательном простр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661680" y="428760"/>
            <a:ext cx="3375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Синквейн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C:\Users\user\Desktop\читатель\IMG_20211217_120607.jpg"/>
          <p:cNvPicPr/>
          <p:nvPr/>
        </p:nvPicPr>
        <p:blipFill>
          <a:blip r:embed="rId1"/>
          <a:srcRect l="832" t="45834" r="5038" b="22917"/>
          <a:stretch/>
        </p:blipFill>
        <p:spPr>
          <a:xfrm>
            <a:off x="0" y="857160"/>
            <a:ext cx="4357800" cy="195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rcRect l="0" t="29229" r="14422" b="45996"/>
          <a:stretch/>
        </p:blipFill>
        <p:spPr>
          <a:xfrm>
            <a:off x="3429000" y="2357280"/>
            <a:ext cx="5489640" cy="21434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5"/>
          <p:cNvSpPr/>
          <p:nvPr/>
        </p:nvSpPr>
        <p:spPr>
          <a:xfrm>
            <a:off x="4606920" y="500040"/>
            <a:ext cx="40370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Верные – неверные утвержден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234000" y="3857760"/>
            <a:ext cx="340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ё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«Письмо с дырка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500040" y="4286160"/>
            <a:ext cx="457200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____________, лучшее архитектурное сооружение гор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ад сонными, заплесневевшими __________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_________ …шатается, точно дряхлый стар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шепчутся берёзы над ______________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5438880" y="5000760"/>
            <a:ext cx="2198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ём «Таблиц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Приём</a:t>
            </a:r>
            <a:r>
              <a:rPr b="0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 </a:t>
            </a: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«Письмо с дырками (пробелами)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Для формирования </a:t>
            </a: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читательского умения интегрировать и интерпретировать сообщения текста</a:t>
            </a: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 рекомендуется этот прием. Он подойдет в качестве проверки усвоенных ранее знаний и для работы с параграфом при изучении нового матери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Знакомство с порядком морфологического разбора имени существительного. Составление рассказа о существительном по опорным словам. (6 клас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1) Имя существительное обозначае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Отвечает на вопросы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Начальная форма имени существительного - … падеж…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2) Имена существительные имеют следующие постоянные призна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… </a:t>
            </a: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ли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… </a:t>
            </a: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ли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Относятся к … или …, или … роду, к … , или … , или ….. склон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мена существительные имеют следующие непостоянные признаки: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Существительные изменяются по … и …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3) В предложении имя существительное может быть как …, … , … , … , …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мя существительное не является членом предложения, есл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924600" y="4595760"/>
            <a:ext cx="1944720" cy="14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732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826560" y="549000"/>
            <a:ext cx="7417080" cy="599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0. Приём «Тонкие и толстые вопросы»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ети учатся  различать те вопросы, на которые можно дать однозначный ответ (тонкие вопросы), и те, на которые ответить  определенно невозможно, проблемные (толстые) вопрос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имеры ключевых слов толстых и тонких вопрос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1) Толстые вопросы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айте несколько объяснений, почему...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чему Вы считаете (думаете) 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чем различие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едположите, что будет, если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то, если…?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2) Тонкие вопрос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то…?               Что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гда…?           Может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удет…?           Мог ли 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ерно ли …?     Было ли 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 звали 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гласны ли Вы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анная работа способствует развитию мышления и внимания учащихся, а также развивает умение задавать ''умные'' вопросы. Классификация вопросов заставляет вдумываться в текст и помогает лучше усвоить его содержани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Инна\Desktop\IMG_0441.JPG"/>
          <p:cNvPicPr/>
          <p:nvPr/>
        </p:nvPicPr>
        <p:blipFill>
          <a:blip r:embed="rId1"/>
          <a:stretch/>
        </p:blipFill>
        <p:spPr>
          <a:xfrm>
            <a:off x="0" y="0"/>
            <a:ext cx="885816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-252360" y="657360"/>
            <a:ext cx="10045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ем «Верите ли вы, что…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936720" y="1268280"/>
            <a:ext cx="79200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Формируем умения: связывать разрозненные факты в единую картину; систематизировать уже имеющуюся информацию. Этот прием может стать нетрадиционным началом урока и в то же время способствовать вдумчивой работе с текстом, критически воспринимать информацию, делать выводы о точности и ценности информации. Учащимся предлагаются утверждения,  с которыми они работают дважды: до чтения текста параграфа учебника и после знакомства с ни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7059600" y="5430960"/>
            <a:ext cx="1938240" cy="14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200"/>
            </a:b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Cassandra"/>
              </a:rPr>
              <a:t>Прием «Ассоциация»</a:t>
            </a:r>
            <a:br>
              <a:rPr sz="6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946080" y="112536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 теме или конкретному понятию урока нужно выписать в столбик слова-ассоциации. Выход будет следующ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если ряд получился сравнительно правильным и достаточным, дать задание составить определение, используя записанные слова; затем выслушать, сравнить со словарным вариантом, можно добавить новые слова в ассоциативный ря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ставить запись на доске, объяснить новую тему, в конце урока вернуться, что-либо добавить или стер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7796160" y="5919840"/>
            <a:ext cx="1347840" cy="9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324000" y="297000"/>
            <a:ext cx="88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Прием «Составление класте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Кластер является приемом графической систематизации материала. Этот прием формирует умения выделять смысловые единицы текста и графически оформлять в определенном порядке в виде грозди, компонуя материал по категор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6924600" y="4595760"/>
            <a:ext cx="1944720" cy="142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3309840" y="4608360"/>
            <a:ext cx="243216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 </a:t>
            </a: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«Опорный конспект» или «Конкурс шпаргал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Для формирования </a:t>
            </a: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читательского умения находить и извлекать информацию из текста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 предлагаем задания, в которых требуется работать с графической информацией: извлекать информацию, ориентируясь на слова (подписи под рисунками, названия столбиков диаграммы, название таблиц, схем); понимать язык графика, схемы, диа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7918560" y="5913360"/>
            <a:ext cx="109692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ем «Письмо по кругу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71280" y="1197000"/>
            <a:ext cx="885528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Класс делится на группы от трех до восьми человек. У каждого ученика должен быть лист бумаги. Предлагается детям записать одно-два предложения по определенной теме. Затем листы передаются по часовой стрелке. Каждый должен прочитать написанное и продолжить записи. Так продолжается, пока лист не вернется к первому автору. Затем слово предоставляется одному ученику, который вслух читает записи. Остальные дополняют, если не прозвучало то, что они считают важ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6967440" y="5121360"/>
            <a:ext cx="21574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0" y="297000"/>
            <a:ext cx="885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Приём «Лови ошибку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87280" y="1206360"/>
            <a:ext cx="856944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предлагает учащимся информацию, содержащую неизвестное количество ошибок. Учащиеся ищут ошибку группой или индивидуально, спорят, совещаются. Придя к определенному мнению, группа выбирает спикера. Спикер передает результаты учителю или оглашает задание и результат его решения перед всем классом. Чтобы обсуждение не затянулось, заранее определите на него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7236000" y="5546880"/>
            <a:ext cx="1731960" cy="129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503280" y="1160640"/>
            <a:ext cx="82994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итать – это ещё ничего не значит: что читать и как понимать читаемое – вот в чём главное де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. Д. Уши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ем «Выделяем существенные призна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Знакомое ученикам понятие определяется ими посредством перечисления его признаков, среди которых выделяются существенные и несуществе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Например, для определения слова «бал» наличие оркестра, праздничной атмосферы, нарядов и т.д. - признаки несущественные, потому что есть ситуации, в которых те же самые признаки наличествуют, но балом это явление не назовешь (так, оркестр играет и на военном параде и т.д.), существенным же можно назвать определение бала как «танцевального вечера отдых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7832880" y="2309760"/>
            <a:ext cx="1182600" cy="86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7296120" y="5711760"/>
            <a:ext cx="154296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Прием «Мозаика».</a:t>
            </a:r>
            <a:r>
              <a:rPr b="0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 </a:t>
            </a:r>
            <a:br>
              <a:rPr sz="4400"/>
            </a:br>
            <a:r>
              <a:rPr b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«Реставрация текс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250920" y="1593720"/>
            <a:ext cx="8604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ложение целого текста из частей. Эффективен при изучении, например,  в 5 классе тем: “Текст”, “ Тема текста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Текст разделяется на части (предложения, абзац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ченикам предлагается собрать текст из разрозненных частей, разложив их в правильной последовательности. В качестве варианта выполнения задания ученики могут предложить несколько различных путей последовательного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7448400" y="5553000"/>
            <a:ext cx="157320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"Мозговой штурм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934920" y="155736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обращается к ученикам с вопросом: "Какие ассоциации возникли у вас, когда вы услышали тему?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записывает все называемые ассоци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предлагает прочитать текст и определить, были ли школьники пра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6997680" y="5303880"/>
            <a:ext cx="186048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1285920" y="-487080"/>
            <a:ext cx="7143840" cy="67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Cassandra"/>
                <a:ea typeface="Times New Roman"/>
              </a:rPr>
              <a:t>«Перепутанные логические цепоч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На доске   написаны верные и неправильные цитаты, ученики должны прочитать и поставить знак “+” там, где они считают, что высказывание прави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и знак “-” там,  где по их мнению оно невер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765840" y="5254560"/>
            <a:ext cx="2140200" cy="16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 u="sng">
                <a:solidFill>
                  <a:srgbClr val="000066"/>
                </a:solidFill>
                <a:uFillTx/>
                <a:latin typeface="Cassandra"/>
              </a:rPr>
              <a:t>"Чтение с пометками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дает ученикам задание написать на полях значками информацию по следующему алгорит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v Знаком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+ Нов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-- Я думал (думала) 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? Это меня заинтересовало (удивило), хочу узнать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6357960" y="2743200"/>
            <a:ext cx="250020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"Глоссарий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предлагает посмотреть на список слов и отметить те, которые могут быть связаны с текстом.После прочтения текста ученики возвращаются к данным словам и сравнивают их значение и употребление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6192720" y="4290840"/>
            <a:ext cx="2500560" cy="18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468360" y="441360"/>
            <a:ext cx="845964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тение, - говорил выдающийся педагог В. А. Сухомлинский, - это окошко, через которое дети видят и познают мир и самих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ледовательно, необходима, систематическая, целенаправленная работа над развитием и совершенствованием навыков беглого, осознанного чтения от класса к клас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сли мы будем использовать приемы и методы быстрого и эффективного чтения, то получим читающего 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142920" y="1844640"/>
            <a:ext cx="84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125280" y="1341360"/>
            <a:ext cx="88934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Читательская грамотность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ность человека понимать и использовать тексты, размышлять о них и заниматься чтением для того, чтобы достигать своих целей, расширять свои знания и возможности, участвовать в социально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826920" y="512640"/>
            <a:ext cx="7920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Раскрыв понятие «читательская грамотность», можно сделать вывод, что для того, чтобы опереться на чтение как на основной вид учебной деятельности в школе, у выпускников школы должны быть сформированы специальные читательские умения, которые необходимы для полноценной работы с текст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ru-RU" sz="6000" spc="-1" strike="noStrike">
                <a:solidFill>
                  <a:srgbClr val="000066"/>
                </a:solidFill>
                <a:latin typeface="Cassandra"/>
              </a:rPr>
              <a:t>3 группы умений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934920" y="1593720"/>
            <a:ext cx="7920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Группа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ащиеся должны показать, что понимают, о чем говорится в тексте, определить тему и главную мысль; найти и выявить в тексте информацию, которая представлена в различном виде; сформулировать прямые выводы и заключения на основе фактов, которые имеются в 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6335640" y="917640"/>
            <a:ext cx="219708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826920" y="711360"/>
            <a:ext cx="7920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Cassandra"/>
              </a:rPr>
              <a:t>3 группы умений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934920" y="1593720"/>
            <a:ext cx="7920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Группа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ащиеся анализируют, интерпретируют и обобщают информацию, которая представлена в тексте, формулируют на ее основе сложные выводы и оценочные су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7080120" y="4281480"/>
            <a:ext cx="2048040" cy="2457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3571920" y="5035680"/>
            <a:ext cx="2432160" cy="18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826920" y="689040"/>
            <a:ext cx="7920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Cassandra"/>
              </a:rPr>
              <a:t>3 группы умений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934920" y="1593720"/>
            <a:ext cx="7920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Группа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ащиеся используют информацию из текста для различных целей: решают учебно-познавательные и учебно-практические задачи без привлечения или с привлечением дополнительных знаний и личного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5332320" y="4581360"/>
            <a:ext cx="3630600" cy="27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468360" y="260280"/>
            <a:ext cx="8207280" cy="61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Calibri"/>
              </a:rPr>
              <a:t>Для формирования читательской грамотности очень важно организовать «читательское пространств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т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Пробно-поисковые ситу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Беседы-дискусс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Сам задай вопрос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Личный пример учител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Приём устного словесного рисова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Словарно-стилистическая рабо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211800" y="2457360"/>
            <a:ext cx="291312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179280" y="297000"/>
            <a:ext cx="867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емы формирования ЧГ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826920" y="1268280"/>
            <a:ext cx="792036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Calibri"/>
              </a:rPr>
              <a:t>Приём «Лингвистическая сказ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Формируем умение извлекать необходимую информацию из прослушанного текста, применять её как при решении задачи, вызвавшей затруднение, так и при решении задач такого класса или типа. Можно   пригласить на урок сказочных персонажей и удивлять их своими познаниями, можно стать капитанами и отправиться на паруснике в Страну Ошибок спасать безударную гласн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7139160" y="5651640"/>
            <a:ext cx="1723680" cy="126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Дом</cp:lastModifiedBy>
  <dcterms:modified xsi:type="dcterms:W3CDTF">2022-10-01T16:05:38Z</dcterms:modified>
  <cp:revision>112</cp:revision>
  <dc:subject/>
  <dc:title>Слайд 1</dc:title>
</cp:coreProperties>
</file>