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dt" idx="5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 type="ftr" idx="5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 type="sldNum" idx="6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i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C9DE2-D716-4890-A501-1CD91AF01139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A72EE-CED3-41A0-B8C7-BD3B814C1E41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B6DED-4A40-4425-B604-E70329F2A4E2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91176-1656-4DFA-A378-6773AB05E052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айд № -10,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слайды позволяет познакомить с устройством с швейной маши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5903B-A04C-4264-B74C-BCB4807A871F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F1AF7-2F7E-400B-A491-967876F684A2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айд № 13,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слайды помогают научить заправлять верхнюю и нижнюю нити в швейную маши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EE2B6-70C9-4697-AD07-ED4EFB635710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D46BB7-D319-4C38-93E7-0E86A8E3FE91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айд №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й слайд помогает проверить правильность заполнения карточки на этап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епления изученного матери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341C7-2742-41BD-BE78-9B53E242AC03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айд №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й слайд показывает необходимость правильной посадки при работе на швейной маш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3C068-9999-44AE-86A5-FB696EC012E9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01F01-F4C4-4A36-9079-C5176BCAEBC7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айд № 3 –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слайды помогаю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накомить с историей создания и развития швейной маши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83D61-0D63-4377-B526-5AD38299886E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7C3CD-54AB-41C3-A6A9-5755C6363875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724F9-BBB5-430B-A784-FD0AB3992F3C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AD764-ACC9-4AB8-894C-0349816C91F2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D744E-E91A-4ABF-9828-1F132FE26853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43F-94E8-4611-AF00-E105A7EE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9DF-1FD5-4C5A-8EC9-CC84EB23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D74AB-A05D-4BB2-8BB9-5BEEFCDE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57E0F-04F5-4FE9-A156-5D6722F6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70572-633A-4E41-A656-D62C0A7C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BAFD7-070F-48B2-B6A1-C5FA3870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F9F2D-6935-4075-A5E9-0FF46CF6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85C1F-5F3C-4488-A465-5422F09D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F8A1E-E261-4000-B8A3-F358CE14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D69B0-50BA-4954-896F-7C83313C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138AC-273E-4238-9506-D4704ADA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F1047-85A8-4295-9A1D-19D19C6B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F02E-17F1-405F-8BCA-F2F2C973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33448-02D3-46EC-9F9A-1AEE4CAA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F794A-C761-4F36-A109-B6079DC2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314EE-6D9F-41A4-BCA6-0E325753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D10C9-8508-4CE7-A471-B9369B3A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A7C72-B4E6-44E7-A8B5-143748C3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847C2-BAF3-48D0-91C6-0F5B373E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DBA81-F226-4C1D-B845-3DEC3B61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216CE-EBC9-4F92-964E-F1802D7A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340B5-0E4F-4EFD-9E6F-6C2B72A7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772A8-2700-49AF-940A-A91072A8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AA57-ED77-4F27-9344-1D519F3E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C1BD4-297F-403A-B2A0-A0C3F7C5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87183-A589-4DC0-A7B6-98451223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21BE2-688A-407B-82A8-B2778FDA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85C2B-A574-4F79-AC71-74B19509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7BFD8-E489-4954-9E34-BE7A670E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08254-E6BD-4277-A465-E0640D77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847B3-AF02-4347-8C85-CD56D681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C0209-C31F-4886-ACC0-30331B8B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C44F1-736F-41FE-B6A4-2E7AB23C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57AC1-2C16-487F-A530-B0BD0321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BB61-E68B-43B0-9E8A-8310A17E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CD061-9352-4869-86D6-D1F1EFC3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622B2-A5C3-4417-A449-71ED11AB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AF015-2C7C-4BB0-B99D-68A3F34B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03061-E741-41FD-B45F-51A6F691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B2CDD-8CDA-4FD2-B6A2-6E242C0B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BA5A4-6D24-4364-AD23-83C116DD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FEE7B-0D87-44A2-A019-51A93AD1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B2089-81F4-4E8C-A2EB-2A577A32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5EF40-769A-418C-9FC5-6E0F28E7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22EB5-0E66-4EEE-943F-122E4965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FBF4-F301-451F-ACAD-4F55F457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E8091-A726-485A-8FB3-C2FFFE6D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AF3B3-3C9F-4E2E-B5A6-8B17AC90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8C47A-8FFA-4E61-B428-1C4DF41A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188EA-DB14-4C1B-B0F8-6A38E3E2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62419-BFC2-4B93-A61E-94B4EEAD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221944-BCFC-4B8E-B176-1F3A45A2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E5C202-5467-447D-8B04-BD406C07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31B21-69F4-4EDC-986F-B15FA24C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E98E04-BFEF-43B9-BDB9-78D2159E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58C24F-4AF8-49F1-BCC7-C1F36C0D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B717-262D-48B2-A759-194B2196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112B49-0E75-47EC-B8C2-26D56140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45ED9B-EC59-4CFA-9843-400738C9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FA87B-18B5-453C-8793-7E7D2887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A6CAD-CD0F-47F3-B17B-2819BDF5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2DB67B-390B-441B-AA63-E2F953D4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38DA2F-5C8B-4AD1-AEF3-7FAE9926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5C01F-C11D-4F10-9B9E-D9A54745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B903DE-34BB-4EC2-9893-6DB22E75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850339-DC2E-4232-9138-63DD99E9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2447AB-96F7-4F2E-BC0D-7CA1F911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B955-03FA-489B-B64F-B3587B3E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9959A3-B0D7-4B33-8AB9-78916902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A9E2AC-1D1C-469A-8C6F-6A12356C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287282-C70A-49D5-A96C-DE3CC243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11B7BE-95E1-476D-A5FC-92EE3518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0CAB2B-0763-422F-917D-25418363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49C01F-D9C8-4FAA-8CB0-34473E48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03DA98-E587-4BC9-895D-4F5E6911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FA50DF-7A8B-42FC-A13A-B1480C3E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E12A8-679A-4709-9B5A-024C0083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C21C55-E0A2-4BC8-8B38-4319D7E8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9AC3-4338-4697-92B4-531F4FE4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F0A104-B44B-42CC-8A1F-881A866D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E28D5-979F-43CA-B448-28C4A473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0FC6D2-26C3-4C8C-A39C-1E6BC347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9DDD56-424A-4AEB-8621-C2126867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2A700C-F334-48F3-A6E3-AA981D98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2D6FA4-C465-4DD0-A7E5-A7AE5290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D476D0-3930-4012-BD24-2B593C78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6E219B-96D5-4E8B-99E3-963FC2FD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AD6899-A24C-42F0-BDC8-B5527B89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AF53DB-AACF-41BE-89B6-4EED3995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2E9F-3D40-4896-834C-0EFC8D58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AA9223-4E54-4CEB-8325-93F2B162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AAF3DF-844F-4F13-8D92-1B510719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5C5673-0397-4BA3-B9C2-E694D3E3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9B75FD-C8DF-4647-92C5-CBD86D13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761103-6D70-4979-9144-9C26C83A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63E394-ECA8-422F-B200-2DA91C60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D87BB6-FF9D-48E9-942B-64F81FAE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2A6050-2FAA-4B69-BF91-7B276011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477418-7D83-49D2-B66F-29DCE7B4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61CC45-18D8-414F-8076-77E152F0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5E22-31E4-4D48-AFBC-AA45A621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07D113-F0A5-4243-B99A-F74C5B76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1FD504-A550-40DB-8ED8-A3795AC7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7FFADC-A1CB-416D-A46A-D229D38F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370845-B08A-46AF-AC96-E247FBBC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F71784-F9E1-449F-A9CE-76780F95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89991A-CC8E-4ECE-A9F6-54F8886B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7B4C2B-5868-4F7E-8BBC-9E1D7003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9F5FF5-B98F-4A5E-BEC1-0B8E2106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5DB77A-7206-4FC9-86B7-46113CA0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170F4F-83A1-4F06-99CC-DE9F053F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BA28-AB59-4AA2-A2FE-C8010ED0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6C5C-3DEE-454B-98AD-30DA7F5F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C0463C-9F43-46C6-A999-2DBC4E9F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D02EC8-7D0A-46C3-8341-F43AFE74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BEDD73-28C6-414E-9F65-91326637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711832-05B8-48C1-9942-1166DFA7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DD6877-4104-4027-A8B2-F8F87329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45D519-DA35-49CA-8672-3B713D2B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C1E1B3-DC3E-47FA-8FEC-560D5C30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075AAC-C168-4575-9B14-4B388335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C07E5A-BF0B-43E6-9F3D-580A2D2D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E771D1-AB4B-4639-A58A-8D0D2B4D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F45B-9D52-4597-B3A7-6EE47F5F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FAA80E-9766-4F0E-B3A2-5750ED40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2715A2-E2BE-4781-8631-52C7E86E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E1170C-EC29-4CBD-B101-AA5A0BCC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6AD53B-6327-4140-9178-A2F0D272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346E2C-0D2B-435F-AAF4-8450C964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20FFE8-BC83-424B-9A62-4A640970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0DF45D-B76A-4BEB-8C6C-1452D2AB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CDF183-2530-4D22-BA39-9A7A3269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6F993E-72C4-4B15-B679-3A668D76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255F35-87D1-41F1-A510-3EE5FF48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CF11-D6CE-4123-A2CA-B00CADBC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B534AD-798E-489A-BBF7-C611E67A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821F4C-614F-48DF-BFCB-932B9D72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040780-0BB7-4499-B017-D2E58EEA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41BA87-C4EF-4CE6-B0DB-1456F758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C3FEE8-3373-4E3B-8B66-3211C6C3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852BE6-2B40-46C9-A6E1-61816CD8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43A4CC-0663-428F-945A-3F221863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6873BE-6BFE-437C-B07E-2177677E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6EC8AD-DF78-4770-A6EC-3FEA548A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2BAC-1425-41D5-9AB9-4DD0C948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15E9-9E8E-4313-B93C-2571878E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832D2-B83E-420B-B39B-A436D78F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36F87-EFAD-4C8E-BE30-7248396C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07C1E-88BA-4DEE-8710-64ABB37E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10C4D-3D1B-4D89-A276-4E36357D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C254E-F930-45D7-B070-CA787E99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C6A4-139D-48A7-920D-912D1235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D8751-B148-4A37-A639-D3112534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F489D-DEA1-4500-890F-9FCDDBCD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D0DBA-8663-43DA-9113-9A53D67E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1ECEC-B52E-4E22-81F7-6CC46C3F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CC56B-7762-4519-8105-102B35D7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F87FD-FDEB-4FFF-8AC2-EDBD0A01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6440B-936F-48A7-AD78-5E3D6657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6C7D1-7BA5-4CC6-948E-AD041B06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D3E61-6D49-462C-9679-8EFFB509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8C999-E702-4BEF-8853-47F4E896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8EBA-67C0-4DA5-B45D-C6550EC2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F2106-9F82-4C38-8038-9A33417F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34A16-755B-444D-8937-503DBA5A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25620-AA08-4725-8C57-2D7BD6A5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CAA79-79EE-4060-83B8-E488145C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F348A-32E1-4643-9FE2-15695C2D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49796-138C-4647-9A5B-515F3B05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E04CB-114A-4161-BDDE-5165CC1A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D9978-FE53-414A-8B14-852D2DD0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21D1D-03A3-4852-9536-DA53ABDA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90FD8-1E32-4DEA-9537-D0DF2459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7142-DA28-4664-9DAD-BB14486D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07455-B5FA-4254-9E56-41D01BDE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C8430-799C-43B5-82AD-DED8B21F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2EAAD-39ED-4457-B022-C8C8AEE9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666D1-B5A3-49A2-88C3-41E74013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5F812-3284-47BC-93B6-06410699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F929B-5A66-4DEB-88AE-966FA1A2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68B96-8561-4693-8E54-F98DFD30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C4772-42EE-42ED-97B7-6682D7E4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A8816-963F-4A07-B264-1D6A6D68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3EF61-4965-4818-B9E2-682BCE5A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0E9-4396-42CE-BCE5-6032FFD3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8B56A-53F0-4DAC-852B-92D68455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F4332-8A53-48AC-9469-C384A56C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678EA-B69D-4D61-8726-6DDBB835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45EA3-CF46-4A86-B145-C3FADD5C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C6C37-B3FF-468B-B7AB-3BE89CB1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AA308-62F0-475B-B863-1B4C7FAF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D51E0-F2DE-4B89-BC48-0F2C52A9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D7691-9E29-4904-85CD-21BE24DE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83B87-AFC9-4828-8493-E0090ACA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C03E3-51DC-462E-9C72-76BB9DEF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C7F1-B41F-4CC6-ABF8-093DE903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B64BE-4994-431C-836B-447D4220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8AA57-3A91-4DE4-AF80-D8A6941B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DF4F9-04B2-4303-B1C8-D8943190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65E03-7F46-4B54-96D8-68DC81B7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2D6C2-4C33-4EB9-9676-B084CE58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D7B2A-46C5-45F0-BBC1-CBCFA80D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B465E-094B-400B-AB02-B99440D7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FB594-704D-4187-9000-E2794D27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284C1-5801-4372-BA09-CBE04AF1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63097-862F-42A4-8FE9-93E5D4B7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5F2C-C585-4E13-9DAE-F62AA7A5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06148-53C6-4D66-A284-3633079D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56A27-FB57-4184-8B69-D48DCCE1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5A58B-16C2-472F-B779-01643194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DD6F1-7D45-4F67-A59C-EDC6D406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9BA44-7DF9-4082-B908-68BB242D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5DB6C-FBFE-4B23-BBAA-07665D43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3A5CA-DA8C-432D-B04B-3882B400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A4A9B-85F2-47F9-A49B-8207CB34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AF479-DB93-48ED-9D89-6BB3CB60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BDA67-C202-447F-95B8-4D00E373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74DD-7D64-4990-88B2-FE4BF0F7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BC01E-321A-4685-8DB2-A46A2033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E8957-2C1C-48BA-BF45-CB01B58D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B765E-28B8-4B77-8190-183B70C9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A7D07-CBE2-46D4-A43C-43867E8F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F6C89-55B6-4215-9112-04D3CD51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D2E09-65A1-487E-BAE0-44A67891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FF2E0-9416-4C25-B4E3-642DBBEB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22090-B45B-4200-8623-BBEB3D2F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A355F-24A4-4D74-A306-E35BCD53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483AA-024E-4474-A7B0-6F1649B4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1C52DC-8A81-4E90-B64F-1E09ACFD981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93EE2-D618-4B3C-8D82-FD1D48DE050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07D12C-D2FC-401D-A3D1-3CD6D302264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A3295-2436-4528-9BF2-7A0277B6C07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9456A-6EA3-40F7-B2AB-CACF8F9F7FC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94074-F595-484B-885E-84B4F5636AD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B0483-613F-499C-84AF-67DF119EE84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EB049-8DFD-433F-88D6-81C643126D5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47380C-9C3A-48A4-865F-FEA23346B88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E2B4A-852C-404E-B3E2-A800966D086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5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5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5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3E2CE4-CC70-46EE-8225-BA157A2291E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9A7A4-3D49-433A-A62F-D85C925F36C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49A2C5-3DC7-4EDF-BEA9-18BD05B304C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D115D1-1E6A-4DCF-A858-51DD8C985AF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5AE82-990E-429A-A1AC-8DE1A32531A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B26D4-1ECF-4C35-B712-D27A787713E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34298A-DC5D-440A-B355-0B29D40D68C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017B4-A787-4B49-BA58-7C3441FA35D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3FB62F-CA39-4BE3-99EE-81A1378771C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0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9"/>
          <p:cNvSpPr/>
          <p:nvPr/>
        </p:nvSpPr>
        <p:spPr>
          <a:xfrm>
            <a:off x="1332000" y="1125360"/>
            <a:ext cx="6696000" cy="3383280"/>
          </a:xfrm>
          <a:prstGeom prst="rect">
            <a:avLst/>
          </a:prstGeom>
          <a:solidFill>
            <a:srgbClr val="c8dca4"/>
          </a:solidFill>
          <a:ln w="12600">
            <a:solidFill>
              <a:srgbClr val="c8dc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0" name="Text Box 8"/>
          <p:cNvSpPr/>
          <p:nvPr/>
        </p:nvSpPr>
        <p:spPr>
          <a:xfrm>
            <a:off x="1619280" y="1557360"/>
            <a:ext cx="6265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b4a18"/>
                </a:solidFill>
                <a:latin typeface="Times New Roman Cyr"/>
              </a:rPr>
              <a:t>Швейная машина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 Cyr"/>
              </a:rPr>
              <a:t>От создания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 Cyr"/>
              </a:rPr>
              <a:t>до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 Cyr"/>
              </a:rPr>
              <a:t>использования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Современные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швейные машин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pSp>
        <p:nvGrpSpPr>
          <p:cNvPr id="1367" name="Group 15"/>
          <p:cNvGrpSpPr/>
          <p:nvPr/>
        </p:nvGrpSpPr>
        <p:grpSpPr>
          <a:xfrm>
            <a:off x="696240" y="1753560"/>
            <a:ext cx="7682760" cy="4770720"/>
            <a:chOff x="696240" y="1753560"/>
            <a:chExt cx="7682760" cy="4770720"/>
          </a:xfrm>
        </p:grpSpPr>
        <p:pic>
          <p:nvPicPr>
            <p:cNvPr id="1368" name="Picture 7" descr="P1010065"/>
            <p:cNvPicPr/>
            <p:nvPr/>
          </p:nvPicPr>
          <p:blipFill>
            <a:blip r:embed="rId1"/>
            <a:stretch/>
          </p:blipFill>
          <p:spPr>
            <a:xfrm rot="21373200">
              <a:off x="755640" y="2000160"/>
              <a:ext cx="2449440" cy="18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9" name="Picture 9" descr="Швейная машина Bernina Aktiva 125"/>
            <p:cNvPicPr/>
            <p:nvPr/>
          </p:nvPicPr>
          <p:blipFill>
            <a:blip r:embed="rId2"/>
            <a:stretch/>
          </p:blipFill>
          <p:spPr>
            <a:xfrm rot="235800">
              <a:off x="6227640" y="1822320"/>
              <a:ext cx="2081160" cy="21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Picture 10" descr="97-3_big"/>
            <p:cNvPicPr/>
            <p:nvPr/>
          </p:nvPicPr>
          <p:blipFill>
            <a:blip r:embed="rId3"/>
            <a:stretch/>
          </p:blipFill>
          <p:spPr>
            <a:xfrm>
              <a:off x="5867280" y="4605120"/>
              <a:ext cx="2449800" cy="19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1" name="Picture 11" descr="pfaff2028"/>
            <p:cNvPicPr/>
            <p:nvPr/>
          </p:nvPicPr>
          <p:blipFill>
            <a:blip r:embed="rId4"/>
            <a:stretch/>
          </p:blipFill>
          <p:spPr>
            <a:xfrm>
              <a:off x="3419640" y="2885760"/>
              <a:ext cx="2376360" cy="217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2" name="Picture 13" descr="542_b"/>
            <p:cNvPicPr/>
            <p:nvPr/>
          </p:nvPicPr>
          <p:blipFill>
            <a:blip r:embed="rId5"/>
            <a:stretch/>
          </p:blipFill>
          <p:spPr>
            <a:xfrm>
              <a:off x="755640" y="4487760"/>
              <a:ext cx="2376360" cy="1950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Устройство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швейной машин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4" name="Rectangle 5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solidFill>
            <a:srgbClr val="00003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75" name="Picture 4" descr=""/>
          <p:cNvPicPr/>
          <p:nvPr/>
        </p:nvPicPr>
        <p:blipFill>
          <a:blip r:embed="rId1"/>
          <a:srcRect l="2664" t="4788" r="6147" b="5061"/>
          <a:stretch/>
        </p:blipFill>
        <p:spPr>
          <a:xfrm>
            <a:off x="1332000" y="2104920"/>
            <a:ext cx="6408720" cy="4753080"/>
          </a:xfrm>
          <a:prstGeom prst="rect">
            <a:avLst/>
          </a:prstGeom>
          <a:ln w="0">
            <a:noFill/>
          </a:ln>
        </p:spPr>
      </p:pic>
      <p:sp>
        <p:nvSpPr>
          <p:cNvPr id="1376" name="AutoShape 7"/>
          <p:cNvSpPr/>
          <p:nvPr/>
        </p:nvSpPr>
        <p:spPr>
          <a:xfrm>
            <a:off x="7596360" y="1557360"/>
            <a:ext cx="1547640" cy="503280"/>
          </a:xfrm>
          <a:prstGeom prst="borderCallout2">
            <a:avLst>
              <a:gd name="adj1" fmla="val 18750"/>
              <a:gd name="adj2" fmla="val -8333"/>
              <a:gd name="adj3" fmla="val 22712"/>
              <a:gd name="adj4" fmla="val -36717"/>
              <a:gd name="adj5" fmla="val 171611"/>
              <a:gd name="adj6" fmla="val -69745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 Cyr"/>
              </a:rPr>
              <a:t>Катушечный стержень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7" name="AutoShape 8"/>
          <p:cNvSpPr/>
          <p:nvPr/>
        </p:nvSpPr>
        <p:spPr>
          <a:xfrm>
            <a:off x="8028000" y="4005360"/>
            <a:ext cx="1116000" cy="503280"/>
          </a:xfrm>
          <a:prstGeom prst="borderCallout2">
            <a:avLst>
              <a:gd name="adj1" fmla="val 18750"/>
              <a:gd name="adj2" fmla="val -8333"/>
              <a:gd name="adj3" fmla="val 22712"/>
              <a:gd name="adj4" fmla="val -22476"/>
              <a:gd name="adj5" fmla="val -128708"/>
              <a:gd name="adj6" fmla="val -38689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 Cyr"/>
              </a:rPr>
              <a:t>Маховое колесо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8" name="AutoShape 9"/>
          <p:cNvSpPr/>
          <p:nvPr/>
        </p:nvSpPr>
        <p:spPr>
          <a:xfrm>
            <a:off x="7740720" y="5300640"/>
            <a:ext cx="1206360" cy="754200"/>
          </a:xfrm>
          <a:prstGeom prst="borderCallout2">
            <a:avLst>
              <a:gd name="adj1" fmla="val 18750"/>
              <a:gd name="adj2" fmla="val -8333"/>
              <a:gd name="adj3" fmla="val 15157"/>
              <a:gd name="adj4" fmla="val -47236"/>
              <a:gd name="adj5" fmla="val -66736"/>
              <a:gd name="adj6" fmla="val -89606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 Cyr"/>
              </a:rPr>
              <a:t>Кнопка обратного стежка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9" name="AutoShape 10"/>
          <p:cNvSpPr/>
          <p:nvPr/>
        </p:nvSpPr>
        <p:spPr>
          <a:xfrm>
            <a:off x="0" y="1628640"/>
            <a:ext cx="1835280" cy="505080"/>
          </a:xfrm>
          <a:prstGeom prst="borderCallout2">
            <a:avLst>
              <a:gd name="adj1" fmla="val 18750"/>
              <a:gd name="adj2" fmla="val -8333"/>
              <a:gd name="adj3" fmla="val 22643"/>
              <a:gd name="adj4" fmla="val 158305"/>
              <a:gd name="adj5" fmla="val 220125"/>
              <a:gd name="adj6" fmla="val 214703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 Cyr"/>
              </a:rPr>
              <a:t>Нитенаправитель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0" name="AutoShape 11"/>
          <p:cNvSpPr/>
          <p:nvPr/>
        </p:nvSpPr>
        <p:spPr>
          <a:xfrm>
            <a:off x="611280" y="2349360"/>
            <a:ext cx="2089080" cy="432000"/>
          </a:xfrm>
          <a:prstGeom prst="borderCallout2">
            <a:avLst>
              <a:gd name="adj1" fmla="val 18750"/>
              <a:gd name="adj2" fmla="val -8333"/>
              <a:gd name="adj3" fmla="val 26472"/>
              <a:gd name="adj4" fmla="val 125532"/>
              <a:gd name="adj5" fmla="val 100000"/>
              <a:gd name="adj6" fmla="val 148250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 Cyr"/>
              </a:rPr>
              <a:t>Нитепритягиватель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1" name="AutoShape 12"/>
          <p:cNvSpPr/>
          <p:nvPr/>
        </p:nvSpPr>
        <p:spPr>
          <a:xfrm>
            <a:off x="7020000" y="5950080"/>
            <a:ext cx="1147680" cy="718920"/>
          </a:xfrm>
          <a:prstGeom prst="borderCallout2">
            <a:avLst>
              <a:gd name="adj1" fmla="val 18750"/>
              <a:gd name="adj2" fmla="val -8333"/>
              <a:gd name="adj3" fmla="val 15893"/>
              <a:gd name="adj4" fmla="val -55324"/>
              <a:gd name="adj5" fmla="val -350550"/>
              <a:gd name="adj6" fmla="val -104009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 Cyr"/>
              </a:rPr>
              <a:t>Регулятор длины стежка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2" name="AutoShape 13"/>
          <p:cNvSpPr/>
          <p:nvPr/>
        </p:nvSpPr>
        <p:spPr>
          <a:xfrm>
            <a:off x="250920" y="4653000"/>
            <a:ext cx="1403280" cy="792000"/>
          </a:xfrm>
          <a:prstGeom prst="borderCallout2">
            <a:avLst>
              <a:gd name="adj1" fmla="val 18750"/>
              <a:gd name="adj2" fmla="val -8333"/>
              <a:gd name="adj3" fmla="val 14430"/>
              <a:gd name="adj4" fmla="val 208486"/>
              <a:gd name="adj5" fmla="val -151101"/>
              <a:gd name="adj6" fmla="val 315384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 Cyr"/>
              </a:rPr>
              <a:t>Регулятор модельного узора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3" name="AutoShape 14"/>
          <p:cNvSpPr/>
          <p:nvPr/>
        </p:nvSpPr>
        <p:spPr>
          <a:xfrm>
            <a:off x="412920" y="3459240"/>
            <a:ext cx="1206360" cy="76176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193949"/>
              <a:gd name="adj5" fmla="val -32291"/>
              <a:gd name="adj6" fmla="val 285000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 Cyr"/>
              </a:rPr>
              <a:t>Регулятор натяжения нити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4" name="Oval 15"/>
          <p:cNvSpPr/>
          <p:nvPr/>
        </p:nvSpPr>
        <p:spPr>
          <a:xfrm>
            <a:off x="3203640" y="3933720"/>
            <a:ext cx="1655640" cy="17272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5" name="AutoShape 16"/>
          <p:cNvSpPr/>
          <p:nvPr/>
        </p:nvSpPr>
        <p:spPr>
          <a:xfrm>
            <a:off x="5008680" y="1730520"/>
            <a:ext cx="914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23787"/>
              <a:gd name="adj5" fmla="val 296152"/>
              <a:gd name="adj6" fmla="val -39930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</a:rPr>
              <a:t>Рукав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6" name="AutoShape 17"/>
          <p:cNvSpPr/>
          <p:nvPr/>
        </p:nvSpPr>
        <p:spPr>
          <a:xfrm>
            <a:off x="7812000" y="2738520"/>
            <a:ext cx="120672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35527"/>
              <a:gd name="adj5" fmla="val -96152"/>
              <a:gd name="adj6" fmla="val -65657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</a:rPr>
              <a:t>моталка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7" name="AutoShape 18"/>
          <p:cNvSpPr/>
          <p:nvPr/>
        </p:nvSpPr>
        <p:spPr>
          <a:xfrm>
            <a:off x="1763640" y="5157720"/>
            <a:ext cx="1079640" cy="40176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171615"/>
              <a:gd name="adj5" fmla="val 297231"/>
              <a:gd name="adj6" fmla="val 238527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 Cyr"/>
              </a:rPr>
              <a:t>Шпулька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8" name="AutoShape 19"/>
          <p:cNvSpPr/>
          <p:nvPr/>
        </p:nvSpPr>
        <p:spPr>
          <a:xfrm>
            <a:off x="1979640" y="5950080"/>
            <a:ext cx="1792440" cy="718920"/>
          </a:xfrm>
          <a:prstGeom prst="borderCallout2">
            <a:avLst>
              <a:gd name="adj1" fmla="val 18750"/>
              <a:gd name="adj2" fmla="val -8333"/>
              <a:gd name="adj3" fmla="val 15893"/>
              <a:gd name="adj4" fmla="val 136935"/>
              <a:gd name="adj5" fmla="val 60046"/>
              <a:gd name="adj6" fmla="val 171125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 Cyr"/>
              </a:rPr>
              <a:t>Шпульный колпачок (челнок)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Челночное устройство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0" name="Rectangle 5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solidFill>
            <a:srgbClr val="00003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91" name="Picture 4" descr="Изображение 019"/>
          <p:cNvPicPr/>
          <p:nvPr/>
        </p:nvPicPr>
        <p:blipFill>
          <a:blip r:embed="rId1"/>
          <a:stretch/>
        </p:blipFill>
        <p:spPr>
          <a:xfrm>
            <a:off x="1332000" y="1725480"/>
            <a:ext cx="6840360" cy="5132520"/>
          </a:xfrm>
          <a:prstGeom prst="rect">
            <a:avLst/>
          </a:prstGeom>
          <a:ln w="0">
            <a:noFill/>
          </a:ln>
        </p:spPr>
      </p:pic>
      <p:sp>
        <p:nvSpPr>
          <p:cNvPr id="1392" name="AutoShape 6"/>
          <p:cNvSpPr/>
          <p:nvPr/>
        </p:nvSpPr>
        <p:spPr>
          <a:xfrm>
            <a:off x="179280" y="1989000"/>
            <a:ext cx="201636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36300"/>
              <a:gd name="adj5" fmla="val 295592"/>
              <a:gd name="adj6" fmla="val 170000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</a:rPr>
              <a:t>Нитенаправитель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3" name="AutoShape 7"/>
          <p:cNvSpPr/>
          <p:nvPr/>
        </p:nvSpPr>
        <p:spPr>
          <a:xfrm>
            <a:off x="0" y="2852640"/>
            <a:ext cx="2050920" cy="649440"/>
          </a:xfrm>
          <a:prstGeom prst="borderCallout2">
            <a:avLst>
              <a:gd name="adj1" fmla="val 18750"/>
              <a:gd name="adj2" fmla="val -8333"/>
              <a:gd name="adj3" fmla="val 17601"/>
              <a:gd name="adj4" fmla="val 158745"/>
              <a:gd name="adj5" fmla="val 177504"/>
              <a:gd name="adj6" fmla="val 215865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</a:rPr>
              <a:t>Нитенаправитель иглы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4" name="AutoShape 8"/>
          <p:cNvSpPr/>
          <p:nvPr/>
        </p:nvSpPr>
        <p:spPr>
          <a:xfrm>
            <a:off x="468360" y="6093000"/>
            <a:ext cx="91440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275694"/>
              <a:gd name="adj5" fmla="val -231717"/>
              <a:gd name="adj6" fmla="val 449652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Cyr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5" name="AutoShape 9"/>
          <p:cNvSpPr/>
          <p:nvPr/>
        </p:nvSpPr>
        <p:spPr>
          <a:xfrm>
            <a:off x="6288120" y="6021360"/>
            <a:ext cx="16351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50680"/>
              <a:gd name="adj5" fmla="val -44791"/>
              <a:gd name="adj6" fmla="val -98444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</a:rPr>
              <a:t>Двигатель материала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6" name="AutoShape 10"/>
          <p:cNvSpPr/>
          <p:nvPr/>
        </p:nvSpPr>
        <p:spPr>
          <a:xfrm>
            <a:off x="7812000" y="4724280"/>
            <a:ext cx="914400" cy="433440"/>
          </a:xfrm>
          <a:prstGeom prst="borderCallout2">
            <a:avLst>
              <a:gd name="adj1" fmla="val 18750"/>
              <a:gd name="adj2" fmla="val -8333"/>
              <a:gd name="adj3" fmla="val 26375"/>
              <a:gd name="adj4" fmla="val -139583"/>
              <a:gd name="adj5" fmla="val -199634"/>
              <a:gd name="adj6" fmla="val -275870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</a:rPr>
              <a:t>Винт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7" name="AutoShape 11"/>
          <p:cNvSpPr/>
          <p:nvPr/>
        </p:nvSpPr>
        <p:spPr>
          <a:xfrm>
            <a:off x="7456320" y="2924280"/>
            <a:ext cx="1687680" cy="784080"/>
          </a:xfrm>
          <a:prstGeom prst="borderCallout2">
            <a:avLst>
              <a:gd name="adj1" fmla="val 18750"/>
              <a:gd name="adj2" fmla="val -8333"/>
              <a:gd name="adj3" fmla="val 14574"/>
              <a:gd name="adj4" fmla="val -19189"/>
              <a:gd name="adj5" fmla="val -146759"/>
              <a:gd name="adj6" fmla="val -34337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</a:rPr>
              <a:t>Подъемник прижимной лапки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8" name="AutoShape 13"/>
          <p:cNvSpPr/>
          <p:nvPr/>
        </p:nvSpPr>
        <p:spPr>
          <a:xfrm>
            <a:off x="250920" y="4149720"/>
            <a:ext cx="914400" cy="40176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274481"/>
              <a:gd name="adj5" fmla="val 153361"/>
              <a:gd name="adj6" fmla="val 447050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</a:rPr>
              <a:t>Игла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Rectangle 900"/>
          <p:cNvSpPr/>
          <p:nvPr/>
        </p:nvSpPr>
        <p:spPr>
          <a:xfrm>
            <a:off x="684360" y="0"/>
            <a:ext cx="8135640" cy="98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400" name="Group 894"/>
          <p:cNvGrpSpPr/>
          <p:nvPr/>
        </p:nvGrpSpPr>
        <p:grpSpPr>
          <a:xfrm>
            <a:off x="684360" y="692280"/>
            <a:ext cx="8137440" cy="5473440"/>
            <a:chOff x="684360" y="692280"/>
            <a:chExt cx="8137440" cy="5473440"/>
          </a:xfrm>
        </p:grpSpPr>
        <p:pic>
          <p:nvPicPr>
            <p:cNvPr id="1401" name="Picture 892" descr=""/>
            <p:cNvPicPr/>
            <p:nvPr/>
          </p:nvPicPr>
          <p:blipFill>
            <a:blip r:embed="rId1"/>
            <a:stretch/>
          </p:blipFill>
          <p:spPr>
            <a:xfrm>
              <a:off x="684360" y="692280"/>
              <a:ext cx="7129440" cy="54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2" name="Picture 893" descr=""/>
            <p:cNvPicPr/>
            <p:nvPr/>
          </p:nvPicPr>
          <p:blipFill>
            <a:blip r:embed="rId2"/>
            <a:srcRect l="79784" t="19722" r="0" b="0"/>
            <a:stretch/>
          </p:blipFill>
          <p:spPr>
            <a:xfrm>
              <a:off x="7740720" y="692280"/>
              <a:ext cx="1081080" cy="546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115640" y="6165360"/>
            <a:ext cx="748836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Book Antiqua"/>
              </a:rPr>
              <a:t>Заправка</a:t>
            </a: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 верхней нит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404" name="Picture 886" descr=""/>
          <p:cNvPicPr/>
          <p:nvPr/>
        </p:nvPicPr>
        <p:blipFill>
          <a:blip r:embed="rId3"/>
          <a:stretch/>
        </p:blipFill>
        <p:spPr>
          <a:xfrm>
            <a:off x="7596360" y="0"/>
            <a:ext cx="958680" cy="1440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405" name="Freeform 890"/>
          <p:cNvSpPr/>
          <p:nvPr/>
        </p:nvSpPr>
        <p:spPr>
          <a:xfrm>
            <a:off x="3059280" y="549360"/>
            <a:ext cx="4537080" cy="1008000"/>
          </a:xfrm>
          <a:custGeom>
            <a:avLst/>
            <a:gdLst>
              <a:gd name="textAreaLeft" fmla="*/ 0 w 4537080"/>
              <a:gd name="textAreaRight" fmla="*/ 4537440 w 4537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267" h="566">
                <a:moveTo>
                  <a:pt x="2267" y="0"/>
                </a:moveTo>
                <a:cubicBezTo>
                  <a:pt x="2127" y="70"/>
                  <a:pt x="1969" y="90"/>
                  <a:pt x="1819" y="128"/>
                </a:cubicBezTo>
                <a:cubicBezTo>
                  <a:pt x="1687" y="161"/>
                  <a:pt x="1560" y="215"/>
                  <a:pt x="1426" y="237"/>
                </a:cubicBezTo>
                <a:cubicBezTo>
                  <a:pt x="1235" y="301"/>
                  <a:pt x="1038" y="334"/>
                  <a:pt x="841" y="365"/>
                </a:cubicBezTo>
                <a:cubicBezTo>
                  <a:pt x="663" y="398"/>
                  <a:pt x="506" y="460"/>
                  <a:pt x="384" y="484"/>
                </a:cubicBezTo>
                <a:cubicBezTo>
                  <a:pt x="244" y="517"/>
                  <a:pt x="64" y="552"/>
                  <a:pt x="0" y="56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6" name="Freeform 891"/>
          <p:cNvSpPr/>
          <p:nvPr/>
        </p:nvSpPr>
        <p:spPr>
          <a:xfrm>
            <a:off x="2886120" y="1484280"/>
            <a:ext cx="103320" cy="3218040"/>
          </a:xfrm>
          <a:custGeom>
            <a:avLst/>
            <a:gdLst>
              <a:gd name="textAreaLeft" fmla="*/ 0 w 103320"/>
              <a:gd name="textAreaRight" fmla="*/ 103680 w 103320"/>
              <a:gd name="textAreaTop" fmla="*/ 0 h 3218040"/>
              <a:gd name="textAreaBottom" fmla="*/ 3218400 h 3218040"/>
            </a:gdLst>
            <a:ahLst/>
            <a:rect l="textAreaLeft" t="textAreaTop" r="textAreaRight" b="textAreaBottom"/>
            <a:pathLst>
              <a:path w="65" h="2027">
                <a:moveTo>
                  <a:pt x="49" y="0"/>
                </a:moveTo>
                <a:cubicBezTo>
                  <a:pt x="41" y="5"/>
                  <a:pt x="19" y="13"/>
                  <a:pt x="11" y="25"/>
                </a:cubicBezTo>
                <a:cubicBezTo>
                  <a:pt x="3" y="37"/>
                  <a:pt x="0" y="34"/>
                  <a:pt x="1" y="71"/>
                </a:cubicBezTo>
                <a:cubicBezTo>
                  <a:pt x="2" y="108"/>
                  <a:pt x="14" y="187"/>
                  <a:pt x="19" y="245"/>
                </a:cubicBezTo>
                <a:cubicBezTo>
                  <a:pt x="24" y="303"/>
                  <a:pt x="27" y="366"/>
                  <a:pt x="29" y="418"/>
                </a:cubicBezTo>
                <a:cubicBezTo>
                  <a:pt x="25" y="470"/>
                  <a:pt x="29" y="461"/>
                  <a:pt x="29" y="555"/>
                </a:cubicBezTo>
                <a:cubicBezTo>
                  <a:pt x="30" y="648"/>
                  <a:pt x="35" y="868"/>
                  <a:pt x="38" y="976"/>
                </a:cubicBezTo>
                <a:cubicBezTo>
                  <a:pt x="56" y="1140"/>
                  <a:pt x="44" y="1146"/>
                  <a:pt x="47" y="1204"/>
                </a:cubicBezTo>
                <a:cubicBezTo>
                  <a:pt x="50" y="1262"/>
                  <a:pt x="53" y="1254"/>
                  <a:pt x="56" y="1323"/>
                </a:cubicBezTo>
                <a:cubicBezTo>
                  <a:pt x="59" y="1392"/>
                  <a:pt x="65" y="1517"/>
                  <a:pt x="65" y="1616"/>
                </a:cubicBezTo>
                <a:cubicBezTo>
                  <a:pt x="63" y="1715"/>
                  <a:pt x="60" y="1850"/>
                  <a:pt x="56" y="1918"/>
                </a:cubicBezTo>
                <a:cubicBezTo>
                  <a:pt x="52" y="1986"/>
                  <a:pt x="42" y="2004"/>
                  <a:pt x="38" y="2027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7" name="Freeform 895"/>
          <p:cNvSpPr/>
          <p:nvPr/>
        </p:nvSpPr>
        <p:spPr>
          <a:xfrm>
            <a:off x="2484360" y="1592280"/>
            <a:ext cx="447840" cy="3151080"/>
          </a:xfrm>
          <a:custGeom>
            <a:avLst/>
            <a:gdLst>
              <a:gd name="textAreaLeft" fmla="*/ 0 w 447840"/>
              <a:gd name="textAreaRight" fmla="*/ 448200 w 447840"/>
              <a:gd name="textAreaTop" fmla="*/ 0 h 3151080"/>
              <a:gd name="textAreaBottom" fmla="*/ 3151440 h 3151080"/>
            </a:gdLst>
            <a:ahLst/>
            <a:rect l="textAreaLeft" t="textAreaTop" r="textAreaRight" b="textAreaBottom"/>
            <a:pathLst>
              <a:path w="282" h="1985">
                <a:moveTo>
                  <a:pt x="282" y="1950"/>
                </a:moveTo>
                <a:cubicBezTo>
                  <a:pt x="274" y="1952"/>
                  <a:pt x="275" y="1954"/>
                  <a:pt x="254" y="1959"/>
                </a:cubicBezTo>
                <a:cubicBezTo>
                  <a:pt x="233" y="1964"/>
                  <a:pt x="185" y="1985"/>
                  <a:pt x="155" y="1980"/>
                </a:cubicBezTo>
                <a:cubicBezTo>
                  <a:pt x="138" y="1963"/>
                  <a:pt x="87" y="1950"/>
                  <a:pt x="72" y="1932"/>
                </a:cubicBezTo>
                <a:cubicBezTo>
                  <a:pt x="57" y="1914"/>
                  <a:pt x="54" y="1834"/>
                  <a:pt x="44" y="1813"/>
                </a:cubicBezTo>
                <a:cubicBezTo>
                  <a:pt x="47" y="1749"/>
                  <a:pt x="29" y="1722"/>
                  <a:pt x="35" y="1658"/>
                </a:cubicBezTo>
                <a:cubicBezTo>
                  <a:pt x="30" y="1612"/>
                  <a:pt x="27" y="1689"/>
                  <a:pt x="26" y="1575"/>
                </a:cubicBezTo>
                <a:cubicBezTo>
                  <a:pt x="25" y="1461"/>
                  <a:pt x="25" y="1208"/>
                  <a:pt x="26" y="972"/>
                </a:cubicBezTo>
                <a:cubicBezTo>
                  <a:pt x="27" y="736"/>
                  <a:pt x="39" y="316"/>
                  <a:pt x="35" y="158"/>
                </a:cubicBezTo>
                <a:cubicBezTo>
                  <a:pt x="31" y="0"/>
                  <a:pt x="7" y="51"/>
                  <a:pt x="0" y="23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8" name="Freeform 896"/>
          <p:cNvSpPr/>
          <p:nvPr/>
        </p:nvSpPr>
        <p:spPr>
          <a:xfrm>
            <a:off x="2268360" y="1628640"/>
            <a:ext cx="125640" cy="3279960"/>
          </a:xfrm>
          <a:custGeom>
            <a:avLst/>
            <a:gdLst>
              <a:gd name="textAreaLeft" fmla="*/ 0 w 125640"/>
              <a:gd name="textAreaRight" fmla="*/ 125640 w 125640"/>
              <a:gd name="textAreaTop" fmla="*/ 0 h 3279960"/>
              <a:gd name="textAreaBottom" fmla="*/ 3280320 h 3279960"/>
            </a:gdLst>
            <a:ahLst/>
            <a:rect l="textAreaLeft" t="textAreaTop" r="textAreaRight" b="textAreaBottom"/>
            <a:pathLst>
              <a:path w="79" h="2066">
                <a:moveTo>
                  <a:pt x="50" y="0"/>
                </a:moveTo>
                <a:cubicBezTo>
                  <a:pt x="14" y="54"/>
                  <a:pt x="54" y="30"/>
                  <a:pt x="14" y="73"/>
                </a:cubicBezTo>
                <a:cubicBezTo>
                  <a:pt x="0" y="103"/>
                  <a:pt x="20" y="153"/>
                  <a:pt x="23" y="183"/>
                </a:cubicBezTo>
                <a:cubicBezTo>
                  <a:pt x="26" y="213"/>
                  <a:pt x="24" y="153"/>
                  <a:pt x="32" y="256"/>
                </a:cubicBezTo>
                <a:cubicBezTo>
                  <a:pt x="47" y="378"/>
                  <a:pt x="63" y="629"/>
                  <a:pt x="69" y="804"/>
                </a:cubicBezTo>
                <a:cubicBezTo>
                  <a:pt x="75" y="979"/>
                  <a:pt x="68" y="1194"/>
                  <a:pt x="69" y="1307"/>
                </a:cubicBezTo>
                <a:cubicBezTo>
                  <a:pt x="72" y="1418"/>
                  <a:pt x="77" y="1355"/>
                  <a:pt x="78" y="1481"/>
                </a:cubicBezTo>
                <a:cubicBezTo>
                  <a:pt x="79" y="1607"/>
                  <a:pt x="78" y="1944"/>
                  <a:pt x="78" y="2066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9" name="Freeform 897"/>
          <p:cNvSpPr/>
          <p:nvPr/>
        </p:nvSpPr>
        <p:spPr>
          <a:xfrm>
            <a:off x="2351160" y="4919760"/>
            <a:ext cx="65160" cy="465120"/>
          </a:xfrm>
          <a:custGeom>
            <a:avLst/>
            <a:gdLst>
              <a:gd name="textAreaLeft" fmla="*/ 0 w 65160"/>
              <a:gd name="textAreaRight" fmla="*/ 65520 w 6516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41" h="293">
                <a:moveTo>
                  <a:pt x="37" y="0"/>
                </a:moveTo>
                <a:cubicBezTo>
                  <a:pt x="41" y="14"/>
                  <a:pt x="29" y="59"/>
                  <a:pt x="28" y="83"/>
                </a:cubicBezTo>
                <a:cubicBezTo>
                  <a:pt x="25" y="106"/>
                  <a:pt x="21" y="115"/>
                  <a:pt x="18" y="138"/>
                </a:cubicBezTo>
                <a:cubicBezTo>
                  <a:pt x="17" y="161"/>
                  <a:pt x="9" y="199"/>
                  <a:pt x="9" y="220"/>
                </a:cubicBezTo>
                <a:cubicBezTo>
                  <a:pt x="9" y="241"/>
                  <a:pt x="18" y="258"/>
                  <a:pt x="18" y="266"/>
                </a:cubicBezTo>
                <a:cubicBezTo>
                  <a:pt x="18" y="274"/>
                  <a:pt x="12" y="262"/>
                  <a:pt x="9" y="266"/>
                </a:cubicBezTo>
                <a:cubicBezTo>
                  <a:pt x="6" y="275"/>
                  <a:pt x="0" y="293"/>
                  <a:pt x="0" y="293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0" name="Freeform 898"/>
          <p:cNvSpPr/>
          <p:nvPr/>
        </p:nvSpPr>
        <p:spPr>
          <a:xfrm>
            <a:off x="2284560" y="5413320"/>
            <a:ext cx="139680" cy="498600"/>
          </a:xfrm>
          <a:custGeom>
            <a:avLst/>
            <a:gdLst>
              <a:gd name="textAreaLeft" fmla="*/ 0 w 139680"/>
              <a:gd name="textAreaRight" fmla="*/ 140040 w 13968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88" h="314">
                <a:moveTo>
                  <a:pt x="33" y="0"/>
                </a:moveTo>
                <a:cubicBezTo>
                  <a:pt x="22" y="46"/>
                  <a:pt x="40" y="85"/>
                  <a:pt x="24" y="128"/>
                </a:cubicBezTo>
                <a:cubicBezTo>
                  <a:pt x="26" y="147"/>
                  <a:pt x="0" y="269"/>
                  <a:pt x="33" y="302"/>
                </a:cubicBezTo>
                <a:cubicBezTo>
                  <a:pt x="45" y="314"/>
                  <a:pt x="74" y="311"/>
                  <a:pt x="88" y="3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1" name="Freeform 899"/>
          <p:cNvSpPr/>
          <p:nvPr/>
        </p:nvSpPr>
        <p:spPr>
          <a:xfrm>
            <a:off x="2462040" y="5676840"/>
            <a:ext cx="876600" cy="230400"/>
          </a:xfrm>
          <a:custGeom>
            <a:avLst/>
            <a:gdLst>
              <a:gd name="textAreaLeft" fmla="*/ 0 w 876600"/>
              <a:gd name="textAreaRight" fmla="*/ 876960 w 87660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552" h="145">
                <a:moveTo>
                  <a:pt x="12" y="145"/>
                </a:moveTo>
                <a:cubicBezTo>
                  <a:pt x="88" y="121"/>
                  <a:pt x="0" y="145"/>
                  <a:pt x="168" y="145"/>
                </a:cubicBezTo>
                <a:cubicBezTo>
                  <a:pt x="201" y="145"/>
                  <a:pt x="235" y="139"/>
                  <a:pt x="268" y="136"/>
                </a:cubicBezTo>
                <a:cubicBezTo>
                  <a:pt x="274" y="130"/>
                  <a:pt x="279" y="122"/>
                  <a:pt x="287" y="118"/>
                </a:cubicBezTo>
                <a:cubicBezTo>
                  <a:pt x="295" y="113"/>
                  <a:pt x="307" y="116"/>
                  <a:pt x="314" y="109"/>
                </a:cubicBezTo>
                <a:cubicBezTo>
                  <a:pt x="321" y="102"/>
                  <a:pt x="318" y="89"/>
                  <a:pt x="323" y="81"/>
                </a:cubicBezTo>
                <a:cubicBezTo>
                  <a:pt x="328" y="74"/>
                  <a:pt x="337" y="70"/>
                  <a:pt x="342" y="63"/>
                </a:cubicBezTo>
                <a:cubicBezTo>
                  <a:pt x="349" y="54"/>
                  <a:pt x="351" y="41"/>
                  <a:pt x="360" y="35"/>
                </a:cubicBezTo>
                <a:cubicBezTo>
                  <a:pt x="416" y="0"/>
                  <a:pt x="491" y="8"/>
                  <a:pt x="552" y="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2" name="Line 907"/>
          <p:cNvSpPr/>
          <p:nvPr/>
        </p:nvSpPr>
        <p:spPr>
          <a:xfrm>
            <a:off x="4284720" y="105264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3" name="Line 908"/>
          <p:cNvSpPr/>
          <p:nvPr/>
        </p:nvSpPr>
        <p:spPr>
          <a:xfrm flipV="1">
            <a:off x="2843280" y="1699920"/>
            <a:ext cx="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4" name="Line 909"/>
          <p:cNvSpPr/>
          <p:nvPr/>
        </p:nvSpPr>
        <p:spPr>
          <a:xfrm>
            <a:off x="2268360" y="2060640"/>
            <a:ext cx="71640" cy="27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5" name="Oval 912"/>
          <p:cNvSpPr/>
          <p:nvPr/>
        </p:nvSpPr>
        <p:spPr>
          <a:xfrm>
            <a:off x="2484360" y="333360"/>
            <a:ext cx="505080" cy="50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5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3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488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Заправка нижней нит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417" name="Picture 7" descr=" нижняя нить029"/>
          <p:cNvPicPr/>
          <p:nvPr/>
        </p:nvPicPr>
        <p:blipFill>
          <a:blip r:embed="rId1"/>
          <a:srcRect l="19426" t="41057" r="62974" b="46819"/>
          <a:stretch/>
        </p:blipFill>
        <p:spPr>
          <a:xfrm>
            <a:off x="2340000" y="2565360"/>
            <a:ext cx="2016000" cy="1727280"/>
          </a:xfrm>
          <a:prstGeom prst="rect">
            <a:avLst/>
          </a:prstGeom>
          <a:ln w="76320">
            <a:solidFill>
              <a:srgbClr val="de7e18"/>
            </a:solidFill>
            <a:miter/>
          </a:ln>
        </p:spPr>
      </p:pic>
      <p:pic>
        <p:nvPicPr>
          <p:cNvPr id="1418" name="Picture 5" descr=" нижняя нить029"/>
          <p:cNvPicPr/>
          <p:nvPr/>
        </p:nvPicPr>
        <p:blipFill>
          <a:blip r:embed="rId2"/>
          <a:srcRect l="14808" t="13463" r="59254" b="70390"/>
          <a:stretch/>
        </p:blipFill>
        <p:spPr>
          <a:xfrm>
            <a:off x="179280" y="2565360"/>
            <a:ext cx="1944720" cy="1727280"/>
          </a:xfrm>
          <a:prstGeom prst="rect">
            <a:avLst/>
          </a:prstGeom>
          <a:ln w="76320">
            <a:solidFill>
              <a:srgbClr val="de7e18"/>
            </a:solidFill>
            <a:miter/>
          </a:ln>
        </p:spPr>
      </p:pic>
      <p:pic>
        <p:nvPicPr>
          <p:cNvPr id="1419" name="Picture 8" descr=" нижняя нить029"/>
          <p:cNvPicPr/>
          <p:nvPr/>
        </p:nvPicPr>
        <p:blipFill>
          <a:blip r:embed="rId3"/>
          <a:srcRect l="18055" t="64628" r="59727" b="23245"/>
          <a:stretch/>
        </p:blipFill>
        <p:spPr>
          <a:xfrm>
            <a:off x="4643280" y="2565360"/>
            <a:ext cx="2016360" cy="1727280"/>
          </a:xfrm>
          <a:prstGeom prst="rect">
            <a:avLst/>
          </a:prstGeom>
          <a:ln w="76320">
            <a:solidFill>
              <a:srgbClr val="de7e18"/>
            </a:solidFill>
            <a:miter/>
          </a:ln>
        </p:spPr>
      </p:pic>
      <p:sp>
        <p:nvSpPr>
          <p:cNvPr id="1420" name="Rectangle 10"/>
          <p:cNvSpPr/>
          <p:nvPr/>
        </p:nvSpPr>
        <p:spPr>
          <a:xfrm>
            <a:off x="179280" y="4581360"/>
            <a:ext cx="20512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Вставьте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намотанную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шпульку в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шпульный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колпачок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1" name="Rectangle 11"/>
          <p:cNvSpPr/>
          <p:nvPr/>
        </p:nvSpPr>
        <p:spPr>
          <a:xfrm>
            <a:off x="2916360" y="4653000"/>
            <a:ext cx="2374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Заправьте нитку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в прорезь под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пластинчатую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пружину, оставив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свободный конец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2" name="Rectangle 12"/>
          <p:cNvSpPr/>
          <p:nvPr/>
        </p:nvSpPr>
        <p:spPr>
          <a:xfrm>
            <a:off x="6156360" y="4508640"/>
            <a:ext cx="28083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Вставьте шпульный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колпачок в шпульное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устройство. Палец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шпульного колпачка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должен быть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направлен  вверх.</a:t>
            </a:r>
            <a:r>
              <a:rPr b="0" lang="ru-RU" sz="2000" spc="-1" strike="noStrike">
                <a:solidFill>
                  <a:srgbClr val="000000"/>
                </a:solidFill>
                <a:latin typeface="Times New Roman Cy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23" name="Picture 14" descr=" нижняя нить032"/>
          <p:cNvPicPr/>
          <p:nvPr/>
        </p:nvPicPr>
        <p:blipFill>
          <a:blip r:embed="rId4">
            <a:lum contrast="18000"/>
          </a:blip>
          <a:srcRect l="24632" t="53184" r="55558" b="36099"/>
          <a:stretch/>
        </p:blipFill>
        <p:spPr>
          <a:xfrm>
            <a:off x="6948360" y="2565360"/>
            <a:ext cx="1944720" cy="1727280"/>
          </a:xfrm>
          <a:prstGeom prst="rect">
            <a:avLst/>
          </a:prstGeom>
          <a:ln w="76320">
            <a:solidFill>
              <a:srgbClr val="de7e1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1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Проверь свои знани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425" name=""/>
          <p:cNvGraphicFramePr/>
          <p:nvPr/>
        </p:nvGraphicFramePr>
        <p:xfrm>
          <a:off x="826920" y="1989000"/>
          <a:ext cx="7558200" cy="4367520"/>
        </p:xfrm>
        <a:graphic>
          <a:graphicData uri="http://schemas.openxmlformats.org/drawingml/2006/table">
            <a:tbl>
              <a:tblPr/>
              <a:tblGrid>
                <a:gridCol w="1194120"/>
                <a:gridCol w="6364080"/>
              </a:tblGrid>
              <a:tr h="53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ести нитку за крючок ните</a:t>
                      </a:r>
                      <a:r>
                        <a:rPr b="1" lang="ru-RU" sz="2400" spc="-1" strike="noStrike">
                          <a:solidFill>
                            <a:srgbClr val="fb4a18"/>
                          </a:solidFill>
                          <a:latin typeface="Arial"/>
                          <a:ea typeface="Times New Roman"/>
                        </a:rPr>
                        <a:t>напра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януть нитку вверх и продеть ее через рычаг ните</a:t>
                      </a:r>
                      <a:r>
                        <a:rPr b="1" lang="ru-RU" sz="2400" spc="-1" strike="noStrike">
                          <a:solidFill>
                            <a:srgbClr val="fb4a18"/>
                          </a:solidFill>
                          <a:latin typeface="Times New Roman"/>
                        </a:rPr>
                        <a:t>притяги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авить катушку на стерж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деть нитку в ните</a:t>
                      </a:r>
                      <a:r>
                        <a:rPr b="1" lang="ru-RU" sz="2400" spc="-1" strike="noStrike">
                          <a:solidFill>
                            <a:srgbClr val="fb4a18"/>
                          </a:solidFill>
                          <a:latin typeface="Arial"/>
                          <a:ea typeface="Times New Roman"/>
                        </a:rPr>
                        <a:t>напра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тель иглы. Вставить нитку в ушко иг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тянуть нитку вниз и продеть ее в нижний ните</a:t>
                      </a:r>
                      <a:r>
                        <a:rPr b="1" lang="ru-RU" sz="2400" spc="-1" strike="noStrike">
                          <a:solidFill>
                            <a:srgbClr val="fb4a18"/>
                          </a:solidFill>
                          <a:latin typeface="Times New Roman"/>
                        </a:rPr>
                        <a:t>напра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тянуть нитку вниз, в район натяжения, а затем вокруг держателя пруж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6" name="Text Box 59"/>
          <p:cNvSpPr/>
          <p:nvPr/>
        </p:nvSpPr>
        <p:spPr>
          <a:xfrm>
            <a:off x="826920" y="335772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b4a18"/>
                </a:solidFill>
                <a:latin typeface="Times New Roman Cyr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7" name="Text Box 60"/>
          <p:cNvSpPr/>
          <p:nvPr/>
        </p:nvSpPr>
        <p:spPr>
          <a:xfrm>
            <a:off x="826920" y="2060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b4a18"/>
                </a:solidFill>
                <a:latin typeface="Times New Roman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8" name="Text Box 63"/>
          <p:cNvSpPr/>
          <p:nvPr/>
        </p:nvSpPr>
        <p:spPr>
          <a:xfrm>
            <a:off x="826920" y="2565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b4a18"/>
                </a:solidFill>
                <a:latin typeface="Times New Roman Cyr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9" name="Text Box 64"/>
          <p:cNvSpPr/>
          <p:nvPr/>
        </p:nvSpPr>
        <p:spPr>
          <a:xfrm>
            <a:off x="826920" y="3860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b4a18"/>
                </a:solidFill>
                <a:latin typeface="Times New Roman Cyr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0" name="Text Box 65"/>
          <p:cNvSpPr/>
          <p:nvPr/>
        </p:nvSpPr>
        <p:spPr>
          <a:xfrm>
            <a:off x="826920" y="47242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b4a18"/>
                </a:solidFill>
                <a:latin typeface="Times New Roman Cyr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1" name="Text Box 66"/>
          <p:cNvSpPr/>
          <p:nvPr/>
        </p:nvSpPr>
        <p:spPr>
          <a:xfrm>
            <a:off x="826920" y="558972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b4a18"/>
                </a:solidFill>
                <a:latin typeface="Times New Roman Cyr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4880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Правила посадки при работе на электрической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швейной машине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433" name="Picture 4" descr="швейная машина009"/>
          <p:cNvPicPr/>
          <p:nvPr/>
        </p:nvPicPr>
        <p:blipFill>
          <a:blip r:embed="rId1"/>
          <a:srcRect l="1509" t="9665" r="0" b="8498"/>
          <a:stretch/>
        </p:blipFill>
        <p:spPr>
          <a:xfrm>
            <a:off x="2340000" y="3141720"/>
            <a:ext cx="4653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4" dur="2000" fill="hold"/>
                                        <p:tgtEl>
                                          <p:spTgt spid="14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900" spc="-1" strike="noStrike">
                <a:solidFill>
                  <a:srgbClr val="fb4a18"/>
                </a:solidFill>
                <a:latin typeface="Georgia"/>
              </a:rPr>
              <a:t>Швейная машина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1332000" y="386064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omic Sans MS"/>
              </a:rPr>
              <a:t>От создания 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omic Sans MS"/>
              </a:rPr>
              <a:t>до 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omic Sans MS"/>
              </a:rPr>
              <a:t>использования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История создания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швейной машин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pSp>
        <p:nvGrpSpPr>
          <p:cNvPr id="1324" name="Group 24"/>
          <p:cNvGrpSpPr/>
          <p:nvPr/>
        </p:nvGrpSpPr>
        <p:grpSpPr>
          <a:xfrm>
            <a:off x="4859280" y="2060640"/>
            <a:ext cx="3738600" cy="3449160"/>
            <a:chOff x="4859280" y="2060640"/>
            <a:chExt cx="3738600" cy="3449160"/>
          </a:xfrm>
        </p:grpSpPr>
        <p:pic>
          <p:nvPicPr>
            <p:cNvPr id="1325" name="Picture 13" descr="C:\Documents and Settings\ОКСАНА\Мои документы\НАГЛЯДНАЯ ИСТОРИЯ ШВЕЙНОЙ МАШИНЫ.files\moda-2.jpg"/>
            <p:cNvPicPr/>
            <p:nvPr/>
          </p:nvPicPr>
          <p:blipFill>
            <a:blip r:embed="rId1"/>
            <a:stretch/>
          </p:blipFill>
          <p:spPr>
            <a:xfrm>
              <a:off x="4859280" y="2060640"/>
              <a:ext cx="373860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6" name="Text Box 20"/>
            <p:cNvSpPr/>
            <p:nvPr/>
          </p:nvSpPr>
          <p:spPr>
            <a:xfrm>
              <a:off x="5148360" y="4724280"/>
              <a:ext cx="3311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1870 г. – 1880 г.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Германия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27" name="Group 23"/>
          <p:cNvGrpSpPr/>
          <p:nvPr/>
        </p:nvGrpSpPr>
        <p:grpSpPr>
          <a:xfrm>
            <a:off x="611280" y="1916280"/>
            <a:ext cx="3598920" cy="4098240"/>
            <a:chOff x="611280" y="1916280"/>
            <a:chExt cx="3598920" cy="4098240"/>
          </a:xfrm>
        </p:grpSpPr>
        <p:pic>
          <p:nvPicPr>
            <p:cNvPr id="1328" name="Picture 12" descr="C:\Documents and Settings\ОКСАНА\Мои документы\НАГЛЯДНАЯ ИСТОРИЯ ШВЕЙНОЙ МАШИНЫ.files\P1010034.jpg"/>
            <p:cNvPicPr/>
            <p:nvPr/>
          </p:nvPicPr>
          <p:blipFill>
            <a:blip r:embed="rId2"/>
            <a:stretch/>
          </p:blipFill>
          <p:spPr>
            <a:xfrm>
              <a:off x="611280" y="2995560"/>
              <a:ext cx="3598920" cy="30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9" name="Text Box 22"/>
            <p:cNvSpPr/>
            <p:nvPr/>
          </p:nvSpPr>
          <p:spPr>
            <a:xfrm>
              <a:off x="611280" y="1916280"/>
              <a:ext cx="28796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1860 г. – 1880 г.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США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556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История создания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швейной машин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pSp>
        <p:nvGrpSpPr>
          <p:cNvPr id="1331" name="Group 24"/>
          <p:cNvGrpSpPr/>
          <p:nvPr/>
        </p:nvGrpSpPr>
        <p:grpSpPr>
          <a:xfrm>
            <a:off x="900000" y="2133720"/>
            <a:ext cx="3095640" cy="3890880"/>
            <a:chOff x="900000" y="2133720"/>
            <a:chExt cx="3095640" cy="3890880"/>
          </a:xfrm>
        </p:grpSpPr>
        <p:pic>
          <p:nvPicPr>
            <p:cNvPr id="1332" name="Picture 15" descr="P1010041"/>
            <p:cNvPicPr/>
            <p:nvPr/>
          </p:nvPicPr>
          <p:blipFill>
            <a:blip r:embed="rId1"/>
            <a:stretch/>
          </p:blipFill>
          <p:spPr>
            <a:xfrm>
              <a:off x="900000" y="3213000"/>
              <a:ext cx="3095640" cy="28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3" name="Text Box 21"/>
            <p:cNvSpPr/>
            <p:nvPr/>
          </p:nvSpPr>
          <p:spPr>
            <a:xfrm>
              <a:off x="971640" y="2133720"/>
              <a:ext cx="2881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США, Нью-Йорк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1868 г.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34" name="Group 25"/>
          <p:cNvGrpSpPr/>
          <p:nvPr/>
        </p:nvGrpSpPr>
        <p:grpSpPr>
          <a:xfrm>
            <a:off x="5219640" y="2133720"/>
            <a:ext cx="3240000" cy="3306240"/>
            <a:chOff x="5219640" y="2133720"/>
            <a:chExt cx="3240000" cy="3306240"/>
          </a:xfrm>
        </p:grpSpPr>
        <p:pic>
          <p:nvPicPr>
            <p:cNvPr id="1335" name="Picture 17" descr="moda-1"/>
            <p:cNvPicPr/>
            <p:nvPr/>
          </p:nvPicPr>
          <p:blipFill>
            <a:blip r:embed="rId2"/>
            <a:stretch/>
          </p:blipFill>
          <p:spPr>
            <a:xfrm>
              <a:off x="5219640" y="2133720"/>
              <a:ext cx="324000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6" name="Text Box 23"/>
            <p:cNvSpPr/>
            <p:nvPr/>
          </p:nvSpPr>
          <p:spPr>
            <a:xfrm>
              <a:off x="5435640" y="4797360"/>
              <a:ext cx="30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США, Нью-Йорк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1865 г. - 1875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История создания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швейной машин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pSp>
        <p:nvGrpSpPr>
          <p:cNvPr id="1338" name="Group 12"/>
          <p:cNvGrpSpPr/>
          <p:nvPr/>
        </p:nvGrpSpPr>
        <p:grpSpPr>
          <a:xfrm>
            <a:off x="826920" y="2060640"/>
            <a:ext cx="3529080" cy="3379320"/>
            <a:chOff x="826920" y="2060640"/>
            <a:chExt cx="3529080" cy="3379320"/>
          </a:xfrm>
        </p:grpSpPr>
        <p:pic>
          <p:nvPicPr>
            <p:cNvPr id="1339" name="Picture 5" descr="moda-3"/>
            <p:cNvPicPr/>
            <p:nvPr/>
          </p:nvPicPr>
          <p:blipFill>
            <a:blip r:embed="rId1"/>
            <a:stretch/>
          </p:blipFill>
          <p:spPr>
            <a:xfrm>
              <a:off x="826920" y="2060640"/>
              <a:ext cx="3529080" cy="23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0" name="Text Box 10"/>
            <p:cNvSpPr/>
            <p:nvPr/>
          </p:nvSpPr>
          <p:spPr>
            <a:xfrm>
              <a:off x="826920" y="4797360"/>
              <a:ext cx="345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1894 г. – 1896 г.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Германия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41" name="Group 13"/>
          <p:cNvGrpSpPr/>
          <p:nvPr/>
        </p:nvGrpSpPr>
        <p:grpSpPr>
          <a:xfrm>
            <a:off x="5219640" y="2276640"/>
            <a:ext cx="3343320" cy="3809880"/>
            <a:chOff x="5219640" y="2276640"/>
            <a:chExt cx="3343320" cy="3809880"/>
          </a:xfrm>
        </p:grpSpPr>
        <p:pic>
          <p:nvPicPr>
            <p:cNvPr id="1342" name="Picture 7" descr="P1010054"/>
            <p:cNvPicPr/>
            <p:nvPr/>
          </p:nvPicPr>
          <p:blipFill>
            <a:blip r:embed="rId2"/>
            <a:stretch/>
          </p:blipFill>
          <p:spPr>
            <a:xfrm>
              <a:off x="5219640" y="3645000"/>
              <a:ext cx="3343320" cy="24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3" name="Text Box 11"/>
            <p:cNvSpPr/>
            <p:nvPr/>
          </p:nvSpPr>
          <p:spPr>
            <a:xfrm>
              <a:off x="5580000" y="2276640"/>
              <a:ext cx="28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1900 г. – 1915 г.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США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История создания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швейной машин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pSp>
        <p:nvGrpSpPr>
          <p:cNvPr id="1345" name="Group 10"/>
          <p:cNvGrpSpPr/>
          <p:nvPr/>
        </p:nvGrpSpPr>
        <p:grpSpPr>
          <a:xfrm>
            <a:off x="826920" y="2060640"/>
            <a:ext cx="3530880" cy="3666600"/>
            <a:chOff x="826920" y="2060640"/>
            <a:chExt cx="3530880" cy="3666600"/>
          </a:xfrm>
        </p:grpSpPr>
        <p:pic>
          <p:nvPicPr>
            <p:cNvPr id="1346" name="Picture 5" descr="P1010069"/>
            <p:cNvPicPr/>
            <p:nvPr/>
          </p:nvPicPr>
          <p:blipFill>
            <a:blip r:embed="rId1"/>
            <a:stretch/>
          </p:blipFill>
          <p:spPr>
            <a:xfrm>
              <a:off x="900000" y="2060640"/>
              <a:ext cx="3457800" cy="26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7" name="Text Box 8"/>
            <p:cNvSpPr/>
            <p:nvPr/>
          </p:nvSpPr>
          <p:spPr>
            <a:xfrm>
              <a:off x="826920" y="5084640"/>
              <a:ext cx="34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1900 г. – 1915 г.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Германия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48" name="Group 11"/>
          <p:cNvGrpSpPr/>
          <p:nvPr/>
        </p:nvGrpSpPr>
        <p:grpSpPr>
          <a:xfrm>
            <a:off x="5292720" y="2349360"/>
            <a:ext cx="3276720" cy="3234960"/>
            <a:chOff x="5292720" y="2349360"/>
            <a:chExt cx="3276720" cy="3234960"/>
          </a:xfrm>
        </p:grpSpPr>
        <p:pic>
          <p:nvPicPr>
            <p:cNvPr id="1349" name="Picture 7" descr="____"/>
            <p:cNvPicPr/>
            <p:nvPr/>
          </p:nvPicPr>
          <p:blipFill>
            <a:blip r:embed="rId2"/>
            <a:stretch/>
          </p:blipFill>
          <p:spPr>
            <a:xfrm>
              <a:off x="5292720" y="2349360"/>
              <a:ext cx="3276720" cy="22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Text Box 9"/>
            <p:cNvSpPr/>
            <p:nvPr/>
          </p:nvSpPr>
          <p:spPr>
            <a:xfrm>
              <a:off x="5292720" y="4941720"/>
              <a:ext cx="30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1895 г. – 1905 г.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США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История создания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швейной машин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pSp>
        <p:nvGrpSpPr>
          <p:cNvPr id="1352" name="Group 16"/>
          <p:cNvGrpSpPr/>
          <p:nvPr/>
        </p:nvGrpSpPr>
        <p:grpSpPr>
          <a:xfrm>
            <a:off x="971640" y="1989000"/>
            <a:ext cx="7377120" cy="4248000"/>
            <a:chOff x="971640" y="1989000"/>
            <a:chExt cx="7377120" cy="4248000"/>
          </a:xfrm>
        </p:grpSpPr>
        <p:grpSp>
          <p:nvGrpSpPr>
            <p:cNvPr id="1353" name="Group 13"/>
            <p:cNvGrpSpPr/>
            <p:nvPr/>
          </p:nvGrpSpPr>
          <p:grpSpPr>
            <a:xfrm>
              <a:off x="4859280" y="1989000"/>
              <a:ext cx="3489480" cy="4248000"/>
              <a:chOff x="4859280" y="1989000"/>
              <a:chExt cx="3489480" cy="4248000"/>
            </a:xfrm>
          </p:grpSpPr>
          <p:pic>
            <p:nvPicPr>
              <p:cNvPr id="1354" name="Picture 7" descr="P1010025"/>
              <p:cNvPicPr/>
              <p:nvPr/>
            </p:nvPicPr>
            <p:blipFill>
              <a:blip r:embed="rId1"/>
              <a:srcRect l="0" t="13748" r="0" b="0"/>
              <a:stretch/>
            </p:blipFill>
            <p:spPr>
              <a:xfrm>
                <a:off x="5302440" y="1989000"/>
                <a:ext cx="3046320" cy="388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5" name="AutoShape 10"/>
              <p:cNvSpPr/>
              <p:nvPr/>
            </p:nvSpPr>
            <p:spPr>
              <a:xfrm>
                <a:off x="4859280" y="5949720"/>
                <a:ext cx="433440" cy="287280"/>
              </a:xfrm>
              <a:prstGeom prst="rightArrow">
                <a:avLst>
                  <a:gd name="adj1" fmla="val 50000"/>
                  <a:gd name="adj2" fmla="val 37719"/>
                </a:avLst>
              </a:prstGeom>
              <a:solidFill>
                <a:srgbClr val="fb931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pic>
          <p:nvPicPr>
            <p:cNvPr id="1356" name="Picture 5" descr="P1010030"/>
            <p:cNvPicPr/>
            <p:nvPr/>
          </p:nvPicPr>
          <p:blipFill>
            <a:blip r:embed="rId2"/>
            <a:stretch/>
          </p:blipFill>
          <p:spPr>
            <a:xfrm>
              <a:off x="1042920" y="2060640"/>
              <a:ext cx="3168720" cy="25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7" name="Text Box 8"/>
            <p:cNvSpPr/>
            <p:nvPr/>
          </p:nvSpPr>
          <p:spPr>
            <a:xfrm>
              <a:off x="1258920" y="5445000"/>
              <a:ext cx="316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1902 г. – 1917 г.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Подольск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58" name="AutoShape 11"/>
            <p:cNvSpPr/>
            <p:nvPr/>
          </p:nvSpPr>
          <p:spPr>
            <a:xfrm>
              <a:off x="971640" y="4869000"/>
              <a:ext cx="287280" cy="504720"/>
            </a:xfrm>
            <a:prstGeom prst="upArrow">
              <a:avLst>
                <a:gd name="adj1" fmla="val 50000"/>
                <a:gd name="adj2" fmla="val 43922"/>
              </a:avLst>
            </a:prstGeom>
            <a:solidFill>
              <a:srgbClr val="fb931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629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История создания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швейной машин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pSp>
        <p:nvGrpSpPr>
          <p:cNvPr id="1360" name="Group 10"/>
          <p:cNvGrpSpPr/>
          <p:nvPr/>
        </p:nvGrpSpPr>
        <p:grpSpPr>
          <a:xfrm>
            <a:off x="2411280" y="2205000"/>
            <a:ext cx="4681800" cy="3379320"/>
            <a:chOff x="2411280" y="2205000"/>
            <a:chExt cx="4681800" cy="3379320"/>
          </a:xfrm>
        </p:grpSpPr>
        <p:pic>
          <p:nvPicPr>
            <p:cNvPr id="1361" name="Picture 5" descr="moda-6"/>
            <p:cNvPicPr/>
            <p:nvPr/>
          </p:nvPicPr>
          <p:blipFill>
            <a:blip r:embed="rId1"/>
            <a:srcRect l="0" t="37732" r="6536" b="0"/>
            <a:stretch/>
          </p:blipFill>
          <p:spPr>
            <a:xfrm>
              <a:off x="2484360" y="2205000"/>
              <a:ext cx="4608720" cy="22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2" name="Rectangle 9"/>
            <p:cNvSpPr/>
            <p:nvPr/>
          </p:nvSpPr>
          <p:spPr>
            <a:xfrm>
              <a:off x="2411280" y="494172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1905 г. – 1920 г.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г.Подольск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219320" y="21384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Виды швейных машинок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685800" y="1285560"/>
            <a:ext cx="788688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 виду привода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а. Ручные  б. Ножные  в. Электрически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65" name="Picture 9" descr="D:\УРОКИ по технологии\5 класс\машиноведение\hello_html_m5c858604.jpg"/>
          <p:cNvPicPr/>
          <p:nvPr/>
        </p:nvPicPr>
        <p:blipFill>
          <a:blip r:embed="rId1"/>
          <a:stretch/>
        </p:blipFill>
        <p:spPr>
          <a:xfrm>
            <a:off x="198360" y="2786040"/>
            <a:ext cx="8805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07:56:56Z</dcterms:created>
  <dc:creator>оксана</dc:creator>
  <dc:description/>
  <dc:language>en-US</dc:language>
  <cp:lastModifiedBy>Наталья Кутузова</cp:lastModifiedBy>
  <dcterms:modified xsi:type="dcterms:W3CDTF">2022-10-01T16:03:35Z</dcterms:modified>
  <cp:revision>28</cp:revision>
  <dc:subject/>
  <dc:title>Швейная машина</dc:title>
</cp:coreProperties>
</file>