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dt" idx="5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ftr" idx="5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 type="sldNum" idx="6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i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4499D7-5D19-4E9D-826F-4F786154164B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AF482-72AA-4D1B-9308-17F941380374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949A9-CFFF-4C6A-95DE-0A8DAE71968F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F8983-BEAA-4785-8F2A-3A0B5A3EE9FE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-10,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зволяет познакомить с устройством с швейной маш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0D1B0-092D-4F57-AA06-8F5B3D3614B6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AD86A-6158-48A3-934F-232018308DBF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13,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могают научить заправлять верхнюю и нижнюю нити в швейную маш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02F8F-9E38-4895-BEFF-055F553EFB10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88DEA-B9CC-44E7-993B-FC778C29E2BF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могает проверить правильность заполнения карточки на этап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епления изученного матери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69393-0672-4C46-950C-09C648BB7EE8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слайд показывает необходимость правильной посадки при работе на швейной маш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B0A6B-8B00-4A35-9799-4DACC393158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37C5B-EA77-40C9-BD2F-8C5E38D0A8B1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йд № 3 –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е слайды помогаю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комить с историей создания и развития швейной маш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32188-C78E-4A3F-94AA-81BEE96DB31B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D85BC-FF25-4234-A8CD-93F09F462F5C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DF441-7329-4BCD-A72A-43D4CE13BCF2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8E2DE-944A-4B52-B881-A678E6CBDB85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ADDB0-6343-47BD-A1B7-68DE5CAC98E6}" type="slidenum"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A7D-BC25-4F26-B098-E3558F84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F03-7B45-4DE1-99F8-26779E7F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24EAE-1A7B-4BC8-B6F8-B93EB54C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9659-7EC4-444D-85A2-3920A918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CE693-F08C-4819-BCE3-7F36C670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68383-D204-4CCA-8D93-5A8A9218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B0BBD-2265-4AA6-A5E9-56DEC800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97C40-2224-4664-A1AD-4EB0449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3D908-A655-4848-8808-1F4A01C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53CCA-BD14-48D0-B87C-57D6CAE6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C3BCE-5600-445A-A818-2F36D470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79664-9D82-48C0-A92F-9E2F10C2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5D3-671B-46A3-80BB-4C79457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594EA-CFD4-4C0F-AA8E-6147053D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E44E2-2ECC-477D-9C85-7F04110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18D7C-FE21-4F31-8C14-F9579172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A7FC3-D1E4-470B-AF7D-730B5E75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5F4B3-DBCC-4947-8E9C-0AFE13A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8B136-B35D-4472-8C14-46BF8F1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3FB5-38BA-44A5-AEFD-3D96768E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799F3-EE2A-4432-A4A0-8498B49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2ACBC-F969-4896-AFEB-2E6EB79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194F5-09F7-464A-8C22-AAA697D4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487-3D5E-48FF-9F9F-E5CB0C0B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040CB-0F95-4108-8EFA-B9D8F4D7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9E389-DA06-4641-9140-C5576622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BF768-3C0B-49A1-9295-354BA8A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7BFA6-0C05-41B2-B1C9-E7EACEE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26E21-7FF9-4EE5-9DAF-4A145575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095B-7BA5-452D-A9EA-0E53F79B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21183-722F-434A-B6F6-97BEC2EC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8B0A4-CC22-4138-92DC-3163A13D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CF994-A5C7-4AD7-9F62-929EB8F2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0C39E-60CE-410D-995B-333DB9F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8C54-C111-427C-AFE7-D0007FDF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C30B-2075-469B-986E-F94FD1FC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8D8F9-5C5E-490A-A702-B28577D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D5093-0E64-4CEA-ABBC-E1FBE9D0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52D8B-D121-4167-9A5C-A2220DE1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0DD39-DA1F-4B6D-86F3-C23F5CA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88F29-4757-4DE2-B5D2-F2306421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93B41-9D49-47B0-AD4C-EC5883CE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66F63-0F6F-4510-91E9-B46BC875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815C-DC89-4B8D-B7B7-EF3EC328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228CF-8BBC-4DE6-AAB6-C239099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DCFD-922D-43F9-86C7-CC40A81B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D1585-DE13-4CDB-8D4C-DDCCEE0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121C8-12CB-4F1F-9DA8-6CFF694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7B183-A510-4AB7-8793-1540FD5D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F7B6-3B0B-4FC4-BD02-3BC09889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0CAEF-F529-4076-BFE9-C07FC49E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DE7E3-739B-4580-9772-EE5A50FE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56D61-C170-41F2-B2B3-610677C1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0D0EF-77EA-43A6-9CE0-EAFDF90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D4356-761C-4A7D-9780-94CCDC9D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DA0DC-CB24-4E3C-9491-43DA249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0E7-E4B8-45CC-B81A-9DC9109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1E7AC-5EAC-49C8-A3C1-D8098482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84793-2EC7-4FFB-A43A-8B22B0C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5B1C81-4848-4866-A81B-983AA47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4AC77-8A32-42E2-820A-21B566BD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2EA86-4829-4B52-AE62-73648EC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61108-15AF-4254-9361-51F1242A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18656-68A4-44D0-9611-649CFEEF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B016E-32A7-4DC7-A344-489458FC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833407-6B97-4163-B668-88D98B9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4D5D3-5CE8-40D2-8D0A-B7A6CA8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6BA0-EC50-44C1-83E8-F770C3ED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F8D1A-5EF7-4747-B71B-8EBE70D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BCC75A-A594-401D-9C19-D009EBB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1514F-8E73-4EA2-8A86-C3BEFE34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E1271-DB62-4F7C-93D0-787DB7D6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9F6FF-5DEB-4277-94BC-970FD75B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D4C36-16CE-4B7B-96F4-4E82B53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FCFFB-4F4C-4E1E-A11B-897CD8C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295F9E-6AB0-4B74-BF9E-1BE9268F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2B4FA-574D-40A8-8B8D-DB8F9CE4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046B5-612F-4D39-89DF-7D9AC1B4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07AD-9CD0-47AF-A385-CC5A238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988CE0-31E4-4365-9EDA-2AA006D4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6D8D3-B504-4C7F-975D-9F4581CB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1188C-39E6-4148-BA3C-B4649599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B674F-5A47-47A8-AEA8-9F2B1AB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6C611-3825-46D9-A35C-17BA07A5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4C288A-F707-434E-A6D7-E27675D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59D63-9F0D-4967-9078-6187B751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5731E-75AC-4C09-9971-2EC3B1CB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70C97-2801-4B84-9051-960DFFD9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555AA-E3A9-4E03-BC87-F29ACB3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634C-92C8-477F-BCCB-6EF3A139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777B3-7547-4327-B90C-3ABB64F6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FC90B-BAA9-4615-BF44-7131EDC7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153F1-D5C7-459B-B5A8-72C9264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02605-0522-4246-8BE7-3F185CF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45991-5D3A-4A6F-ACBD-B75CF23A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4F39B-2CB8-41CF-BFA7-EF62DB2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65DCD-F7A9-4917-8090-693BBEC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A6F15A-3B1C-438D-8924-2E6FFBC7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9FAA78-87AC-4711-8DC0-4802DF4D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20C8D-3FEF-48C8-880C-4988B66D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8EF1-E3F8-4F9D-97EB-7313B3DB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EC01BF-DA1B-468E-BCED-3BD9978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1B32B-DFAE-4F7D-8DAF-3039AC59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5CF97-BEFC-44E2-9F15-AD0607B4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9FF28-B238-49AE-9D87-64C33363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D5828-C125-4AF1-B5CF-BD648553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D047E-49F8-4F61-884F-93C784EB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19C20-8FD8-4DFF-8BD2-CFFACEE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0E5ED-5251-464B-8074-83BAEE4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7FCC74-0BAC-49AF-AE55-B3334140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A1EC6-B837-4E08-97E2-C6D93437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354-F63A-4814-83C7-0FA358D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736F-D5DB-4B15-8901-C08AB513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8BFC6-AA4B-4C15-A29D-34463D6F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C7D57-64CA-49E4-BB34-AD68103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4E558-5503-48B2-B8F5-624C6B88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15630-4606-48EB-8B95-681FFD2B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83BBC3-D08D-4FB7-9B79-C2191249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27FBA-BB5E-470F-9409-42FDAB3A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305387-32B9-4914-9DE0-EB71925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2E871-31C3-44B4-A4C0-62EE5C1C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0352C-FE71-4A9C-AE9A-339E42FB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8D55B3-894B-4902-8821-92B37190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1336-0B36-4EA4-895B-AEBEAEB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413A2-E555-4622-945E-4E55DCF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59616-0570-413C-818B-DB9C45F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0497DA-7814-4BC4-96E0-04AEFBB7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8847A0-7B82-4E24-B560-3FD0466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4996EA-1DEB-40E7-9E3F-9782002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E2078-B3C2-442F-BFB3-D4582CEB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19A29-1D0C-49E3-B8D1-71D2AB55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D0694-7DFD-4C0E-B3E9-B4BE9BDB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2823B-AEAE-47CF-BD4B-1C2CE994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8AE75-48F6-44A4-A9A3-CDF9AFCF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0574-2501-4F37-B6FD-891AF890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5F1B1-21E5-447D-BC64-C444532C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06F1BF-489A-4D52-9F6E-A9A20DC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84BA4-FC47-4DE3-9EAF-FAB604A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21F7F-2078-4C52-8189-4A4424F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D7C05B-49A8-4396-B7D7-E2A6722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A5114-5367-469F-93AA-90944963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8E7B4-04BF-472F-9842-3B7D53D8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52F5D-89D6-4FDA-B67E-FFEA34C5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349B4-F971-4533-9D9D-26D13E13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74C2-D048-47FE-825C-AB70CB8B3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BAE5-B13E-4F24-9046-36C9E6DE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17B3-89F0-44E0-8910-86393ECA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9837-76B4-4D59-9F65-87582FE6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9D0C9-B60C-469A-A24D-74320266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9A63-1E88-47E2-8A28-FD3E0F1A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26A10-75BF-4A6C-85A1-935E7261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B2F-0DCA-41F6-8D94-70166331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4C6F-8AB7-453A-B3EB-BADD8048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43EB-6B4A-4FD0-B575-AF1C88D6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C41B-1194-40E5-8742-8EEB4B7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6928E-008E-4E02-9783-12CF5DEF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0DD1-B6EB-46B8-AFBD-E049B66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98E68-55AE-4E23-BE29-528861EB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CB56-A933-4597-8EC0-AAF66976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F2C7-F9BE-458D-960B-FE9142E5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B7783-6C86-4188-A779-3FCFB794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67E0A-3DA9-4351-A71A-36A93253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A33-667E-4968-A3F6-087D251E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A5D0D-A327-4838-B10F-F365C7B0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EB636-5FC4-4278-9E9F-4658CAF9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7447-44FF-47F7-BE17-7273904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21D2C-6BA0-4428-980B-90AD7191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1ABB-EDB3-4301-990A-7BCF232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052E6-A64F-4477-8E9B-0B445CE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00522-B57F-4065-B9CE-347071FB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F1CC-1015-46F7-9EFB-5C1493B1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FF936-A64C-40D1-A641-B14A799E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9F84F-BE77-4277-AD07-2E688DD9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0A1-CEFE-4023-A87D-60A2DAA6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A463-4B1D-43E8-932F-5984C6C0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BE776-6259-4DF1-8765-30C0620A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C04D-B64A-4A96-AE79-2F2424A8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EBC59-52C5-4CEA-89D2-92E97D5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E7961-34E1-4E59-AD64-F49ED6CF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8293-607A-4D2E-96E8-391125F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93722-B914-4610-8741-7D4A657C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348D-163D-476A-A860-7B150E1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82A46-5DF6-4534-A826-C75AEDF2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F218-CCD4-4D35-85D4-5888B71C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C1A-31E3-4E8C-AB40-D10530D1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106C-0810-4EBE-B590-F0F59641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4CB9-5CC1-4535-B80A-23AF8ACD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AE729-A9C9-425C-9D28-49CA9ECE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F31EA-34C5-43BA-B526-88AB98C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99516-BE35-4F20-85B2-8F4F1D1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EC4B0-AA83-4554-9FCC-71C1731F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54833-5BD3-4D14-885F-A5B389CA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FEC38-F71E-46BF-BC42-1F2E159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F8DFD-06BD-4CA6-B193-71B78209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24F2-880B-4E66-A5ED-8CEE83D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4183-BE8E-4BBA-84A2-8060B99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BA2AB-B9F3-4D5F-A483-2A4414B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D618E-9FB2-4923-9D1A-033A650E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E7D9B-208B-4C4A-A816-C5478FD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AA11-98E8-42C0-A1C8-21FEF12F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EDFF4-3C92-470C-860E-33BAD1AE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D127-AA64-47F2-93E9-B0879C9E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4E120-46F4-4DF9-83BE-39726820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9AFD6-5A08-49FB-B372-DC3989D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804B-F54D-446C-B22B-17DD6D61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D8EB5-3DC2-4AA5-A36D-76774D0C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36C3-9BBD-4BD2-93CE-272790F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8F4F-F20A-4284-A004-578792E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14C2B-2B5C-4F82-A696-3952F226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8A2EB-D1A9-485A-BD96-E1384B79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6A54A-4C13-4AD9-B925-440E9EB2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06EB1-4E8C-467B-BC04-3BD7A39B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650D-7011-4ACD-8838-F6FAE0A8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36064-7F45-4082-A074-4FACC0D9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DC4E-AFED-4C79-9C73-8A664A3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A956-7787-4CCC-8F1F-7A12DA3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6E70-3935-4A11-82D7-EBFD33E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E8D-C47D-4A77-9218-08BE695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D449C-A27F-486D-8244-F3BFC00D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58F1-D044-4B6F-8E0A-44BCC5E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43C9C-810B-4F49-B1B0-B08C773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94D5-78CB-4C0B-B20C-7AF42E61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AA4F4-F034-469B-9EF9-35B1746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D69A9-F2FE-4727-B606-EDA32F10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63CED-2F1F-432E-BF31-1552A446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0FC34-7735-422E-B4D2-9C4A9211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C432F-2623-4CD5-A7D5-82EF558B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A352F-EE51-46BC-8C58-525BC7E7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C6AF5-6F5A-4D9C-BEFE-32515037DD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737AB-AB29-49F4-8B5D-F26A5BC42AC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C28A1-537B-43B5-B5D8-97667B7FF7F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D7AE0-D188-4117-B0FF-704E05B53A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E4009-9E5F-46AA-A0AF-B83E6E075F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492B5-9100-41D9-BBCA-A28D95594B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FEE2C-B06C-4F56-99A6-62B064862C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F65C8-399F-4BAE-962A-07E6169ED54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47147-08F7-46AD-92B8-3520C2D450B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51CD1-A76D-4F43-8AD2-114802A254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A156-597C-4681-B35A-BA8C982D47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6986B-B38B-41A4-86B4-6B6CA1E2F4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C1A7F-EC7D-40C3-A422-A680B53C47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9FC68-484F-49F7-8282-D7BE82E2F4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0311A-4A72-45DC-967D-4097E674E7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16CD2-4C4D-42F3-A48B-A0F3168E43B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6B7A2-9A3D-4919-B629-FBBB09700A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3E601-BE1D-4BCD-8587-67F9D8B1577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69623-2056-4F01-BDE5-23969F7073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9"/>
          <p:cNvSpPr/>
          <p:nvPr/>
        </p:nvSpPr>
        <p:spPr>
          <a:xfrm>
            <a:off x="1332000" y="1125360"/>
            <a:ext cx="6696000" cy="3383280"/>
          </a:xfrm>
          <a:prstGeom prst="rect">
            <a:avLst/>
          </a:prstGeom>
          <a:solidFill>
            <a:srgbClr val="c8dca4"/>
          </a:solidFill>
          <a:ln w="12600">
            <a:solidFill>
              <a:srgbClr val="c8dc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1619280" y="1557360"/>
            <a:ext cx="6265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b4a18"/>
                </a:solidFill>
                <a:latin typeface="Times New Roman Cyr"/>
              </a:rPr>
              <a:t>Швейная машин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От создани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до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 Cyr"/>
              </a:rPr>
              <a:t>использовани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Современные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ые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67" name="Group 15"/>
          <p:cNvGrpSpPr/>
          <p:nvPr/>
        </p:nvGrpSpPr>
        <p:grpSpPr>
          <a:xfrm>
            <a:off x="696240" y="1753560"/>
            <a:ext cx="7682760" cy="4770720"/>
            <a:chOff x="696240" y="1753560"/>
            <a:chExt cx="7682760" cy="4770720"/>
          </a:xfrm>
        </p:grpSpPr>
        <p:pic>
          <p:nvPicPr>
            <p:cNvPr id="1368" name="Picture 7" descr="P1010065"/>
            <p:cNvPicPr/>
            <p:nvPr/>
          </p:nvPicPr>
          <p:blipFill>
            <a:blip r:embed="rId1"/>
            <a:stretch/>
          </p:blipFill>
          <p:spPr>
            <a:xfrm rot="21373200">
              <a:off x="755640" y="2000160"/>
              <a:ext cx="2449440" cy="18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9" name="Picture 9" descr="Швейная машина Bernina Aktiva 125"/>
            <p:cNvPicPr/>
            <p:nvPr/>
          </p:nvPicPr>
          <p:blipFill>
            <a:blip r:embed="rId2"/>
            <a:stretch/>
          </p:blipFill>
          <p:spPr>
            <a:xfrm rot="235800">
              <a:off x="6227640" y="1822320"/>
              <a:ext cx="2081160" cy="21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0" name="Picture 10" descr="97-3_big"/>
            <p:cNvPicPr/>
            <p:nvPr/>
          </p:nvPicPr>
          <p:blipFill>
            <a:blip r:embed="rId3"/>
            <a:stretch/>
          </p:blipFill>
          <p:spPr>
            <a:xfrm>
              <a:off x="5867280" y="4605120"/>
              <a:ext cx="2449800" cy="19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1" name="Picture 11" descr="pfaff2028"/>
            <p:cNvPicPr/>
            <p:nvPr/>
          </p:nvPicPr>
          <p:blipFill>
            <a:blip r:embed="rId4"/>
            <a:stretch/>
          </p:blipFill>
          <p:spPr>
            <a:xfrm>
              <a:off x="3419640" y="2885760"/>
              <a:ext cx="2376360" cy="21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2" name="Picture 13" descr="542_b"/>
            <p:cNvPicPr/>
            <p:nvPr/>
          </p:nvPicPr>
          <p:blipFill>
            <a:blip r:embed="rId5"/>
            <a:stretch/>
          </p:blipFill>
          <p:spPr>
            <a:xfrm>
              <a:off x="755640" y="4487760"/>
              <a:ext cx="2376360" cy="195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Устройство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4" name="Rectangle 5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0000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75" name="Picture 4" descr=""/>
          <p:cNvPicPr/>
          <p:nvPr/>
        </p:nvPicPr>
        <p:blipFill>
          <a:blip r:embed="rId1"/>
          <a:srcRect l="2664" t="4788" r="6147" b="5061"/>
          <a:stretch/>
        </p:blipFill>
        <p:spPr>
          <a:xfrm>
            <a:off x="1332000" y="2104920"/>
            <a:ext cx="6408720" cy="4753080"/>
          </a:xfrm>
          <a:prstGeom prst="rect">
            <a:avLst/>
          </a:prstGeom>
          <a:ln w="0">
            <a:noFill/>
          </a:ln>
        </p:spPr>
      </p:pic>
      <p:sp>
        <p:nvSpPr>
          <p:cNvPr id="1376" name="AutoShape 7"/>
          <p:cNvSpPr/>
          <p:nvPr/>
        </p:nvSpPr>
        <p:spPr>
          <a:xfrm>
            <a:off x="7596360" y="1557360"/>
            <a:ext cx="154764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36717"/>
              <a:gd name="adj5" fmla="val 171611"/>
              <a:gd name="adj6" fmla="val -6974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Катушечный стержен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7" name="AutoShape 8"/>
          <p:cNvSpPr/>
          <p:nvPr/>
        </p:nvSpPr>
        <p:spPr>
          <a:xfrm>
            <a:off x="8028000" y="4005360"/>
            <a:ext cx="1116000" cy="503280"/>
          </a:xfrm>
          <a:prstGeom prst="borderCallout2">
            <a:avLst>
              <a:gd name="adj1" fmla="val 18750"/>
              <a:gd name="adj2" fmla="val -8333"/>
              <a:gd name="adj3" fmla="val 22712"/>
              <a:gd name="adj4" fmla="val -22476"/>
              <a:gd name="adj5" fmla="val -128708"/>
              <a:gd name="adj6" fmla="val -38689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Маховое колесо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8" name="AutoShape 9"/>
          <p:cNvSpPr/>
          <p:nvPr/>
        </p:nvSpPr>
        <p:spPr>
          <a:xfrm>
            <a:off x="7740720" y="5300640"/>
            <a:ext cx="1206360" cy="754200"/>
          </a:xfrm>
          <a:prstGeom prst="borderCallout2">
            <a:avLst>
              <a:gd name="adj1" fmla="val 18750"/>
              <a:gd name="adj2" fmla="val -8333"/>
              <a:gd name="adj3" fmla="val 15157"/>
              <a:gd name="adj4" fmla="val -47236"/>
              <a:gd name="adj5" fmla="val -66736"/>
              <a:gd name="adj6" fmla="val -89606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Кнопка обратного стеж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9" name="AutoShape 10"/>
          <p:cNvSpPr/>
          <p:nvPr/>
        </p:nvSpPr>
        <p:spPr>
          <a:xfrm>
            <a:off x="0" y="1628640"/>
            <a:ext cx="1835280" cy="50508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158305"/>
              <a:gd name="adj5" fmla="val 220125"/>
              <a:gd name="adj6" fmla="val 214703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Нитенаправител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0" name="AutoShape 11"/>
          <p:cNvSpPr/>
          <p:nvPr/>
        </p:nvSpPr>
        <p:spPr>
          <a:xfrm>
            <a:off x="611280" y="2349360"/>
            <a:ext cx="2089080" cy="432000"/>
          </a:xfrm>
          <a:prstGeom prst="borderCallout2">
            <a:avLst>
              <a:gd name="adj1" fmla="val 18750"/>
              <a:gd name="adj2" fmla="val -8333"/>
              <a:gd name="adj3" fmla="val 26472"/>
              <a:gd name="adj4" fmla="val 125532"/>
              <a:gd name="adj5" fmla="val 100000"/>
              <a:gd name="adj6" fmla="val 14825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Нитепритягиватель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1" name="AutoShape 12"/>
          <p:cNvSpPr/>
          <p:nvPr/>
        </p:nvSpPr>
        <p:spPr>
          <a:xfrm>
            <a:off x="7020000" y="5950080"/>
            <a:ext cx="1147680" cy="71892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-55324"/>
              <a:gd name="adj5" fmla="val -350550"/>
              <a:gd name="adj6" fmla="val -104009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длины стеж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2" name="AutoShape 13"/>
          <p:cNvSpPr/>
          <p:nvPr/>
        </p:nvSpPr>
        <p:spPr>
          <a:xfrm>
            <a:off x="250920" y="4653000"/>
            <a:ext cx="140328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208486"/>
              <a:gd name="adj5" fmla="val -151101"/>
              <a:gd name="adj6" fmla="val 315384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модельного узор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3" name="AutoShape 14"/>
          <p:cNvSpPr/>
          <p:nvPr/>
        </p:nvSpPr>
        <p:spPr>
          <a:xfrm>
            <a:off x="412920" y="3459240"/>
            <a:ext cx="1206360" cy="76176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193949"/>
              <a:gd name="adj5" fmla="val -32291"/>
              <a:gd name="adj6" fmla="val 28500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Регулятор натяжения нити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4" name="Oval 15"/>
          <p:cNvSpPr/>
          <p:nvPr/>
        </p:nvSpPr>
        <p:spPr>
          <a:xfrm>
            <a:off x="3203640" y="3933720"/>
            <a:ext cx="1655640" cy="1727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5" name="AutoShape 16"/>
          <p:cNvSpPr/>
          <p:nvPr/>
        </p:nvSpPr>
        <p:spPr>
          <a:xfrm>
            <a:off x="5008680" y="1730520"/>
            <a:ext cx="914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3787"/>
              <a:gd name="adj5" fmla="val 296152"/>
              <a:gd name="adj6" fmla="val -3993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Рукав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6" name="AutoShape 17"/>
          <p:cNvSpPr/>
          <p:nvPr/>
        </p:nvSpPr>
        <p:spPr>
          <a:xfrm>
            <a:off x="7812000" y="2738520"/>
            <a:ext cx="120672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5527"/>
              <a:gd name="adj5" fmla="val -96152"/>
              <a:gd name="adj6" fmla="val -6565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мотал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7" name="AutoShape 18"/>
          <p:cNvSpPr/>
          <p:nvPr/>
        </p:nvSpPr>
        <p:spPr>
          <a:xfrm>
            <a:off x="1763640" y="5157720"/>
            <a:ext cx="107964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71615"/>
              <a:gd name="adj5" fmla="val 297231"/>
              <a:gd name="adj6" fmla="val 23852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Шпулька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8" name="AutoShape 19"/>
          <p:cNvSpPr/>
          <p:nvPr/>
        </p:nvSpPr>
        <p:spPr>
          <a:xfrm>
            <a:off x="1979640" y="5950080"/>
            <a:ext cx="1792440" cy="718920"/>
          </a:xfrm>
          <a:prstGeom prst="borderCallout2">
            <a:avLst>
              <a:gd name="adj1" fmla="val 18750"/>
              <a:gd name="adj2" fmla="val -8333"/>
              <a:gd name="adj3" fmla="val 15893"/>
              <a:gd name="adj4" fmla="val 136935"/>
              <a:gd name="adj5" fmla="val 60046"/>
              <a:gd name="adj6" fmla="val 17112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 Cyr"/>
              </a:rPr>
              <a:t>Шпульный колпачок (челнок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Челночное устройство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0" name="Rectangle 5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00003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91" name="Picture 4" descr="Изображение 019"/>
          <p:cNvPicPr/>
          <p:nvPr/>
        </p:nvPicPr>
        <p:blipFill>
          <a:blip r:embed="rId1"/>
          <a:stretch/>
        </p:blipFill>
        <p:spPr>
          <a:xfrm>
            <a:off x="1332000" y="1725480"/>
            <a:ext cx="6840360" cy="5132520"/>
          </a:xfrm>
          <a:prstGeom prst="rect">
            <a:avLst/>
          </a:prstGeom>
          <a:ln w="0">
            <a:noFill/>
          </a:ln>
        </p:spPr>
      </p:pic>
      <p:sp>
        <p:nvSpPr>
          <p:cNvPr id="1392" name="AutoShape 6"/>
          <p:cNvSpPr/>
          <p:nvPr/>
        </p:nvSpPr>
        <p:spPr>
          <a:xfrm>
            <a:off x="179280" y="1989000"/>
            <a:ext cx="2016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136300"/>
              <a:gd name="adj5" fmla="val 295592"/>
              <a:gd name="adj6" fmla="val 17000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Нитенаправител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3" name="AutoShape 7"/>
          <p:cNvSpPr/>
          <p:nvPr/>
        </p:nvSpPr>
        <p:spPr>
          <a:xfrm>
            <a:off x="0" y="2852640"/>
            <a:ext cx="20509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8745"/>
              <a:gd name="adj5" fmla="val 177504"/>
              <a:gd name="adj6" fmla="val 215865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Нитенаправитель иглы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4" name="AutoShape 8"/>
          <p:cNvSpPr/>
          <p:nvPr/>
        </p:nvSpPr>
        <p:spPr>
          <a:xfrm>
            <a:off x="468360" y="6093000"/>
            <a:ext cx="9144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275694"/>
              <a:gd name="adj5" fmla="val -231717"/>
              <a:gd name="adj6" fmla="val 449652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 Cyr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5" name="AutoShape 9"/>
          <p:cNvSpPr/>
          <p:nvPr/>
        </p:nvSpPr>
        <p:spPr>
          <a:xfrm>
            <a:off x="6288120" y="6021360"/>
            <a:ext cx="16351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0680"/>
              <a:gd name="adj5" fmla="val -44791"/>
              <a:gd name="adj6" fmla="val -98444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Двигатель материал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6" name="AutoShape 10"/>
          <p:cNvSpPr/>
          <p:nvPr/>
        </p:nvSpPr>
        <p:spPr>
          <a:xfrm>
            <a:off x="7812000" y="4724280"/>
            <a:ext cx="914400" cy="433440"/>
          </a:xfrm>
          <a:prstGeom prst="borderCallout2">
            <a:avLst>
              <a:gd name="adj1" fmla="val 18750"/>
              <a:gd name="adj2" fmla="val -8333"/>
              <a:gd name="adj3" fmla="val 26375"/>
              <a:gd name="adj4" fmla="val -139583"/>
              <a:gd name="adj5" fmla="val -199634"/>
              <a:gd name="adj6" fmla="val -27587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Вин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7" name="AutoShape 11"/>
          <p:cNvSpPr/>
          <p:nvPr/>
        </p:nvSpPr>
        <p:spPr>
          <a:xfrm>
            <a:off x="7456320" y="2924280"/>
            <a:ext cx="1687680" cy="784080"/>
          </a:xfrm>
          <a:prstGeom prst="borderCallout2">
            <a:avLst>
              <a:gd name="adj1" fmla="val 18750"/>
              <a:gd name="adj2" fmla="val -8333"/>
              <a:gd name="adj3" fmla="val 14574"/>
              <a:gd name="adj4" fmla="val -19189"/>
              <a:gd name="adj5" fmla="val -146759"/>
              <a:gd name="adj6" fmla="val -34337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Подъемник прижимной лапк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8" name="AutoShape 13"/>
          <p:cNvSpPr/>
          <p:nvPr/>
        </p:nvSpPr>
        <p:spPr>
          <a:xfrm>
            <a:off x="250920" y="4149720"/>
            <a:ext cx="91440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274481"/>
              <a:gd name="adj5" fmla="val 153361"/>
              <a:gd name="adj6" fmla="val 447050"/>
            </a:avLst>
          </a:prstGeom>
          <a:solidFill>
            <a:srgbClr val="a53010"/>
          </a:solidFill>
          <a:ln w="28440">
            <a:solidFill>
              <a:srgbClr val="a53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 Cyr"/>
              </a:rPr>
              <a:t>Игл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900"/>
          <p:cNvSpPr/>
          <p:nvPr/>
        </p:nvSpPr>
        <p:spPr>
          <a:xfrm>
            <a:off x="684360" y="0"/>
            <a:ext cx="8135640" cy="98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00" name="Group 894"/>
          <p:cNvGrpSpPr/>
          <p:nvPr/>
        </p:nvGrpSpPr>
        <p:grpSpPr>
          <a:xfrm>
            <a:off x="684360" y="692280"/>
            <a:ext cx="8137440" cy="5473440"/>
            <a:chOff x="684360" y="692280"/>
            <a:chExt cx="8137440" cy="5473440"/>
          </a:xfrm>
        </p:grpSpPr>
        <p:pic>
          <p:nvPicPr>
            <p:cNvPr id="1401" name="Picture 892" descr=""/>
            <p:cNvPicPr/>
            <p:nvPr/>
          </p:nvPicPr>
          <p:blipFill>
            <a:blip r:embed="rId1"/>
            <a:stretch/>
          </p:blipFill>
          <p:spPr>
            <a:xfrm>
              <a:off x="684360" y="692280"/>
              <a:ext cx="7129440" cy="54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Picture 893" descr=""/>
            <p:cNvPicPr/>
            <p:nvPr/>
          </p:nvPicPr>
          <p:blipFill>
            <a:blip r:embed="rId2"/>
            <a:srcRect l="79784" t="19722" r="0" b="0"/>
            <a:stretch/>
          </p:blipFill>
          <p:spPr>
            <a:xfrm>
              <a:off x="7740720" y="692280"/>
              <a:ext cx="1081080" cy="546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115640" y="6165360"/>
            <a:ext cx="74883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Заправка</a:t>
            </a: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 верхней ни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04" name="Picture 886" descr=""/>
          <p:cNvPicPr/>
          <p:nvPr/>
        </p:nvPicPr>
        <p:blipFill>
          <a:blip r:embed="rId3"/>
          <a:stretch/>
        </p:blipFill>
        <p:spPr>
          <a:xfrm>
            <a:off x="7596360" y="0"/>
            <a:ext cx="958680" cy="1440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405" name="Freeform 890"/>
          <p:cNvSpPr/>
          <p:nvPr/>
        </p:nvSpPr>
        <p:spPr>
          <a:xfrm>
            <a:off x="3059280" y="549360"/>
            <a:ext cx="4537080" cy="100800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267" h="566">
                <a:moveTo>
                  <a:pt x="2267" y="0"/>
                </a:moveTo>
                <a:cubicBezTo>
                  <a:pt x="2127" y="70"/>
                  <a:pt x="1969" y="90"/>
                  <a:pt x="1819" y="128"/>
                </a:cubicBezTo>
                <a:cubicBezTo>
                  <a:pt x="1687" y="161"/>
                  <a:pt x="1560" y="215"/>
                  <a:pt x="1426" y="237"/>
                </a:cubicBezTo>
                <a:cubicBezTo>
                  <a:pt x="1235" y="301"/>
                  <a:pt x="1038" y="334"/>
                  <a:pt x="841" y="365"/>
                </a:cubicBezTo>
                <a:cubicBezTo>
                  <a:pt x="663" y="398"/>
                  <a:pt x="506" y="460"/>
                  <a:pt x="384" y="484"/>
                </a:cubicBezTo>
                <a:cubicBezTo>
                  <a:pt x="244" y="517"/>
                  <a:pt x="64" y="552"/>
                  <a:pt x="0" y="56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6" name="Freeform 891"/>
          <p:cNvSpPr/>
          <p:nvPr/>
        </p:nvSpPr>
        <p:spPr>
          <a:xfrm>
            <a:off x="2886120" y="1484280"/>
            <a:ext cx="103320" cy="3218040"/>
          </a:xfrm>
          <a:custGeom>
            <a:avLst/>
            <a:gdLst>
              <a:gd name="textAreaLeft" fmla="*/ 0 w 103320"/>
              <a:gd name="textAreaRight" fmla="*/ 103680 w 103320"/>
              <a:gd name="textAreaTop" fmla="*/ 0 h 3218040"/>
              <a:gd name="textAreaBottom" fmla="*/ 3218400 h 3218040"/>
            </a:gdLst>
            <a:ahLst/>
            <a:rect l="textAreaLeft" t="textAreaTop" r="textAreaRight" b="textAreaBottom"/>
            <a:pathLst>
              <a:path w="65" h="2027">
                <a:moveTo>
                  <a:pt x="49" y="0"/>
                </a:moveTo>
                <a:cubicBezTo>
                  <a:pt x="41" y="5"/>
                  <a:pt x="19" y="13"/>
                  <a:pt x="11" y="25"/>
                </a:cubicBezTo>
                <a:cubicBezTo>
                  <a:pt x="3" y="37"/>
                  <a:pt x="0" y="34"/>
                  <a:pt x="1" y="71"/>
                </a:cubicBezTo>
                <a:cubicBezTo>
                  <a:pt x="2" y="108"/>
                  <a:pt x="14" y="187"/>
                  <a:pt x="19" y="245"/>
                </a:cubicBezTo>
                <a:cubicBezTo>
                  <a:pt x="24" y="303"/>
                  <a:pt x="27" y="366"/>
                  <a:pt x="29" y="418"/>
                </a:cubicBezTo>
                <a:cubicBezTo>
                  <a:pt x="25" y="470"/>
                  <a:pt x="29" y="461"/>
                  <a:pt x="29" y="555"/>
                </a:cubicBezTo>
                <a:cubicBezTo>
                  <a:pt x="30" y="648"/>
                  <a:pt x="35" y="868"/>
                  <a:pt x="38" y="976"/>
                </a:cubicBezTo>
                <a:cubicBezTo>
                  <a:pt x="56" y="1140"/>
                  <a:pt x="44" y="1146"/>
                  <a:pt x="47" y="1204"/>
                </a:cubicBezTo>
                <a:cubicBezTo>
                  <a:pt x="50" y="1262"/>
                  <a:pt x="53" y="1254"/>
                  <a:pt x="56" y="1323"/>
                </a:cubicBezTo>
                <a:cubicBezTo>
                  <a:pt x="59" y="1392"/>
                  <a:pt x="65" y="1517"/>
                  <a:pt x="65" y="1616"/>
                </a:cubicBezTo>
                <a:cubicBezTo>
                  <a:pt x="63" y="1715"/>
                  <a:pt x="60" y="1850"/>
                  <a:pt x="56" y="1918"/>
                </a:cubicBezTo>
                <a:cubicBezTo>
                  <a:pt x="52" y="1986"/>
                  <a:pt x="42" y="2004"/>
                  <a:pt x="38" y="2027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7" name="Freeform 895"/>
          <p:cNvSpPr/>
          <p:nvPr/>
        </p:nvSpPr>
        <p:spPr>
          <a:xfrm>
            <a:off x="2484360" y="1592280"/>
            <a:ext cx="447840" cy="3151080"/>
          </a:xfrm>
          <a:custGeom>
            <a:avLst/>
            <a:gdLst>
              <a:gd name="textAreaLeft" fmla="*/ 0 w 447840"/>
              <a:gd name="textAreaRight" fmla="*/ 448200 w 447840"/>
              <a:gd name="textAreaTop" fmla="*/ 0 h 3151080"/>
              <a:gd name="textAreaBottom" fmla="*/ 3151440 h 3151080"/>
            </a:gdLst>
            <a:ahLst/>
            <a:rect l="textAreaLeft" t="textAreaTop" r="textAreaRight" b="textAreaBottom"/>
            <a:pathLst>
              <a:path w="282" h="1985">
                <a:moveTo>
                  <a:pt x="282" y="1950"/>
                </a:moveTo>
                <a:cubicBezTo>
                  <a:pt x="274" y="1952"/>
                  <a:pt x="275" y="1954"/>
                  <a:pt x="254" y="1959"/>
                </a:cubicBezTo>
                <a:cubicBezTo>
                  <a:pt x="233" y="1964"/>
                  <a:pt x="185" y="1985"/>
                  <a:pt x="155" y="1980"/>
                </a:cubicBezTo>
                <a:cubicBezTo>
                  <a:pt x="138" y="1963"/>
                  <a:pt x="87" y="1950"/>
                  <a:pt x="72" y="1932"/>
                </a:cubicBezTo>
                <a:cubicBezTo>
                  <a:pt x="57" y="1914"/>
                  <a:pt x="54" y="1834"/>
                  <a:pt x="44" y="1813"/>
                </a:cubicBezTo>
                <a:cubicBezTo>
                  <a:pt x="47" y="1749"/>
                  <a:pt x="29" y="1722"/>
                  <a:pt x="35" y="1658"/>
                </a:cubicBezTo>
                <a:cubicBezTo>
                  <a:pt x="30" y="1612"/>
                  <a:pt x="27" y="1689"/>
                  <a:pt x="26" y="1575"/>
                </a:cubicBezTo>
                <a:cubicBezTo>
                  <a:pt x="25" y="1461"/>
                  <a:pt x="25" y="1208"/>
                  <a:pt x="26" y="972"/>
                </a:cubicBezTo>
                <a:cubicBezTo>
                  <a:pt x="27" y="736"/>
                  <a:pt x="39" y="316"/>
                  <a:pt x="35" y="158"/>
                </a:cubicBezTo>
                <a:cubicBezTo>
                  <a:pt x="31" y="0"/>
                  <a:pt x="7" y="51"/>
                  <a:pt x="0" y="23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8" name="Freeform 896"/>
          <p:cNvSpPr/>
          <p:nvPr/>
        </p:nvSpPr>
        <p:spPr>
          <a:xfrm>
            <a:off x="2268360" y="1628640"/>
            <a:ext cx="125640" cy="3279960"/>
          </a:xfrm>
          <a:custGeom>
            <a:avLst/>
            <a:gdLst>
              <a:gd name="textAreaLeft" fmla="*/ 0 w 125640"/>
              <a:gd name="textAreaRight" fmla="*/ 125640 w 125640"/>
              <a:gd name="textAreaTop" fmla="*/ 0 h 3279960"/>
              <a:gd name="textAreaBottom" fmla="*/ 3280320 h 3279960"/>
            </a:gdLst>
            <a:ahLst/>
            <a:rect l="textAreaLeft" t="textAreaTop" r="textAreaRight" b="textAreaBottom"/>
            <a:pathLst>
              <a:path w="79" h="2066">
                <a:moveTo>
                  <a:pt x="50" y="0"/>
                </a:moveTo>
                <a:cubicBezTo>
                  <a:pt x="14" y="54"/>
                  <a:pt x="54" y="30"/>
                  <a:pt x="14" y="73"/>
                </a:cubicBezTo>
                <a:cubicBezTo>
                  <a:pt x="0" y="103"/>
                  <a:pt x="20" y="153"/>
                  <a:pt x="23" y="183"/>
                </a:cubicBezTo>
                <a:cubicBezTo>
                  <a:pt x="26" y="213"/>
                  <a:pt x="24" y="153"/>
                  <a:pt x="32" y="256"/>
                </a:cubicBezTo>
                <a:cubicBezTo>
                  <a:pt x="47" y="378"/>
                  <a:pt x="63" y="629"/>
                  <a:pt x="69" y="804"/>
                </a:cubicBezTo>
                <a:cubicBezTo>
                  <a:pt x="75" y="979"/>
                  <a:pt x="68" y="1194"/>
                  <a:pt x="69" y="1307"/>
                </a:cubicBezTo>
                <a:cubicBezTo>
                  <a:pt x="72" y="1418"/>
                  <a:pt x="77" y="1355"/>
                  <a:pt x="78" y="1481"/>
                </a:cubicBezTo>
                <a:cubicBezTo>
                  <a:pt x="79" y="1607"/>
                  <a:pt x="78" y="1944"/>
                  <a:pt x="78" y="2066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9" name="Freeform 897"/>
          <p:cNvSpPr/>
          <p:nvPr/>
        </p:nvSpPr>
        <p:spPr>
          <a:xfrm>
            <a:off x="2351160" y="4919760"/>
            <a:ext cx="65160" cy="465120"/>
          </a:xfrm>
          <a:custGeom>
            <a:avLst/>
            <a:gdLst>
              <a:gd name="textAreaLeft" fmla="*/ 0 w 65160"/>
              <a:gd name="textAreaRight" fmla="*/ 65520 w 651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41" h="293">
                <a:moveTo>
                  <a:pt x="37" y="0"/>
                </a:moveTo>
                <a:cubicBezTo>
                  <a:pt x="41" y="14"/>
                  <a:pt x="29" y="59"/>
                  <a:pt x="28" y="83"/>
                </a:cubicBezTo>
                <a:cubicBezTo>
                  <a:pt x="25" y="106"/>
                  <a:pt x="21" y="115"/>
                  <a:pt x="18" y="138"/>
                </a:cubicBezTo>
                <a:cubicBezTo>
                  <a:pt x="17" y="161"/>
                  <a:pt x="9" y="199"/>
                  <a:pt x="9" y="220"/>
                </a:cubicBezTo>
                <a:cubicBezTo>
                  <a:pt x="9" y="241"/>
                  <a:pt x="18" y="258"/>
                  <a:pt x="18" y="266"/>
                </a:cubicBezTo>
                <a:cubicBezTo>
                  <a:pt x="18" y="274"/>
                  <a:pt x="12" y="262"/>
                  <a:pt x="9" y="266"/>
                </a:cubicBezTo>
                <a:cubicBezTo>
                  <a:pt x="6" y="275"/>
                  <a:pt x="0" y="293"/>
                  <a:pt x="0" y="29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0" name="Freeform 898"/>
          <p:cNvSpPr/>
          <p:nvPr/>
        </p:nvSpPr>
        <p:spPr>
          <a:xfrm>
            <a:off x="2284560" y="5413320"/>
            <a:ext cx="139680" cy="498600"/>
          </a:xfrm>
          <a:custGeom>
            <a:avLst/>
            <a:gdLst>
              <a:gd name="textAreaLeft" fmla="*/ 0 w 139680"/>
              <a:gd name="textAreaRight" fmla="*/ 140040 w 13968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88" h="314">
                <a:moveTo>
                  <a:pt x="33" y="0"/>
                </a:moveTo>
                <a:cubicBezTo>
                  <a:pt x="22" y="46"/>
                  <a:pt x="40" y="85"/>
                  <a:pt x="24" y="128"/>
                </a:cubicBezTo>
                <a:cubicBezTo>
                  <a:pt x="26" y="147"/>
                  <a:pt x="0" y="269"/>
                  <a:pt x="33" y="302"/>
                </a:cubicBezTo>
                <a:cubicBezTo>
                  <a:pt x="45" y="314"/>
                  <a:pt x="74" y="311"/>
                  <a:pt x="88" y="3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1" name="Freeform 899"/>
          <p:cNvSpPr/>
          <p:nvPr/>
        </p:nvSpPr>
        <p:spPr>
          <a:xfrm>
            <a:off x="2462040" y="5676840"/>
            <a:ext cx="876600" cy="230400"/>
          </a:xfrm>
          <a:custGeom>
            <a:avLst/>
            <a:gdLst>
              <a:gd name="textAreaLeft" fmla="*/ 0 w 876600"/>
              <a:gd name="textAreaRight" fmla="*/ 876960 w 87660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552" h="145">
                <a:moveTo>
                  <a:pt x="12" y="145"/>
                </a:moveTo>
                <a:cubicBezTo>
                  <a:pt x="88" y="121"/>
                  <a:pt x="0" y="145"/>
                  <a:pt x="168" y="145"/>
                </a:cubicBezTo>
                <a:cubicBezTo>
                  <a:pt x="201" y="145"/>
                  <a:pt x="235" y="139"/>
                  <a:pt x="268" y="136"/>
                </a:cubicBezTo>
                <a:cubicBezTo>
                  <a:pt x="274" y="130"/>
                  <a:pt x="279" y="122"/>
                  <a:pt x="287" y="118"/>
                </a:cubicBezTo>
                <a:cubicBezTo>
                  <a:pt x="295" y="113"/>
                  <a:pt x="307" y="116"/>
                  <a:pt x="314" y="109"/>
                </a:cubicBezTo>
                <a:cubicBezTo>
                  <a:pt x="321" y="102"/>
                  <a:pt x="318" y="89"/>
                  <a:pt x="323" y="81"/>
                </a:cubicBezTo>
                <a:cubicBezTo>
                  <a:pt x="328" y="74"/>
                  <a:pt x="337" y="70"/>
                  <a:pt x="342" y="63"/>
                </a:cubicBezTo>
                <a:cubicBezTo>
                  <a:pt x="349" y="54"/>
                  <a:pt x="351" y="41"/>
                  <a:pt x="360" y="35"/>
                </a:cubicBezTo>
                <a:cubicBezTo>
                  <a:pt x="416" y="0"/>
                  <a:pt x="491" y="8"/>
                  <a:pt x="552" y="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2" name="Line 907"/>
          <p:cNvSpPr/>
          <p:nvPr/>
        </p:nvSpPr>
        <p:spPr>
          <a:xfrm>
            <a:off x="4284720" y="1052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3" name="Line 908"/>
          <p:cNvSpPr/>
          <p:nvPr/>
        </p:nvSpPr>
        <p:spPr>
          <a:xfrm flipV="1">
            <a:off x="2843280" y="169992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4" name="Line 909"/>
          <p:cNvSpPr/>
          <p:nvPr/>
        </p:nvSpPr>
        <p:spPr>
          <a:xfrm>
            <a:off x="2268360" y="2060640"/>
            <a:ext cx="71640" cy="27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5" name="Oval 912"/>
          <p:cNvSpPr/>
          <p:nvPr/>
        </p:nvSpPr>
        <p:spPr>
          <a:xfrm>
            <a:off x="2484360" y="333360"/>
            <a:ext cx="505080" cy="504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3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8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Заправка нижней ни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17" name="Picture 7" descr=" нижняя нить029"/>
          <p:cNvPicPr/>
          <p:nvPr/>
        </p:nvPicPr>
        <p:blipFill>
          <a:blip r:embed="rId1"/>
          <a:srcRect l="19426" t="41057" r="62974" b="46819"/>
          <a:stretch/>
        </p:blipFill>
        <p:spPr>
          <a:xfrm>
            <a:off x="2340000" y="2565360"/>
            <a:ext cx="201600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pic>
        <p:nvPicPr>
          <p:cNvPr id="1418" name="Picture 5" descr=" нижняя нить029"/>
          <p:cNvPicPr/>
          <p:nvPr/>
        </p:nvPicPr>
        <p:blipFill>
          <a:blip r:embed="rId2"/>
          <a:srcRect l="14808" t="13463" r="59254" b="70390"/>
          <a:stretch/>
        </p:blipFill>
        <p:spPr>
          <a:xfrm>
            <a:off x="179280" y="2565360"/>
            <a:ext cx="194472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pic>
        <p:nvPicPr>
          <p:cNvPr id="1419" name="Picture 8" descr=" нижняя нить029"/>
          <p:cNvPicPr/>
          <p:nvPr/>
        </p:nvPicPr>
        <p:blipFill>
          <a:blip r:embed="rId3"/>
          <a:srcRect l="18055" t="64628" r="59727" b="23245"/>
          <a:stretch/>
        </p:blipFill>
        <p:spPr>
          <a:xfrm>
            <a:off x="4643280" y="2565360"/>
            <a:ext cx="201636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  <p:sp>
        <p:nvSpPr>
          <p:cNvPr id="1420" name="Rectangle 10"/>
          <p:cNvSpPr/>
          <p:nvPr/>
        </p:nvSpPr>
        <p:spPr>
          <a:xfrm>
            <a:off x="179280" y="4581360"/>
            <a:ext cx="2051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ставьт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намотанную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ку 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ный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колпачо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1" name="Rectangle 11"/>
          <p:cNvSpPr/>
          <p:nvPr/>
        </p:nvSpPr>
        <p:spPr>
          <a:xfrm>
            <a:off x="2916360" y="4653000"/>
            <a:ext cx="23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Заправьте нитку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 прорезь под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пластинчатую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пружину, оставив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свободный конец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2" name="Rectangle 12"/>
          <p:cNvSpPr/>
          <p:nvPr/>
        </p:nvSpPr>
        <p:spPr>
          <a:xfrm>
            <a:off x="6156360" y="4508640"/>
            <a:ext cx="2808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Вставьте шпульный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колпачок в шпульное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устройство. Палец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шпульного колпачка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должен быть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 Cyr"/>
              </a:rPr>
              <a:t>направлен  вверх.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23" name="Picture 14" descr=" нижняя нить032"/>
          <p:cNvPicPr/>
          <p:nvPr/>
        </p:nvPicPr>
        <p:blipFill>
          <a:blip r:embed="rId4">
            <a:lum contrast="18000"/>
          </a:blip>
          <a:srcRect l="24632" t="53184" r="55558" b="36099"/>
          <a:stretch/>
        </p:blipFill>
        <p:spPr>
          <a:xfrm>
            <a:off x="6948360" y="2565360"/>
            <a:ext cx="1944720" cy="1727280"/>
          </a:xfrm>
          <a:prstGeom prst="rect">
            <a:avLst/>
          </a:prstGeom>
          <a:ln w="76320">
            <a:solidFill>
              <a:srgbClr val="de7e1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Проверь свои знания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425" name=""/>
          <p:cNvGraphicFramePr/>
          <p:nvPr/>
        </p:nvGraphicFramePr>
        <p:xfrm>
          <a:off x="826920" y="1989000"/>
          <a:ext cx="7558200" cy="4367520"/>
        </p:xfrm>
        <a:graphic>
          <a:graphicData uri="http://schemas.openxmlformats.org/drawingml/2006/table">
            <a:tbl>
              <a:tblPr/>
              <a:tblGrid>
                <a:gridCol w="1194120"/>
                <a:gridCol w="636408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сти нитку за крючок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Arial"/>
                          <a:ea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януть нитку вверх и продеть ее через рычаг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Times New Roman"/>
                        </a:rPr>
                        <a:t>притяги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авить катушку на стер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еть нитку в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Arial"/>
                          <a:ea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ель иглы. Вставить нитку в ушко иг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януть нитку вниз и продеть ее в нижний ните</a:t>
                      </a:r>
                      <a:r>
                        <a:rPr b="1" lang="ru-RU" sz="2400" spc="-1" strike="noStrike">
                          <a:solidFill>
                            <a:srgbClr val="fb4a18"/>
                          </a:solidFill>
                          <a:latin typeface="Times New Roman"/>
                        </a:rPr>
                        <a:t>напра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януть нитку вниз, в район натяжения, а затем вокруг держателя пруж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6" name="Text Box 59"/>
          <p:cNvSpPr/>
          <p:nvPr/>
        </p:nvSpPr>
        <p:spPr>
          <a:xfrm>
            <a:off x="826920" y="3357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7" name="Text Box 60"/>
          <p:cNvSpPr/>
          <p:nvPr/>
        </p:nvSpPr>
        <p:spPr>
          <a:xfrm>
            <a:off x="826920" y="20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8" name="Text Box 63"/>
          <p:cNvSpPr/>
          <p:nvPr/>
        </p:nvSpPr>
        <p:spPr>
          <a:xfrm>
            <a:off x="826920" y="256536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9" name="Text Box 64"/>
          <p:cNvSpPr/>
          <p:nvPr/>
        </p:nvSpPr>
        <p:spPr>
          <a:xfrm>
            <a:off x="826920" y="38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0" name="Text Box 65"/>
          <p:cNvSpPr/>
          <p:nvPr/>
        </p:nvSpPr>
        <p:spPr>
          <a:xfrm>
            <a:off x="826920" y="4724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1" name="Text Box 66"/>
          <p:cNvSpPr/>
          <p:nvPr/>
        </p:nvSpPr>
        <p:spPr>
          <a:xfrm>
            <a:off x="826920" y="558972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fb4a18"/>
                </a:solidFill>
                <a:latin typeface="Times New Roman Cyr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Правила посадки при работе на электрической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е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33" name="Picture 4" descr="швейная машина009"/>
          <p:cNvPicPr/>
          <p:nvPr/>
        </p:nvPicPr>
        <p:blipFill>
          <a:blip r:embed="rId1"/>
          <a:srcRect l="1509" t="9665" r="0" b="8498"/>
          <a:stretch/>
        </p:blipFill>
        <p:spPr>
          <a:xfrm>
            <a:off x="2340000" y="3141720"/>
            <a:ext cx="4653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1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755640" y="234900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fb4a18"/>
                </a:solidFill>
                <a:latin typeface="Georgia"/>
              </a:rPr>
              <a:t>Швейная машина</a:t>
            </a:r>
            <a:endParaRPr b="0" lang="en-US" sz="4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1332000" y="386064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От создания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до 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Comic Sans MS"/>
              </a:rPr>
              <a:t>использования</a:t>
            </a: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24" name="Group 24"/>
          <p:cNvGrpSpPr/>
          <p:nvPr/>
        </p:nvGrpSpPr>
        <p:grpSpPr>
          <a:xfrm>
            <a:off x="4859280" y="2060640"/>
            <a:ext cx="3738600" cy="3449160"/>
            <a:chOff x="4859280" y="2060640"/>
            <a:chExt cx="3738600" cy="3449160"/>
          </a:xfrm>
        </p:grpSpPr>
        <p:pic>
          <p:nvPicPr>
            <p:cNvPr id="1325" name="Picture 13" descr="C:\Documents and Settings\ОКСАНА\Мои документы\НАГЛЯДНАЯ ИСТОРИЯ ШВЕЙНОЙ МАШИНЫ.files\moda-2.jpg"/>
            <p:cNvPicPr/>
            <p:nvPr/>
          </p:nvPicPr>
          <p:blipFill>
            <a:blip r:embed="rId1"/>
            <a:stretch/>
          </p:blipFill>
          <p:spPr>
            <a:xfrm>
              <a:off x="4859280" y="2060640"/>
              <a:ext cx="373860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6" name="Text Box 20"/>
            <p:cNvSpPr/>
            <p:nvPr/>
          </p:nvSpPr>
          <p:spPr>
            <a:xfrm>
              <a:off x="5148360" y="4724280"/>
              <a:ext cx="3311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70 г. – 188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27" name="Group 23"/>
          <p:cNvGrpSpPr/>
          <p:nvPr/>
        </p:nvGrpSpPr>
        <p:grpSpPr>
          <a:xfrm>
            <a:off x="611280" y="1916280"/>
            <a:ext cx="3598920" cy="4098240"/>
            <a:chOff x="611280" y="1916280"/>
            <a:chExt cx="3598920" cy="4098240"/>
          </a:xfrm>
        </p:grpSpPr>
        <p:pic>
          <p:nvPicPr>
            <p:cNvPr id="1328" name="Picture 12" descr="C:\Documents and Settings\ОКСАНА\Мои документы\НАГЛЯДНАЯ ИСТОРИЯ ШВЕЙНОЙ МАШИНЫ.files\P1010034.jpg"/>
            <p:cNvPicPr/>
            <p:nvPr/>
          </p:nvPicPr>
          <p:blipFill>
            <a:blip r:embed="rId2"/>
            <a:stretch/>
          </p:blipFill>
          <p:spPr>
            <a:xfrm>
              <a:off x="611280" y="2995560"/>
              <a:ext cx="3598920" cy="30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Text Box 22"/>
            <p:cNvSpPr/>
            <p:nvPr/>
          </p:nvSpPr>
          <p:spPr>
            <a:xfrm>
              <a:off x="611280" y="1916280"/>
              <a:ext cx="2879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0 г. – 188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31" name="Group 24"/>
          <p:cNvGrpSpPr/>
          <p:nvPr/>
        </p:nvGrpSpPr>
        <p:grpSpPr>
          <a:xfrm>
            <a:off x="900000" y="2133720"/>
            <a:ext cx="3095640" cy="3890880"/>
            <a:chOff x="900000" y="2133720"/>
            <a:chExt cx="3095640" cy="3890880"/>
          </a:xfrm>
        </p:grpSpPr>
        <p:pic>
          <p:nvPicPr>
            <p:cNvPr id="1332" name="Picture 15" descr="P1010041"/>
            <p:cNvPicPr/>
            <p:nvPr/>
          </p:nvPicPr>
          <p:blipFill>
            <a:blip r:embed="rId1"/>
            <a:stretch/>
          </p:blipFill>
          <p:spPr>
            <a:xfrm>
              <a:off x="900000" y="3213000"/>
              <a:ext cx="3095640" cy="28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Text Box 21"/>
            <p:cNvSpPr/>
            <p:nvPr/>
          </p:nvSpPr>
          <p:spPr>
            <a:xfrm>
              <a:off x="971640" y="2133720"/>
              <a:ext cx="2881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, Нью-Йор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8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34" name="Group 25"/>
          <p:cNvGrpSpPr/>
          <p:nvPr/>
        </p:nvGrpSpPr>
        <p:grpSpPr>
          <a:xfrm>
            <a:off x="5219640" y="2133720"/>
            <a:ext cx="3240000" cy="3306240"/>
            <a:chOff x="5219640" y="2133720"/>
            <a:chExt cx="3240000" cy="3306240"/>
          </a:xfrm>
        </p:grpSpPr>
        <p:pic>
          <p:nvPicPr>
            <p:cNvPr id="1335" name="Picture 17" descr="moda-1"/>
            <p:cNvPicPr/>
            <p:nvPr/>
          </p:nvPicPr>
          <p:blipFill>
            <a:blip r:embed="rId2"/>
            <a:stretch/>
          </p:blipFill>
          <p:spPr>
            <a:xfrm>
              <a:off x="5219640" y="2133720"/>
              <a:ext cx="324000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6" name="Text Box 23"/>
            <p:cNvSpPr/>
            <p:nvPr/>
          </p:nvSpPr>
          <p:spPr>
            <a:xfrm>
              <a:off x="5435640" y="479736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, Нью-Йор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65 г. - 1875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38" name="Group 12"/>
          <p:cNvGrpSpPr/>
          <p:nvPr/>
        </p:nvGrpSpPr>
        <p:grpSpPr>
          <a:xfrm>
            <a:off x="826920" y="2060640"/>
            <a:ext cx="3529080" cy="3379320"/>
            <a:chOff x="826920" y="2060640"/>
            <a:chExt cx="3529080" cy="3379320"/>
          </a:xfrm>
        </p:grpSpPr>
        <p:pic>
          <p:nvPicPr>
            <p:cNvPr id="1339" name="Picture 5" descr="moda-3"/>
            <p:cNvPicPr/>
            <p:nvPr/>
          </p:nvPicPr>
          <p:blipFill>
            <a:blip r:embed="rId1"/>
            <a:stretch/>
          </p:blipFill>
          <p:spPr>
            <a:xfrm>
              <a:off x="826920" y="2060640"/>
              <a:ext cx="352908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0" name="Text Box 10"/>
            <p:cNvSpPr/>
            <p:nvPr/>
          </p:nvSpPr>
          <p:spPr>
            <a:xfrm>
              <a:off x="826920" y="4797360"/>
              <a:ext cx="34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94 г. – 1896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41" name="Group 13"/>
          <p:cNvGrpSpPr/>
          <p:nvPr/>
        </p:nvGrpSpPr>
        <p:grpSpPr>
          <a:xfrm>
            <a:off x="5219640" y="2276640"/>
            <a:ext cx="3343320" cy="3809880"/>
            <a:chOff x="5219640" y="2276640"/>
            <a:chExt cx="3343320" cy="3809880"/>
          </a:xfrm>
        </p:grpSpPr>
        <p:pic>
          <p:nvPicPr>
            <p:cNvPr id="1342" name="Picture 7" descr="P1010054"/>
            <p:cNvPicPr/>
            <p:nvPr/>
          </p:nvPicPr>
          <p:blipFill>
            <a:blip r:embed="rId2"/>
            <a:stretch/>
          </p:blipFill>
          <p:spPr>
            <a:xfrm>
              <a:off x="5219640" y="3645000"/>
              <a:ext cx="334332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Text Box 11"/>
            <p:cNvSpPr/>
            <p:nvPr/>
          </p:nvSpPr>
          <p:spPr>
            <a:xfrm>
              <a:off x="5580000" y="227664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0 г. – 191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45" name="Group 10"/>
          <p:cNvGrpSpPr/>
          <p:nvPr/>
        </p:nvGrpSpPr>
        <p:grpSpPr>
          <a:xfrm>
            <a:off x="826920" y="2060640"/>
            <a:ext cx="3530880" cy="3666600"/>
            <a:chOff x="826920" y="2060640"/>
            <a:chExt cx="3530880" cy="3666600"/>
          </a:xfrm>
        </p:grpSpPr>
        <p:pic>
          <p:nvPicPr>
            <p:cNvPr id="1346" name="Picture 5" descr="P1010069"/>
            <p:cNvPicPr/>
            <p:nvPr/>
          </p:nvPicPr>
          <p:blipFill>
            <a:blip r:embed="rId1"/>
            <a:stretch/>
          </p:blipFill>
          <p:spPr>
            <a:xfrm>
              <a:off x="900000" y="2060640"/>
              <a:ext cx="3457800" cy="26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7" name="Text Box 8"/>
            <p:cNvSpPr/>
            <p:nvPr/>
          </p:nvSpPr>
          <p:spPr>
            <a:xfrm>
              <a:off x="826920" y="5084640"/>
              <a:ext cx="34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0 г. – 191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ермания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48" name="Group 11"/>
          <p:cNvGrpSpPr/>
          <p:nvPr/>
        </p:nvGrpSpPr>
        <p:grpSpPr>
          <a:xfrm>
            <a:off x="5292720" y="2349360"/>
            <a:ext cx="3276720" cy="3234960"/>
            <a:chOff x="5292720" y="2349360"/>
            <a:chExt cx="3276720" cy="3234960"/>
          </a:xfrm>
        </p:grpSpPr>
        <p:pic>
          <p:nvPicPr>
            <p:cNvPr id="1349" name="Picture 7" descr="____"/>
            <p:cNvPicPr/>
            <p:nvPr/>
          </p:nvPicPr>
          <p:blipFill>
            <a:blip r:embed="rId2"/>
            <a:stretch/>
          </p:blipFill>
          <p:spPr>
            <a:xfrm>
              <a:off x="5292720" y="2349360"/>
              <a:ext cx="3276720" cy="22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Text Box 9"/>
            <p:cNvSpPr/>
            <p:nvPr/>
          </p:nvSpPr>
          <p:spPr>
            <a:xfrm>
              <a:off x="5292720" y="4941720"/>
              <a:ext cx="30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895 г. – 1905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США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52" name="Group 16"/>
          <p:cNvGrpSpPr/>
          <p:nvPr/>
        </p:nvGrpSpPr>
        <p:grpSpPr>
          <a:xfrm>
            <a:off x="971640" y="1989000"/>
            <a:ext cx="7377120" cy="4248000"/>
            <a:chOff x="971640" y="1989000"/>
            <a:chExt cx="7377120" cy="4248000"/>
          </a:xfrm>
        </p:grpSpPr>
        <p:grpSp>
          <p:nvGrpSpPr>
            <p:cNvPr id="1353" name="Group 13"/>
            <p:cNvGrpSpPr/>
            <p:nvPr/>
          </p:nvGrpSpPr>
          <p:grpSpPr>
            <a:xfrm>
              <a:off x="4859280" y="1989000"/>
              <a:ext cx="3489480" cy="4248000"/>
              <a:chOff x="4859280" y="1989000"/>
              <a:chExt cx="3489480" cy="4248000"/>
            </a:xfrm>
          </p:grpSpPr>
          <p:pic>
            <p:nvPicPr>
              <p:cNvPr id="1354" name="Picture 7" descr="P1010025"/>
              <p:cNvPicPr/>
              <p:nvPr/>
            </p:nvPicPr>
            <p:blipFill>
              <a:blip r:embed="rId1"/>
              <a:srcRect l="0" t="13748" r="0" b="0"/>
              <a:stretch/>
            </p:blipFill>
            <p:spPr>
              <a:xfrm>
                <a:off x="5302440" y="1989000"/>
                <a:ext cx="3046320" cy="38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5" name="AutoShape 10"/>
              <p:cNvSpPr/>
              <p:nvPr/>
            </p:nvSpPr>
            <p:spPr>
              <a:xfrm>
                <a:off x="4859280" y="5949720"/>
                <a:ext cx="433440" cy="287280"/>
              </a:xfrm>
              <a:prstGeom prst="rightArrow">
                <a:avLst>
                  <a:gd name="adj1" fmla="val 50000"/>
                  <a:gd name="adj2" fmla="val 37719"/>
                </a:avLst>
              </a:prstGeom>
              <a:solidFill>
                <a:srgbClr val="fb931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pic>
          <p:nvPicPr>
            <p:cNvPr id="1356" name="Picture 5" descr="P1010030"/>
            <p:cNvPicPr/>
            <p:nvPr/>
          </p:nvPicPr>
          <p:blipFill>
            <a:blip r:embed="rId2"/>
            <a:stretch/>
          </p:blipFill>
          <p:spPr>
            <a:xfrm>
              <a:off x="1042920" y="2060640"/>
              <a:ext cx="3168720" cy="25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7" name="Text Box 8"/>
            <p:cNvSpPr/>
            <p:nvPr/>
          </p:nvSpPr>
          <p:spPr>
            <a:xfrm>
              <a:off x="1258920" y="5445000"/>
              <a:ext cx="31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2 г. – 1917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Подольс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58" name="AutoShape 11"/>
            <p:cNvSpPr/>
            <p:nvPr/>
          </p:nvSpPr>
          <p:spPr>
            <a:xfrm>
              <a:off x="971640" y="4869000"/>
              <a:ext cx="287280" cy="504720"/>
            </a:xfrm>
            <a:prstGeom prst="upArrow">
              <a:avLst>
                <a:gd name="adj1" fmla="val 50000"/>
                <a:gd name="adj2" fmla="val 43922"/>
              </a:avLst>
            </a:prstGeom>
            <a:solidFill>
              <a:srgbClr val="fb931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629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История создания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швейной машин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pSp>
        <p:nvGrpSpPr>
          <p:cNvPr id="1360" name="Group 10"/>
          <p:cNvGrpSpPr/>
          <p:nvPr/>
        </p:nvGrpSpPr>
        <p:grpSpPr>
          <a:xfrm>
            <a:off x="2411280" y="2205000"/>
            <a:ext cx="4681800" cy="3379320"/>
            <a:chOff x="2411280" y="2205000"/>
            <a:chExt cx="4681800" cy="3379320"/>
          </a:xfrm>
        </p:grpSpPr>
        <p:pic>
          <p:nvPicPr>
            <p:cNvPr id="1361" name="Picture 5" descr="moda-6"/>
            <p:cNvPicPr/>
            <p:nvPr/>
          </p:nvPicPr>
          <p:blipFill>
            <a:blip r:embed="rId1"/>
            <a:srcRect l="0" t="37732" r="6536" b="0"/>
            <a:stretch/>
          </p:blipFill>
          <p:spPr>
            <a:xfrm>
              <a:off x="2484360" y="2205000"/>
              <a:ext cx="460872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Rectangle 9"/>
            <p:cNvSpPr/>
            <p:nvPr/>
          </p:nvSpPr>
          <p:spPr>
            <a:xfrm>
              <a:off x="2411280" y="49417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1905 г. – 1920 г.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1800" spc="-1" strike="noStrike">
                  <a:solidFill>
                    <a:srgbClr val="766f54"/>
                  </a:solidFill>
                  <a:latin typeface="Times New Roman Cyr"/>
                </a:rPr>
                <a:t>г.Подольск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21932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иды швейных машинок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685800" y="1285560"/>
            <a:ext cx="788688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 виду привода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. Ручные  б. Ножные  в. Электрически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65" name="Picture 9" descr="D:\УРОКИ по технологии\5 класс\машиноведение\hello_html_m5c858604.jpg"/>
          <p:cNvPicPr/>
          <p:nvPr/>
        </p:nvPicPr>
        <p:blipFill>
          <a:blip r:embed="rId1"/>
          <a:stretch/>
        </p:blipFill>
        <p:spPr>
          <a:xfrm>
            <a:off x="198360" y="2786040"/>
            <a:ext cx="8805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07:56:56Z</dcterms:created>
  <dc:creator>оксана</dc:creator>
  <dc:description/>
  <dc:language>en-US</dc:language>
  <cp:lastModifiedBy>Наталья Кутузова</cp:lastModifiedBy>
  <dcterms:modified xsi:type="dcterms:W3CDTF">2022-10-01T16:03:35Z</dcterms:modified>
  <cp:revision>28</cp:revision>
  <dc:subject/>
  <dc:title>Швейная машина</dc:title>
</cp:coreProperties>
</file>