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60E-9A7B-4488-B1DE-9D18E7A5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69B-E648-4727-B4F7-15CA6994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82D-A4A8-4632-8DE5-93CE8174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2DDB-D93C-4688-AF46-C19D52FE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2302-493F-4EA3-BD5C-4D16DE93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DD59-BE1D-4C9D-9B79-D83B026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6AE2-3C45-4611-9716-7126FA0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3AD7-E595-496A-9820-8CEFA427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80DB-3F39-403F-A2F6-71F545E5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0A74-A777-47A7-86C4-AB1F2D6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C4F2-3269-41FF-9D24-5EB668FB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4EE-1A3D-4FA9-A619-A57357D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D19F-E8CE-4DB0-937D-9C36F5D6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E7C7-1E95-4D96-BA99-5E960AF6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42A0-7921-4D3D-979E-402355B2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4CF6-962C-47C8-BB45-2EE0FC013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BA42-CDEF-4BDC-8157-1092B396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AE63-80EF-40C3-97E5-6EC308C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67DA-7D8E-4956-A473-B57C276B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3435-4BA4-4CA7-9CD1-A1129214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08FCA-09B3-4CC9-ACE0-FCED61E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36FB-7995-4B32-9AEE-109B35D1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E1D-BA07-4025-B56B-4F5D88B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B3920-F297-4091-B34F-0E9BC19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3E4B8-AA6F-42EB-8B8B-BFF0534F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F560-A87E-4BED-AA95-81C93D0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E187-A5B2-4D83-81B3-F0A115F9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F58DE-AD6F-45C1-905B-06EFA746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6AF4-4A39-468A-94B7-077FA24A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DB277-38CA-4AA9-A17A-EC83DCA3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E3A7-0788-4124-B323-FCA63927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05BFE-3E76-4FCF-8922-E3EDBFDB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046D-7073-4CE2-BE2C-39C8F46D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23B-279C-4AA5-983A-FC662B56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BA97-CF12-4A6D-87D2-01CD4616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CBA1-140E-4385-9E95-CAE161A9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C677B-9172-4855-8D4A-20874149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ED10-0DD6-4D33-A55C-052D0FD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47E8C-9276-44E6-B2E1-3B2B422F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EE58-CC20-4830-BC06-5B8F199C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0216C-D37C-475B-9A0E-9850D7E9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67F0-23B9-4490-8015-7C192108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0F9B5-76DF-40A2-8857-8C825E35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085F-43D9-48B0-BEA0-A2205767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973-B88E-4421-8EE2-DEA462D9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82812-5D01-44E9-A5BE-720B994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88DF5-34A8-43CF-8B82-726CE2F5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849E3-0E8D-4050-8FDD-B92A003F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1B7A-DF74-4E8D-8BC1-EA712C44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F020-AFB0-4526-8D78-27371206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3D295-84D2-40FF-8669-AB9BF4BD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78D3-1B29-4921-954D-2B3B7AF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E17D-F9C8-4A26-A665-AEEDB01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2DB09-6641-4D20-8428-DA2435F3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7F68-560B-4795-A156-2FAA82C6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76A-04C0-4FF1-88C7-A32508AA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8DB35-9B01-4D62-A7E4-11C2F14A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754-6137-4607-A0D7-51B0D48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2DD-E61C-490B-B48B-80FC1AFF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56C-11B0-45E8-A7DF-259BAE7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762-0135-438D-9A43-3B40E0C13097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5204-F3F4-41AB-AE49-0A7003724AB1}" type="slidenum">
              <a:rPr b="0" lang="ru-RU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5C1-68B7-4C86-8E3F-BFF6163D02D5}" type="slidenum">
              <a:rPr b="0" lang="ru-RU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65EF-7F1F-4BBF-837E-AF1230C26B1D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E90D-2E65-42F3-86FD-765399B8303E}" type="slidenum">
              <a:rPr b="0" lang="ru-RU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40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6800" spc="-1" strike="noStrike">
                <a:solidFill>
                  <a:srgbClr val="895e04"/>
                </a:solidFill>
                <a:latin typeface="Impact"/>
              </a:rPr>
              <a:t>АППЛИКАЦИЯ ИЗ ВАТНЫХ ШАРИКОВ  « ПУДЕЛЬ"</a:t>
            </a:r>
            <a:endParaRPr b="0" lang="en-US" sz="68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24000" y="3573000"/>
            <a:ext cx="8820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ЦЕЛЬ: ИЗГОТОВЛЕНИЕ ОБЪЁМНОЙ АППЛИКАЦИИ ИЗ ВАТНЫХ ШАРИКОВ.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ЗАДАЧИ: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• ОБУЧАТЬ ПРИЁМАМ И СПОСОБАМ СОЗДАНИЯ ПОДЕЛОК ИЗ РАЗЛИЧНЫХ МАТЕРИАЛОВ,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• РАЗВИВАТЬ МЕЛКУЮ МОТОРИКУ РУК, ТВОРЧЕСКИЕ СПОСОБНОСТИ ДЕТЕЙ</a:t>
            </a:r>
            <a:br>
              <a:rPr sz="1500"/>
            </a:br>
            <a:r>
              <a:rPr b="1" lang="ru-RU" sz="1500" spc="-1" strike="noStrike">
                <a:solidFill>
                  <a:srgbClr val="2a1a00"/>
                </a:solidFill>
                <a:latin typeface="Corbel"/>
              </a:rPr>
              <a:t>• ВОСПИТЫВАТЬ УСИДЧИВОСТЬ, АККУРАТНОСТЬ, ТРУДОЛЮБИЕ</a:t>
            </a:r>
            <a:endParaRPr b="0" lang="en-US" sz="15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://ped-kopilka.ru/upload/blogs/15324_5d31e608aa61dea5a3a7215d0f824710.jpg.jpg"/>
          <p:cNvPicPr/>
          <p:nvPr/>
        </p:nvPicPr>
        <p:blipFill>
          <a:blip r:embed="rId1"/>
          <a:stretch/>
        </p:blipFill>
        <p:spPr>
          <a:xfrm>
            <a:off x="1547640" y="404640"/>
            <a:ext cx="5972400" cy="447696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2"/>
          <p:cNvSpPr/>
          <p:nvPr/>
        </p:nvSpPr>
        <p:spPr>
          <a:xfrm>
            <a:off x="1692360" y="5013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формляем хвостик и часть сп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692360" y="5516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ыполняем «сапожк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http://ped-kopilka.ru/upload/blogs/15324_f960422feaf7a6927dc5c14d8d22e0cd.jpg.jpg"/>
          <p:cNvPicPr/>
          <p:nvPr/>
        </p:nvPicPr>
        <p:blipFill>
          <a:blip r:embed="rId1"/>
          <a:stretch/>
        </p:blipFill>
        <p:spPr>
          <a:xfrm>
            <a:off x="1258920" y="692280"/>
            <a:ext cx="6481800" cy="48574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1403280" y="5805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Отдельно покрываем шариками ушк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ped-kopilka.ru/upload/blogs/15324_1475040a60c33eaf2b549d9fa97f0f0a.jpg.jpg"/>
          <p:cNvPicPr/>
          <p:nvPr/>
        </p:nvPicPr>
        <p:blipFill>
          <a:blip r:embed="rId1"/>
          <a:stretch/>
        </p:blipFill>
        <p:spPr>
          <a:xfrm>
            <a:off x="1476360" y="549360"/>
            <a:ext cx="6243480" cy="4680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0" y="5589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Смазываем клеем верхнюю внутреннюю часть уха приклеиваем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http://ped-kopilka.ru/upload/blogs/15324_b0c3a974c3d71982587939b20a410cf8.jpg.jpg"/>
          <p:cNvPicPr/>
          <p:nvPr/>
        </p:nvPicPr>
        <p:blipFill>
          <a:blip r:embed="rId1"/>
          <a:stretch/>
        </p:blipFill>
        <p:spPr>
          <a:xfrm>
            <a:off x="971640" y="404640"/>
            <a:ext cx="7118280" cy="49942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611280" y="551664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картон приклеиваем пуделя и оформляем рам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Украшаем комнату портретом четвероного любим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826920" y="115920"/>
            <a:ext cx="4295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Дай, Джим, на счастье лапу мне,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Такую лапу не видал я сроду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Давай с тобой полаем при луне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Constantia"/>
              </a:rPr>
              <a:t>На тихую, бесшумную погоду...</a:t>
            </a: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С.Есенин. Собаке Кача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http://ped-kopilka.ru/upload/blogs/15324_9e6a9671a705c1c900b9cb87ff9486e0.jpg.jpg"/>
          <p:cNvPicPr/>
          <p:nvPr/>
        </p:nvPicPr>
        <p:blipFill>
          <a:blip r:embed="rId1"/>
          <a:stretch/>
        </p:blipFill>
        <p:spPr>
          <a:xfrm>
            <a:off x="5530680" y="115920"/>
            <a:ext cx="3275280" cy="2952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755640" y="1916280"/>
            <a:ext cx="53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животных человеку ближе всего собака.                         Так уж случилось, что на протяжении тысячелетий                  нас сопровождают верные четвероногие друзья,                   своей преданностью покоряя наши серд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 мире насчитывается около 150 млн представителей собачьего племени. Существует около 400 пород собак, но все они могут научить нас верности, честности, доброте и отв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755640" y="4292640"/>
            <a:ext cx="789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животных человеку ближе всего собака. Так уж случилось, что на протяжении тысячелетий нас сопровождают верные четвероногие друзья, своей преданностью покоряя наши сердц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йчас в мире насчитывается около 150 млн представителей собачьего племени. Существует около 400 пород собак, но все они могут научить нас верности, честности, доброте и отва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900000" y="549360"/>
            <a:ext cx="4354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ля работы нам потребуе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ва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карт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клей ПВ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марк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ножниц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• кис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http://ped-kopilka.ru/upload/blogs/15324_7d86cdd62e265367b97232158d3814b5.jpg.jpg"/>
          <p:cNvPicPr/>
          <p:nvPr/>
        </p:nvPicPr>
        <p:blipFill>
          <a:blip r:embed="rId1"/>
          <a:stretch/>
        </p:blipFill>
        <p:spPr>
          <a:xfrm>
            <a:off x="3141720" y="2349360"/>
            <a:ext cx="51354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ped-kopilka.ru/upload/blogs/15324_2b6bb6a4873f650ded52c79db636c15e.jpg.jpg"/>
          <p:cNvPicPr/>
          <p:nvPr/>
        </p:nvPicPr>
        <p:blipFill>
          <a:blip r:embed="rId1"/>
          <a:stretch/>
        </p:blipFill>
        <p:spPr>
          <a:xfrm>
            <a:off x="971640" y="365040"/>
            <a:ext cx="7200720" cy="55850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"/>
          <p:cNvSpPr/>
          <p:nvPr/>
        </p:nvSpPr>
        <p:spPr>
          <a:xfrm>
            <a:off x="755640" y="6093000"/>
            <a:ext cx="7632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з плотной бумаги вырезать силуэт пуделя и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http://ped-kopilka.ru/upload/blogs/15324_b304df1339a3a277f73353489b3950e4.jpg.jpg"/>
          <p:cNvPicPr/>
          <p:nvPr/>
        </p:nvPicPr>
        <p:blipFill>
          <a:blip r:embed="rId1"/>
          <a:stretch/>
        </p:blipFill>
        <p:spPr>
          <a:xfrm>
            <a:off x="1476360" y="189000"/>
            <a:ext cx="6338880" cy="4752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2"/>
          <p:cNvSpPr/>
          <p:nvPr/>
        </p:nvSpPr>
        <p:spPr>
          <a:xfrm>
            <a:off x="1258920" y="5157720"/>
            <a:ext cx="676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Взять небольшой кусочек в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. Скатать из ваты плотный шарик размером с горо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Формируем ватные ша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ped-kopilka.ru/upload/blogs/15324_8e29b02124029b532fd8d8db395209d8.jpg.jpg"/>
          <p:cNvPicPr/>
          <p:nvPr/>
        </p:nvPicPr>
        <p:blipFill>
          <a:blip r:embed="rId1"/>
          <a:stretch/>
        </p:blipFill>
        <p:spPr>
          <a:xfrm>
            <a:off x="1332000" y="404640"/>
            <a:ext cx="6724440" cy="5040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1403280" y="5661000"/>
            <a:ext cx="67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Смазываем верхнюю часть головы кле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http://ped-kopilka.ru/upload/blogs/15324_0af06f5d88b5823f8e6126db36065227.jpg.jpg"/>
          <p:cNvPicPr/>
          <p:nvPr/>
        </p:nvPicPr>
        <p:blipFill>
          <a:blip r:embed="rId1"/>
          <a:stretch/>
        </p:blipFill>
        <p:spPr>
          <a:xfrm>
            <a:off x="1403280" y="333360"/>
            <a:ext cx="5972400" cy="447660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2"/>
          <p:cNvSpPr/>
          <p:nvPr/>
        </p:nvSpPr>
        <p:spPr>
          <a:xfrm>
            <a:off x="1835280" y="515772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кладываем ша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http://ped-kopilka.ru/upload/blogs/15324_d1c195ad1290dfd7b37f57dc532d44cb.jpg.jpg"/>
          <p:cNvPicPr/>
          <p:nvPr/>
        </p:nvPicPr>
        <p:blipFill>
          <a:blip r:embed="rId1"/>
          <a:stretch/>
        </p:blipFill>
        <p:spPr>
          <a:xfrm>
            <a:off x="1476360" y="692280"/>
            <a:ext cx="5972040" cy="44766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2"/>
          <p:cNvSpPr/>
          <p:nvPr/>
        </p:nvSpPr>
        <p:spPr>
          <a:xfrm>
            <a:off x="1763640" y="5516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олова уже го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ped-kopilka.ru/upload/blogs/15324_5beb1d8ef86a21375f9e349e6ceda2f9.jpg.jpg"/>
          <p:cNvPicPr/>
          <p:nvPr/>
        </p:nvPicPr>
        <p:blipFill>
          <a:blip r:embed="rId1"/>
          <a:stretch/>
        </p:blipFill>
        <p:spPr>
          <a:xfrm>
            <a:off x="1403280" y="401760"/>
            <a:ext cx="6264360" cy="46958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2"/>
          <p:cNvSpPr/>
          <p:nvPr/>
        </p:nvSpPr>
        <p:spPr>
          <a:xfrm>
            <a:off x="1619280" y="53737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Заполняем шариками грудь пуд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09:02:24Z</dcterms:created>
  <dc:creator>Admin</dc:creator>
  <dc:description/>
  <dc:language>en-US</dc:language>
  <cp:lastModifiedBy>K P</cp:lastModifiedBy>
  <dcterms:modified xsi:type="dcterms:W3CDTF">2022-10-01T18:05:46Z</dcterms:modified>
  <cp:revision>16</cp:revision>
  <dc:subject/>
  <dc:title>Аппликация из ватных шариков "Отважный красавец"</dc:title>
</cp:coreProperties>
</file>