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515-025C-4DA3-A77B-3AFB878D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CFE-8CBD-4EDA-9695-41939F0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66B-F0DD-47A1-B5C8-9F5274AB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EDE-0F7E-4439-9342-680AA715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E570-7CAA-4984-A807-11190725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0A7B-A467-4A95-9B91-B25787B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2F8F-1F3D-401F-9254-55C1699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1F1-1595-4631-80DF-E7C0CD2E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1421-C7EC-4C57-A8B2-2F1F64F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56C-62CA-497A-B697-2CA2D21E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7FFB-71AF-4A21-A899-5159623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D65-46A9-4E96-9C35-CE4D242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EE1-DE93-4068-89F3-331577C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68D-A0E8-4B78-B498-DDC8C74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766-2886-4B31-B104-9C1B95AB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F65F-99FD-492E-B966-15832397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F8A-EC97-4C46-BD6D-1E03E37C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65C4-2D70-4D49-861C-6EEB826A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F5B3-AD52-4150-8B62-52F9850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DC66-EFED-4D40-8658-C451C9A0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63AD-12C1-40AB-BF85-835A7F3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A3E7-CECE-4456-9CA3-2EDB86F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98C-5BB7-4A42-8F07-9462914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0E02-748E-4C25-ABA8-05E9D13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C531-4713-4280-AA69-9BD6549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54EB-C8F3-46B3-A1F2-A20BEAC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F60E-BDDE-4EF7-A744-7A4B1DB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6F73-415B-4319-A1CB-AB4CCF60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FB99-1768-4652-9392-532060A4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23CE-D8FF-475D-A577-B392BBF6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43CB-E40D-42BE-BFFF-BADB6DE5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B9F9-09FE-48AC-B7BD-F4C2811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7F5C-C2C0-45C5-8432-D99F716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E70-E52B-47A0-94E6-637B6CE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FBE2-3720-4989-A42D-7387ABE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69FD-FCAB-4054-B9CF-68D27EA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F7BB-EF4A-4046-AF06-10BF891F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202A-91AB-4B2D-815B-07A925C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8DDB-2874-4FA5-A2AE-419408F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D7C6-602F-4C30-8330-23FB67E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160B-ADB1-4F62-999D-5EC7A1B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2993-9D51-4CDF-9CEC-679C4319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BF3E-7819-4BD1-920E-2357F7FB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09A8-03E6-4E37-8B37-FCC782F9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575-C034-4386-83F2-63D5B154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1393-0DC9-465E-8728-636549F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5962-CFDF-4282-9CF2-C4F6398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CC628-5393-45A3-B9F4-DD44A56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FA63-5110-4CF0-A744-55C5A7C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06B5E-2458-4C75-A4EB-053E075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2FE9-61CF-4C92-815D-4237DB2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AE65-C47A-4630-B18B-5A6AC1C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6718-4DB3-45DB-B457-95BDF86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05FE-AA56-4A66-9261-9AA1E95F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A55F-0F57-43B3-A183-AD38F3F3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C7F-979B-49DB-9D70-89C5BDE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E4AB0-0FE7-4DB8-825D-3F101CEC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ED6-B310-443F-8299-6F20F6F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1DB-B9CB-422C-AD4C-7E9B4CA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F22-D9D8-4BA5-8C3B-FADBAA3A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F677-AAA9-450E-910F-80162EFD70AC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CB5-55A6-48D0-9407-D7252A6733AF}" type="slidenum"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D1E-BB1D-427F-B66E-03352C70ACFB}" type="slidenum"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D3A-477E-463E-8B42-73B480FD1A1F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0044-9407-432F-84C5-8BF2CB59E66B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0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800" spc="-1" strike="noStrike">
                <a:solidFill>
                  <a:srgbClr val="895e04"/>
                </a:solidFill>
                <a:latin typeface="Impact"/>
              </a:rPr>
              <a:t>АППЛИКАЦИЯ ИЗ ВАТНЫХ ШАРИКОВ  « ПУДЕЛЬ"</a:t>
            </a:r>
            <a:endParaRPr b="0" lang="en-US" sz="6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24000" y="357300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ЦЕЛЬ: ИЗГОТОВЛЕНИЕ ОБЪЁМНОЙ АППЛИКАЦИИ ИЗ ВАТНЫХ ШАРИКОВ.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ЗАДАЧИ: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ОБУЧАТЬ ПРИЁМАМ И СПОСОБАМ СОЗДАНИЯ ПОДЕЛОК ИЗ РАЗЛИЧНЫХ МАТЕРИАЛОВ,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РАЗВИВАТЬ МЕЛКУЮ МОТОРИКУ РУК, ТВОРЧЕСКИЕ СПОСОБНОСТИ ДЕТЕЙ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ВОСПИТЫВАТЬ УСИДЧИВОСТЬ, АККУРАТНОСТЬ, ТРУДОЛЮБИЕ</a:t>
            </a: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ped-kopilka.ru/upload/blogs/15324_5d31e608aa61dea5a3a7215d0f824710.jpg.jpg"/>
          <p:cNvPicPr/>
          <p:nvPr/>
        </p:nvPicPr>
        <p:blipFill>
          <a:blip r:embed="rId1"/>
          <a:stretch/>
        </p:blipFill>
        <p:spPr>
          <a:xfrm>
            <a:off x="1547640" y="404640"/>
            <a:ext cx="5972400" cy="4476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1692360" y="5013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формляем хвостик и часть сп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692360" y="551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ыполняем «сапож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ped-kopilka.ru/upload/blogs/15324_f960422feaf7a6927dc5c14d8d22e0cd.jpg.jpg"/>
          <p:cNvPicPr/>
          <p:nvPr/>
        </p:nvPicPr>
        <p:blipFill>
          <a:blip r:embed="rId1"/>
          <a:stretch/>
        </p:blipFill>
        <p:spPr>
          <a:xfrm>
            <a:off x="1258920" y="692280"/>
            <a:ext cx="6481800" cy="48574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1403280" y="580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Отдельно покрываем шариками уш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ped-kopilka.ru/upload/blogs/15324_1475040a60c33eaf2b549d9fa97f0f0a.jpg.jpg"/>
          <p:cNvPicPr/>
          <p:nvPr/>
        </p:nvPicPr>
        <p:blipFill>
          <a:blip r:embed="rId1"/>
          <a:stretch/>
        </p:blipFill>
        <p:spPr>
          <a:xfrm>
            <a:off x="1476360" y="549360"/>
            <a:ext cx="6243480" cy="4680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0" y="558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мазываем клеем верхнюю внутреннюю часть уха приклеиваем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://ped-kopilka.ru/upload/blogs/15324_b0c3a974c3d71982587939b20a410cf8.jpg.jpg"/>
          <p:cNvPicPr/>
          <p:nvPr/>
        </p:nvPicPr>
        <p:blipFill>
          <a:blip r:embed="rId1"/>
          <a:stretch/>
        </p:blipFill>
        <p:spPr>
          <a:xfrm>
            <a:off x="971640" y="404640"/>
            <a:ext cx="7118280" cy="49942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611280" y="5516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картон приклеиваем пуделя и оформляем рам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Украшаем комнату портретом четвероного любим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826920" y="115920"/>
            <a:ext cx="429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ай, Джим, на счастье лапу мне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акую лапу не видал я сроду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авай с тобой полаем при лун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 тихую, бесшумную погоду...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С.Есенин. Собаке Кача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ped-kopilka.ru/upload/blogs/15324_9e6a9671a705c1c900b9cb87ff9486e0.jpg.jpg"/>
          <p:cNvPicPr/>
          <p:nvPr/>
        </p:nvPicPr>
        <p:blipFill>
          <a:blip r:embed="rId1"/>
          <a:stretch/>
        </p:blipFill>
        <p:spPr>
          <a:xfrm>
            <a:off x="5530680" y="115920"/>
            <a:ext cx="3275280" cy="2952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755640" y="1916280"/>
            <a:ext cx="53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животных человеку ближе всего собака.                         Так уж случилось, что на протяжении тысячелетий                  нас сопровождают верные четвероногие друзья,                   своей преданностью покоряя наш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 мире насчитывается около 150 млн представителей собачьего племени. Существует около 400 пород собак, но все они могут научить нас верности, честности, доброте и отв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55640" y="4292640"/>
            <a:ext cx="789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животных человеку ближе всего собака. Так уж случилось, что на протяжении тысячелетий нас сопровождают верные четвероногие друзья, своей преданностью покоряя наш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 мире насчитывается около 150 млн представителей собачьего племени. Существует около 400 пород собак, но все они могут научить нас верности, честности, доброте и отв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900000" y="549360"/>
            <a:ext cx="4354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ля работы нам потребуе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ва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арт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лей П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марк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ножниц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ис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http://ped-kopilka.ru/upload/blogs/15324_7d86cdd62e265367b97232158d3814b5.jpg.jpg"/>
          <p:cNvPicPr/>
          <p:nvPr/>
        </p:nvPicPr>
        <p:blipFill>
          <a:blip r:embed="rId1"/>
          <a:stretch/>
        </p:blipFill>
        <p:spPr>
          <a:xfrm>
            <a:off x="3141720" y="2349360"/>
            <a:ext cx="51354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ped-kopilka.ru/upload/blogs/15324_2b6bb6a4873f650ded52c79db636c15e.jpg.jpg"/>
          <p:cNvPicPr/>
          <p:nvPr/>
        </p:nvPicPr>
        <p:blipFill>
          <a:blip r:embed="rId1"/>
          <a:stretch/>
        </p:blipFill>
        <p:spPr>
          <a:xfrm>
            <a:off x="971640" y="365040"/>
            <a:ext cx="7200720" cy="55850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"/>
          <p:cNvSpPr/>
          <p:nvPr/>
        </p:nvSpPr>
        <p:spPr>
          <a:xfrm>
            <a:off x="755640" y="6093000"/>
            <a:ext cx="76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 плотной бумаги вырезать силуэт пуделя и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ped-kopilka.ru/upload/blogs/15324_b304df1339a3a277f73353489b3950e4.jpg.jpg"/>
          <p:cNvPicPr/>
          <p:nvPr/>
        </p:nvPicPr>
        <p:blipFill>
          <a:blip r:embed="rId1"/>
          <a:stretch/>
        </p:blipFill>
        <p:spPr>
          <a:xfrm>
            <a:off x="1476360" y="189000"/>
            <a:ext cx="6338880" cy="4752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2"/>
          <p:cNvSpPr/>
          <p:nvPr/>
        </p:nvSpPr>
        <p:spPr>
          <a:xfrm>
            <a:off x="1258920" y="5157720"/>
            <a:ext cx="676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зять небольшой кусочек в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Скатать из ваты плотный шарик размером с горо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Формируем ватные ша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ped-kopilka.ru/upload/blogs/15324_8e29b02124029b532fd8d8db395209d8.jpg.jpg"/>
          <p:cNvPicPr/>
          <p:nvPr/>
        </p:nvPicPr>
        <p:blipFill>
          <a:blip r:embed="rId1"/>
          <a:stretch/>
        </p:blipFill>
        <p:spPr>
          <a:xfrm>
            <a:off x="1332000" y="404640"/>
            <a:ext cx="6724440" cy="5040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1403280" y="5661000"/>
            <a:ext cx="67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Смазываем верхнюю часть головы кле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ped-kopilka.ru/upload/blogs/15324_0af06f5d88b5823f8e6126db36065227.jpg.jpg"/>
          <p:cNvPicPr/>
          <p:nvPr/>
        </p:nvPicPr>
        <p:blipFill>
          <a:blip r:embed="rId1"/>
          <a:stretch/>
        </p:blipFill>
        <p:spPr>
          <a:xfrm>
            <a:off x="1403280" y="333360"/>
            <a:ext cx="5972400" cy="44766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1835280" y="515772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кладываем ша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ped-kopilka.ru/upload/blogs/15324_d1c195ad1290dfd7b37f57dc532d44cb.jpg.jpg"/>
          <p:cNvPicPr/>
          <p:nvPr/>
        </p:nvPicPr>
        <p:blipFill>
          <a:blip r:embed="rId1"/>
          <a:stretch/>
        </p:blipFill>
        <p:spPr>
          <a:xfrm>
            <a:off x="1476360" y="692280"/>
            <a:ext cx="5972040" cy="44766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1763640" y="5516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олова уже го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ped-kopilka.ru/upload/blogs/15324_5beb1d8ef86a21375f9e349e6ceda2f9.jpg.jpg"/>
          <p:cNvPicPr/>
          <p:nvPr/>
        </p:nvPicPr>
        <p:blipFill>
          <a:blip r:embed="rId1"/>
          <a:stretch/>
        </p:blipFill>
        <p:spPr>
          <a:xfrm>
            <a:off x="1403280" y="401760"/>
            <a:ext cx="6264360" cy="46958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"/>
          <p:cNvSpPr/>
          <p:nvPr/>
        </p:nvSpPr>
        <p:spPr>
          <a:xfrm>
            <a:off x="1619280" y="53737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полняем шариками грудь пуд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09:02:24Z</dcterms:created>
  <dc:creator>Admin</dc:creator>
  <dc:description/>
  <dc:language>en-US</dc:language>
  <cp:lastModifiedBy>K P</cp:lastModifiedBy>
  <dcterms:modified xsi:type="dcterms:W3CDTF">2022-10-01T18:05:46Z</dcterms:modified>
  <cp:revision>16</cp:revision>
  <dc:subject/>
  <dc:title>Аппликация из ватных шариков "Отважный красавец"</dc:title>
</cp:coreProperties>
</file>