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7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D57-95EA-4BB7-803D-312D88D2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D49-CB8F-4681-9476-0559B2C3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682-E1F1-4B62-AB85-00CE301E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2B6-50B6-42AD-8945-03127DC3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B12-EE0E-4674-89F9-DE3D667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748-E66B-4E4E-813A-1E9C1329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F18-65A2-4812-8C5C-B33B0E37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671-BFC1-4135-8990-02FC505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662-7265-41C5-A498-45317ACB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892-0952-4E5B-9588-2947B5FA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55E-7955-4962-B7AC-DA259405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79A-7795-4961-BA7E-AC1ED9A0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2AAD-9B33-4834-B747-6F6A8DA2B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1125000"/>
            <a:ext cx="77770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000"/>
                </a:solidFill>
                <a:latin typeface="Times New Roman"/>
              </a:rPr>
              <a:t>МБОУ ООШ с Ишля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Урок русского языка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во 2  клас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92720" y="5013360"/>
            <a:ext cx="34545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Учитель начальных классов: Мухамадеева Т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5"/>
          <p:cNvSpPr/>
          <p:nvPr/>
        </p:nvSpPr>
        <p:spPr>
          <a:xfrm flipH="1">
            <a:off x="3203640" y="609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01 марта 2022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48000" y="2205000"/>
            <a:ext cx="5338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МЕСТЕ НЕ ТРУДН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МЕСТЕ НЕ ТЕСН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МЕСТЕ ЛЕГ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ГДА ИНТЕРЕС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C:\Users\ПК\Desktop\706551201d08a4a98ec96ae9948eca96.jpg"/>
          <p:cNvPicPr/>
          <p:nvPr/>
        </p:nvPicPr>
        <p:blipFill>
          <a:blip r:embed="rId1"/>
          <a:stretch/>
        </p:blipFill>
        <p:spPr>
          <a:xfrm>
            <a:off x="324000" y="2205000"/>
            <a:ext cx="3168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260280"/>
          <a:ext cx="8642160" cy="638028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2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c1c1d"/>
                          </a:solidFill>
                          <a:latin typeface="Times New Roman"/>
                        </a:rPr>
                        <a:t>горо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c1c1d"/>
                          </a:solidFill>
                          <a:latin typeface="Times New Roman"/>
                        </a:rPr>
                        <a:t>рек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c1c1d"/>
                          </a:solidFill>
                          <a:latin typeface="Times New Roman"/>
                        </a:rPr>
                        <a:t>стран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кт -Петербур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з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з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исей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гра «Плюс-мину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560" y="980640"/>
            <a:ext cx="88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на, фамилии, отчества людей пишутся с больш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вания животных пишутся с больш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чки животных пишутся с маленьк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на сказочных героев пишутся с больш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вания растений пишутся с больш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вания времён года пишутся с маленьк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Г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987640" y="558972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+ - - + - + 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50920" y="4869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Географические названия пишутся с большой бук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Users\ПК\Desktop\depositphotos_35787103-stock-illustration-cute-owl-cartoon-holding-blank.jpg"/>
          <p:cNvPicPr/>
          <p:nvPr/>
        </p:nvPicPr>
        <p:blipFill>
          <a:blip r:embed="rId1"/>
          <a:stretch/>
        </p:blipFill>
        <p:spPr>
          <a:xfrm>
            <a:off x="250920" y="476280"/>
            <a:ext cx="5473440" cy="5329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 rot="20570400">
            <a:off x="555120" y="1225080"/>
            <a:ext cx="28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60 упр.1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867280" y="83664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Домашне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5796000" y="3573360"/>
            <a:ext cx="33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АСИБО ЗА УРОК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C:\Users\ПК\Desktop\img0.jpg"/>
          <p:cNvPicPr/>
          <p:nvPr/>
        </p:nvPicPr>
        <p:blipFill>
          <a:blip r:embed="rId1"/>
          <a:srcRect l="0" t="10181" r="1075" b="5496"/>
          <a:stretch/>
        </p:blipFill>
        <p:spPr>
          <a:xfrm>
            <a:off x="39528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Содержимое 3" descr="C:\Users\ПК\Desktop\img2.jpg"/>
          <p:cNvPicPr/>
          <p:nvPr/>
        </p:nvPicPr>
        <p:blipFill>
          <a:blip r:embed="rId1"/>
          <a:srcRect l="0" t="0" r="809" b="38378"/>
          <a:stretch/>
        </p:blipFill>
        <p:spPr>
          <a:xfrm>
            <a:off x="468360" y="260280"/>
            <a:ext cx="417492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C:\Users\ПК\Desktop\hello_html_53c9576.png"/>
          <p:cNvPicPr/>
          <p:nvPr/>
        </p:nvPicPr>
        <p:blipFill>
          <a:blip r:embed="rId2"/>
          <a:srcRect l="1145" t="18535" r="45910" b="18023"/>
          <a:stretch/>
        </p:blipFill>
        <p:spPr>
          <a:xfrm>
            <a:off x="4572000" y="2708280"/>
            <a:ext cx="417672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http://uidru.cdutt.ru/new/wp-content/uploads/2013/01/ulica.jpg"/>
          <p:cNvPicPr/>
          <p:nvPr/>
        </p:nvPicPr>
        <p:blipFill>
          <a:blip r:embed="rId3"/>
          <a:stretch/>
        </p:blipFill>
        <p:spPr>
          <a:xfrm>
            <a:off x="468360" y="4581360"/>
            <a:ext cx="4174920" cy="180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116000" y="321300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4200"/>
                </a:solidFill>
                <a:latin typeface="Times New Roman"/>
              </a:rPr>
              <a:t>горо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292720" y="5084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2060"/>
                </a:solidFill>
                <a:latin typeface="Times New Roman"/>
              </a:rPr>
              <a:t>улиц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87280" y="765000"/>
            <a:ext cx="56991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22268"/>
                </a:solidFill>
                <a:latin typeface="Times New Roman"/>
              </a:rPr>
              <a:t>«Заглавная буква в географических названиях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:\Users\ПК\Desktop\hello_html_m3c9d93c6.jpg"/>
          <p:cNvPicPr/>
          <p:nvPr/>
        </p:nvPicPr>
        <p:blipFill>
          <a:blip r:embed="rId1"/>
          <a:stretch/>
        </p:blipFill>
        <p:spPr>
          <a:xfrm>
            <a:off x="468360" y="260280"/>
            <a:ext cx="25066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692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11280" y="16002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2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Читая книгу, я увидела, что слов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тихий»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написано с маленькой буквы, а потом встретила это же слово, написанное с большой буквы. Могло ли так бы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http://www.ceibal.edu.uy/contenidos/areas_conocimiento/mat/cazacuerpo/signo-interrogacion94.gif"/>
          <p:cNvPicPr/>
          <p:nvPr/>
        </p:nvPicPr>
        <p:blipFill>
          <a:blip r:embed="rId1"/>
          <a:stretch/>
        </p:blipFill>
        <p:spPr>
          <a:xfrm>
            <a:off x="468360" y="620640"/>
            <a:ext cx="18050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чёрное плать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http://www.publicdomainpictures.net/pictures/40000/nahled/black-dress-and-accessories.jpg"/>
          <p:cNvPicPr/>
          <p:nvPr/>
        </p:nvPicPr>
        <p:blipFill>
          <a:blip r:embed="rId1"/>
          <a:stretch/>
        </p:blipFill>
        <p:spPr>
          <a:xfrm>
            <a:off x="969840" y="1195560"/>
            <a:ext cx="2810160" cy="1949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lawofattraction.ru/_fr/2/6226207.jpg"/>
          <p:cNvPicPr/>
          <p:nvPr/>
        </p:nvPicPr>
        <p:blipFill>
          <a:blip r:embed="rId2"/>
          <a:stretch/>
        </p:blipFill>
        <p:spPr>
          <a:xfrm>
            <a:off x="5078520" y="1268280"/>
            <a:ext cx="3157560" cy="211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716360" y="54936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Чёрное мор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468360" y="324468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тица орёл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img.sunhome.ru/UsersGallery/022006/16110159.jpg"/>
          <p:cNvPicPr/>
          <p:nvPr/>
        </p:nvPicPr>
        <p:blipFill>
          <a:blip r:embed="rId3"/>
          <a:stretch/>
        </p:blipFill>
        <p:spPr>
          <a:xfrm>
            <a:off x="901800" y="4290840"/>
            <a:ext cx="2852640" cy="17449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4932360" y="335772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ород Орё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photo1.ask.fm/332/167/818/710003000-1qh3ikp-4i2p05is6aog3a0/original/20121708175852.jpg"/>
          <p:cNvPicPr/>
          <p:nvPr/>
        </p:nvPicPr>
        <p:blipFill>
          <a:blip r:embed="rId4"/>
          <a:stretch/>
        </p:blipFill>
        <p:spPr>
          <a:xfrm>
            <a:off x="5005440" y="4151160"/>
            <a:ext cx="35290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Users\ПК\Desktop\fizicheskaja-karta-rossii.jpg"/>
          <p:cNvPicPr/>
          <p:nvPr/>
        </p:nvPicPr>
        <p:blipFill>
          <a:blip r:embed="rId1"/>
          <a:stretch/>
        </p:blipFill>
        <p:spPr>
          <a:xfrm>
            <a:off x="46080" y="189000"/>
            <a:ext cx="9097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17986.globalmarket.com.ua/data/530381_1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ыбери и выполни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00040" y="1643040"/>
          <a:ext cx="8229600" cy="2955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Выпиши только имена соб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ыпиши «лишнее» слово в каждой строч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,с)трана (Р, р)оссия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, к)омпозито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Ч, ч)айковский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, р)ека (И, и)ртыш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а, Владимир , Вол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, Москва, Со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с, Африка, Сатур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TextBox 7"/>
          <p:cNvSpPr/>
          <p:nvPr/>
        </p:nvSpPr>
        <p:spPr>
          <a:xfrm>
            <a:off x="500040" y="45720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d9d9"/>
                </a:solidFill>
                <a:latin typeface="Times New Roman"/>
              </a:rPr>
              <a:t>К заданию 1 </a:t>
            </a:r>
            <a:r>
              <a:rPr b="0" lang="ru-RU" sz="2800" spc="-1" strike="noStrike">
                <a:solidFill>
                  <a:srgbClr val="d9d9d9"/>
                </a:solidFill>
                <a:latin typeface="Times New Roman"/>
              </a:rPr>
              <a:t>– Россия, Чайковский, Иртыш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 заданию 2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 Владимир, Франция, Африка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Саш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ванов живёт в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оскве на улиц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ира. Летом он с тётей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лей поедет на озер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Б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айкал, а затем – к бабушке в деревню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уб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1</cp:lastModifiedBy>
  <dcterms:modified xsi:type="dcterms:W3CDTF">2022-03-01T06:44:18Z</dcterms:modified>
  <cp:revision>59</cp:revision>
  <dc:subject/>
  <dc:title>Слайд 1</dc:title>
</cp:coreProperties>
</file>