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42.jpeg" ContentType="image/jpeg"/>
  <Override PartName="/ppt/media/image3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4.jpeg" ContentType="image/jpe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52C-A5CE-4527-B407-0FADDB17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5E8-3C50-4633-807D-26562636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CF1-8279-4699-93C7-DA7A73FC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4C1-640D-4A76-9745-3AD177B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926-E593-40DF-BBB0-626E6F91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D062-8213-4802-9FFD-9C3CAB6C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8B7F-3D46-4413-B3E0-B11A52C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F004-18D3-468E-86C0-8ECFC81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B26-6174-469C-8F0F-FD351BA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091B-7F48-408D-BAF4-AE049C8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7C3E-8D4A-4D95-8684-E9DD187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13C-5715-434C-B7F0-BF5F8C60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BBF9-F8A2-4244-BA0D-341D331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8D89-419C-401C-97D3-05B08BB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CC33-ACE7-4F97-AE0E-E2043A7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3A8-23A5-4371-AC6D-95B619B8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4860-1DC0-4473-86B6-D4D1131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ADE-BBA3-49E8-AAFA-5ACE629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FFD-4E78-49D5-999C-13F58A2D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4AA-4AEC-4A82-B5DB-7077AA2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E9E-D53C-4A13-A8DB-98D13FBF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0E3-286F-4A45-AB8D-E8EE724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D36-B28E-480A-8BD2-6C5BB09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D09-167A-4961-8F05-79D9C79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F92-EEF1-46F0-8292-7C10DBCFE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5997-E6D9-46F4-B5FD-F824F29622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yanskobl.ru/~pab/partisan/img/f194-1b.jpg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-bryansk.ru/bryansk/rem/28.gif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hyperlink" Target="http://www.tu-bryansk.ru/bryansk/rem/26.gif" TargetMode="Externa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-bryansk.ru/bryansk/rem/22.gif" TargetMode="External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5694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Book Antiqua"/>
              </a:rPr>
              <a:t>БРЯНЩИНА</a:t>
            </a:r>
            <a:r>
              <a:rPr b="1" lang="en-US" sz="6000" spc="-1" strike="noStrike">
                <a:solidFill>
                  <a:srgbClr val="ffcc00"/>
                </a:solidFill>
                <a:latin typeface="Book Antiqua"/>
              </a:rPr>
              <a:t> </a:t>
            </a:r>
            <a:br>
              <a:rPr sz="6000"/>
            </a:br>
            <a:r>
              <a:rPr b="1" lang="en-US" sz="7200" spc="-1" strike="noStrike">
                <a:solidFill>
                  <a:srgbClr val="ffcc00"/>
                </a:solidFill>
                <a:latin typeface="Book Antiqua"/>
              </a:rPr>
              <a:t>В ГОДЫ </a:t>
            </a:r>
            <a:br>
              <a:rPr sz="7200"/>
            </a:br>
            <a:r>
              <a:rPr b="1" lang="en-US" sz="7000" spc="-1" strike="noStrike">
                <a:solidFill>
                  <a:srgbClr val="ffcc00"/>
                </a:solidFill>
                <a:latin typeface="Book Antiqua"/>
              </a:rPr>
              <a:t>ВЕЛИКОЙ </a:t>
            </a:r>
            <a:r>
              <a:rPr b="1" lang="en-US" sz="6800" spc="-1" strike="noStrike">
                <a:solidFill>
                  <a:srgbClr val="ffcc00"/>
                </a:solidFill>
                <a:latin typeface="Book Antiqua"/>
              </a:rPr>
              <a:t>ОТЕЧЕСТВЕННОЙ ВОЙНЫ.</a:t>
            </a:r>
            <a:endParaRPr b="0" lang="en-US" sz="6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5830920" y="64911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: Гродненски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2637000"/>
            <a:ext cx="56516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родского отряда – Дука М.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435640" y="1916280"/>
            <a:ext cx="3389400" cy="4581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25010" t="0" r="25010" b="0"/>
          <a:stretch/>
        </p:blipFill>
        <p:spPr>
          <a:xfrm>
            <a:off x="0" y="880920"/>
            <a:ext cx="5435640" cy="597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Book Antiqua"/>
              </a:rPr>
              <a:t>26 июня фашисты впервые бомбили город БРЯНС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0" t="7021" r="0" b="11253"/>
          <a:stretch/>
        </p:blipFill>
        <p:spPr>
          <a:xfrm>
            <a:off x="5292720" y="4338720"/>
            <a:ext cx="3851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 Antiqua"/>
              </a:rPr>
              <a:t>ЭВАКУАЦИЯ НА ВОСТ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50920" y="1484280"/>
            <a:ext cx="889308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нщи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 Antiqua"/>
              </a:rPr>
              <a:t>октябрь 1941 – сентябрь 194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84360" y="2637000"/>
            <a:ext cx="4778280" cy="15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08 дне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8920" y="501336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шистской оккупаци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4224" r="0" b="42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429264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мирных жите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47640" y="1341360"/>
            <a:ext cx="5904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76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24092" t="0" r="24830" b="0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9280" y="1125000"/>
            <a:ext cx="396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Cooper Black"/>
              </a:rPr>
              <a:t>ТЫЛ - ФРОНТУ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0"/>
            </a:br>
            <a:br>
              <a:rPr sz="16000"/>
            </a:br>
            <a:r>
              <a:rPr b="1" lang="en-US" sz="16000" spc="-1" strike="noStrike">
                <a:solidFill>
                  <a:srgbClr val="e5ffff"/>
                </a:solidFill>
                <a:latin typeface="a_AlternaBrk"/>
              </a:rPr>
              <a:t>5000 детей</a:t>
            </a:r>
            <a:endParaRPr b="0" lang="en-US" sz="1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Cooper Black"/>
              </a:rPr>
              <a:t>ОТПРАВЛЕНО В ГЕРМАНИЮ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32000" y="1916280"/>
            <a:ext cx="6624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50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79640" y="5013360"/>
            <a:ext cx="53989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чело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РАССТРЕЛЯНО И УНИЧТОЖЕН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овраге у Лесных сараев -1214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овраге Верхний судок 2234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районе мясокомбината 7500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ыли сожжены деревни и села Хацунь(Карачевский р-н),Матреновка (Жуковский район),Салтановка(Навлинский район),Бересток,Светово и Борисово (Севский район) и 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ffff"/>
                </a:solidFill>
                <a:latin typeface="Tahoma"/>
              </a:rPr>
              <a:t>Партизанское движение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50021"/>
                </a:solidFill>
                <a:latin typeface="Tahoma"/>
              </a:rPr>
              <a:t>Создано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 партизанских края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 партизанские зоны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7 бригад и соедин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39 партизанских отрядов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0" b="62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Book Antiqua"/>
              </a:rPr>
              <a:t>17 сентября 1943 года город Брянск был освобожден</a:t>
            </a:r>
            <a:r>
              <a:rPr b="0" lang="en-US" sz="5000" spc="-1" strike="noStrike">
                <a:solidFill>
                  <a:srgbClr val="e70319"/>
                </a:solidFill>
                <a:latin typeface="Tahoma"/>
              </a:rPr>
              <a:t>.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10334" r="0" b="11278"/>
          <a:stretch/>
        </p:blipFill>
        <p:spPr>
          <a:xfrm>
            <a:off x="395280" y="1773360"/>
            <a:ext cx="838836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Так выглядел Брянск в сентябре 1943 г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0" t="2493" r="0" b="3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4134" r="0" b="4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6122" r="5862" b="6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  </a:t>
            </a: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1</a:t>
            </a: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92</a:t>
            </a: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наших земляка за подвиги в годы войны были удостоены высшего звания- Героя Советского Сою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8954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a50021"/>
                </a:solidFill>
                <a:latin typeface="Book Antiqua"/>
              </a:rPr>
              <a:t>Трое удостоены этого звания дважды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рагунски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.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озин П.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ловачёв А.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-6000"/>
          </a:blip>
          <a:srcRect l="0" t="0" r="77205" b="47246"/>
          <a:stretch/>
        </p:blipFill>
        <p:spPr>
          <a:xfrm>
            <a:off x="3059280" y="4076640"/>
            <a:ext cx="1968480" cy="2781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49900" t="0" r="27321" b="47173"/>
          <a:stretch/>
        </p:blipFill>
        <p:spPr>
          <a:xfrm>
            <a:off x="5003640" y="2276640"/>
            <a:ext cx="2087640" cy="2663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>
            <a:lum bright="-12000"/>
          </a:blip>
          <a:srcRect l="27097" t="0" r="51683" b="46636"/>
          <a:stretch/>
        </p:blipFill>
        <p:spPr>
          <a:xfrm>
            <a:off x="7199280" y="1052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76464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Book Antiqua"/>
              </a:rPr>
              <a:t>Свыше 30 наших земляков стали полными кавалерами </a:t>
            </a:r>
            <a:br>
              <a:rPr sz="5000"/>
            </a:br>
            <a:r>
              <a:rPr b="1" lang="en-US" sz="5000" spc="-1" strike="noStrike">
                <a:solidFill>
                  <a:srgbClr val="a50021"/>
                </a:solidFill>
                <a:latin typeface="Book Antiqua"/>
              </a:rPr>
              <a:t>ордена Славы.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63640" y="2668680"/>
            <a:ext cx="576108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фото памятни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5113440" cy="337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881080" cy="4103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64000" y="260280"/>
            <a:ext cx="5184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КТО НЕ ЗАБЫТ,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ЧТО НЕ ЗАБЫТО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00600" y="404640"/>
            <a:ext cx="4110120" cy="583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1864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8280" y="189000"/>
            <a:ext cx="4238640" cy="626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3835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4025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95640" y="2844720"/>
            <a:ext cx="514836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00"/>
                </a:solidFill>
                <a:latin typeface="Book Antiqua"/>
              </a:rPr>
              <a:t>БРОНЕПОЕЗД «ЗА РОДИНУ»</a:t>
            </a:r>
            <a:endParaRPr b="0" lang="en-US" sz="4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52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2320" cy="5157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фото памятни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268280"/>
            <a:ext cx="4572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фото памятни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286160" cy="494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067280" y="3659040"/>
            <a:ext cx="507672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4653000"/>
            <a:ext cx="9142920" cy="1294920"/>
            <a:chOff x="0" y="4653000"/>
            <a:chExt cx="9142920" cy="1294920"/>
          </a:xfrm>
        </p:grpSpPr>
        <p:grpSp>
          <p:nvGrpSpPr>
            <p:cNvPr id="180" name=""/>
            <p:cNvGrpSpPr/>
            <p:nvPr/>
          </p:nvGrpSpPr>
          <p:grpSpPr>
            <a:xfrm>
              <a:off x="0" y="4653000"/>
              <a:ext cx="4592520" cy="1294920"/>
              <a:chOff x="0" y="4653000"/>
              <a:chExt cx="4592520" cy="1294920"/>
            </a:xfrm>
          </p:grpSpPr>
          <p:pic>
            <p:nvPicPr>
              <p:cNvPr id="181" name="" descr=""/>
              <p:cNvPicPr/>
              <p:nvPr/>
            </p:nvPicPr>
            <p:blipFill>
              <a:blip r:embed="rId2"/>
              <a:srcRect l="30725" t="27746" r="27783" b="50022"/>
              <a:stretch/>
            </p:blipFill>
            <p:spPr>
              <a:xfrm>
                <a:off x="211896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3"/>
              <a:srcRect l="30725" t="27746" r="27783" b="50022"/>
              <a:stretch/>
            </p:blipFill>
            <p:spPr>
              <a:xfrm>
                <a:off x="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"/>
            <p:cNvGrpSpPr/>
            <p:nvPr/>
          </p:nvGrpSpPr>
          <p:grpSpPr>
            <a:xfrm>
              <a:off x="4550400" y="4653000"/>
              <a:ext cx="4592520" cy="1294920"/>
              <a:chOff x="4550400" y="4653000"/>
              <a:chExt cx="4592520" cy="1294920"/>
            </a:xfrm>
          </p:grpSpPr>
          <p:pic>
            <p:nvPicPr>
              <p:cNvPr id="184" name="" descr=""/>
              <p:cNvPicPr/>
              <p:nvPr/>
            </p:nvPicPr>
            <p:blipFill>
              <a:blip r:embed="rId4"/>
              <a:srcRect l="30725" t="27746" r="27783" b="50022"/>
              <a:stretch/>
            </p:blipFill>
            <p:spPr>
              <a:xfrm>
                <a:off x="666936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5"/>
              <a:srcRect l="30725" t="27746" r="27783" b="50022"/>
              <a:stretch/>
            </p:blipFill>
            <p:spPr>
              <a:xfrm>
                <a:off x="455040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2987640" y="836640"/>
            <a:ext cx="29671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2728800"/>
            <a:ext cx="39625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родского отряда - Кравцов Д.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bright="-6000"/>
          </a:blip>
          <a:srcRect l="0" t="1536" r="0" b="0"/>
          <a:stretch/>
        </p:blipFill>
        <p:spPr>
          <a:xfrm>
            <a:off x="5076720" y="1773360"/>
            <a:ext cx="3075120" cy="45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7720" y="2863800"/>
            <a:ext cx="457992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рянского районного отряда- Ромашин М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508720" y="2133720"/>
            <a:ext cx="3027240" cy="435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5689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-7776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ежицкого отряда - Виноградов А.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3570" t="2450" r="0" b="0"/>
          <a:stretch/>
        </p:blipFill>
        <p:spPr>
          <a:xfrm>
            <a:off x="5580000" y="1916280"/>
            <a:ext cx="3259080" cy="4392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6:46:25Z</dcterms:created>
  <dc:creator>Артем</dc:creator>
  <dc:description/>
  <dc:language>en-US</dc:language>
  <cp:lastModifiedBy>Артем</cp:lastModifiedBy>
  <dcterms:modified xsi:type="dcterms:W3CDTF">2002-05-09T17:02:24Z</dcterms:modified>
  <cp:revision>2</cp:revision>
  <dc:subject/>
  <dc:title>БРЯНЩИНА  В ГОДЫ  ВЕЛИКОЙ ОТЕЧЕСТВЕННОЙ ВОЙНЫ.</dc:title>
</cp:coreProperties>
</file>