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media/image32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6.png" ContentType="image/png"/>
  <Override PartName="/ppt/media/image11.png" ContentType="image/pn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4.jpeg" ContentType="image/jpe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464-EF36-4422-BD3A-4A65C6B0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496-675B-42B8-9360-34256833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ABF-4ED0-4177-95A7-B2FE4D1C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7BB4-E9B3-41F5-B489-763A51E8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F6C9-1686-4D60-B256-9DEE0F5F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0854-A7DD-4D0A-9598-A95C41AF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9A7A-4CD7-4409-BB84-F4168455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B1D9-09D9-4DBA-9F59-2B3B6242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B1BB-378F-4D8D-B556-83F2F8C9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111D-89CD-46FF-BE16-DE09D16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2758-1574-408A-9FF3-E78D7910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EAF-B233-4D62-AD58-1E27EA38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C7B8-CA6C-4C73-A265-168FDB0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0E80-74B1-45B6-8F48-0197F7C7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B27B-A7E4-437C-A1C2-DB7EB1D2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456B-749A-4B01-A6FE-ED4CEC6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B115-69E6-4638-B814-C3037876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471-36D3-4E1F-B767-9C473749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8BD-3D9B-4483-BE58-8FA40B1B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46C-1ACE-4BDF-BC3A-CBDE4336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C72-1A81-4C01-9B85-3282FB6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ACB-3D00-4298-B6DF-402048F8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0EA-CEB2-49DB-8D2F-038CB81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647-BE1D-438C-8533-50609C8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1CB3-6034-47AC-8A9E-0BD1173C0A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1D01-094C-4C74-84AC-BC3E12B3F6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yanskobl.ru/~pab/partisan/img/f194-1b.jpg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-bryansk.ru/bryansk/rem/28.gif" TargetMode="External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hyperlink" Target="http://www.tu-bryansk.ru/bryansk/rem/26.gif" TargetMode="Externa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u-bryansk.ru/bryansk/rem/22.gif" TargetMode="External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569440" cy="57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cc00"/>
                </a:solidFill>
                <a:latin typeface="Book Antiqua"/>
              </a:rPr>
              <a:t>БРЯНЩИНА</a:t>
            </a:r>
            <a:r>
              <a:rPr b="1" lang="en-US" sz="6000" spc="-1" strike="noStrike">
                <a:solidFill>
                  <a:srgbClr val="ffcc00"/>
                </a:solidFill>
                <a:latin typeface="Book Antiqua"/>
              </a:rPr>
              <a:t> </a:t>
            </a:r>
            <a:br>
              <a:rPr sz="6000"/>
            </a:br>
            <a:r>
              <a:rPr b="1" lang="en-US" sz="7200" spc="-1" strike="noStrike">
                <a:solidFill>
                  <a:srgbClr val="ffcc00"/>
                </a:solidFill>
                <a:latin typeface="Book Antiqua"/>
              </a:rPr>
              <a:t>В ГОДЫ </a:t>
            </a:r>
            <a:br>
              <a:rPr sz="7200"/>
            </a:br>
            <a:r>
              <a:rPr b="1" lang="en-US" sz="7000" spc="-1" strike="noStrike">
                <a:solidFill>
                  <a:srgbClr val="ffcc00"/>
                </a:solidFill>
                <a:latin typeface="Book Antiqua"/>
              </a:rPr>
              <a:t>ВЕЛИКОЙ </a:t>
            </a:r>
            <a:r>
              <a:rPr b="1" lang="en-US" sz="6800" spc="-1" strike="noStrike">
                <a:solidFill>
                  <a:srgbClr val="ffcc00"/>
                </a:solidFill>
                <a:latin typeface="Book Antiqua"/>
              </a:rPr>
              <a:t>ОТЕЧЕСТВЕННОЙ ВОЙНЫ.</a:t>
            </a:r>
            <a:endParaRPr b="0" lang="en-US" sz="6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5830920" y="64911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: Гродненски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2637000"/>
            <a:ext cx="56516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городского отряда – Дука М.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435640" y="1916280"/>
            <a:ext cx="3389400" cy="4581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25010" t="0" r="25010" b="0"/>
          <a:stretch/>
        </p:blipFill>
        <p:spPr>
          <a:xfrm>
            <a:off x="0" y="880920"/>
            <a:ext cx="5435640" cy="597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Book Antiqua"/>
              </a:rPr>
              <a:t>26 июня фашисты впервые бомбили город БРЯНС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rcRect l="0" t="7021" r="0" b="11253"/>
          <a:stretch/>
        </p:blipFill>
        <p:spPr>
          <a:xfrm>
            <a:off x="5292720" y="4338720"/>
            <a:ext cx="3851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 Antiqua"/>
              </a:rPr>
              <a:t>ЭВАКУАЦИЯ НА ВОСТ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250920" y="1484280"/>
            <a:ext cx="889308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женщи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Book Antiqua"/>
              </a:rPr>
              <a:t>октябрь 1941 – сентябрь 194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84360" y="2637000"/>
            <a:ext cx="4778280" cy="15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08 дне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8920" y="501336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шистской оккупации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0" t="4224" r="0" b="42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5280" y="4292640"/>
            <a:ext cx="8280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мирных ж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47640" y="1341360"/>
            <a:ext cx="5904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76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24092" t="0" r="24830" b="0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9280" y="1125000"/>
            <a:ext cx="3960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Cooper Black"/>
              </a:rPr>
              <a:t>ТЫЛ - ФРОНТУ</a:t>
            </a:r>
            <a:endParaRPr b="0" lang="en-US" sz="5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0"/>
            </a:br>
            <a:br>
              <a:rPr sz="16000"/>
            </a:br>
            <a:r>
              <a:rPr b="1" lang="en-US" sz="16000" spc="-1" strike="noStrike">
                <a:solidFill>
                  <a:srgbClr val="e5ffff"/>
                </a:solidFill>
                <a:latin typeface="a_AlternaBrk"/>
              </a:rPr>
              <a:t>5000 детей</a:t>
            </a:r>
            <a:endParaRPr b="0" lang="en-US" sz="1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Cooper Black"/>
              </a:rPr>
              <a:t>ОТПРАВЛЕНО В ГЕРМАНИЮ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32000" y="1916280"/>
            <a:ext cx="6624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50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79640" y="5013360"/>
            <a:ext cx="539892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чело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РАССТРЕЛЯНО И УНИЧТОЖЕНО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овраге у Лесных сараев -1214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овраге Верхний судок 2234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районе мясокомбината 7500 челове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Были сожжены деревни и села Хацунь(Карачевский р-н),Матреновка (Жуковский район),Салтановка(Навлинский район),Бересток,Светово и Борисово (Севский район) и 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ffff"/>
                </a:solidFill>
                <a:latin typeface="Tahoma"/>
              </a:rPr>
              <a:t>Партизанское движение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a50021"/>
                </a:solidFill>
                <a:latin typeface="Tahoma"/>
              </a:rPr>
              <a:t>Создано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 партизанских края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 партизанские зоны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100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27 бригад и соедине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39 партизанских отрядов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0" t="0" r="0" b="62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Book Antiqua"/>
              </a:rPr>
              <a:t>17 сентября 1943 года город Брянск был освобожден</a:t>
            </a:r>
            <a:r>
              <a:rPr b="0" lang="en-US" sz="5000" spc="-1" strike="noStrike">
                <a:solidFill>
                  <a:srgbClr val="e70319"/>
                </a:solidFill>
                <a:latin typeface="Tahoma"/>
              </a:rPr>
              <a:t>.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10334" r="0" b="11278"/>
          <a:stretch/>
        </p:blipFill>
        <p:spPr>
          <a:xfrm>
            <a:off x="395280" y="1773360"/>
            <a:ext cx="83883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" descr="Так выглядел Брянск в сентябре 1943 г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0" t="2493" r="0" b="32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0" t="4134" r="0" b="423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rcRect l="0" t="6122" r="5862" b="60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76500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  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1</a:t>
            </a: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92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en-US" sz="4400" spc="-1" strike="noStrike">
                <a:solidFill>
                  <a:srgbClr val="a50021"/>
                </a:solidFill>
                <a:latin typeface="Book Antiqua"/>
              </a:rPr>
              <a:t> </a:t>
            </a:r>
            <a:r>
              <a:rPr b="1" lang="ru-RU" sz="4400" spc="-1" strike="noStrike">
                <a:solidFill>
                  <a:srgbClr val="a50021"/>
                </a:solidFill>
                <a:latin typeface="Book Antiqua"/>
              </a:rPr>
              <a:t>наших земляка за подвиги в годы войны были удостоены высшего звания- Героя Советского Сою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289548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a50021"/>
                </a:solidFill>
                <a:latin typeface="Book Antiqua"/>
              </a:rPr>
              <a:t>Трое удостоены этого звания дважды</a:t>
            </a:r>
            <a:endParaRPr b="0" lang="en-US" sz="51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рагунский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.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мозин П.М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Головачёв А.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bright="-6000"/>
          </a:blip>
          <a:srcRect l="0" t="0" r="77205" b="47246"/>
          <a:stretch/>
        </p:blipFill>
        <p:spPr>
          <a:xfrm>
            <a:off x="3059280" y="4076640"/>
            <a:ext cx="1968480" cy="2781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49900" t="0" r="27321" b="47173"/>
          <a:stretch/>
        </p:blipFill>
        <p:spPr>
          <a:xfrm>
            <a:off x="5003640" y="2276640"/>
            <a:ext cx="2087640" cy="2663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>
            <a:lum bright="-12000"/>
          </a:blip>
          <a:srcRect l="27097" t="0" r="51683" b="46636"/>
          <a:stretch/>
        </p:blipFill>
        <p:spPr>
          <a:xfrm>
            <a:off x="7199280" y="1052640"/>
            <a:ext cx="19447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720" y="76464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50021"/>
                </a:solidFill>
                <a:latin typeface="Book Antiqua"/>
              </a:rPr>
              <a:t>Свыше 30 наших земляков стали полными кавалерами </a:t>
            </a:r>
            <a:br>
              <a:rPr sz="5000"/>
            </a:br>
            <a:r>
              <a:rPr b="1" lang="en-US" sz="5000" spc="-1" strike="noStrike">
                <a:solidFill>
                  <a:srgbClr val="a50021"/>
                </a:solidFill>
                <a:latin typeface="Book Antiqua"/>
              </a:rPr>
              <a:t>ордена Славы.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763640" y="2668680"/>
            <a:ext cx="576108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фото памятни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51280" y="3284640"/>
            <a:ext cx="5113440" cy="337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881080" cy="4103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564000" y="260280"/>
            <a:ext cx="5184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КТО НЕ ЗАБЫТ,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ИЧТО НЕ ЗАБЫТО!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404640"/>
            <a:ext cx="4110120" cy="583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41864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98280" y="189000"/>
            <a:ext cx="4238640" cy="626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219640" y="189000"/>
            <a:ext cx="38354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4025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95640" y="2844720"/>
            <a:ext cx="5148360" cy="40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00"/>
                </a:solidFill>
                <a:latin typeface="Book Antiqua"/>
              </a:rPr>
              <a:t>БРОНЕПОЕЗД «ЗА РОДИНУ»</a:t>
            </a:r>
            <a:endParaRPr b="0" lang="en-US" sz="4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52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32320" cy="5157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фото памятник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26828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фото памятник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286160" cy="4941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4067280" y="3659040"/>
            <a:ext cx="507672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4653000"/>
            <a:ext cx="9142920" cy="1294920"/>
            <a:chOff x="0" y="4653000"/>
            <a:chExt cx="9142920" cy="1294920"/>
          </a:xfrm>
        </p:grpSpPr>
        <p:grpSp>
          <p:nvGrpSpPr>
            <p:cNvPr id="180" name=""/>
            <p:cNvGrpSpPr/>
            <p:nvPr/>
          </p:nvGrpSpPr>
          <p:grpSpPr>
            <a:xfrm>
              <a:off x="0" y="4653000"/>
              <a:ext cx="4592520" cy="1294920"/>
              <a:chOff x="0" y="4653000"/>
              <a:chExt cx="4592520" cy="1294920"/>
            </a:xfrm>
          </p:grpSpPr>
          <p:pic>
            <p:nvPicPr>
              <p:cNvPr id="181" name="" descr=""/>
              <p:cNvPicPr/>
              <p:nvPr/>
            </p:nvPicPr>
            <p:blipFill>
              <a:blip r:embed="rId2"/>
              <a:srcRect l="30725" t="27746" r="27783" b="50022"/>
              <a:stretch/>
            </p:blipFill>
            <p:spPr>
              <a:xfrm>
                <a:off x="211896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3"/>
              <a:srcRect l="30725" t="27746" r="27783" b="50022"/>
              <a:stretch/>
            </p:blipFill>
            <p:spPr>
              <a:xfrm>
                <a:off x="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3" name=""/>
            <p:cNvGrpSpPr/>
            <p:nvPr/>
          </p:nvGrpSpPr>
          <p:grpSpPr>
            <a:xfrm>
              <a:off x="4550400" y="4653000"/>
              <a:ext cx="4592520" cy="1294920"/>
              <a:chOff x="4550400" y="4653000"/>
              <a:chExt cx="4592520" cy="1294920"/>
            </a:xfrm>
          </p:grpSpPr>
          <p:pic>
            <p:nvPicPr>
              <p:cNvPr id="184" name="" descr=""/>
              <p:cNvPicPr/>
              <p:nvPr/>
            </p:nvPicPr>
            <p:blipFill>
              <a:blip r:embed="rId4"/>
              <a:srcRect l="30725" t="27746" r="27783" b="50022"/>
              <a:stretch/>
            </p:blipFill>
            <p:spPr>
              <a:xfrm>
                <a:off x="666936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5"/>
              <a:srcRect l="30725" t="27746" r="27783" b="50022"/>
              <a:stretch/>
            </p:blipFill>
            <p:spPr>
              <a:xfrm>
                <a:off x="4550400" y="4653000"/>
                <a:ext cx="2473560" cy="129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2987640" y="836640"/>
            <a:ext cx="29671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2728800"/>
            <a:ext cx="396252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городского отряда - Кравцов Д.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>
            <a:lum bright="-6000"/>
          </a:blip>
          <a:srcRect l="0" t="1536" r="0" b="0"/>
          <a:stretch/>
        </p:blipFill>
        <p:spPr>
          <a:xfrm>
            <a:off x="5076720" y="1773360"/>
            <a:ext cx="3075120" cy="45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77720" y="2863800"/>
            <a:ext cx="457992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рянского районного отряда- Ромашин М.П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508720" y="2133720"/>
            <a:ext cx="3027240" cy="4357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2997000"/>
            <a:ext cx="5689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-77760">
              <a:spcBef>
                <a:spcPts val="1001"/>
              </a:spcBef>
              <a:buClr>
                <a:srgbClr val="a50021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Бежицкого отряда - Виноградов А.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3570" t="2450" r="0" b="0"/>
          <a:stretch/>
        </p:blipFill>
        <p:spPr>
          <a:xfrm>
            <a:off x="5580000" y="1916280"/>
            <a:ext cx="3259080" cy="43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Командиры </a:t>
            </a:r>
            <a:br>
              <a:rPr sz="6000"/>
            </a:br>
            <a:r>
              <a:rPr b="1" lang="en-US" sz="5000" spc="-1" strike="noStrike">
                <a:solidFill>
                  <a:srgbClr val="ffcc00"/>
                </a:solidFill>
                <a:latin typeface="Tahoma"/>
              </a:rPr>
              <a:t>партизанских отрядов: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6:46:25Z</dcterms:created>
  <dc:creator>Артем</dc:creator>
  <dc:description/>
  <dc:language>en-US</dc:language>
  <cp:lastModifiedBy>Артем</cp:lastModifiedBy>
  <dcterms:modified xsi:type="dcterms:W3CDTF">2002-05-09T17:02:24Z</dcterms:modified>
  <cp:revision>2</cp:revision>
  <dc:subject/>
  <dc:title>БРЯНЩИНА  В ГОДЫ  ВЕЛИКОЙ ОТЕЧЕСТВЕННОЙ ВОЙНЫ.</dc:title>
</cp:coreProperties>
</file>