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4018562-FEF7-4935-AB89-B00035587F29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549360"/>
            <a:ext cx="910908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Давайте беречь нашу Земл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920" y="5157720"/>
            <a:ext cx="69850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готовила: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доводиева Г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БОУ «СОШ №2» Д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619280" y="189000"/>
            <a:ext cx="741672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Есть просто храм, есть храм нау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 есть еще природы храм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 лесами, тянущими р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встречу солнцу и ветр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н свят в любое время сут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крыт для нас в жару и сты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ходи сюда, будь сердцем чут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е оскверняй ее святы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145960" y="189000"/>
            <a:ext cx="48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2087640" y="1268280"/>
            <a:ext cx="705636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Храм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- здание для богослужения,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Храм науки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– школа,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тынь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Сильный хо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вятынь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- предмет или место почитания, имеющие отношение к святости и освященный этой принадлеж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94200" y="176040"/>
            <a:ext cx="4949640" cy="6492960"/>
          </a:xfrm>
          <a:prstGeom prst="rect">
            <a:avLst/>
          </a:prstGeom>
          <a:ln w="0">
            <a:noFill/>
          </a:ln>
        </p:spPr>
      </p:pic>
      <p:pic>
        <p:nvPicPr>
          <p:cNvPr id="47" name="Влияние человека на окружающий мир. Знакомство с Красной книгой 1.mp4" descr=""/>
          <p:cNvPicPr/>
          <p:nvPr/>
        </p:nvPicPr>
        <p:blipFill>
          <a:blip r:embed="rId2"/>
          <a:stretch/>
        </p:blipFill>
        <p:spPr>
          <a:xfrm>
            <a:off x="179280" y="176040"/>
            <a:ext cx="35640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050160" cy="435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050920" y="4756320"/>
            <a:ext cx="60501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Юрий Антонов - Не рвите цветы_18-02-2017.mp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002320" y="189000"/>
            <a:ext cx="51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14440" y="1125360"/>
            <a:ext cx="62182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Alex</cp:lastModifiedBy>
  <dcterms:modified xsi:type="dcterms:W3CDTF">2019-06-21T01:02:53Z</dcterms:modified>
  <cp:revision>47</cp:revision>
  <dc:subject/>
  <dc:title>Hand Carrying Earth</dc:title>
</cp:coreProperties>
</file>