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7.wmf" ContentType="image/x-wmf"/>
  <Override PartName="/ppt/media/image13.jpeg" ContentType="image/jpeg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619-B0C0-49BC-840E-9F7FA337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16E2-CF0F-40C0-8A29-1C4D3C3B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F64-8101-4CEB-A991-B43D61DC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2D9B-F20F-4A3B-A1F8-0761B3F2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D4D-D667-48A2-9D32-5D898B5E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599D-D39B-4288-9D39-66B32D43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810-B315-4ABE-B84D-4DFEFB6E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DEB-4590-4609-B7E3-A73573BD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D5C-0288-47AB-8EB6-8FDEF3D1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017-20E8-4A26-AC89-B7329E32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E96-95E6-49D2-A0C8-E9C127EB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46A-1514-4C8B-87AE-4B9731FA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74BB-0B25-4CEB-BB39-1C72FCA132A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3C11-B6B7-42A7-ABD2-BF2E29936F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55964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стер- класс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Кластер» -в начальной школе.</a:t>
            </a:r>
            <a:br>
              <a:rPr sz="6000"/>
            </a:br>
            <a:br>
              <a:rPr sz="6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МКОУ «НОШ №1»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 п. Солнечный Красноярского кр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ещагина Ирина Фоке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327A-54DB-49A5-8225-11BEBB73D5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D688-142E-4DEF-A0FF-AE880C4CDD9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1AD1-8A3A-48C7-98F4-D604CF1584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4" descr=""/>
          <p:cNvPicPr/>
          <p:nvPr/>
        </p:nvPicPr>
        <p:blipFill>
          <a:blip r:embed="rId1"/>
          <a:stretch/>
        </p:blipFill>
        <p:spPr>
          <a:xfrm>
            <a:off x="0" y="100080"/>
            <a:ext cx="9036000" cy="62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C435-EE09-4888-927A-B4F5F284722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2509-59AE-43CE-9509-9E1C81D052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763640" y="189000"/>
            <a:ext cx="705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  <a:ea typeface="Calibri"/>
              </a:rPr>
              <a:t>Свою работу строю с позиции технологии деятельностного подхода, т.к. считаю, что только на организации самостоятельной деятельности обучающегося должен строиться учебно-воспитательный процесс в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5508720" y="4292640"/>
            <a:ext cx="365112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7585-0A16-4FA3-A902-D7259BDB24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35BF-933D-4702-9622-40C6A32367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1403280" y="1125360"/>
            <a:ext cx="7283520" cy="40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итайская мудрость глас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Я слышу – я забываю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вижу – я запоминаю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делаю – я усваиваю»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6CEB-604D-473C-AEDE-62E3B8795A2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F76D-3ED1-4D57-B42B-2BA37D05EE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76CD-CAC5-49C3-93ED-08FDE5E98E0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28F1-7656-495A-A01F-71F3081454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F7F5-7A36-4130-915E-53E5C997C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1692360" y="333360"/>
            <a:ext cx="74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Кластер» решает следующие педагогические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228600" y="1835280"/>
            <a:ext cx="88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ивизируется деятельность учащихся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тавить вопро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делить главн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делать сравн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станавливать причинно – следственные связи и делать умозаклю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идеть смысл в информации, понимать проблему в це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160C-5CD3-49F7-8C91-C726989C086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9C79-8CE4-450C-B084-9C13BBD27A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F5CA-B9EC-4F57-8366-6C1F6CB18D5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F0D0-2473-4C84-BA1C-0EEEE19B2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6493-93DA-4778-95CC-CBF305FC7FF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0A3F-9198-4B55-91B0-64007FBE9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59F2-7E17-407F-B55C-35B99CB2AD2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5E90-B016-4DE7-B7A6-E7E1B9DF52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DB89-337F-4189-806E-630DC647AA6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F2E0-1E17-4681-9C6D-C96E9819AD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1547640" y="476280"/>
            <a:ext cx="713916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ь учителей начальных классов с технологией развития критического мышления, показать приёмы работы по развитию критического мышления на уроках в начальной школ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 опыта работы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0AE8-7056-464F-9F38-CD07C5764FD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82E6-B299-4B45-8300-C25A0FBFE9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7616-34E9-43DB-9A3D-3544842A083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2218-B426-4750-87D5-24B9D2227E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8856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25E8-3603-437B-9140-36F26AF2762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BA77-0B1C-496A-AA7C-86146FE41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272F-9B31-4936-97C2-66A5F6B9A8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752400" y="476280"/>
            <a:ext cx="7920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232D-5097-43C0-8AE4-AAED7A63501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5EB9-118F-4AC5-A096-EF442E0F9F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2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5885-4F13-4EB5-8F78-BEAA25574E1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DCAA-997F-499C-AA81-468A03F9A7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1116000" y="549360"/>
            <a:ext cx="76327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туализировать и обобщить имеющиеся у участников знания по данному вопросу, стимулировать их интеллектуальный и творческий потенц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звать устойчивый интерес к рассматриваемой теме, побудить участников к активной работе на занят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EB13-47B1-45E5-A36C-370D83810A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C965-722E-4A73-A301-3894788AFB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539640" y="404640"/>
            <a:ext cx="842508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: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приёмов и стратегий технологии критического мышления дают возможность эффективно построить учебный процесс, повысить мотивацию обучающихся, активизировать мыслительную деятель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832D-B184-4E46-ADCD-556E42B7DB1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7FE7-2992-45CC-885E-2BC967442B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1476360" y="404640"/>
            <a:ext cx="7272360" cy="52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: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ги будут знать приемы критического мышл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осуществлять отбор наиболее приемлемых методов для формирования навыков критического мышления у обучающихся по предме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B2FB-9E57-4EB7-95E7-60ED2ED195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5413-FFED-4423-8F74-60BF91B35A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92DC-A1BD-46E0-85BC-A2FC5B3A7A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A03B-DB13-4EE3-8A31-5DE1E6D64C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5F80-C4EE-4264-B9C1-AF8D30F98F7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6FBD-4DC6-4268-91AE-4B5C078533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59D5-8C59-4854-A10E-F9A79F924D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937D-8032-46B1-A41F-8C136A17DF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5:47:31Z</dcterms:created>
  <dc:creator>Customer</dc:creator>
  <dc:description>http://aida.ucoz.ru</dc:description>
  <dc:language>en-US</dc:language>
  <cp:lastModifiedBy>Пользователь</cp:lastModifiedBy>
  <cp:lastPrinted>2019-04-24T03:16:51Z</cp:lastPrinted>
  <dcterms:modified xsi:type="dcterms:W3CDTF">2022-02-14T18:50:36Z</dcterms:modified>
  <cp:revision>164</cp:revision>
  <dc:subject/>
  <dc:title>Использование технологии критического мышления в начальной школе</dc:title>
</cp:coreProperties>
</file>