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7.wmf" ContentType="image/x-wmf"/>
  <Override PartName="/ppt/media/image13.jpeg" ContentType="image/jpeg"/>
  <Override PartName="/ppt/media/image16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1E6D-F1DC-4295-A9CD-C90C2402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C863-8402-413A-BE21-59C07EDD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6685-5137-4FE5-98DA-B86B41A9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FD54-7FB0-48C0-8725-94EE52C1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1F54-6181-449B-97EE-2DF54D4C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CCB5-EA1A-45B2-9C6A-448D3FD5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B03D-0A24-455E-B6A4-7E849361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65C7-2F14-4377-8A57-59F6978A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31D7-6DF6-44CD-A2B9-BDA91E03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5E5E-B5E0-4C8C-A741-7DC9DCD9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9713-5027-4E25-8380-699038A3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FB10-1848-4638-A9A2-A827D6DF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B0C6-7B8D-4A8F-8A02-B0D3AE5D602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D3F8-E035-4274-B085-4BBE4AB54F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7559640" cy="61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стер- класс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Кластер» -в начальной школе.</a:t>
            </a:r>
            <a:br>
              <a:rPr sz="6000"/>
            </a:br>
            <a:br>
              <a:rPr sz="6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МКОУ «НОШ №1»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О п. Солнечный Красноярского кра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ещагина Ирина Фоке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6A75-2B02-4C0B-ADA3-A5ED0F5025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AF15-4530-4593-A743-E4496F63DEC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6F44-47C9-41E3-9FA4-9091673978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4" descr=""/>
          <p:cNvPicPr/>
          <p:nvPr/>
        </p:nvPicPr>
        <p:blipFill>
          <a:blip r:embed="rId1"/>
          <a:stretch/>
        </p:blipFill>
        <p:spPr>
          <a:xfrm>
            <a:off x="0" y="100080"/>
            <a:ext cx="9036000" cy="62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9679-C747-4C04-8075-5E7166A8D5E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5D51-C11D-4651-8EF3-DFC620CE37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1763640" y="189000"/>
            <a:ext cx="705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  <a:ea typeface="Calibri"/>
              </a:rPr>
              <a:t>Свою работу строю с позиции технологии деятельностного подхода, т.к. считаю, что только на организации самостоятельной деятельности обучающегося должен строиться учебно-воспитательный процесс в шк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1"/>
          <a:stretch/>
        </p:blipFill>
        <p:spPr>
          <a:xfrm>
            <a:off x="5508720" y="4292640"/>
            <a:ext cx="365112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CCCD-3E36-47E2-ABD1-815FE335970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5D9B-6825-43CF-9BB9-0EEF7ECA1D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1403280" y="1125360"/>
            <a:ext cx="7283520" cy="40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итайская мудрость глас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Я слышу – я забываю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 вижу – я запоминаю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 делаю – я усваиваю».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F01C-E27B-4FDE-91F0-6FDE53AE2F9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BF3E-8C2C-4470-AAA1-635EBF3D71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861E-A643-4514-A3A2-2206A8EE012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05EA-C7FC-40F0-9AD5-FDEF790036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1CFB-82A5-4895-9A5B-84864B3C5C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1692360" y="333360"/>
            <a:ext cx="741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«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Кластер» решает следующие педагогические за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228600" y="1835280"/>
            <a:ext cx="885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ктивизируется деятельность учащихся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тавить вопро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ыделить главно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делать сравн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устанавливать причинно – следственные связи и делать умозаключ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идеть смысл в информации, понимать проблему в це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4B7E-A7A8-49D6-A6EC-64D119A80E7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5CA3-7176-4519-BFD8-B314037A1A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25E9-ACBA-4B4E-9263-571F7E73A22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7BF2-9952-4428-9E39-6C39029933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5599-703B-4D9A-92BA-AFF04FF175D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D518-CBC2-4E80-9287-4181301E6F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3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CD74-661B-448F-8D9E-2C8827AE142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72FD-3EE7-45C8-A1EE-3758786ABA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84EA-B876-458D-8320-089EBFB05F8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435C-AE81-4EFA-AE1B-7A2AB0E99A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1547640" y="476280"/>
            <a:ext cx="713916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ить учителей начальных классов с технологией развития критического мышления, показать приёмы работы по развитию критического мышления на уроках в начальной школ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з опыта работы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24FB-242C-4768-829D-A4450FC22A3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AF0E-F5C1-4B71-9E08-316F3F692C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3" descr=""/>
          <p:cNvPicPr/>
          <p:nvPr/>
        </p:nvPicPr>
        <p:blipFill>
          <a:blip r:embed="rId1"/>
          <a:stretch/>
        </p:blipFill>
        <p:spPr>
          <a:xfrm>
            <a:off x="-1523880" y="0"/>
            <a:ext cx="12191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E714-B439-4FDA-A83F-DE4A2ACFAAC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A509-BBC1-4A39-8868-1645616CA2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885672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31E4-5FAC-4FEE-BB22-8FED371257A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F47B-004D-45ED-86A2-E40854E537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60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21E8-3E6D-4682-9688-55BFE6C4C1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" descr=""/>
          <p:cNvPicPr/>
          <p:nvPr/>
        </p:nvPicPr>
        <p:blipFill>
          <a:blip r:embed="rId1"/>
          <a:stretch/>
        </p:blipFill>
        <p:spPr>
          <a:xfrm>
            <a:off x="752400" y="476280"/>
            <a:ext cx="792000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89C9-FE01-40D7-BFD6-2EFE38DC196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005B-718F-4BFD-81DD-F3E90CDDAE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2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F5B9-FCA2-4281-B7DC-17962948B2C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3E37-EA8D-4CB3-B7EE-7940B89429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1116000" y="549360"/>
            <a:ext cx="763272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ктуализировать и обобщить имеющиеся у участников знания по данному вопросу, стимулировать их интеллектуальный и творческий потенциа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звать устойчивый интерес к рассматриваемой теме, побудить участников к активной работе на занят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CEC7-8756-4D44-BBF7-041A6637B66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04D2-879C-41F0-9F20-B0A6EDEDEA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539640" y="404640"/>
            <a:ext cx="842508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значимость: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приёмов и стратегий технологии критического мышления дают возможность эффективно построить учебный процесс, повысить мотивацию обучающихся, активизировать мыслительную деятель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B642-EB92-4EFA-8F74-A0E48043E14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757C-F26E-4AFE-A15C-1E54E46841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1476360" y="404640"/>
            <a:ext cx="7272360" cy="52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е результаты: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ги будут знать приемы критического мышлен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осуществлять отбор наиболее приемлемых методов для формирования навыков критического мышления у обучающихся по предмет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D377-3D2D-4C15-8FFA-E01646BC55A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8B7C-1426-415C-B72C-1B5525AABD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E0ED-AB36-4B04-BC15-3BDA795AD34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24BF-EF14-4523-872B-96C77C9150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93E1-7D39-4403-B39D-595D7993A83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6065-8B8C-4A14-87B3-F726CA51CF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1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48D1-24D6-452A-9F91-628BA703E1B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3461-599E-4681-831E-206063E7E6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5:47:31Z</dcterms:created>
  <dc:creator>Customer</dc:creator>
  <dc:description>http://aida.ucoz.ru</dc:description>
  <dc:language>en-US</dc:language>
  <cp:lastModifiedBy>Пользователь</cp:lastModifiedBy>
  <cp:lastPrinted>2019-04-24T03:16:51Z</cp:lastPrinted>
  <dcterms:modified xsi:type="dcterms:W3CDTF">2022-02-14T18:50:36Z</dcterms:modified>
  <cp:revision>164</cp:revision>
  <dc:subject/>
  <dc:title>Использование технологии критического мышления в начальной школе</dc:title>
</cp:coreProperties>
</file>