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2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A364-AA1F-4AD3-BA26-BF2023457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20D5-B5A7-4FA0-AA5B-05FABCAC70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B3E4-CE96-4FD1-8D0F-7D9D6B9DAD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DFA-60E6-437A-A5E7-447CB4C1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E88-18F9-4F17-9F2F-F853A7F9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32B-2A90-4C10-98DF-5797F903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815-2885-4C05-A0E9-26A2DE2B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AC4A-3DAB-4CB2-BE74-9DE2C398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E604-54A7-49C1-BE46-D63939A2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4E05-148C-466C-B9F4-6C4091A3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19C2-CD91-4099-B9D6-2872CFD3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D5F4-BD20-4F9A-A174-82054311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D768-B9A4-4D92-B8DD-7FF05328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D144-B877-41C3-BE78-B85F5D9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552-559F-414C-8016-4AB364D9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9274-A9E3-4116-9E82-F37F7B5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4715-4D78-439F-BA0E-EA3955E2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C6A8-DA51-4D6D-8C58-D1616377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D426-F187-4844-BDD7-AEC5AD5C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3062-6969-4F39-BF70-E76F2B79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9A6-C564-4419-BBA0-6C4B487F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BF9-EF46-4C2A-9B75-D2BCED7C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B11-2ADE-4666-B96C-B9BACC0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77EB-CF90-4F23-B7CE-9125A750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CA2-F70D-48C3-A241-5107246C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08E-1851-4077-9807-8367301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E21-974A-4F1A-8F92-4D1F4DC1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0A1-2032-4519-909D-0371B14F695E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306A-CD9D-4983-B05F-7CEB2C08FED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587920" y="4797360"/>
            <a:ext cx="3556080" cy="11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2" descr=""/>
          <p:cNvPicPr/>
          <p:nvPr/>
        </p:nvPicPr>
        <p:blipFill>
          <a:blip r:embed="rId1"/>
          <a:stretch/>
        </p:blipFill>
        <p:spPr>
          <a:xfrm>
            <a:off x="-195120" y="457200"/>
            <a:ext cx="9521640" cy="1432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981080"/>
            <a:ext cx="82296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м средством тушения возгораний и пожаров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ок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 и универсальным средством тушения пожара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иквидации пожаров в начальной стадии можно применя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бестовое и войлочное полотно, грубошерстные ткан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место отводи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нетушител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овременные технические устройства, предназначенные для тушения пожаров в их начальной стадии возникновен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57120" y="642960"/>
            <a:ext cx="842976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Огнетушители классифицирую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виду  огнетушащих  сред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объему  корпус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способу подачи огнетушащ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о  виду  пусковых  устройст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1"/>
          <a:stretch/>
        </p:blipFill>
        <p:spPr>
          <a:xfrm>
            <a:off x="414360" y="-49320"/>
            <a:ext cx="8405640" cy="2847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ОУ-02"/>
          <p:cNvPicPr/>
          <p:nvPr/>
        </p:nvPicPr>
        <p:blipFill>
          <a:blip r:embed="rId2"/>
          <a:stretch/>
        </p:blipFill>
        <p:spPr>
          <a:xfrm>
            <a:off x="457200" y="2027160"/>
            <a:ext cx="4038480" cy="36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981080"/>
            <a:ext cx="40384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кислотные огнетушители предназначены для тушения загораний различных веществ и материалов, а также электроустановок, кабелей и проводов, находящихся под напряжением до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212760" y="457200"/>
            <a:ext cx="8931240" cy="144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ОУ-011"/>
          <p:cNvPicPr/>
          <p:nvPr/>
        </p:nvPicPr>
        <p:blipFill>
          <a:blip r:embed="rId2"/>
          <a:stretch/>
        </p:blipFill>
        <p:spPr>
          <a:xfrm>
            <a:off x="457200" y="1898640"/>
            <a:ext cx="4038480" cy="39290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лекислотный огнетушител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 основан на вытеснении двуокиси углерода  избыточным давлением собственных паров. При открывании запорно-пускового устройства 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сифонной трубке поступает к раструбу. СО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з сжиженного состояния переходит в газообразное. Углекислота, попадая на горящее вещество, изолирует его от кислорода и воздух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639720" y="262080"/>
            <a:ext cx="8229600" cy="993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ОП ручные"/>
          <p:cNvPicPr/>
          <p:nvPr/>
        </p:nvPicPr>
        <p:blipFill>
          <a:blip r:embed="rId2"/>
          <a:stretch/>
        </p:blipFill>
        <p:spPr>
          <a:xfrm>
            <a:off x="457200" y="1357200"/>
            <a:ext cx="4038480" cy="500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648320" y="164304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ошковые огнетушители предназначены для тушения пожаров твердых, жидких и газообразных веществ (в зависимости от марки используемого огнетушащего порошка), а также электроустановок, находящихся под напряжением до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298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ОП-031"/>
          <p:cNvPicPr/>
          <p:nvPr/>
        </p:nvPicPr>
        <p:blipFill>
          <a:blip r:embed="rId2"/>
          <a:stretch/>
        </p:blipFill>
        <p:spPr>
          <a:xfrm>
            <a:off x="457200" y="1832040"/>
            <a:ext cx="4038480" cy="4062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8320" y="1357200"/>
            <a:ext cx="4038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срабатывании запорно-пускового устройства прокалывается заглушка баллона с рабочим газом (углекислый газ, азот). Газ по трубке подвода поступает в нижнюю часть корпуса огнетушителя и создает избыточное давление. Порошок вытесняется по сифонной трубке в шланг к стволу. Нажимая на курок ствола, можно подавать порошок порциями. Порошок попадая на горящее вещество, изолирует его от кислорода и воздух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09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ОП-041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825480" y="1357200"/>
            <a:ext cx="3301920" cy="4929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648320" y="1428840"/>
            <a:ext cx="4038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действ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чий газ закачан непосредственно в корпус огнетушителя. При срабатывании запорно-пускового устройства порошок вытесняется газом по сифонной трубке в шланг и к стволу-насадке или в сопло. Порошок можно подавать порциями. Он попадает на горящее вещество и изолирует его от кислорода и воздух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tretch/>
        </p:blipFill>
        <p:spPr>
          <a:xfrm>
            <a:off x="426960" y="281160"/>
            <a:ext cx="8229600" cy="149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Пожарный щит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14200" y="1500120"/>
            <a:ext cx="8501040" cy="51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813880" cy="1243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ременны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м средства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жаротушения относятся средства пожарной сигнализации и тушения пожаров. Нормами пожарной безопасности «Перечень зданий сооружений, помещений и оборудования, подлежащих защите автоматическими установками пожаротушения и автоматической пожарной сигнализации» (НПБ 110- 03) определен порядок и перечень объектов подлежащих защите вышеназванными установк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е средства противопожарной защиты и тушения пожаров включают в себя системы пожарной сигнализации и системы пожаротуше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457200" y="115920"/>
            <a:ext cx="8229600" cy="1676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С предназначены для обнаружения в начальной стадии пожара, передачи тревожных извещений о месте и времени его возникновения. Они могут быть пожарными, реагирующими на первоначальные признаки пожара (дым, пламя, тепло) и охранно – пожарными, совмещающими охранные и пожарные функ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и пожарной сигнализации бывают на баз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ческих пожарных извещателей (дымовых, тепловых, комбинированных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учных пожарных извещател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втоматических и ручных пожарных извещател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3279600" y="165240"/>
            <a:ext cx="2803680" cy="1127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360" y="1213920"/>
            <a:ext cx="8229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 каждый год происходит в среднем около 300 тысяч пожаров. Материальный ущерб от пожаров исчисляется десятками миллиардов руб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оопасная ситуация в стране сегодня возрастает, так как в промышленности, строительстве и быту применяется множество легковоспламеняющихся веществ и материалов. Используется в огромных количества нефть и нефтепродукты, природный газ. В производстве сохраняются и внедряются сложные и энергоемкие технологии, обладающие высокой потенциальной пожароопаснотью. Все это требует повышенного внимания к противопожарной защите, осторожности, высокой технологической дисциплины. Многие предприятия и иные объекты имеют свои специфические требования по обеспечению пожарной безопас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документом определяющим общие правовые, экономические и социальные основы обеспечения пожарной безопасности в Российской Федерации является Федеральный Закон «О пожарной безопасности» от 21.12.94г. №69- ФЗ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определены основные понятия, используемые при изучении тем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1427040" y="1828800"/>
            <a:ext cx="7564680" cy="3084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86360" y="4242960"/>
            <a:ext cx="220500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Rectangle 2" descr=""/>
          <p:cNvPicPr/>
          <p:nvPr/>
        </p:nvPicPr>
        <p:blipFill>
          <a:blip r:embed="rId1"/>
          <a:stretch/>
        </p:blipFill>
        <p:spPr>
          <a:xfrm>
            <a:off x="457200" y="291960"/>
            <a:ext cx="8229600" cy="1152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0492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ть требования пожарной безопасности, а также выполнять предписания, постановления и иные законные требования должностных лиц пожарной охраны. Основным документом, определяющим требования пожарной безопасности на предприятиях РФ являются Правила пожарной безопасности в РФ (ППБ – 01-03),  введенные в действие приказом МЧС от 18.06.03г. №313. Данные правила устанавливают требования ПБ, обязательные для выполнения всеми организациями и должностными лица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отивопожарные мероприятия направленные на создание условий обеспечивающих сведения до минимума возможности возникновения пожаро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противопожарную пропаганду, а так же обучать своих работников и воспитанников мерам пожарной безопасности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из важнейших обязанностей  учреждения в области  повышения пожарной безопасности, является содержание в исправном состоянии систем и средств противопожарной защиты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457200" y="433440"/>
            <a:ext cx="8229600" cy="1266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учреждения должна постоянно содержаться в чист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 залы и спальные помещения должны тщательно убираться и проветрива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мещениях связанных с пребыванием детей, ковры и паласы должны быть жестко прикреплены к пола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рдачных помещениях не разрешается сушить бель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ри, люки чердачных  и технических помещений должны быть постоянно закрыты на замо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лучай отключения электроэнергии у обслуживающего персонала должны быть электрические фонари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Заголовок 1" descr=""/>
          <p:cNvPicPr/>
          <p:nvPr/>
        </p:nvPicPr>
        <p:blipFill>
          <a:blip r:embed="rId1"/>
          <a:stretch/>
        </p:blipFill>
        <p:spPr>
          <a:xfrm>
            <a:off x="457200" y="-34776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214280"/>
            <a:ext cx="868680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ть неисправное электрооборудова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1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 использовать  воду  для  тушения веществ,  вступающих  с ней  в  бурную химическую  реакцию,  необесточенных  проводов,  электроприбор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1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 использовать  сырой  песок при тушении предметов, находящихся  под напряжени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загромождать пути эвакуа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ать в подвальных помещениях легковоспламеняющиеся жидк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ть на путях эвакуации горючие материалы для отдел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Заголовок 1" descr=""/>
          <p:cNvPicPr/>
          <p:nvPr/>
        </p:nvPicPr>
        <p:blipFill>
          <a:blip r:embed="rId1"/>
          <a:stretch/>
        </p:blipFill>
        <p:spPr>
          <a:xfrm>
            <a:off x="457200" y="433440"/>
            <a:ext cx="8229600" cy="1266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ленно позвонить по телефону 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йствовать систему оповещения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ить к эвакуации детей из зда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ить о пожаре руководител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встречу пожарных подраздел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ь меры по тушению пожара средствами пожаротуш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по имеющимся спискам проверку наличия детей и работ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5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начальника прибывшего пожарного подразделения о наличии люд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26960" y="34776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ть эвакуацию детей из помещения, где возник пожар, и смежных с ним помещений, которым угрожает опасность распространения огня и его признаков гор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младшего возраста необходимо эвакуировать в первую очеред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проверить помещения, чтобы исключить возможность пребывания в опасной зоне детей, спрятавшихся под кроватями, в шкафах и.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ржаться от открывания окон, дверей, а также от разбивания стекол, во избежание распространения огн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идая помещение или здания, следует  закрывать за собой окна и двер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857160"/>
            <a:ext cx="40384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еконтролируемое горение, причиняющее материальный ущерб, вред жизни и здоровью граждан, интересам общества и государ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6" descr="FIRE011"/>
          <p:cNvPicPr/>
          <p:nvPr/>
        </p:nvPicPr>
        <p:blipFill>
          <a:blip r:embed="rId1"/>
          <a:stretch/>
        </p:blipFill>
        <p:spPr>
          <a:xfrm>
            <a:off x="5076720" y="333360"/>
            <a:ext cx="3780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Rectangle 4" descr=""/>
          <p:cNvPicPr/>
          <p:nvPr/>
        </p:nvPicPr>
        <p:blipFill>
          <a:blip r:embed="rId1"/>
          <a:stretch/>
        </p:blipFill>
        <p:spPr>
          <a:xfrm>
            <a:off x="500040" y="426960"/>
            <a:ext cx="8229600" cy="1444680"/>
          </a:xfrm>
          <a:prstGeom prst="rect">
            <a:avLst/>
          </a:prstGeom>
          <a:ln w="0">
            <a:noFill/>
          </a:ln>
        </p:spPr>
      </p:pic>
      <p:grpSp>
        <p:nvGrpSpPr>
          <p:cNvPr id="96" name="Organization Chart 7"/>
          <p:cNvGrpSpPr/>
          <p:nvPr/>
        </p:nvGrpSpPr>
        <p:grpSpPr>
          <a:xfrm>
            <a:off x="-20520" y="1467000"/>
            <a:ext cx="9143280" cy="4856760"/>
            <a:chOff x="-20520" y="1467000"/>
            <a:chExt cx="9143280" cy="4856760"/>
          </a:xfrm>
        </p:grpSpPr>
        <p:cxnSp>
          <p:nvCxnSpPr>
            <p:cNvPr id="97" name="_s1028"/>
            <p:cNvCxnSpPr>
              <a:stCxn id="98" idx="0"/>
              <a:endCxn id="99" idx="2"/>
            </p:cNvCxnSpPr>
            <p:nvPr/>
          </p:nvCxnSpPr>
          <p:spPr>
            <a:xfrm flipV="1" rot="16200000">
              <a:off x="5863680" y="1264680"/>
              <a:ext cx="556560" cy="3183480"/>
            </a:xfrm>
            <a:prstGeom prst="bentConnector3">
              <a:avLst>
                <a:gd name="adj1" fmla="val 252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00" name="_s1029"/>
            <p:cNvCxnSpPr>
              <a:stCxn id="101" idx="0"/>
              <a:endCxn id="99" idx="2"/>
            </p:cNvCxnSpPr>
            <p:nvPr/>
          </p:nvCxnSpPr>
          <p:spPr>
            <a:xfrm flipV="1">
              <a:off x="4550760" y="2578320"/>
              <a:ext cx="3600" cy="5565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99" idx="2"/>
            </p:cNvCxnSpPr>
            <p:nvPr/>
          </p:nvCxnSpPr>
          <p:spPr>
            <a:xfrm flipH="1" flipV="1" rot="5400000">
              <a:off x="2681280" y="1265040"/>
              <a:ext cx="556560" cy="3182760"/>
            </a:xfrm>
            <a:prstGeom prst="bentConnector3">
              <a:avLst>
                <a:gd name="adj1" fmla="val 25242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99" name="_s1031"/>
            <p:cNvSpPr/>
            <p:nvPr/>
          </p:nvSpPr>
          <p:spPr>
            <a:xfrm>
              <a:off x="3340440" y="1467000"/>
              <a:ext cx="2420280" cy="1111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Пожар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-20520" y="3134880"/>
              <a:ext cx="2778480" cy="3188880"/>
            </a:xfrm>
            <a:custGeom>
              <a:avLst/>
              <a:gdLst>
                <a:gd name="textAreaLeft" fmla="*/ 135360 w 2778480"/>
                <a:gd name="textAreaRight" fmla="*/ 2643120 w 277848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90">
                  <a:moveTo>
                    <a:pt x="3600" y="0"/>
                  </a:moveTo>
                  <a:arcTo wR="3600" hR="3600" stAng="16200000" swAng="-5400000"/>
                  <a:lnTo>
                    <a:pt x="0" y="21190"/>
                  </a:lnTo>
                  <a:arcTo wR="3600" hR="3600" stAng="10800000" swAng="-5400000"/>
                  <a:lnTo>
                    <a:pt x="18000" y="247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Arial"/>
                </a:rPr>
                <a:t>Место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ffffff"/>
                  </a:solidFill>
                  <a:latin typeface="Arial"/>
                </a:rPr>
                <a:t>нахождения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3161520" y="3134880"/>
              <a:ext cx="2778480" cy="3188880"/>
            </a:xfrm>
            <a:custGeom>
              <a:avLst/>
              <a:gdLst>
                <a:gd name="textAreaLeft" fmla="*/ 135360 w 2778480"/>
                <a:gd name="textAreaRight" fmla="*/ 2643120 w 277848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90">
                  <a:moveTo>
                    <a:pt x="3600" y="0"/>
                  </a:moveTo>
                  <a:arcTo wR="3600" hR="3600" stAng="16200000" swAng="-5400000"/>
                  <a:lnTo>
                    <a:pt x="0" y="21190"/>
                  </a:lnTo>
                  <a:arcTo wR="3600" hR="3600" stAng="10800000" swAng="-5400000"/>
                  <a:lnTo>
                    <a:pt x="18000" y="247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Arial"/>
                </a:rPr>
                <a:t>Масштаб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6343560" y="3134880"/>
              <a:ext cx="2779200" cy="3188880"/>
            </a:xfrm>
            <a:custGeom>
              <a:avLst/>
              <a:gdLst>
                <a:gd name="textAreaLeft" fmla="*/ 135360 w 2779200"/>
                <a:gd name="textAreaRight" fmla="*/ 2643840 w 2779200"/>
                <a:gd name="textAreaTop" fmla="*/ 135360 h 3188880"/>
                <a:gd name="textAreaBottom" fmla="*/ 3053520 h 3188880"/>
              </a:gdLst>
              <a:ahLst/>
              <a:rect l="textAreaLeft" t="textAreaTop" r="textAreaRight" b="textAreaBottom"/>
              <a:pathLst>
                <a:path w="21600" h="24784">
                  <a:moveTo>
                    <a:pt x="3600" y="0"/>
                  </a:moveTo>
                  <a:arcTo wR="3600" hR="3600" stAng="16200000" swAng="-5400000"/>
                  <a:lnTo>
                    <a:pt x="0" y="21184"/>
                  </a:lnTo>
                  <a:arcTo wR="3600" hR="3600" stAng="10800000" swAng="-5400000"/>
                  <a:lnTo>
                    <a:pt x="18000" y="247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Характер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 u="sng">
                  <a:solidFill>
                    <a:srgbClr val="410082"/>
                  </a:solidFill>
                  <a:uFillTx/>
                  <a:latin typeface="Arial"/>
                  <a:hlinkClick r:id="rId2" action="ppaction://hlinksldjump"/>
                </a:rPr>
                <a:t>горючих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веществ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35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876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70" descr=""/>
          <p:cNvPicPr/>
          <p:nvPr/>
        </p:nvPicPr>
        <p:blipFill>
          <a:blip r:embed="rId2"/>
          <a:stretch/>
        </p:blipFill>
        <p:spPr>
          <a:xfrm>
            <a:off x="457200" y="1663560"/>
            <a:ext cx="8077320" cy="476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457200" y="1643040"/>
          <a:ext cx="8218440" cy="4500720"/>
        </p:xfrm>
        <a:graphic>
          <a:graphicData uri="http://schemas.openxmlformats.org/drawingml/2006/table">
            <a:tbl>
              <a:tblPr/>
              <a:tblGrid>
                <a:gridCol w="2170080"/>
                <a:gridCol w="6048360"/>
              </a:tblGrid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даниях и сооружения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сколько отдельных пожаров объединяют в группы отдельных пожар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ы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отдельные пожары сливаются в один общий, при этом горят более 50% застройк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15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овы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отдельных и сплошных пожаров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69800" y="146160"/>
            <a:ext cx="8229600" cy="126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95280" y="981000"/>
          <a:ext cx="8462880" cy="5448240"/>
        </p:xfrm>
        <a:graphic>
          <a:graphicData uri="http://schemas.openxmlformats.org/drawingml/2006/table">
            <a:tbl>
              <a:tblPr/>
              <a:tblGrid>
                <a:gridCol w="1776600"/>
                <a:gridCol w="6686280"/>
              </a:tblGrid>
              <a:tr h="164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твердых веществ,  в основном органического происхождения, горение которых сопровождается тлением (древесина, текстиль, бумага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горючих жидкостей или плавящихся твердых вещест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горючих газ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 металлов и их сплав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ы, связанные с горением электроустановок (под напряжением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200"/>
                        </a:gs>
                        <a:gs pos="100000">
                          <a:srgbClr val="4d0808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371520" y="311040"/>
            <a:ext cx="8723160" cy="1852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98108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е электрооборудование, нарушение правил эксплуатации электрических приборов и сетей, в результате чего возникают короткие замыкания, электрические дуги, переходные сопротивления, вихревые то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равность технологического оборудования и КИП и А в результате чего образуются взрывоопасные смеси, перегрев оборудования и т.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еское электричество, возникающее в результате трения частей механизмов и при наличии пылевых частиц сгораемых материа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ткрытого огня: сварочные работы, курение, использование факелов, паяльных ламп и т.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згорание и самовоспламенение веществ с низкими температурами возгорания и воспламен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пожарной безопас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 электрические разряды – молн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311040" y="274680"/>
            <a:ext cx="861372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98072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и   горящих  веществ   и условий, в которых протекает  процесс  горе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и зон горения, необходимости    выполнения мероприятий по подгот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тушению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я личного состава,  огнетушащих  веществ,  материалов  и  средст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2:59:21Z</dcterms:created>
  <dc:creator>Я</dc:creator>
  <dc:description/>
  <dc:language>en-US</dc:language>
  <cp:lastModifiedBy>Admin</cp:lastModifiedBy>
  <dcterms:modified xsi:type="dcterms:W3CDTF">2020-09-02T23:09:54Z</dcterms:modified>
  <cp:revision>94</cp:revision>
  <dc:subject/>
  <dc:title>ПОЖАРНАЯ  БЕЗОПАСНОСТЬ  И ПРОТИВОПОЖАРНАЯ  ЗАЩИТА ОРГАНИЗАЦИЙ</dc:title>
</cp:coreProperties>
</file>