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1.png" ContentType="image/png"/>
  <Override PartName="/ppt/media/image4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24.jpeg" ContentType="image/jpe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87F0-B232-463C-AF89-23EB6329A2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E727-65F7-4961-A6FB-DC1BB2D5EE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5DE5-7878-4342-AC8F-4C705E61FB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49F8-E530-4CFE-848D-CA049F283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6335-8E0B-4A0A-91F6-D814AFD6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2459-C683-416B-9CD0-27C35DF16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19E5-F12F-4FDA-AAE9-EF160ACB7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3E29-E0AC-482C-8C0E-5AF313C9E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773B-2C3B-485A-B05A-D7EA84A2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B2FD-4D0B-45C3-B032-48D6FEAE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95BC-82FD-425F-B677-182EE9C8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2194-62A3-4B24-A73E-7DAB543E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7327-47E0-4399-ABE3-DDA7B1A3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ACAC-F7CF-4473-86B4-A4D5EEA7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3CF8-643F-4F39-B56D-F1803CD9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D2D5-691E-4EF2-9944-83599204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E725-F908-4051-ABD0-45526CB0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9C4B-58E2-4DB4-942E-B9C75BE0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7E19-8A72-4E24-ADCF-FE7EBC263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5AAF-E05F-44C6-B532-5E6B8AF60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0E2B-D9C0-49D2-A3A1-155CBAE5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05D8-E5BA-41CA-9F45-C09F59B7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738B-CD91-410A-B619-E0E7EC43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E0FF-C894-4AC8-BD47-9FAA097F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6ABF-C8DF-469C-B11F-965A41E2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6D5A-0A52-47F6-A42C-7887512A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1BDA-332E-443D-B828-2D09D202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56B2-233D-4DF1-8FBA-56DB292335B5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D637-66F3-4D93-A96A-E328A6DA6654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2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229600" cy="1828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5587920" y="4797360"/>
            <a:ext cx="3556080" cy="110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Rectangle 2" descr=""/>
          <p:cNvPicPr/>
          <p:nvPr/>
        </p:nvPicPr>
        <p:blipFill>
          <a:blip r:embed="rId1"/>
          <a:stretch/>
        </p:blipFill>
        <p:spPr>
          <a:xfrm>
            <a:off x="-195120" y="457200"/>
            <a:ext cx="9521640" cy="1432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981080"/>
            <a:ext cx="8229600" cy="43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ейшим средством тушения возгораний и пожаров явля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ок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распространенным и универсальным средством тушения пожара явля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ликвидации пожаров в начальной стадии можно применять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бестовое и войлочное полотно, грубошерстные ткан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е место отводи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нетушителя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современные технические устройства, предназначенные для тушения пожаров в их начальной стадии возникновен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357120" y="642960"/>
            <a:ext cx="8429760" cy="64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Огнетушители классифицируютс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по  виду  огнетушащих  средст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по  объему  корпус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по способу подачи огнетушащег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по  виду  пусковых  устройст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1"/>
          <a:stretch/>
        </p:blipFill>
        <p:spPr>
          <a:xfrm>
            <a:off x="414360" y="-49320"/>
            <a:ext cx="8405640" cy="2847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ОУ-02"/>
          <p:cNvPicPr/>
          <p:nvPr/>
        </p:nvPicPr>
        <p:blipFill>
          <a:blip r:embed="rId2"/>
          <a:stretch/>
        </p:blipFill>
        <p:spPr>
          <a:xfrm>
            <a:off x="457200" y="2027160"/>
            <a:ext cx="4038480" cy="3672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648320" y="1981080"/>
            <a:ext cx="403848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екислотные огнетушители предназначены для тушения загораний различных веществ и материалов, а также электроустановок, кабелей и проводов, находящихся под напряжением до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1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1" descr=""/>
          <p:cNvPicPr/>
          <p:nvPr/>
        </p:nvPicPr>
        <p:blipFill>
          <a:blip r:embed="rId1"/>
          <a:stretch/>
        </p:blipFill>
        <p:spPr>
          <a:xfrm>
            <a:off x="212760" y="457200"/>
            <a:ext cx="8931240" cy="1444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ОУ-011"/>
          <p:cNvPicPr/>
          <p:nvPr/>
        </p:nvPicPr>
        <p:blipFill>
          <a:blip r:embed="rId2"/>
          <a:stretch/>
        </p:blipFill>
        <p:spPr>
          <a:xfrm>
            <a:off x="457200" y="1898640"/>
            <a:ext cx="4038480" cy="39290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глекислотный огнетушитель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нцип действия основан на вытеснении двуокиси углерода  избыточным давлением собственных паров. При открывании запорно-пускового устройства СО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 сифонной трубке поступает к раструбу. СО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з сжиженного состояния переходит в газообразное. Углекислота, попадая на горящее вещество, изолирует его от кислорода и воздух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639720" y="262080"/>
            <a:ext cx="8229600" cy="993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ОП ручные"/>
          <p:cNvPicPr/>
          <p:nvPr/>
        </p:nvPicPr>
        <p:blipFill>
          <a:blip r:embed="rId2"/>
          <a:stretch/>
        </p:blipFill>
        <p:spPr>
          <a:xfrm>
            <a:off x="457200" y="1357200"/>
            <a:ext cx="4038480" cy="50007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648320" y="164304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ошковые огнетушители предназначены для тушения пожаров твердых, жидких и газообразных веществ (в зависимости от марки используемого огнетушащего порошка), а также электроустановок, находящихся под напряжением до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1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298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ОП-031"/>
          <p:cNvPicPr/>
          <p:nvPr/>
        </p:nvPicPr>
        <p:blipFill>
          <a:blip r:embed="rId2"/>
          <a:stretch/>
        </p:blipFill>
        <p:spPr>
          <a:xfrm>
            <a:off x="457200" y="1832040"/>
            <a:ext cx="4038480" cy="40622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648320" y="1357200"/>
            <a:ext cx="40384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нцип действия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срабатывании запорно-пускового устройства прокалывается заглушка баллона с рабочим газом (углекислый газ, азот). Газ по трубке подвода поступает в нижнюю часть корпуса огнетушителя и создает избыточное давление. Порошок вытесняется по сифонной трубке в шланг к стволу. Нажимая на курок ствола, можно подавать порошок порциями. Порошок попадая на горящее вещество, изолирует его от кислорода и воздух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Заголовок 1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8229600" cy="1096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ОП-041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825480" y="1357200"/>
            <a:ext cx="3301920" cy="49294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648320" y="1428840"/>
            <a:ext cx="40384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нцип действия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бочий газ закачан непосредственно в корпус огнетушителя. При срабатывании запорно-пускового устройства порошок вытесняется газом по сифонной трубке в шланг и к стволу-насадке или в сопло. Порошок можно подавать порциями. Он попадает на горящее вещество и изолирует его от кислорода и воздух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Rectangle 2" descr=""/>
          <p:cNvPicPr/>
          <p:nvPr/>
        </p:nvPicPr>
        <p:blipFill>
          <a:blip r:embed="rId1"/>
          <a:stretch/>
        </p:blipFill>
        <p:spPr>
          <a:xfrm>
            <a:off x="426960" y="281160"/>
            <a:ext cx="8229600" cy="1498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Пожарный щит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214200" y="1500120"/>
            <a:ext cx="8501040" cy="518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Rectangle 2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813880" cy="1243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временны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им средства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жаротушения относятся средства пожарной сигнализации и тушения пожаров. Нормами пожарной безопасности «Перечень зданий сооружений, помещений и оборудования, подлежащих защите автоматическими установками пожаротушения и автоматической пожарной сигнализации» (НПБ 110- 03) определен порядок и перечень объектов подлежащих защите вышеназванными установка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ие средства противопожарной защиты и тушения пожаров включают в себя системы пожарной сигнализации и системы пожаротушен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Rectangle 2" descr=""/>
          <p:cNvPicPr/>
          <p:nvPr/>
        </p:nvPicPr>
        <p:blipFill>
          <a:blip r:embed="rId1"/>
          <a:stretch/>
        </p:blipFill>
        <p:spPr>
          <a:xfrm>
            <a:off x="457200" y="115920"/>
            <a:ext cx="8229600" cy="1676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С предназначены для обнаружения в начальной стадии пожара, передачи тревожных извещений о месте и времени его возникновения. Они могут быть пожарными, реагирующими на первоначальные признаки пожара (дым, пламя, тепло) и охранно – пожарными, совмещающими охранные и пожарные функц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ки пожарной сигнализации бывают на баз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втоматических пожарных извещателей (дымовых, тепловых, комбинированных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учных пожарных извещателе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втоматических и ручных пожарных извещател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2" descr=""/>
          <p:cNvPicPr/>
          <p:nvPr/>
        </p:nvPicPr>
        <p:blipFill>
          <a:blip r:embed="rId1"/>
          <a:stretch/>
        </p:blipFill>
        <p:spPr>
          <a:xfrm>
            <a:off x="3279600" y="165240"/>
            <a:ext cx="2803680" cy="1127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68360" y="1213920"/>
            <a:ext cx="822960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рритории Российской федерации каждый год происходит в среднем около 300 тысяч пожаров. Материальный ущерб от пожаров исчисляется десятками миллиардов рубле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оопасная ситуация в стране сегодня возрастает, так как в промышленности, строительстве и быту применяется множество легковоспламеняющихся веществ и материалов. Используется в огромных количества нефть и нефтепродукты, природный газ. В производстве сохраняются и внедряются сложные и энергоемкие технологии, обладающие высокой потенциальной пожароопаснотью. Все это требует повышенного внимания к противопожарной защите, осторожности, высокой технологической дисциплины. Многие предприятия и иные объекты имеют свои специфические требования по обеспечению пожарной безопаснос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 документом определяющим общие правовые, экономические и социальные основы обеспечения пожарной безопасности в Российской Федерации является Федеральный Закон «О пожарной безопасности» от 21.12.94г. №69- ФЗ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м определены основные понятия, используемые при изучении темы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Заголовок 1" descr=""/>
          <p:cNvPicPr/>
          <p:nvPr/>
        </p:nvPicPr>
        <p:blipFill>
          <a:blip r:embed="rId1"/>
          <a:stretch/>
        </p:blipFill>
        <p:spPr>
          <a:xfrm>
            <a:off x="1427040" y="1828800"/>
            <a:ext cx="7564680" cy="30844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786360" y="4242960"/>
            <a:ext cx="220500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Rectangle 2" descr=""/>
          <p:cNvPicPr/>
          <p:nvPr/>
        </p:nvPicPr>
        <p:blipFill>
          <a:blip r:embed="rId1"/>
          <a:stretch/>
        </p:blipFill>
        <p:spPr>
          <a:xfrm>
            <a:off x="457200" y="291960"/>
            <a:ext cx="8229600" cy="1152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304920" y="10713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ать требования пожарной безопасности, а также выполнять предписания, постановления и иные законные требования должностных лиц пожарной охраны. Основным документом, определяющим требования пожарной безопасности на предприятиях РФ являются Правила пожарной безопасности в РФ (ППБ – 01-03),  введенные в действие приказом МЧС от 18.06.03г. №313. Данные правила устанавливают требования ПБ, обязательные для выполнения всеми организациями и должностными лицами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ь противопожарные мероприятия направленные на создание условий обеспечивающих сведения до минимума возможности возникновения пожаров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ь противопожарную пропаганду, а так же обучать своих работников и воспитанников мерам пожарной безопасности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й из важнейших обязанностей  учреждения в области  повышения пожарной безопасности, является содержание в исправном состоянии систем и средств противопожарной защиты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Заголовок 1" descr=""/>
          <p:cNvPicPr/>
          <p:nvPr/>
        </p:nvPicPr>
        <p:blipFill>
          <a:blip r:embed="rId1"/>
          <a:stretch/>
        </p:blipFill>
        <p:spPr>
          <a:xfrm>
            <a:off x="457200" y="433440"/>
            <a:ext cx="8229600" cy="12668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457200" y="150012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итория учреждения должна постоянно содержаться в чисто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ые залы и спальные помещения должны тщательно убираться и проветриватьс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мещениях связанных с пребыванием детей, ковры и паласы должны быть жестко прикреплены к пола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рдачных помещениях не разрешается сушить бель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ри, люки чердачных  и технических помещений должны быть постоянно закрыты на замо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лучай отключения электроэнергии у обслуживающего персонала должны быть электрические фонари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Заголовок 1" descr=""/>
          <p:cNvPicPr/>
          <p:nvPr/>
        </p:nvPicPr>
        <p:blipFill>
          <a:blip r:embed="rId1"/>
          <a:stretch/>
        </p:blipFill>
        <p:spPr>
          <a:xfrm>
            <a:off x="457200" y="-347760"/>
            <a:ext cx="8229600" cy="2286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457200" y="1214280"/>
            <a:ext cx="86868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15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ается использовать неисправное электрооборудовани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15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  использовать  воду  для  тушения веществ,  вступающих  с ней  в  бурную химическую  реакцию,  необесточенных  проводов,  электроприборо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15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  использовать  сырой  песок при тушении предметов, находящихся  под напряжение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5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ается загромождать пути эвакуац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5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ать в подвальных помещениях легковоспламеняющиеся жидко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5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ть на путях эвакуации горючие материалы для отделк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5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5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5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Заголовок 1" descr=""/>
          <p:cNvPicPr/>
          <p:nvPr/>
        </p:nvPicPr>
        <p:blipFill>
          <a:blip r:embed="rId1"/>
          <a:stretch/>
        </p:blipFill>
        <p:spPr>
          <a:xfrm>
            <a:off x="457200" y="433440"/>
            <a:ext cx="8229600" cy="12668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457200" y="13572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5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едленно позвонить по телефону 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5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йствовать систему оповещения люд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5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упить к эвакуации детей из зда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5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ить о пожаре руководител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5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встречу пожарных подразделен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5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ь меры по тушению пожара средствами пожаротуш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5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по имеющимся спискам проверку наличия детей и работник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5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овать начальника прибывшего пожарного подразделения о наличии люде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Заголовок 1" descr=""/>
          <p:cNvPicPr/>
          <p:nvPr/>
        </p:nvPicPr>
        <p:blipFill>
          <a:blip r:embed="rId1"/>
          <a:stretch/>
        </p:blipFill>
        <p:spPr>
          <a:xfrm>
            <a:off x="426960" y="347760"/>
            <a:ext cx="8229600" cy="1268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457200" y="14284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ть эвакуацию детей из помещения, где возник пожар, и смежных с ним помещений, которым угрожает опасность распространения огня и его признаков гор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младшего возраста необходимо эвакуировать в первую очеред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о проверить помещения, чтобы исключить возможность пребывания в опасной зоне детей, спрятавшихся под кроватями, в шкафах и.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ержаться от открывания окон, дверей, а также от разбивания стекол, во избежание распространения огн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идая помещение или здания, следует  закрывать за собой окна и двер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5280" y="857160"/>
            <a:ext cx="40384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еконтролируемое горение, причиняющее материальный ущерб, вред жизни и здоровью граждан, интересам общества и государств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6" descr="FIRE011"/>
          <p:cNvPicPr/>
          <p:nvPr/>
        </p:nvPicPr>
        <p:blipFill>
          <a:blip r:embed="rId1"/>
          <a:stretch/>
        </p:blipFill>
        <p:spPr>
          <a:xfrm>
            <a:off x="5076720" y="333360"/>
            <a:ext cx="3780000" cy="633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4" descr=""/>
          <p:cNvPicPr/>
          <p:nvPr/>
        </p:nvPicPr>
        <p:blipFill>
          <a:blip r:embed="rId1"/>
          <a:stretch/>
        </p:blipFill>
        <p:spPr>
          <a:xfrm>
            <a:off x="500040" y="426960"/>
            <a:ext cx="8229600" cy="1444680"/>
          </a:xfrm>
          <a:prstGeom prst="rect">
            <a:avLst/>
          </a:prstGeom>
          <a:ln w="0">
            <a:noFill/>
          </a:ln>
        </p:spPr>
      </p:pic>
      <p:grpSp>
        <p:nvGrpSpPr>
          <p:cNvPr id="96" name="Organization Chart 7"/>
          <p:cNvGrpSpPr/>
          <p:nvPr/>
        </p:nvGrpSpPr>
        <p:grpSpPr>
          <a:xfrm>
            <a:off x="-20520" y="1467000"/>
            <a:ext cx="9143280" cy="4856760"/>
            <a:chOff x="-20520" y="1467000"/>
            <a:chExt cx="9143280" cy="4856760"/>
          </a:xfrm>
        </p:grpSpPr>
        <p:cxnSp>
          <p:nvCxnSpPr>
            <p:cNvPr id="97" name="_s1028"/>
            <p:cNvCxnSpPr>
              <a:stCxn id="98" idx="0"/>
              <a:endCxn id="99" idx="2"/>
            </p:cNvCxnSpPr>
            <p:nvPr/>
          </p:nvCxnSpPr>
          <p:spPr>
            <a:xfrm flipV="1" rot="16200000">
              <a:off x="5863680" y="1264680"/>
              <a:ext cx="556560" cy="3183480"/>
            </a:xfrm>
            <a:prstGeom prst="bentConnector3">
              <a:avLst>
                <a:gd name="adj1" fmla="val 25242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00" name="_s1029"/>
            <p:cNvCxnSpPr>
              <a:stCxn id="101" idx="0"/>
              <a:endCxn id="99" idx="2"/>
            </p:cNvCxnSpPr>
            <p:nvPr/>
          </p:nvCxnSpPr>
          <p:spPr>
            <a:xfrm flipV="1">
              <a:off x="4550760" y="2578320"/>
              <a:ext cx="3600" cy="5565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02" name="_s1030"/>
            <p:cNvCxnSpPr>
              <a:stCxn id="103" idx="0"/>
              <a:endCxn id="99" idx="2"/>
            </p:cNvCxnSpPr>
            <p:nvPr/>
          </p:nvCxnSpPr>
          <p:spPr>
            <a:xfrm flipH="1" flipV="1" rot="5400000">
              <a:off x="2681280" y="1265040"/>
              <a:ext cx="556560" cy="3182760"/>
            </a:xfrm>
            <a:prstGeom prst="bentConnector3">
              <a:avLst>
                <a:gd name="adj1" fmla="val 25242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99" name="_s1031"/>
            <p:cNvSpPr/>
            <p:nvPr/>
          </p:nvSpPr>
          <p:spPr>
            <a:xfrm>
              <a:off x="3340440" y="1467000"/>
              <a:ext cx="2420280" cy="1111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Пожар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_s1032"/>
            <p:cNvSpPr/>
            <p:nvPr/>
          </p:nvSpPr>
          <p:spPr>
            <a:xfrm>
              <a:off x="-20520" y="3134880"/>
              <a:ext cx="2778480" cy="3188880"/>
            </a:xfrm>
            <a:custGeom>
              <a:avLst/>
              <a:gdLst>
                <a:gd name="textAreaLeft" fmla="*/ 135360 w 2778480"/>
                <a:gd name="textAreaRight" fmla="*/ 2643120 w 2778480"/>
                <a:gd name="textAreaTop" fmla="*/ 135360 h 3188880"/>
                <a:gd name="textAreaBottom" fmla="*/ 3053520 h 3188880"/>
              </a:gdLst>
              <a:ahLst/>
              <a:rect l="textAreaLeft" t="textAreaTop" r="textAreaRight" b="textAreaBottom"/>
              <a:pathLst>
                <a:path w="21600" h="24790">
                  <a:moveTo>
                    <a:pt x="3600" y="0"/>
                  </a:moveTo>
                  <a:arcTo wR="3600" hR="3600" stAng="16200000" swAng="-5400000"/>
                  <a:lnTo>
                    <a:pt x="0" y="21190"/>
                  </a:lnTo>
                  <a:arcTo wR="3600" hR="3600" stAng="10800000" swAng="-5400000"/>
                  <a:lnTo>
                    <a:pt x="18000" y="247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ffffff"/>
                  </a:solidFill>
                  <a:latin typeface="Arial"/>
                </a:rPr>
                <a:t>Место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ffffff"/>
                  </a:solidFill>
                  <a:latin typeface="Arial"/>
                </a:rPr>
                <a:t>нахождения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_s1033"/>
            <p:cNvSpPr/>
            <p:nvPr/>
          </p:nvSpPr>
          <p:spPr>
            <a:xfrm>
              <a:off x="3161520" y="3134880"/>
              <a:ext cx="2778480" cy="3188880"/>
            </a:xfrm>
            <a:custGeom>
              <a:avLst/>
              <a:gdLst>
                <a:gd name="textAreaLeft" fmla="*/ 135360 w 2778480"/>
                <a:gd name="textAreaRight" fmla="*/ 2643120 w 2778480"/>
                <a:gd name="textAreaTop" fmla="*/ 135360 h 3188880"/>
                <a:gd name="textAreaBottom" fmla="*/ 3053520 h 3188880"/>
              </a:gdLst>
              <a:ahLst/>
              <a:rect l="textAreaLeft" t="textAreaTop" r="textAreaRight" b="textAreaBottom"/>
              <a:pathLst>
                <a:path w="21600" h="24790">
                  <a:moveTo>
                    <a:pt x="3600" y="0"/>
                  </a:moveTo>
                  <a:arcTo wR="3600" hR="3600" stAng="16200000" swAng="-5400000"/>
                  <a:lnTo>
                    <a:pt x="0" y="21190"/>
                  </a:lnTo>
                  <a:arcTo wR="3600" hR="3600" stAng="10800000" swAng="-5400000"/>
                  <a:lnTo>
                    <a:pt x="18000" y="247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Масштаб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1034"/>
            <p:cNvSpPr/>
            <p:nvPr/>
          </p:nvSpPr>
          <p:spPr>
            <a:xfrm>
              <a:off x="6343560" y="3134880"/>
              <a:ext cx="2779200" cy="3188880"/>
            </a:xfrm>
            <a:custGeom>
              <a:avLst/>
              <a:gdLst>
                <a:gd name="textAreaLeft" fmla="*/ 135360 w 2779200"/>
                <a:gd name="textAreaRight" fmla="*/ 2643840 w 2779200"/>
                <a:gd name="textAreaTop" fmla="*/ 135360 h 3188880"/>
                <a:gd name="textAreaBottom" fmla="*/ 3053520 h 3188880"/>
              </a:gdLst>
              <a:ahLst/>
              <a:rect l="textAreaLeft" t="textAreaTop" r="textAreaRight" b="textAreaBottom"/>
              <a:pathLst>
                <a:path w="21600" h="24784">
                  <a:moveTo>
                    <a:pt x="3600" y="0"/>
                  </a:moveTo>
                  <a:arcTo wR="3600" hR="3600" stAng="16200000" swAng="-5400000"/>
                  <a:lnTo>
                    <a:pt x="0" y="21184"/>
                  </a:lnTo>
                  <a:arcTo wR="3600" hR="3600" stAng="10800000" swAng="-5400000"/>
                  <a:lnTo>
                    <a:pt x="18000" y="2478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Характер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 u="sng">
                  <a:solidFill>
                    <a:srgbClr val="410082"/>
                  </a:solidFill>
                  <a:uFillTx/>
                  <a:latin typeface="Arial"/>
                  <a:hlinkClick r:id="rId2" action="ppaction://hlinksldjump"/>
                </a:rPr>
                <a:t>горючих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веществ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Rectangle 35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8760"/>
          </a:xfrm>
          <a:prstGeom prst="rect">
            <a:avLst/>
          </a:prstGeom>
          <a:ln w="0">
            <a:noFill/>
          </a:ln>
        </p:spPr>
      </p:pic>
      <p:pic>
        <p:nvPicPr>
          <p:cNvPr id="105" name="Rectangle 70" descr=""/>
          <p:cNvPicPr/>
          <p:nvPr/>
        </p:nvPicPr>
        <p:blipFill>
          <a:blip r:embed="rId2"/>
          <a:stretch/>
        </p:blipFill>
        <p:spPr>
          <a:xfrm>
            <a:off x="457200" y="1663560"/>
            <a:ext cx="8077320" cy="476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2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1444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457200" y="1643040"/>
          <a:ext cx="8218440" cy="4500720"/>
        </p:xfrm>
        <a:graphic>
          <a:graphicData uri="http://schemas.openxmlformats.org/drawingml/2006/table">
            <a:tbl>
              <a:tblPr/>
              <a:tblGrid>
                <a:gridCol w="2170080"/>
                <a:gridCol w="6048360"/>
              </a:tblGrid>
              <a:tr h="15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зданиях и сооружениях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сколько отдельных пожаров объединяют в группы отдельных пожаров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</a:tr>
              <a:tr h="15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лошны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да отдельные пожары сливаются в один общий, при этом горят более 50% застройк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</a:tr>
              <a:tr h="150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ов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окупность отдельных и сплошных пожаров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Rectangle 2" descr=""/>
          <p:cNvPicPr/>
          <p:nvPr/>
        </p:nvPicPr>
        <p:blipFill>
          <a:blip r:embed="rId1"/>
          <a:stretch/>
        </p:blipFill>
        <p:spPr>
          <a:xfrm>
            <a:off x="469800" y="146160"/>
            <a:ext cx="8229600" cy="126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395280" y="981000"/>
          <a:ext cx="8462880" cy="5448240"/>
        </p:xfrm>
        <a:graphic>
          <a:graphicData uri="http://schemas.openxmlformats.org/drawingml/2006/table">
            <a:tbl>
              <a:tblPr/>
              <a:tblGrid>
                <a:gridCol w="1776600"/>
                <a:gridCol w="6686280"/>
              </a:tblGrid>
              <a:tr h="164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жары твердых веществ,  в основном органического происхождения, горение которых сопровождается тлением (древесина, текстиль, бумага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</a:tr>
              <a:tr h="95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жары горючих жидкостей или плавящихся твердых вещест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</a:tr>
              <a:tr h="949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жары горючих газо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</a:tr>
              <a:tr h="95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жары металлов и их сплаво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</a:tr>
              <a:tr h="949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жары, связанные с горением электроустановок (под напряжением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Rectangle 2" descr=""/>
          <p:cNvPicPr/>
          <p:nvPr/>
        </p:nvPicPr>
        <p:blipFill>
          <a:blip r:embed="rId1"/>
          <a:stretch/>
        </p:blipFill>
        <p:spPr>
          <a:xfrm>
            <a:off x="371520" y="311040"/>
            <a:ext cx="8723160" cy="1852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57200" y="1981080"/>
            <a:ext cx="82296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справное электрооборудование, нарушение правил эксплуатации электрических приборов и сетей, в результате чего возникают короткие замыкания, электрические дуги, переходные сопротивления, вихревые то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справность технологического оборудования и КИП и А в результате чего образуются взрывоопасные смеси, перегрев оборудования и т.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ческое электричество, возникающее в результате трения частей механизмов и при наличии пылевых частиц сгораемых материал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открытого огня: сварочные работы, курение, использование факелов, паяльных ламп и т.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возгорание и самовоспламенение веществ с низкими температурами возгорания и воспламене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правил пожарной безопаснос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ые электрические разряды – молн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311040" y="274680"/>
            <a:ext cx="8613720" cy="1268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1980720"/>
            <a:ext cx="822960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и   горящих  веществ   и условий, в которых протекает  процесс  горе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ости зон горения, необходимости    выполнения мероприятий по подготовк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 тушению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я личного состава,  огнетушащих  веществ,  материалов  и  средст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2:59:21Z</dcterms:created>
  <dc:creator>Я</dc:creator>
  <dc:description/>
  <dc:language>en-US</dc:language>
  <cp:lastModifiedBy>Admin</cp:lastModifiedBy>
  <dcterms:modified xsi:type="dcterms:W3CDTF">2020-09-02T23:09:54Z</dcterms:modified>
  <cp:revision>94</cp:revision>
  <dc:subject/>
  <dc:title>ПОЖАРНАЯ  БЕЗОПАСНОСТЬ  И ПРОТИВОПОЖАРНАЯ  ЗАЩИТА ОРГАНИЗАЦИЙ</dc:title>
</cp:coreProperties>
</file>