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A9C-F156-4784-8B79-8AE4A4F4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9D7-0052-4FCA-AA99-4DC689BD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B4A4-06AC-484C-AE8E-302D5188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0B7-6B75-48A1-BF28-2A46FF8C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886-C701-4F1A-A3B7-052930A3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776-ACEE-432C-8DB0-60EB47F9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C77-5108-460F-9154-6143580C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626-EC3A-46BD-BE79-45EDC2EB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DD1-7AE6-4F81-8A96-E2DBCEC9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4C2-B9DB-487D-8101-E5F81189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EBB-0EFE-45BE-9C5E-B9191428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0AA-2902-4E7E-B7F1-FC961E90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E39C-59BB-4BBC-BA53-52A224419A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метрические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ощадь квадрата сторона которого 1 м это единица площади квадратный мет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ость можно начертить с помощью циркул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resize"/>
          <p:cNvPicPr/>
          <p:nvPr/>
        </p:nvPicPr>
        <p:blipFill>
          <a:blip r:embed="rId1"/>
          <a:stretch/>
        </p:blipFill>
        <p:spPr>
          <a:xfrm>
            <a:off x="4724280" y="2209680"/>
            <a:ext cx="3810240" cy="3733920"/>
          </a:xfrm>
          <a:prstGeom prst="rect">
            <a:avLst/>
          </a:prstGeom>
          <a:ln w="0">
            <a:noFill/>
          </a:ln>
        </p:spPr>
      </p:pic>
      <p:sp>
        <p:nvSpPr>
          <p:cNvPr id="73" name="Oval 7"/>
          <p:cNvSpPr/>
          <p:nvPr/>
        </p:nvSpPr>
        <p:spPr>
          <a:xfrm>
            <a:off x="838080" y="2666880"/>
            <a:ext cx="2971800" cy="3124440"/>
          </a:xfrm>
          <a:prstGeom prst="ellipse">
            <a:avLst/>
          </a:prstGeom>
          <a:solidFill>
            <a:srgbClr val="e8b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резок который соединяет центр окружности с какой нибудь ее точный это радиус окруж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2819520" y="3048120"/>
            <a:ext cx="3581280" cy="3276360"/>
          </a:xfrm>
          <a:prstGeom prst="ellipse">
            <a:avLst/>
          </a:prstGeom>
          <a:solidFill>
            <a:srgbClr val="e8b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V="1">
            <a:off x="4572000" y="3657240"/>
            <a:ext cx="144792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4572000" y="4648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резок который проходит через центр окружность соединяющей две точки окружности это диаметр окруж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895480" y="3657600"/>
            <a:ext cx="3276720" cy="3200400"/>
          </a:xfrm>
          <a:prstGeom prst="ellipse">
            <a:avLst/>
          </a:prstGeom>
          <a:solidFill>
            <a:srgbClr val="e8b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4419720" y="50292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 flipV="1">
            <a:off x="3124080" y="4267080"/>
            <a:ext cx="266724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иметр многоугольника это сумма длин всех его сторон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 пересечение диагоналей квадрата получаются четыре прямых уг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438280" y="3124080"/>
            <a:ext cx="2895840" cy="2590920"/>
          </a:xfrm>
          <a:prstGeom prst="rect">
            <a:avLst/>
          </a:prstGeom>
          <a:solidFill>
            <a:srgbClr val="e8b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2438280" y="3123720"/>
            <a:ext cx="289584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2438280" y="3124080"/>
            <a:ext cx="289584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V="1">
            <a:off x="3733920" y="403812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3962520" y="40384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304920" y="442080"/>
            <a:ext cx="79182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47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бы начертить угол отметь точку и проведи из нее 2 луч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4114800" y="2895120"/>
            <a:ext cx="2133720" cy="213372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4114800" y="5029200"/>
            <a:ext cx="3124080" cy="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учи- это стороны уг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 flipV="1">
            <a:off x="3962520" y="2666520"/>
            <a:ext cx="2057400" cy="205740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3962520" y="4724280"/>
            <a:ext cx="3429000" cy="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трым углом называется углом меньше прямог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676520" y="4648320"/>
            <a:ext cx="4800600" cy="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V="1">
            <a:off x="1676520" y="2666880"/>
            <a:ext cx="5029200" cy="198144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упым углом называется угол больше прям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124080" y="5181480"/>
            <a:ext cx="4496040" cy="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 flipH="1" flipV="1">
            <a:off x="1218960" y="2438280"/>
            <a:ext cx="1904760" cy="2743200"/>
          </a:xfrm>
          <a:prstGeom prst="line">
            <a:avLst/>
          </a:prstGeom>
          <a:ln w="38160">
            <a:solidFill>
              <a:srgbClr val="e8b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ямоугольник это четырехугольник  у которого все углы прям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219320" y="2743200"/>
            <a:ext cx="6553080" cy="3124080"/>
          </a:xfrm>
          <a:prstGeom prst="rect">
            <a:avLst/>
          </a:prstGeom>
          <a:solidFill>
            <a:srgbClr val="e8b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219320" y="5562720"/>
            <a:ext cx="380880" cy="30456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вадрат это прямоугольник у которого все стороны ров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276720" y="3124080"/>
            <a:ext cx="2286000" cy="2133720"/>
          </a:xfrm>
          <a:prstGeom prst="rect">
            <a:avLst/>
          </a:prstGeom>
          <a:solidFill>
            <a:srgbClr val="e8b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276720" y="5029200"/>
            <a:ext cx="228600" cy="228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чки на чертеже обозначаются заглавными латинскими букв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1600200" y="41148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1523880" y="4038480"/>
            <a:ext cx="15264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620120" y="4038480"/>
            <a:ext cx="152280" cy="1526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9"/>
          <p:cNvSpPr txBox="1"/>
          <p:nvPr/>
        </p:nvSpPr>
        <p:spPr>
          <a:xfrm>
            <a:off x="1295280" y="3124080"/>
            <a:ext cx="6192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" name="WordArt 10"/>
          <p:cNvSpPr txBox="1"/>
          <p:nvPr/>
        </p:nvSpPr>
        <p:spPr>
          <a:xfrm>
            <a:off x="7467480" y="3124080"/>
            <a:ext cx="5335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лощадь квадрата сторона которого 1 дм это единица площади квадратный децимет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3T16:15:52Z</dcterms:created>
  <dc:creator>Надежда</dc:creator>
  <dc:description/>
  <dc:language>en-US</dc:language>
  <cp:lastModifiedBy>User</cp:lastModifiedBy>
  <dcterms:modified xsi:type="dcterms:W3CDTF">2022-10-01T07:25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