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85E-3549-4C58-AD3F-18808914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DA0-B7C1-44F4-B311-74E53C8F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3E5-DFE7-4E54-B998-65FB2420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273-3F40-446A-A498-DC0266BD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AD3-C602-40D1-831F-59967E8A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2ED-99C4-42FD-8370-FDF8FD43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BA9-1FA5-4906-842F-D40F6FD4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92A-05A9-488B-9C8F-B9B7EB70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377-C704-455C-AE06-ACD5CF1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A4E-DB1F-4E7B-951D-12F96CF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E0F-8655-43D5-8661-CD6B844E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D4A-8EE0-45B4-AF3E-6B634EE4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0452-0E95-4D82-B8F8-9E5BFDD0E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метрические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ощадь квадрата сторона которого 1 м это единица площади квадратный мет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ость можно начертить с помощью цирку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resize"/>
          <p:cNvPicPr/>
          <p:nvPr/>
        </p:nvPicPr>
        <p:blipFill>
          <a:blip r:embed="rId1"/>
          <a:stretch/>
        </p:blipFill>
        <p:spPr>
          <a:xfrm>
            <a:off x="4724280" y="2209680"/>
            <a:ext cx="3810240" cy="3733920"/>
          </a:xfrm>
          <a:prstGeom prst="rect">
            <a:avLst/>
          </a:prstGeom>
          <a:ln w="0">
            <a:noFill/>
          </a:ln>
        </p:spPr>
      </p:pic>
      <p:sp>
        <p:nvSpPr>
          <p:cNvPr id="73" name="Oval 7"/>
          <p:cNvSpPr/>
          <p:nvPr/>
        </p:nvSpPr>
        <p:spPr>
          <a:xfrm>
            <a:off x="838080" y="2666880"/>
            <a:ext cx="2971800" cy="3124440"/>
          </a:xfrm>
          <a:prstGeom prst="ellipse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резок который соединяет центр окружности с какой нибудь ее точный это радиус окруж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819520" y="3048120"/>
            <a:ext cx="3581280" cy="3276360"/>
          </a:xfrm>
          <a:prstGeom prst="ellipse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V="1">
            <a:off x="4572000" y="3657240"/>
            <a:ext cx="144792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457200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резок который проходит через центр окружность соединяющей две точки окружности это диаметр окруж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895480" y="3657600"/>
            <a:ext cx="3276720" cy="3200400"/>
          </a:xfrm>
          <a:prstGeom prst="ellipse">
            <a:avLst/>
          </a:prstGeom>
          <a:solidFill>
            <a:srgbClr val="e8b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441972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 flipV="1">
            <a:off x="3124080" y="4267080"/>
            <a:ext cx="266724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иметр многоугольника это сумма длин всех его сторо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 пересечение диагоналей квадрата получаются четыре прямых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438280" y="3124080"/>
            <a:ext cx="2895840" cy="2590920"/>
          </a:xfrm>
          <a:prstGeom prst="rect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2438280" y="3123720"/>
            <a:ext cx="289584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2438280" y="3124080"/>
            <a:ext cx="289584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3733920" y="4038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3962520" y="40384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04920" y="442080"/>
            <a:ext cx="79182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47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бы начертить угол отметь точку и проведи из нее 2 луч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4114800" y="2895120"/>
            <a:ext cx="2133720" cy="213372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4114800" y="5029200"/>
            <a:ext cx="3124080" cy="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учи- это стороны уг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 flipV="1">
            <a:off x="3962520" y="2666520"/>
            <a:ext cx="2057400" cy="205740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3962520" y="4724280"/>
            <a:ext cx="3429000" cy="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трым углом называется углом меньше прямог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676520" y="4648320"/>
            <a:ext cx="4800600" cy="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1676520" y="2666880"/>
            <a:ext cx="5029200" cy="198144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упым углом называется угол больше прям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124080" y="5181480"/>
            <a:ext cx="4496040" cy="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H="1" flipV="1">
            <a:off x="1218960" y="2438280"/>
            <a:ext cx="1904760" cy="274320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оугольник это четырехугольник  у которого все углы прям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219320" y="2743200"/>
            <a:ext cx="6553080" cy="3124080"/>
          </a:xfrm>
          <a:prstGeom prst="rect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219320" y="5562720"/>
            <a:ext cx="38088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драт это прямоугольник у которого все стороны ров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276720" y="3124080"/>
            <a:ext cx="2286000" cy="2133720"/>
          </a:xfrm>
          <a:prstGeom prst="rect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76720" y="5029200"/>
            <a:ext cx="22860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чки на чертеже обозначаются заглавными латинскими букв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600200" y="41148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1523880" y="40384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620120" y="4038480"/>
            <a:ext cx="15228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9"/>
          <p:cNvSpPr txBox="1"/>
          <p:nvPr/>
        </p:nvSpPr>
        <p:spPr>
          <a:xfrm>
            <a:off x="1295280" y="3124080"/>
            <a:ext cx="619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7467480" y="3124080"/>
            <a:ext cx="533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ощадь квадрата сторона которого 1 дм это единица площади квадратный децимет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6:15:52Z</dcterms:created>
  <dc:creator>Надежда</dc:creator>
  <dc:description/>
  <dc:language>en-US</dc:language>
  <cp:lastModifiedBy>User</cp:lastModifiedBy>
  <dcterms:modified xsi:type="dcterms:W3CDTF">2022-10-01T07:25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