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gif" ContentType="image/gif"/>
  <Override PartName="/ppt/media/image8.gif" ContentType="image/gif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16.jpeg" ContentType="image/jpeg"/>
  <Override PartName="/ppt/media/wind.wav" ContentType="audio/x-wav"/>
  <Override PartName="/ppt/media/image7.jpeg" ContentType="image/jpeg"/>
  <Override PartName="/ppt/media/image11.png" ContentType="image/png"/>
  <Override PartName="/ppt/media/image1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C6F8-A356-4701-A518-3814C89589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1E92-1CA3-4E6D-9176-7FFD9F921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FBE2-F175-4572-B855-119A1CC8A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3609-A800-4D40-AC42-AB7ACD4BF1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09A6-34D6-45EE-BC97-02D1E0114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E1FC-C7C8-4D6E-9C6E-979D1C520B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5F77-AE22-4F3D-B489-161901916E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ADF-EA4E-4678-A6E8-B2DF968E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258-02B5-499E-A832-F17B1F46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D86-82FF-46CD-8F51-F5E68F58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27D8-7B28-4E52-8AFB-178FB820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2925-AB7A-4AC3-9AC0-3FCEB9F4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ACF1-24A6-4527-9925-693B0494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A79A-451C-44E2-8723-1C4EDE28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A5F4-CED5-4720-B387-D0FB9456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269E-E379-4116-A0F7-E2C58FB2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9D90-11DB-43BE-82B6-3D8CB481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A00A-E7C8-49E1-9F1E-0302654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58B-153A-48C9-A822-9309E43D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E0AE-8709-436B-A8C9-4DAAE0A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6F92-0C77-4D5F-A234-686AC94B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4939-63D8-4A51-86D5-98E87628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C0F4-7ED6-4CB1-A8C2-5C73B294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B0BB-42F2-4157-9069-CCA25AB4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153-D7B4-4884-AC83-7C6A376F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AD9-90DF-4B25-B8C6-9C9791BC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06A-AA10-4E37-B422-F0E05314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32B-B622-4149-A07A-5C8F797E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F3F-D614-49E8-B5DF-7C49AB71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013-53F7-4F01-B6D2-89B85538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944C-2BD9-4D2B-960A-EAF9696D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D671-C065-4BBB-B8CF-22CAAB0165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778D-4725-4F7C-931D-E4556A4712B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Андреева А.А.учитель русского языка и литературы, МОУ СОШ №1, г.Мирный, 20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465F-755B-4FA3-85E5-8FF02369CEA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843120" y="1959120"/>
            <a:ext cx="3267000" cy="3808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427280" y="1484280"/>
            <a:ext cx="42591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фр. 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portrait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т старофранц.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portrair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«воспроизводить что-либо черта в черту», устар.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арсу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от лат.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person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«личность; особа») — изображение или описание какого-либо человека либо группы людей, существующих или существовавших в реальной действи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42775E-006 L -0.28316 -0.00116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Что такое ЛИТЕРАТУРНЫЙ ПОРТРЕТ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изображение наружности человека: черт его лица, фигуры, поз, мимики, жестов одеж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чего используе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ется как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ДНО ИЗ СРЕДСТВ ХАРАКТЕР ИСТИК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ли по портрету судить, как автор относится к своим героям?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ПРАЖНЕНИЕ 96 (УСТНО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Описание литературного героя - это описание художественно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Для чего нам в жизни необходимо уметь описывать внешность челове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важно быть наблюдательным человеком, внимательным к окружающим людям, замечать слёзы в глазах бабушки и преждевременные морщины на лице мамы, огорчение на лице учителя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Через внешность мы постигаем внутренний мир человека, его характер и настроение, находим главное и неповторимое в облике конкретного человека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важно не только находить, а и уметь описывать внешность челове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еловое описание внешности челове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 розыске пропавшего надо указать особые приметы. Важна точность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ставьте и запишите деловое описание по данной схем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терялся мальчик  (девочка)… лет… телосложение…рост…волосы…глаза…Зовут…Одет… Особые приметы: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Цель: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едача особых примет, по которым можно найти челове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00040" y="1785600"/>
            <a:ext cx="4757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нимание. Пропала девушка: на вид 14-16 лет, плотного телосложения, рост 165 см., волосы темно – русые, прямые, ниже плеч, глаза карие,. Зовут Людмила. Была одета в темно-синее пальто, джинсы. Особая примета: на шее большое родимое пятн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5429160" y="1857240"/>
            <a:ext cx="3353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Виды описа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2960" y="1857240"/>
            <a:ext cx="482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лово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художественно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учно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knigi-129.gif"/>
          <p:cNvPicPr/>
          <p:nvPr/>
        </p:nvPicPr>
        <p:blipFill>
          <a:blip r:embed="rId1"/>
          <a:stretch/>
        </p:blipFill>
        <p:spPr>
          <a:xfrm>
            <a:off x="5857920" y="1285920"/>
            <a:ext cx="1547640" cy="32148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4"/>
          <p:cNvSpPr/>
          <p:nvPr/>
        </p:nvSpPr>
        <p:spPr>
          <a:xfrm>
            <a:off x="108000" y="479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науки, которые занимаются изучением внешности людей, например психология, филология, криминалистика и некоторые другие. С элементами описания внешности сталкиваются и врачи, когда изучают анамнез болезни или психотип бо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6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6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6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6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6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6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6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Назовите овал лица, какое оно бывает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лое, длинное, широкое, узкое, продолговатое 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94da"/>
                </a:solidFill>
                <a:latin typeface="Calibri"/>
              </a:rPr>
              <a:t>Глаза- зеркало душ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4520" cy="4753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8000" y="1125000"/>
            <a:ext cx="3467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из наиболее выразительных знаков, поскольку передает важнейшее из пяти чувст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Застывшие и широко открыты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они предназначены для восприятия безграничного мира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Хитрые, прищуренные, загадочны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716360" y="55897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нтонелло да Мес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Мужской портр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Что мы можем сказать о глазах человека? Какие они по цвету, форме, глубинной наполненност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цветные, блестящие, искрометные, открытые, лучистые, задумчивые, заспанные, лукавые, озорные, правдивые, карие, голубовато-серые, скорбные, удивленные, изучающие, ясные, гневные, беспокойные., беззаботные, большие, внимательные, добр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Какими бывают брови у человека по цвету и форм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ные, белесые, густые, редкие, круглые, длинные, вразлёт, нависш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58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звитие речи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русского языка в 7  класс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5640" y="3068640"/>
            <a:ext cx="70009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Тема урока: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писание внешности человека. Подготовка к написанию сочи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826920" y="544500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формулируйте цель и задач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wind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19640" y="620280"/>
            <a:ext cx="309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94da"/>
                </a:solidFill>
                <a:latin typeface="Calibri"/>
              </a:rPr>
              <a:t>Н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х, какой нос у профиля  Савонаролы на портрете Фра Барроломео! Не нос, а песн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енравный, гордый, выдающий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5589720"/>
            <a:ext cx="6119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жиролама Савонар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3280" y="529920"/>
            <a:ext cx="81835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офиль Джироламо способен рассказать за него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авонарола, итальянский монах, живший во второй половине XV века (1452-1498). Его жизнь очень активна, многое сделал, во многом преуспел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 1490 году Джироламо Савонарола прогнал Медичи и заодно евреев из созданной им католической теократи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авонарола остался в памяти веков не только как великий человек, но и как человек достойный любви и уважения, как герой, как мученик, как борец за святость Церкви и порядочность человеческого общества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Описание носа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ьшой, длинный, короткий, крошечный, крупный, маленький, массивный, огромный, увесистый, тяжелый, античный, горбатый, греческий, римский, классический, вздернутый, вислый, курносый, кривой, сплюснутый, клювом, крючком, пуговко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Улыбка скажет о человеке всё.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60020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ыбка озаряет лицо человека, делает его светлее. До сих пор люди замирают перед картиной Леонардо да Винчи «Джоконд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4356000" y="1797120"/>
            <a:ext cx="4734000" cy="43131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4"/>
          <p:cNvSpPr/>
          <p:nvPr/>
        </p:nvSpPr>
        <p:spPr>
          <a:xfrm>
            <a:off x="468360" y="62802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 какими словами описали бы вы улыбку Джоконды?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ш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5" descr=""/>
          <p:cNvPicPr/>
          <p:nvPr/>
        </p:nvPicPr>
        <p:blipFill>
          <a:blip r:embed="rId2"/>
          <a:stretch/>
        </p:blipFill>
        <p:spPr>
          <a:xfrm>
            <a:off x="223920" y="361800"/>
            <a:ext cx="862308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600200"/>
            <a:ext cx="43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еличественная, доверчивая, миролюбивая, презрительная, прекрасная, равнодушная, многозначительная, ироническая, насмешливая, пленительная, добродушная, лучезарна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4356000" y="1797120"/>
            <a:ext cx="47340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983120"/>
            <a:ext cx="77868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594da"/>
                </a:solidFill>
                <a:latin typeface="Calibri"/>
              </a:rPr>
              <a:t>Руки- свидетели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6" descr="Рисунок11"/>
          <p:cNvPicPr/>
          <p:nvPr/>
        </p:nvPicPr>
        <p:blipFill>
          <a:blip r:embed="rId1"/>
          <a:stretch/>
        </p:blipFill>
        <p:spPr>
          <a:xfrm>
            <a:off x="1116000" y="620640"/>
            <a:ext cx="676908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3663720" cy="4525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0" y="836280"/>
            <a:ext cx="3898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лодые руки, легкие, белые, изящные, тонк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руки милой- пара лебедей, в золоте волос моих ныряют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Есенин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427640" y="4947840"/>
            <a:ext cx="30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Портрет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известной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шляпой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руке»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силий Худ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183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вижение на портрет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529920"/>
            <a:ext cx="39783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гуры девушек показаны в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иже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авно и ритмично спускаются по ступеням лестницы сестры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рациозна и стройн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аршая Шишмарева, привлекающая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зяществом движ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с каким она придерживает амазонку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Застывшей кажетс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младшая сес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Жесты, мими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чень изящны, миловидны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08000" y="4203720"/>
            <a:ext cx="251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«Портрет сестёр Шишмарёв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рю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9" descr="Рисунок2"/>
          <p:cNvPicPr/>
          <p:nvPr/>
        </p:nvPicPr>
        <p:blipFill>
          <a:blip r:embed="rId1"/>
          <a:stretch/>
        </p:blipFill>
        <p:spPr>
          <a:xfrm>
            <a:off x="4759200" y="549360"/>
            <a:ext cx="38134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Как вы думаете, что ещё необходимо отразить в описании внешности челове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до постараться найти характерные особенности его индивидуальности, что может быть связано с его профессией, с его душевным состоя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внешности может открывать нам внутреннее состояние человека и в какой-то степени – характер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 rot="21256800">
            <a:off x="494640" y="934560"/>
            <a:ext cx="877572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Требования к сочинению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предели свой замысел. Зачем ты описываешь именно этого человек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чувствуй индивидуальность неповторимость, что поможет понять его характер, настроение, внутреннее “Я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думайте последовательность излож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заменяйте описание повествованием (т.е. вместо описания друга, вы рассказываете о том, как вы познакомились и подружились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2" descr=""/>
          <p:cNvPicPr/>
          <p:nvPr/>
        </p:nvPicPr>
        <p:blipFill>
          <a:blip r:embed="rId1"/>
          <a:stretch/>
        </p:blipFill>
        <p:spPr>
          <a:xfrm>
            <a:off x="506520" y="4986360"/>
            <a:ext cx="8180280" cy="1189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71640" y="1484280"/>
            <a:ext cx="7345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П    РТРЕТ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2050920" y="1628640"/>
            <a:ext cx="1152720" cy="1150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6156000" y="981000"/>
            <a:ext cx="431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54544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дготовка к сочин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529920"/>
            <a:ext cx="81471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ль: художествен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 речи: опис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человеке должно быть все прекрасно: и лицо, и одежда, и душа, и мысл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план сочин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Вступление.Первое впечатление о челове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Основная час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Лицо(овал, глаза, брови, нос, губы, улыбка*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Фигура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Одежда, манера одева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Мимика, походка, жесты, манера гово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Описание внешности не только передает то, как человек выглядит, но и характеризует 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569880" y="530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спользуйте средства художественной выразительности (метафоры, эпитеты, сравнения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спользовать можно “портретную лексику”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ЛАЗА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ерые, карие, синие, чёрные, зелёные, голубые, небесные, серовато-голубые, лучистые, темные, светлые, маленькие, большие, хитрые, бегающие, узкие, косые, раскосые, злые, добрые, со смешинкой, дикие, приветливые, недоверчивые, коварны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ОС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прямой, с горбинкой, курносый, вздёрнутый, широкий, узк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ЛОСЫ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каштановые, светлые, русые, соломенные, седые, с проседью, густые, пышные, блестящие, короткие, длинные, прямые, волнистые, кудрявые, торчащие как палки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ХОДКА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собранная, вразвалку, быстрая, странная, подпрыгивающая, смешна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ЗГЛЯД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растерянный, весёлый недоверчивый, открытый, грустный, восторженный, хитрый, доверчивый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ак Вы думаете, определил ли автор этого описания свой замысел? Показал ли он в описании индивидуальность этого человека? Да ещё подруг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ТРЕТ ПОДРУ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й четырнадцать лет. Черты лица мелкие. Лицо круглое. Лоб небольшой, открытый. Волосы русые, заплетённые в косу с голубым бантом. Глаза синие и живые. Ресницы маленькие и белые. Нос небольшой с горбинкой. Рот маленький. Губы крас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3"/>
          <p:cNvSpPr/>
          <p:nvPr/>
        </p:nvSpPr>
        <p:spPr>
          <a:xfrm>
            <a:off x="822240" y="55022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Т, потому что описываются отдельные детали внешности девочки, их перечисление. А индивидуальное, существенное не выделено. Получился набор ф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 какого-либо знакомого человека, подчеркните в его портрете  индивидуальность так, чтобы мы по описанию внешности могли его узн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шите себя, глядя в зерка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ЫБ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Евгений Винокуров «Сколько прелести есть в человеческих лицах!..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колько прелести есть в человеческих лицах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сё смотрел бы на них и смотрел без конц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Но в глухих городишках и в огромных столиц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друг на улице встретишь лицо подлец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 брезгливость, и ужас почти не скрыва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Отмахнёшься, стараясь с дороги сверну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Но навеки запомнишь: ухмылка крива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 глаза, разбегающиеся, как рту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Берегите лицо человеческое. Нес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квозь года – и глаза молодые и р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Словно с озера, с глади лица не спугн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Выражение детскости и чисто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 чего состоит портрет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2052360"/>
            <a:ext cx="56433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Лицо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Глаза, взгляд, взор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Волосы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Осанка, фигура, рост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4100" spc="-1" strike="noStrike">
                <a:solidFill>
                  <a:srgbClr val="7030a0"/>
                </a:solidFill>
                <a:latin typeface="Calibri"/>
              </a:rPr>
              <a:t>Мимика, жесты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4" descr="knigi-106.gif"/>
          <p:cNvPicPr/>
          <p:nvPr/>
        </p:nvPicPr>
        <p:blipFill>
          <a:blip r:embed="rId1"/>
          <a:stretch/>
        </p:blipFill>
        <p:spPr>
          <a:xfrm>
            <a:off x="6588000" y="3716280"/>
            <a:ext cx="2143080" cy="2500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Викторина «Отгадай героя литературного произведения по описанию его внешности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нежная королева из сказки Г. Х. Андерс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Объект 4" descr=""/>
          <p:cNvPicPr/>
          <p:nvPr/>
        </p:nvPicPr>
        <p:blipFill>
          <a:blip r:embed="rId1"/>
          <a:stretch/>
        </p:blipFill>
        <p:spPr>
          <a:xfrm>
            <a:off x="3575160" y="1403280"/>
            <a:ext cx="5111640" cy="3592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Это была высокая, стройная, ослепительно белая женщина… и шуба и шапка на ней были из снег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ратай из былины «Вольга и Микула Селянинович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640" y="1434600"/>
            <a:ext cx="4319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«А у оратая кудри качаютс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Что не скучен ли жемчуг рассыпаютс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 оратая глаза да ясна сокол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А брови у него да чёрна собо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 оратая сапожки зелен сафьян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Вот шилом пяты, носы востры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Вот под пяту - пяту воробей пролетит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Около носа хоть яйцо прока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 оратая шапка пуховая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А кафтанчик у него чёрна бархат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Объект 5" descr=""/>
          <p:cNvPicPr/>
          <p:nvPr/>
        </p:nvPicPr>
        <p:blipFill>
          <a:blip r:embed="rId1"/>
          <a:stretch/>
        </p:blipFill>
        <p:spPr>
          <a:xfrm>
            <a:off x="4932360" y="941400"/>
            <a:ext cx="37544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Царевна – лебедь из «Сказки о царе Салтане Пушк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640" y="1434600"/>
            <a:ext cx="4319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Месяц под косой блест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во лбу звезда гори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 сама-то величав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ыступает, будто па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ладку речь-то говори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Будто реченька журчи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Объект 4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4942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стя из повести «Кладовая солнца» М. М. Пришв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640" y="1434600"/>
            <a:ext cx="4319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«…была как золотая курочка на высоких ножках. Волосы у  нее, ни темные, ни светлые, отливали золотом, веснушки по всему лицу были крупные, как золотые монетки, и частые, и тесно им было, и лезли они во все стороны. Только носик один был чистенький и глядел  вверх.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Объект 5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67080" cy="37450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6"/>
          <p:cNvSpPr/>
          <p:nvPr/>
        </p:nvSpPr>
        <p:spPr>
          <a:xfrm>
            <a:off x="611280" y="6165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Как вы узнавали героев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5:31:32Z</dcterms:created>
  <dc:creator>Admin</dc:creator>
  <dc:description/>
  <dc:language>en-US</dc:language>
  <cp:lastModifiedBy>Пользователь</cp:lastModifiedBy>
  <dcterms:modified xsi:type="dcterms:W3CDTF">2016-10-03T19:58:15Z</dcterms:modified>
  <cp:revision>156</cp:revision>
  <dc:subject/>
  <dc:title>Развитие речи.  Урок русского языка в 7 «Б» клас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9087009991</vt:lpwstr>
  </property>
</Properties>
</file>