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gif" ContentType="image/gif"/>
  <Override PartName="/ppt/media/image8.gif" ContentType="image/gif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16.jpeg" ContentType="image/jpeg"/>
  <Override PartName="/ppt/media/wind.wav" ContentType="audio/x-wav"/>
  <Override PartName="/ppt/media/image7.jpeg" ContentType="image/jpeg"/>
  <Override PartName="/ppt/media/image11.png" ContentType="image/png"/>
  <Override PartName="/ppt/media/image12.jpeg" ContentType="image/jpe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1A23-B81F-494C-88B2-91746CABF8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C6F8-B1FF-4FCA-831F-DCAF06A6EA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B0CE-01FA-49BF-B803-DBDBE3504B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DE3B-42BB-48AE-A7AB-C408D47ED0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99DE-4A2A-4724-8A0E-5D96E4891A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0C28-53B8-4BB1-A03D-FCF7476B43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7E95-03B1-4754-AE38-369132E316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A3EE-C5BF-45F9-8EDA-BAFA4E1F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8734-E6BF-4CE6-BCA4-8990F6C4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3DF-CC73-495B-8171-84793AFB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A3FF-4772-4BE1-B377-95EC2C42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5A3F-C6FB-4CDD-9627-01E5E9C1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D64A-50A9-4ACC-A73E-6C2153FC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12A9-4046-45B0-AEFB-A9E21AC0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A5F4-844F-4CCE-BD2E-468C6832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FB58-5A46-4E16-A479-7FC48B55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C850-1279-4359-8C16-532955FD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898A-4787-4B26-A81D-F6C908A7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444-F076-4804-8EA6-85FD3F56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1AA7-963A-4F22-A7BF-08FAF8B7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42D7-CDE5-49BA-8B50-432A8239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6F3A-5FDC-4278-8E76-C8E7DB67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31F3-67D1-40AD-92A5-F9FD9A49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FC56-BA7E-4D76-884D-CF2C0224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9F3-AFCC-4CD8-BE07-B8326C3F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C16-159F-4BA2-8414-906E553A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BE3-C744-4794-A2ED-80B57143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1FB0-8665-4991-A3D6-2CD3ABCD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379-ED4B-4448-8677-F60819AD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AF6-5270-491D-987F-77C2C11E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029-E1D9-4688-8E7F-800434DD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C8B6-640A-4574-BEB9-F7ABF44035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0285-F647-4E3B-B791-D41583860476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Андреева А.А.учитель русского языка и литературы, МОУ СОШ №1, г.Мирный, 20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8058-D7B7-454E-A216-D83401D7CBB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594da"/>
                </a:solidFill>
                <a:latin typeface="Calibri"/>
              </a:rPr>
              <a:t>Портр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843120" y="1959120"/>
            <a:ext cx="3267000" cy="3808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427280" y="1484280"/>
            <a:ext cx="4259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фр. 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portrai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от старофранц.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portrair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— «воспроизводить что-либо черта в черту», устар.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арсу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— от лат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person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— «личность; особа») — изображение или описание какого-либо человека либо группы людей, существующих или существовавших в реальной действи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42775E-006 L -0.28316 -0.00116 E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Что такое ЛИТЕРАТУРНЫЙ ПОРТРЕ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это изображение наружности человека: черт его лица, фигуры, поз, мимики, жестов одеж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чего используе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ется как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ДНО ИЗ СРЕДСТВ ХАРАКТЕР ИСТИКИ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ли по портрету судить, как автор относится к своим героям?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ПРАЖНЕНИЕ 96 (УСТНО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Описание литературного героя - это описание художественное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Для чего нам в жизни необходимо уметь описывать внешность челове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важно быть наблюдательным человеком, внимательным к окружающим людям, замечать слёзы в глазах бабушки и преждевременные морщины на лице мамы, огорчение на лице учителя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Через внешность мы постигаем внутренний мир человека, его характер и настроение, находим главное и неповторимое в облике конкретного человека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важно не только находить, а и уметь описывать внешность челов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еловое описание внешности челове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 розыске пропавшего надо указать особые приметы. Важна точность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ьте и запишите деловое описание по данной схем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ерялся мальчик  (девочка)… лет… телосложение…рост…волосы…глаза…Зовут…Одет… Особые приметы: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Цель: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ередача особых примет, по которым можно найти челове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785600"/>
            <a:ext cx="4757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нимание. Пропала девушка: на вид 14-16 лет, плотного телосложения, рост 165 см., волосы темно – русые, прямые, ниже плеч, глаза карие,. Зовут Людмила. Была одета в темно-синее пальто, джинсы. Особая примета: на шее большое родимое пятн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3" descr="Рисунок1.gif"/>
          <p:cNvPicPr/>
          <p:nvPr/>
        </p:nvPicPr>
        <p:blipFill>
          <a:blip r:embed="rId1"/>
          <a:stretch/>
        </p:blipFill>
        <p:spPr>
          <a:xfrm>
            <a:off x="5429160" y="1857240"/>
            <a:ext cx="3353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Виды описа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2960" y="185724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елово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художественно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учно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3" descr="knigi-129.gif"/>
          <p:cNvPicPr/>
          <p:nvPr/>
        </p:nvPicPr>
        <p:blipFill>
          <a:blip r:embed="rId1"/>
          <a:stretch/>
        </p:blipFill>
        <p:spPr>
          <a:xfrm>
            <a:off x="5857920" y="1285920"/>
            <a:ext cx="1547640" cy="32148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4"/>
          <p:cNvSpPr/>
          <p:nvPr/>
        </p:nvSpPr>
        <p:spPr>
          <a:xfrm>
            <a:off x="108000" y="4797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ют науки, которые занимаются изучением внешности людей, например психология, филология, криминалистика и некоторые другие. С элементами описания внешности сталкиваются и врачи, когда изучают анамнез болезни или психотип бо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6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6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6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6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6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6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6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6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Назовите овал лица, какое оно бывает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углое, длинное, широкое, узкое, продолговатое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94da"/>
                </a:solidFill>
                <a:latin typeface="Calibri"/>
              </a:rPr>
              <a:t>Глаза- зеркало душ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124520" cy="4753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48000" y="1125000"/>
            <a:ext cx="34671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ин из наиболее выразительных знаков, поскольку передает важнейшее из пяти чувст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Застывшие и широко открыты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они предназначены для восприятия безграничного мира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итрые, прищуренные, загадочные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716360" y="55897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тонелло да Месс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Мужской портр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Что мы можем сказать о глазах человека? Какие они по цвету, форме, глубинной наполненност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цветные, блестящие, искрометные, открытые, лучистые, задумчивые, заспанные, лукавые, озорные, правдивые, карие, голубовато-серые, скорбные, удивленные, изучающие, ясные, гневные, беспокойные., беззаботные, большие, внимательные, добр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Какими бывают брови у человека по цвету и форме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рные, белесые, густые, редкие, круглые, длинные, вразлёт, нависш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358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звитие речи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рок русского языка в 7  класс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5640" y="3068640"/>
            <a:ext cx="70009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Тема урока: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писание внешности человека. Подготовка к написанию сочи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826920" y="5445000"/>
            <a:ext cx="74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формулируйте цель и задачи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1" name="wind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219640" y="620280"/>
            <a:ext cx="3097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94da"/>
                </a:solidFill>
                <a:latin typeface="Calibri"/>
              </a:rPr>
              <a:t>Н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х, какой нос у профиля  Савонаролы на портрете Фра Барроломео! Не нос, а песн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енравный, гордый, выдающий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33717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5589720"/>
            <a:ext cx="6119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жиролама Савонар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03280" y="529920"/>
            <a:ext cx="8183520" cy="52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офиль Джироламо способен рассказать за него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авонарола, итальянский монах, живший во второй половине XV века (1452-1498). Его жизнь очень активна, многое сделал, во многом преуспел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 1490 году Джироламо Савонарола прогнал Медичи и заодно евреев из созданной им католической теократи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авонарола остался в памяти веков не только как великий человек, но и как человек достойный любви и уважения, как герой, как мученик, как борец за святость Церкви и порядочность человеческого общества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Описание носа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ольшой, длинный, короткий, крошечный, крупный, маленький, массивный, огромный, увесистый, тяжелый, античный, горбатый, греческий, римский, классический, вздернутый, вислый, курносый, кривой, сплюснутый, клювом, крючком, пуговко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Улыбка скажет о человеке всё.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79280" y="1600200"/>
            <a:ext cx="43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лыбка озаряет лицо человека, делает его светлее. До сих пор люди замирают перед картиной Леонардо да Винчи «Джоконд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Рисунок 3" descr=""/>
          <p:cNvPicPr/>
          <p:nvPr/>
        </p:nvPicPr>
        <p:blipFill>
          <a:blip r:embed="rId1"/>
          <a:stretch/>
        </p:blipFill>
        <p:spPr>
          <a:xfrm>
            <a:off x="4356000" y="1797120"/>
            <a:ext cx="4734000" cy="431316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468360" y="62802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какими словами описали бы вы улыбку Джоконды?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ш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5" descr=""/>
          <p:cNvPicPr/>
          <p:nvPr/>
        </p:nvPicPr>
        <p:blipFill>
          <a:blip r:embed="rId2"/>
          <a:stretch/>
        </p:blipFill>
        <p:spPr>
          <a:xfrm>
            <a:off x="223920" y="361800"/>
            <a:ext cx="862308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600200"/>
            <a:ext cx="43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еличественная, доверчивая, миролюбивая, презрительная, прекрасная, равнодушная, многозначительная, ироническая, насмешливая, пленительная, добродушная, лучезарна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3" descr=""/>
          <p:cNvPicPr/>
          <p:nvPr/>
        </p:nvPicPr>
        <p:blipFill>
          <a:blip r:embed="rId1"/>
          <a:stretch/>
        </p:blipFill>
        <p:spPr>
          <a:xfrm>
            <a:off x="4356000" y="1797120"/>
            <a:ext cx="473400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983120"/>
            <a:ext cx="77868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94da"/>
                </a:solidFill>
                <a:latin typeface="Calibri"/>
              </a:rPr>
              <a:t>Руки- свидетели возра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6" descr="Рисунок11"/>
          <p:cNvPicPr/>
          <p:nvPr/>
        </p:nvPicPr>
        <p:blipFill>
          <a:blip r:embed="rId1"/>
          <a:stretch/>
        </p:blipFill>
        <p:spPr>
          <a:xfrm>
            <a:off x="1116000" y="620640"/>
            <a:ext cx="676908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3663720" cy="45259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0" y="836280"/>
            <a:ext cx="389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лодые руки, легкие, белые, изящные, тонк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…руки милой- пара лебедей, в золоте волос моих ныряют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Есенин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427640" y="4947840"/>
            <a:ext cx="300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Портрет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еизвестной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о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шляпой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руке»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асилий Худя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1835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вижение на портрет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529920"/>
            <a:ext cx="39783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гуры девушек показаны в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виже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вно и ритмично спускаются по ступеням лестницы сестры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рациозна и строй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таршая Шишмарева, привлекающая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зяществом движ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с каким она придерживает амазонку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Застывшей кажетс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адшая сест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Жесты, мими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чень изящны, миловидны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908000" y="4203720"/>
            <a:ext cx="251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«Портрет сестёр Шишмарёв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л Брю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Рисунок2"/>
          <p:cNvPicPr/>
          <p:nvPr/>
        </p:nvPicPr>
        <p:blipFill>
          <a:blip r:embed="rId1"/>
          <a:stretch/>
        </p:blipFill>
        <p:spPr>
          <a:xfrm>
            <a:off x="4759200" y="549360"/>
            <a:ext cx="38134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Как вы думаете, что ещё необходимо отразить в описании внешности челове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до постараться найти характерные особенности его индивидуальности, что может быть связано с его профессией, с его душевным состоя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сание внешности может открывать нам внутреннее состояние человека и в какой-то степени – характер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 rot="21256800">
            <a:off x="494640" y="934560"/>
            <a:ext cx="877572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Требования к сочинению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предели свой замысел. Зачем ты описываешь именно этого человек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чувствуй индивидуальность неповторимость, что поможет понять его характер, настроение, внутреннее “Я”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думайте последовательность излож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 заменяйте описание повествованием (т.е. вместо описания друга, вы рассказываете о том, как вы познакомились и подружились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506520" y="4986360"/>
            <a:ext cx="8180280" cy="1189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71640" y="1484280"/>
            <a:ext cx="73454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П    РТРЕТ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2050920" y="1628640"/>
            <a:ext cx="1152720" cy="1150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6156000" y="981000"/>
            <a:ext cx="43164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554544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дготовка к сочин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280" y="529920"/>
            <a:ext cx="81471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иль: художествен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п речи: опис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 человеке должно быть все прекрасно: и лицо, и одежда, и душа, и мысл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ий план сочи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Вступление.Первое впечатление о челове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Основная час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Лицо(овал, глаза, брови, нос, губы, улыбка*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Фигура челов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Одежда, манера одева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Мимика, походка, жесты, манера говор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Описание внешности не только передает то, как человек выглядит, но и характеризует 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569880" y="5300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пользуйте средства художественной выразительности (метафоры, эпитеты, сравнения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Использовать можно “портретную лексику”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ЛАЗА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серые, карие, синие, чёрные, зелёные, голубые, небесные, серовато-голубые, лучистые, темные, светлые, маленькие, большие, хитрые, бегающие, узкие, косые, раскосые, злые, добрые, со смешинкой, дикие, приветливые, недоверчивые, коварные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ОС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прямой, с горбинкой, курносый, вздёрнутый, широкий, узк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ЛОСЫ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каштановые, светлые, русые, соломенные, седые, с проседью, густые, пышные, блестящие, короткие, длинные, прямые, волнистые, кудрявые, торчащие как палки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ХОДКА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собранная, вразвалку, быстрая, странная, подпрыгивающая, смешна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ЗГЛЯД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растерянный, весёлый недоверчивый, открытый, грустный, восторженный, хитрый, доверчивый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Как Вы думаете, определил ли автор этого описания свой замысел? Показал ли он в описании индивидуальность этого человека? Да ещё подруг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ТРЕТ ПОДРУ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й четырнадцать лет. Черты лица мелкие. Лицо круглое. Лоб небольшой, открытый. Волосы русые, заплетённые в косу с голубым бантом. Глаза синие и живые. Ресницы маленькие и белые. Нос небольшой с горбинкой. Рот маленький. Губы крас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3"/>
          <p:cNvSpPr/>
          <p:nvPr/>
        </p:nvSpPr>
        <p:spPr>
          <a:xfrm>
            <a:off x="822240" y="550224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Т, потому что описываются отдельные детали внешности девочки, их перечисление. А индивидуальное, существенное не выделено. Получился набор ф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шите какого-либо знакомого человека, подчеркните в его портрете  индивидуальность так, чтобы мы по описанию внешности могли его узн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шите себя, глядя в зерка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ВЫБ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Евгений Винокуров «Сколько прелести есть в человеческих лицах!..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Сколько прелести есть в человеческих лицах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сё смотрел бы на них и смотрел без конц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Но в глухих городишках и в огромных столиц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друг на улице встретишь лицо подлец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И брезгливость, и ужас почти не скрывая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Отмахнёшься, стараясь с дороги сверну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Но навеки запомнишь: ухмылка крива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И глаза, разбегающиеся, как рту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Берегите лицо человеческое. Неси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Сквозь года – и глаза молодые и р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Словно с озера, с глади лица не спугни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ыражение детскости и чисто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Из чего состоит портрет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11280" y="2052360"/>
            <a:ext cx="564336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7030a0"/>
                </a:solidFill>
                <a:latin typeface="Calibri"/>
              </a:rPr>
              <a:t>Лицо;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7030a0"/>
                </a:solidFill>
                <a:latin typeface="Calibri"/>
              </a:rPr>
              <a:t>Глаза, взгляд, взор;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7030a0"/>
                </a:solidFill>
                <a:latin typeface="Calibri"/>
              </a:rPr>
              <a:t>Волосы;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7030a0"/>
                </a:solidFill>
                <a:latin typeface="Calibri"/>
              </a:rPr>
              <a:t>Осанка, фигура, рост;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4100" spc="-1" strike="noStrike">
                <a:solidFill>
                  <a:srgbClr val="7030a0"/>
                </a:solidFill>
                <a:latin typeface="Calibri"/>
              </a:rPr>
              <a:t>Мимика, жесты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4" descr="knigi-106.gif"/>
          <p:cNvPicPr/>
          <p:nvPr/>
        </p:nvPicPr>
        <p:blipFill>
          <a:blip r:embed="rId1"/>
          <a:stretch/>
        </p:blipFill>
        <p:spPr>
          <a:xfrm>
            <a:off x="6588000" y="3716280"/>
            <a:ext cx="2143080" cy="2500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икторина «Отгадай героя литературного произведения по описанию его внешности</a:t>
            </a: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нежная королева из сказки Г. Х. Андерс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Объект 4" descr=""/>
          <p:cNvPicPr/>
          <p:nvPr/>
        </p:nvPicPr>
        <p:blipFill>
          <a:blip r:embed="rId1"/>
          <a:stretch/>
        </p:blipFill>
        <p:spPr>
          <a:xfrm>
            <a:off x="3575160" y="1403280"/>
            <a:ext cx="5111640" cy="3592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«Это была высокая, стройная, ослепительно белая женщина… и шуба и шапка на ней были из снег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ратай из былины «Вольга и Микула Селянинович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7640" y="1434600"/>
            <a:ext cx="4319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«А у оратая кудри качаются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Что не скучен ли жемчуг рассыпаются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У оратая глаза да ясна сокол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А брови у него да чёрна собол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У оратая сапожки зелен сафьян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Вот шилом пяты, носы востры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Вот под пяту - пяту воробей пролетит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Около носа хоть яйцо прока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У оратая шапка пуховая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А кафтанчик у него чёрна бархат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Объект 5" descr=""/>
          <p:cNvPicPr/>
          <p:nvPr/>
        </p:nvPicPr>
        <p:blipFill>
          <a:blip r:embed="rId1"/>
          <a:stretch/>
        </p:blipFill>
        <p:spPr>
          <a:xfrm>
            <a:off x="4932360" y="941400"/>
            <a:ext cx="37544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Царевна – лебедь из «Сказки о царе Салтане Пушк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640" y="1434600"/>
            <a:ext cx="4319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«Месяц под косой блест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 во лбу звезда гори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 сама-то величав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ыступает, будто па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ладку речь-то говор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Будто реченька журчи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Объект 4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49424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астя из повести «Кладовая солнца» М. М. Пришв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640" y="1434600"/>
            <a:ext cx="4319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«…была как золотая курочка на высоких ножках. Волосы у  нее, ни темные, ни светлые, отливали золотом, веснушки по всему лицу были крупные, как золотые монетки, и частые, и тесно им было, и лезли они во все стороны. Только носик один был чистенький и глядел  вверх.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Объект 5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267080" cy="37450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611280" y="61657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Как вы узнавали героев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5:31:32Z</dcterms:created>
  <dc:creator>Admin</dc:creator>
  <dc:description/>
  <dc:language>en-US</dc:language>
  <cp:lastModifiedBy>Пользователь</cp:lastModifiedBy>
  <dcterms:modified xsi:type="dcterms:W3CDTF">2016-10-03T19:58:15Z</dcterms:modified>
  <cp:revision>156</cp:revision>
  <dc:subject/>
  <dc:title>Развитие речи.  Урок русского языка в 7 «Б» класс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09991</vt:lpwstr>
  </property>
</Properties>
</file>