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F29A-13A0-4C40-9590-7625AC90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EAA5-31E0-4B09-9E31-ACDF12C9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E85F4-0C82-418D-9AAD-DF6904CA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43304-841C-42A2-9599-D8DD3618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F9756-4D12-4251-91EF-021E810B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68C6F-7E5C-4DE2-9FB2-C3E14222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F8179-DA62-43CF-8256-D449FA27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0A9D8-94C4-4038-8C08-79FBBDFB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77D17-1107-4FDA-85C9-3FE01DD4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270F7-7C3A-4C77-B6AE-8919EB05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9AA0C-E4D9-4635-BC5A-ABF0931A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181FE-7AF8-402E-B73A-68E75B6F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C8C-4665-46C3-8542-3F41CC26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EFCF1-79E0-409B-A593-F612F5CE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3E40B-974E-43D8-BF50-0D4DA50F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0EFF3-B385-453D-80A8-26A3A852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BF4D2-8376-4379-8184-BCC7CE3C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68DE1-EF98-4C3C-90C3-C295066D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240DF-04AC-42EB-9D24-48B9ED8E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15D70-0BBB-418E-92B1-B9FBC6C6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D6C56-7F80-47EE-AF79-0FF5FB18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9CE2E-DA86-4C3C-9289-9DF1A98A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2B0A3-ABB5-49AE-967C-10938E66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96B8-1F3C-4440-88E8-E9E3AC1E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7DA07-F3B0-4424-9DF1-789755E7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CAA88-1988-4B43-A612-0CAF6D9C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14EC7-378D-4245-965F-95006188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99715-3F57-4602-A6E3-248D8D8E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F8A25-FBE9-4E33-8F0E-609BD1CA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76555-7EB2-420E-94B3-9D852465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1B1BE-1A99-4B9C-87FB-8CDED285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EA112-29F5-4B3D-A81B-0C48059F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E7C02-860E-4BED-9D4D-F1068BEB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B18A6-8E28-4A19-A638-FD50E81C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EA37-00E4-4674-9ADD-6221DD54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BBFC0-3D09-4C1A-93C4-040F84D5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0E18B-DD5B-431D-ABA6-76308AA9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EDF06-02B0-4D32-AE9B-40F19D3A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8DE3F-EE0D-46E8-82F5-3A4299AD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75C2D-9677-4474-82E5-FCC0ED84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FD247-2E04-476A-884B-DEBCF968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3C3E8-12E0-4BA1-8BD8-1A011F67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C04D6-EDF2-4477-B74E-575E2BE8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F80B54-3658-4F40-8EF8-359E2E68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7D4EA-0C8A-4CB6-B36B-82903C3C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4691-7CCF-418C-90B9-708B4AA7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D40B6-1C87-46CA-88EC-1DE31754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CD9B7-CCB8-4CBC-937C-0E6243B5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55DC71-61C6-4A68-9059-CB140FD0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4564E-8A8A-417B-81DB-555B52F1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C21B8-4A19-4C8E-A64E-24A20D01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F027-711D-4209-A1B8-47D52304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DDDB-7A22-40BB-9ACE-5418B78C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5E36-0ACF-44CD-A05E-906E8F7A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1DEE-7C1C-4F80-A582-C80C521D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A595-0DCF-4E3F-B182-F23E6051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D3C4-70A2-462C-9C36-76BC53C2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B962-3710-4FD4-84ED-D5E36D1D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B480-D9F6-4E8B-90AA-E4F2793C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628F-C5ED-454D-9FF9-E72E378C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3565-CDB0-400E-A63E-666251F6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852B-37B5-4FA8-86B3-5D304419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2582A-9B66-491E-92CC-AB50FD41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1C2D5-C22A-4CC4-973D-12C11E72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31112-9174-4422-A1A9-39280CB8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69DD6-0B41-4FCC-9E0A-253C3320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A991A-DCD0-4D62-8E03-31317BFC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45FA-7F77-4CBC-9739-E2596C13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352BA-05A8-42B4-BC4A-83F3DE23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3DDD8-2AEF-420F-857D-402C704B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0E82A-863D-4CFB-9967-ACB3D697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47746-8AFD-4FEA-A4ED-D3C3DEB3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4ECDB-BDAE-476F-A0E6-A25407D7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2A91E-2B77-4A3C-8C31-60B9062D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63D29-1DF6-40CB-937A-1AAB87C4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9E932-0F91-40AB-B366-798BB7FE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84D82-DBC8-4B0A-A1D8-BC138E09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200CE-E807-45DA-A54D-F2E5382B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640E-4E86-43D2-8661-410F4BB5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83E9A-4AFC-4537-B130-43DA176D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7C82E-3DE6-40A3-95D3-FB5F67AC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59FEB-796C-45C4-ABA4-7708FBC6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470C4-5450-4092-A333-5C60BAD3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B82C5-A9F8-4BAD-94D6-287B5EA0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7EAA9-6B32-471B-B1B6-3410D8E3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5329B-2D24-42C6-9746-90485A93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869F3-2A51-483F-AD04-B9BD1CAB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82BD8-3425-495A-BAB1-6EE40A0E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D4E2D-CA7C-45D8-A2B9-95C29DD8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3E3-A0E9-448A-B1DC-A2C461D8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AB2E4-1EF4-4284-A40F-12CAD1A4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1035F-45B6-4496-8891-AE867C87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9FA8D-5D4B-4287-B346-2F55EE65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F7B1A-800E-40D9-BB4A-5957BC71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20220-45C1-47C9-9071-1C2D0276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FED0D-B209-4F8F-A5F8-42689DB6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65437-7BF2-4DBD-A8B9-67B16D20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BFBAA-25D2-42CD-82F4-9C9DA162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12C6D-279E-4B97-A4C3-FBD57958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BF5CC-B614-4526-A061-494579DA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27C-349D-4134-9C24-6B4B5BD8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30B16-F750-4777-A4EB-10DE2692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E45F8-F8BC-4478-977F-987A141E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2B6D1-0981-463E-BCC6-27B58881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1F278-3757-4544-A480-B2A83160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1128A-A545-4A62-92D4-9B8F7F2C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D8C3B-A980-4C8B-9DB1-5E43CD98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47705-3A74-438C-A171-D0CC4136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DC14D-3D40-44C9-9A4F-CCFC6091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2BA94-17DA-4822-A3AE-A0F63C60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E4403-25D9-42B7-A0D4-B0BFF383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E16F-9BEB-448A-8FD2-9BC233B4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AD49E-36B9-49C2-908D-D47250FE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D010B-143D-4927-A1DB-44276E04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A0D15-AED6-4878-9095-F45B4A33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D0A35-7F94-4EE9-B973-17947DDAD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63217-329C-4776-8782-CE198136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49F74-430B-425D-A130-CC253C84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E00C3-40DA-4071-A8F7-1BB015F9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BBBFB-6923-46BE-AB6D-39C89EDF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07CD4-69A8-4DC3-9B41-E480FE8E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2029F-4727-48DD-996E-A82018F1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388D-E0A7-4549-9516-2AA742D4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C5B39-9250-43AA-B68A-3B7EADB2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AC9FD-7DD7-435F-B65D-51D71084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06DFB-D958-441E-A860-C87DDBAB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2953A-8090-4E9B-80F2-B28BFABA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2D6F6-777A-4321-95D6-49DBF8AA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44F4B-3362-43AD-9108-CF6E179B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5C94A-F985-4DC6-B23B-8089A4BF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ACFB1-B948-410C-ABDE-0D8C75FC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FD315-FAF7-42A8-AF37-2AA22685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D27F6-2534-4F67-8E3D-4E499D0A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EA15-28DC-4E87-90B7-F599C7B2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42F17-929B-4682-8D30-0E944ACD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E29C2-978E-4D75-966F-6C8D0985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904F4-71E7-4C80-9A47-D26766A3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4206C-F74E-4CE2-AD49-49162BCD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E303F-015E-48F9-B548-4C4EC138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054C0-634E-45E1-822A-99C877A6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6F4BA-AEA8-4E71-BB08-7BA9E67E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A2875-339B-4200-88DD-73B894F6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BAB1E-3354-409F-BEA9-ADF40E29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7BE34-EA47-4186-AA69-CD50A3EF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B009-07E9-46A6-9612-644BA7CDD7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BB66-CF37-4C2E-8187-C3B5CB1005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90C6-854A-4C92-B8C2-D11A094659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82D7-E7FB-4C39-A683-ADD89F28FA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8C6C-1802-4E51-8F40-D43D0C0DD4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4716-C060-48FB-B5BE-2A40FFCC63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229B-1A6B-43AA-8211-9A217C372B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59A6-D860-4CC1-9CB6-0FF109E002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0EF9-2D18-4D56-A79E-FCCA4A0FA3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DDCA-25D8-4A10-9083-52E6A97049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5391-E5E7-4141-9CE7-2552119CD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01FA-C7A6-443A-A195-F0777C1952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964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Прямоугольник 5"/>
          <p:cNvSpPr/>
          <p:nvPr/>
        </p:nvSpPr>
        <p:spPr>
          <a:xfrm>
            <a:off x="2357280" y="714240"/>
            <a:ext cx="64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Прямоугольник 6"/>
          <p:cNvSpPr/>
          <p:nvPr/>
        </p:nvSpPr>
        <p:spPr>
          <a:xfrm>
            <a:off x="1285920" y="6072120"/>
            <a:ext cx="69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Прямоугольник 8"/>
          <p:cNvSpPr/>
          <p:nvPr/>
        </p:nvSpPr>
        <p:spPr>
          <a:xfrm>
            <a:off x="214200" y="1071720"/>
            <a:ext cx="857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Девиз  урока :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Думаешь – коллективно! Решаешь – оперативно! Отвечаешь – доказательно! 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И открытия нас ждут обязательно!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3581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огут ли вирусы приносить пользу?</a:t>
            </a:r>
            <a:br>
              <a:rPr sz="28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79280" y="856800"/>
            <a:ext cx="8964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Прямоугольник 3"/>
          <p:cNvSpPr/>
          <p:nvPr/>
        </p:nvSpPr>
        <p:spPr>
          <a:xfrm>
            <a:off x="642960" y="1000080"/>
            <a:ext cx="8501040" cy="30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Ответ найдите в учебнике на стр. 106- 107. и заполните  таблицу «Значение вирусов»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642960" y="1928880"/>
          <a:ext cx="7643880" cy="1928880"/>
        </p:xfrm>
        <a:graphic>
          <a:graphicData uri="http://schemas.openxmlformats.org/drawingml/2006/table">
            <a:tbl>
              <a:tblPr/>
              <a:tblGrid>
                <a:gridCol w="3857760"/>
                <a:gridCol w="378612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рицательная роль виру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ожительная роль виру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2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  <p:pic>
        <p:nvPicPr>
          <p:cNvPr id="534" name="Picture 2" descr="C:\Users\111\Downloads\В 11.jpg"/>
          <p:cNvPicPr/>
          <p:nvPr/>
        </p:nvPicPr>
        <p:blipFill>
          <a:blip r:embed="rId2"/>
          <a:srcRect l="72785" t="20833" r="7740" b="39583"/>
          <a:stretch/>
        </p:blipFill>
        <p:spPr>
          <a:xfrm>
            <a:off x="3071880" y="3706920"/>
            <a:ext cx="2063520" cy="31510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7" descr="C:\Users\111\Downloads\тюльпан.jpg"/>
          <p:cNvPicPr/>
          <p:nvPr/>
        </p:nvPicPr>
        <p:blipFill>
          <a:blip r:embed="rId3"/>
          <a:srcRect l="50782" t="14583" r="9378" b="2079"/>
          <a:stretch/>
        </p:blipFill>
        <p:spPr>
          <a:xfrm>
            <a:off x="6143760" y="3701880"/>
            <a:ext cx="2500200" cy="29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облема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Вирус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–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это существо или вещество?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Calibri"/>
              </a:rPr>
              <a:t>»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выскажите свое отношение к этой проблеме</a:t>
            </a:r>
            <a:r>
              <a:rPr b="1" lang="ru-RU" sz="2400" spc="-1" strike="noStrike">
                <a:solidFill>
                  <a:srgbClr val="003366"/>
                </a:solidFill>
                <a:latin typeface="Calibri"/>
                <a:ea typeface="Calibri"/>
              </a:rPr>
              <a:t>…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  <a:ea typeface="Calibri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6840" y="2174760"/>
            <a:ext cx="36860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Вирусы не имеют клеточного стро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Способны жить и размножаться внутри других организм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Вирусы – внутриклеточные паразит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Вне клетки представляют собой кристалл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286160" y="2174760"/>
            <a:ext cx="44006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Вне клетки хозяина они не проявляют никаких свойств живого организм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не питаются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не вырабатывают энергии, не растут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у них нет обмена вещест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ffff"/>
                </a:solidFill>
                <a:latin typeface="Tahoma"/>
              </a:rPr>
              <a:t>Вирусы находятся на границе живого и нежив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5"/>
          <p:cNvSpPr/>
          <p:nvPr/>
        </p:nvSpPr>
        <p:spPr>
          <a:xfrm>
            <a:off x="0" y="4005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2" name="Picture 2" descr="C:\Users\111\Downloads\В 11.jpg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80438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143000"/>
            <a:ext cx="80438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ahoma"/>
              </a:rPr>
              <a:t>Правила составления синквей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1 строка – одно слово, обычно существительное,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( это тема синквейн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2 строка – два слова, прилагательные,                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(раскрывающих тему синквейн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3 строка – три слова, глагол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( описывающие действия в  рамках тем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4 строка – одно предложени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( выражающее отношение к теме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5 строка – одно слово-резю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( позволяющее выразить своё отношение к тем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5080" y="1535040"/>
            <a:ext cx="364176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8501040" y="2174760"/>
            <a:ext cx="18576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6840" y="1642680"/>
            <a:ext cx="40402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ahoma"/>
              </a:rPr>
              <a:t>Параз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a85ff"/>
                </a:solidFill>
                <a:latin typeface="Tahoma"/>
              </a:rPr>
              <a:t>Микроскопические, ядовит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ffff"/>
                </a:solidFill>
                <a:latin typeface="Tahoma"/>
              </a:rPr>
              <a:t>Заражают, размножаются, уби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Будь осторожен, каждый живой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Опас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Picture 13" descr="C:\Users\111\Downloads\сл.3.jpg"/>
          <p:cNvPicPr/>
          <p:nvPr/>
        </p:nvPicPr>
        <p:blipFill>
          <a:blip r:embed="rId1"/>
          <a:srcRect l="14103" t="12055" r="6360" b="0"/>
          <a:stretch/>
        </p:blipFill>
        <p:spPr>
          <a:xfrm>
            <a:off x="4440240" y="2357280"/>
            <a:ext cx="4565520" cy="378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Наши совет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Соблюдайте правила личной гигиены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Остерегайтесь больных людей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Занимайтесь спорто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Следите за своим здоровье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7030a0"/>
                </a:solidFill>
                <a:latin typeface="Tahoma"/>
              </a:rPr>
              <a:t>И вирусы  вам будут нипочем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14348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Готовимся к ВПР по биолог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50104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ffff"/>
                </a:solidFill>
                <a:latin typeface="Tahoma"/>
              </a:rPr>
              <a:t>Рассмотрите фотографии с изображением различных объектов прир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5481"/>
                </a:solidFill>
                <a:latin typeface="Tahoma"/>
              </a:rPr>
              <a:t>1.1 Подпишите названия, используя слова из предложенного списка</a:t>
            </a:r>
            <a:r>
              <a:rPr b="1" lang="ru-RU" sz="1800" spc="-1" strike="noStrike">
                <a:solidFill>
                  <a:srgbClr val="2b5481"/>
                </a:solidFill>
                <a:latin typeface="Tahoma"/>
              </a:rPr>
              <a:t>:  </a:t>
            </a:r>
            <a:r>
              <a:rPr b="0" i="1" lang="ru-RU" sz="1800" spc="-1" strike="noStrike">
                <a:solidFill>
                  <a:srgbClr val="ff0000"/>
                </a:solidFill>
                <a:latin typeface="Tahoma"/>
              </a:rPr>
              <a:t>вирусы, растения, живот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5481"/>
                </a:solidFill>
                <a:latin typeface="Tahoma"/>
              </a:rPr>
              <a:t>1.2. Два из изображенных на фотографиях объекта объединены общим признаком. Выпишите название объекта, «выпадающего» из общего ряда. Объясните свой выбор</a:t>
            </a:r>
            <a:r>
              <a:rPr b="0" lang="ru-RU" sz="1800" spc="-1" strike="noStrike">
                <a:solidFill>
                  <a:srgbClr val="ffc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Ответ: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_________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_______________________________________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________________________________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7" name="Рисунок 4" descr="C:\Users\111\Downloads\вирус.jpg"/>
          <p:cNvPicPr/>
          <p:nvPr/>
        </p:nvPicPr>
        <p:blipFill>
          <a:blip r:embed="rId1"/>
          <a:srcRect l="9000" t="2467" r="53244" b="66283"/>
          <a:stretch/>
        </p:blipFill>
        <p:spPr>
          <a:xfrm>
            <a:off x="357120" y="5357880"/>
            <a:ext cx="2286000" cy="150012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5" descr="C:\Users\111\Downloads\вирус.jpg"/>
          <p:cNvPicPr/>
          <p:nvPr/>
        </p:nvPicPr>
        <p:blipFill>
          <a:blip r:embed="rId2"/>
          <a:srcRect l="52622" t="1612" r="5945" b="66131"/>
          <a:stretch/>
        </p:blipFill>
        <p:spPr>
          <a:xfrm>
            <a:off x="6114960" y="5286240"/>
            <a:ext cx="2695680" cy="1571760"/>
          </a:xfrm>
          <a:prstGeom prst="rect">
            <a:avLst/>
          </a:prstGeom>
          <a:ln w="0">
            <a:noFill/>
          </a:ln>
        </p:spPr>
      </p:pic>
      <p:pic>
        <p:nvPicPr>
          <p:cNvPr id="559" name="Рисунок 6" descr="C:\Users\111\Downloads\вирус.jpg"/>
          <p:cNvPicPr/>
          <p:nvPr/>
        </p:nvPicPr>
        <p:blipFill>
          <a:blip r:embed="rId3"/>
          <a:srcRect l="6650" t="41129" r="51020" b="27218"/>
          <a:stretch/>
        </p:blipFill>
        <p:spPr>
          <a:xfrm>
            <a:off x="3000240" y="5286240"/>
            <a:ext cx="2810160" cy="1571760"/>
          </a:xfrm>
          <a:prstGeom prst="rect">
            <a:avLst/>
          </a:prstGeom>
          <a:ln w="0">
            <a:noFill/>
          </a:ln>
        </p:spPr>
      </p:pic>
      <p:sp>
        <p:nvSpPr>
          <p:cNvPr id="560" name="Прямоугольник 7"/>
          <p:cNvSpPr/>
          <p:nvPr/>
        </p:nvSpPr>
        <p:spPr>
          <a:xfrm>
            <a:off x="428760" y="392904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 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Rectangle 1"/>
          <p:cNvSpPr/>
          <p:nvPr/>
        </p:nvSpPr>
        <p:spPr>
          <a:xfrm>
            <a:off x="0" y="12060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0" y="12060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2160" y="9792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5" name="Picture 5" descr="C:\Users\111\Downloads\сл. 20.jpg"/>
          <p:cNvPicPr/>
          <p:nvPr/>
        </p:nvPicPr>
        <p:blipFill>
          <a:blip r:embed="rId1"/>
          <a:srcRect l="4429" t="69913" r="8333" b="4047"/>
          <a:stretch/>
        </p:blipFill>
        <p:spPr>
          <a:xfrm>
            <a:off x="285840" y="357120"/>
            <a:ext cx="8358120" cy="142884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"/>
          <p:cNvSpPr/>
          <p:nvPr/>
        </p:nvSpPr>
        <p:spPr>
          <a:xfrm>
            <a:off x="714240" y="2717280"/>
            <a:ext cx="7715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Изучить параграф 21, </a:t>
            </a:r>
            <a:r>
              <a:rPr b="0" lang="ru-RU" sz="3200" spc="-1" strike="noStrike">
                <a:solidFill>
                  <a:srgbClr val="29ffff"/>
                </a:solidFill>
                <a:latin typeface="Calibri"/>
                <a:ea typeface="Times New Roman"/>
              </a:rPr>
              <a:t>в Р.т. выполнить задание № 5 на стр. 83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Творческое задание: </a:t>
            </a:r>
            <a:r>
              <a:rPr b="0" lang="ru-RU" sz="3200" spc="-1" strike="noStrike">
                <a:solidFill>
                  <a:srgbClr val="29ffff"/>
                </a:solidFill>
                <a:latin typeface="Calibri"/>
                <a:ea typeface="Times New Roman"/>
              </a:rPr>
              <a:t>По желанию изготовить модель вируса из пластилин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Почему то, что поражает компьютер, тоже назвали «вирусами»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964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9" name="Picture 4" descr="C:\Users\111\Downloads\сл 2.jpg"/>
          <p:cNvPicPr/>
          <p:nvPr/>
        </p:nvPicPr>
        <p:blipFill>
          <a:blip r:embed="rId2"/>
          <a:srcRect l="53907" t="4402" r="21485" b="71409"/>
          <a:stretch/>
        </p:blipFill>
        <p:spPr>
          <a:xfrm>
            <a:off x="5000760" y="2357280"/>
            <a:ext cx="3681360" cy="2714760"/>
          </a:xfrm>
          <a:prstGeom prst="rect">
            <a:avLst/>
          </a:prstGeom>
          <a:ln w="0">
            <a:noFill/>
          </a:ln>
        </p:spPr>
      </p:pic>
      <p:sp>
        <p:nvSpPr>
          <p:cNvPr id="500" name="Прямоугольник 5"/>
          <p:cNvSpPr/>
          <p:nvPr/>
        </p:nvSpPr>
        <p:spPr>
          <a:xfrm>
            <a:off x="500040" y="42876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У меня печальный вид,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Голова с утра болит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Я чихаю, я охрип. Что тако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Это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Прямоугольник 6"/>
          <p:cNvSpPr/>
          <p:nvPr/>
        </p:nvSpPr>
        <p:spPr>
          <a:xfrm>
            <a:off x="1285920" y="6072120"/>
            <a:ext cx="69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5481"/>
                </a:solidFill>
                <a:latin typeface="Verdana"/>
              </a:rPr>
              <a:t>Что вы знаете об этом заболевании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2" name="Picture 1" descr="C:\Users\111\Downloads\сл 2.jpg"/>
          <p:cNvPicPr/>
          <p:nvPr/>
        </p:nvPicPr>
        <p:blipFill>
          <a:blip r:embed="rId3"/>
          <a:srcRect l="53517" t="43756" r="3124" b="12504"/>
          <a:stretch/>
        </p:blipFill>
        <p:spPr>
          <a:xfrm>
            <a:off x="428760" y="2928960"/>
            <a:ext cx="4152600" cy="31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Заголовок 1"/>
          <p:cNvSpPr/>
          <p:nvPr/>
        </p:nvSpPr>
        <p:spPr>
          <a:xfrm>
            <a:off x="539640" y="1844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4" name="Picture 3" descr="C:\Users\111\Downloads\--.jpg"/>
          <p:cNvPicPr/>
          <p:nvPr/>
        </p:nvPicPr>
        <p:blipFill>
          <a:blip r:embed="rId2"/>
          <a:srcRect l="55472" t="45835" r="3124" b="4165"/>
          <a:stretch/>
        </p:blipFill>
        <p:spPr>
          <a:xfrm>
            <a:off x="5357880" y="3000240"/>
            <a:ext cx="3786120" cy="3429000"/>
          </a:xfrm>
          <a:prstGeom prst="rect">
            <a:avLst/>
          </a:prstGeom>
          <a:ln w="0">
            <a:noFill/>
          </a:ln>
        </p:spPr>
      </p:pic>
      <p:sp>
        <p:nvSpPr>
          <p:cNvPr id="505" name="Прямоугольник 3"/>
          <p:cNvSpPr/>
          <p:nvPr/>
        </p:nvSpPr>
        <p:spPr>
          <a:xfrm>
            <a:off x="642960" y="428760"/>
            <a:ext cx="77151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ffff"/>
                </a:solidFill>
                <a:latin typeface="Verdana"/>
              </a:rPr>
              <a:t>Урок по биологии в 5 класс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Verdana"/>
              </a:rPr>
              <a:t>Тема:   На границе живого и неживого: вирус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6" name="Picture 3" descr="C:\Users\111\Downloads\вирус.jpg"/>
          <p:cNvPicPr/>
          <p:nvPr/>
        </p:nvPicPr>
        <p:blipFill>
          <a:blip r:embed="rId3"/>
          <a:srcRect l="7116" t="33601" r="23592" b="12507"/>
          <a:stretch/>
        </p:blipFill>
        <p:spPr>
          <a:xfrm>
            <a:off x="214200" y="3857760"/>
            <a:ext cx="440064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Познакомиться с строением вирус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Узнать историю открытия вирус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92d050"/>
                </a:solidFill>
                <a:latin typeface="Tahoma"/>
              </a:rPr>
              <a:t>Выяснить,  какое значение они имеют для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1800" y="5976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2160" y="14040"/>
            <a:ext cx="212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Rectangle 6"/>
          <p:cNvSpPr/>
          <p:nvPr/>
        </p:nvSpPr>
        <p:spPr>
          <a:xfrm flipV="1">
            <a:off x="0" y="-3574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2" name="Picture 8" descr="C:\Users\111\Downloads\школа.jpg"/>
          <p:cNvPicPr/>
          <p:nvPr/>
        </p:nvPicPr>
        <p:blipFill>
          <a:blip r:embed="rId2"/>
          <a:srcRect l="5469" t="9722" r="6250" b="0"/>
          <a:stretch/>
        </p:blipFill>
        <p:spPr>
          <a:xfrm>
            <a:off x="2562120" y="3071880"/>
            <a:ext cx="658188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ИРУСОЛОГИЯ – наука, изучающая вирусы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Прямоугольник 4"/>
          <p:cNvSpPr/>
          <p:nvPr/>
        </p:nvSpPr>
        <p:spPr>
          <a:xfrm>
            <a:off x="5429160" y="1428840"/>
            <a:ext cx="31435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митрий Иосифович Ивановск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Verdana"/>
              </a:rPr>
              <a:t>1892 го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b050"/>
                </a:solidFill>
                <a:latin typeface="Verdana"/>
              </a:rPr>
              <a:t>Открытие вируса табачной мозаи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5" name="Picture 8" descr="&amp;mcy;&amp;icy;&amp;kcy;&amp;rcy;&amp;ocy;&amp;bcy;&amp;icy;&amp;ocy;&amp;lcy;&amp;ocy;&amp;gcy;, &amp;fcy;&amp;icy;&amp;zcy;&amp;icy;&amp;ocy;&amp;lcy;&amp;ocy;&amp;gcy; &amp;rcy;&amp;acy;&amp;scy;&amp;tcy;&amp;iecy;&amp;ncy;&amp;icy;&amp;jcy;, &amp;ocy;&amp;scy;&amp;ncy;&amp;ocy;&amp;vcy;&amp;ocy;&amp;pcy;&amp;ocy;&amp;lcy;&amp;ocy;&amp;zhcy;&amp;ncy;&amp;icy;&amp;kcy; &amp;ocy;&amp;tcy;&amp;iecy;&amp;chcy;&amp;iecy;&amp;scy;&amp;tcy;&amp;vcy;&amp;iecy;&amp;ncy;&amp;ncy;&amp;ocy;&amp;jcy; &amp;vcy;&amp;icy;&amp;rcy;&amp;ucy;&amp;scy;&amp;ocy;&amp;lcy;&amp;ocy;&amp;gcy;&amp;icy;&amp;icy;"/>
          <p:cNvPicPr/>
          <p:nvPr/>
        </p:nvPicPr>
        <p:blipFill>
          <a:blip r:embed="rId2"/>
          <a:stretch/>
        </p:blipFill>
        <p:spPr>
          <a:xfrm>
            <a:off x="571680" y="1285920"/>
            <a:ext cx="385740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5"/>
          <p:cNvSpPr/>
          <p:nvPr/>
        </p:nvSpPr>
        <p:spPr>
          <a:xfrm>
            <a:off x="0" y="40053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Прямоугольник 2"/>
          <p:cNvSpPr/>
          <p:nvPr/>
        </p:nvSpPr>
        <p:spPr>
          <a:xfrm>
            <a:off x="285840" y="214200"/>
            <a:ext cx="835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Задание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Прочитайте текст на стр. 105 об истории открытия вируса табачной мозаики и найдите ответы на вопросы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1) Сколько прошло лет с момента открытия  вирусов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7030a0"/>
                </a:solidFill>
                <a:latin typeface="Verdana"/>
              </a:rPr>
              <a:t>) </a:t>
            </a: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Почему вирус именно так называется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Verdana"/>
              </a:rPr>
              <a:t>3) Почему Дмитрий Иосифович Ивановский назвал их «фильтрующимися  вирусами»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Rectangle 1"/>
          <p:cNvSpPr/>
          <p:nvPr/>
        </p:nvSpPr>
        <p:spPr>
          <a:xfrm>
            <a:off x="-642960" y="-2883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33"/>
                </a:solidFill>
                <a:latin typeface="Calibri"/>
                <a:ea typeface="Times New Roman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Прямоугольник 4"/>
          <p:cNvSpPr/>
          <p:nvPr/>
        </p:nvSpPr>
        <p:spPr>
          <a:xfrm>
            <a:off x="2286000" y="2475000"/>
            <a:ext cx="45720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0" name="Picture 14" descr="C:\Users\111\Downloads\сл. 11.jpg"/>
          <p:cNvPicPr/>
          <p:nvPr/>
        </p:nvPicPr>
        <p:blipFill>
          <a:blip r:embed="rId1"/>
          <a:srcRect l="0" t="3126" r="0" b="7811"/>
          <a:stretch/>
        </p:blipFill>
        <p:spPr>
          <a:xfrm>
            <a:off x="1428840" y="2658960"/>
            <a:ext cx="6286320" cy="419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3581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троение вирусов:</a:t>
            </a:r>
            <a:br>
              <a:rPr sz="28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79280" y="856800"/>
            <a:ext cx="8964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Вирусы мельче бактерий примерно в 100 ра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С помощью электронного микроскопа установлено, что вирусы имеют разную форму: шаровидную, нитевидную, цилиндрическую, форму кристалл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</a:rPr>
              <a:t>Известно более 1000 видов разных вирусов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3" name="Picture 5" descr="&amp;Kcy;&amp;acy;&amp;rcy;&amp;tcy;&amp;icy;&amp;ncy;&amp;kcy;&amp;icy; &amp;pcy;&amp;ocy; &amp;zcy;&amp;acy;&amp;pcy;&amp;rcy;&amp;ocy;&amp;scy;&amp;ucy; &amp;vcy;&amp;icy;&amp;rcy;&amp;ucy;&amp;scy;&amp;ycy; &amp;kcy;&amp;acy;&amp;rcy;&amp;tcy;&amp;icy;&amp;ncy;&amp;kcy;&amp;icy; &amp;bcy;&amp;icy;&amp;ocy;&amp;lcy;&amp;ocy;&amp;gcy;&amp;icy;&amp;yacy;"/>
          <p:cNvPicPr/>
          <p:nvPr/>
        </p:nvPicPr>
        <p:blipFill>
          <a:blip r:embed="rId2"/>
          <a:stretch/>
        </p:blipFill>
        <p:spPr>
          <a:xfrm>
            <a:off x="214200" y="3286080"/>
            <a:ext cx="4897440" cy="32720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&amp;Kcy;&amp;acy;&amp;rcy;&amp;tcy;&amp;icy;&amp;ncy;&amp;kcy;&amp;icy; &amp;pcy;&amp;ocy; &amp;zcy;&amp;acy;&amp;pcy;&amp;rcy;&amp;ocy;&amp;scy;&amp;ucy; &amp;Vcy;&amp;icy;&amp;rcy;&amp;ucy;&amp;scy; &amp;tcy;&amp;acy;&amp;bcy;&amp;acy;&amp;chcy;&amp;ncy;&amp;ocy;&amp;jcy; &amp;mcy;&amp;ocy;&amp;zcy;&amp;acy;&amp;icy;&amp;kcy;&amp;icy;"/>
          <p:cNvPicPr/>
          <p:nvPr/>
        </p:nvPicPr>
        <p:blipFill>
          <a:blip r:embed="rId3"/>
          <a:stretch/>
        </p:blipFill>
        <p:spPr>
          <a:xfrm>
            <a:off x="5214960" y="3286080"/>
            <a:ext cx="36511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3581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Значение вирусов:</a:t>
            </a:r>
            <a:br>
              <a:rPr sz="28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79280" y="856800"/>
            <a:ext cx="8964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29ffff"/>
                </a:solidFill>
                <a:latin typeface="Tahoma"/>
              </a:rPr>
              <a:t>В журнале «Вокруг света» была опубликована статья, которая называлась «Проклятие фараонов». В ней говорилось о том, что в Египте была обнаружена ранее неизвестная гробница. Через некоторое время, все члены экспедиции, участвующие в раскопках, погибл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ahoma"/>
              </a:rPr>
              <a:t>Как вы думаете, каковы причины этого? Какие будут предположения?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3581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Значение вирусов: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78920" y="856800"/>
            <a:ext cx="7178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Вирусологи установили,  что вирусы являю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причиной многих болезней челове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Термин «вирус» происходи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от латинского – «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virus</a:t>
            </a: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»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7030a0"/>
                </a:solidFill>
                <a:latin typeface="Tahoma"/>
              </a:rPr>
              <a:t>- «яд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Определите по тексту параграф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на стр. 106, какие заболе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ahoma"/>
              </a:rPr>
              <a:t>человека относятся к вирусны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9" name="Picture 1" descr="C:\Users\111\Downloads\польза вирусов.jpg"/>
          <p:cNvPicPr/>
          <p:nvPr/>
        </p:nvPicPr>
        <p:blipFill>
          <a:blip r:embed="rId2"/>
          <a:srcRect l="6252" t="23958" r="25783" b="5207"/>
          <a:stretch/>
        </p:blipFill>
        <p:spPr>
          <a:xfrm>
            <a:off x="5175360" y="2500200"/>
            <a:ext cx="3746520" cy="292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08:13:04Z</dcterms:created>
  <dc:creator>Мама</dc:creator>
  <dc:description/>
  <dc:language>en-US</dc:language>
  <cp:lastModifiedBy>111</cp:lastModifiedBy>
  <dcterms:modified xsi:type="dcterms:W3CDTF">2022-02-16T16:24:22Z</dcterms:modified>
  <cp:revision>123</cp:revision>
  <dc:subject/>
  <dc:title>Слайд 1</dc:title>
</cp:coreProperties>
</file>