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DC0-6BDE-4DD5-8C8B-DE0DAA98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655-344B-484D-951F-A2D191D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6F8AC-8887-4E4F-9E99-DE3BADD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6858F-4999-4047-B9BB-BEC4FBC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5E26-DE26-493E-A987-EBC89B98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146A0-BAA1-499B-BA2C-088DAC4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CD35A-74E4-4AC4-B2E5-D808A4A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176F-C4FA-40BB-9DAA-B4C9862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EF05A-3017-495E-A282-83ADCE3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844E-2694-4815-948B-EE3E930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99B5-E21A-4326-B942-B1FCA4CE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5FE9D-2CCB-4343-8DA1-029035F9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58B-C9FE-4979-B0D0-4A5E25D4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C032A-A637-4A59-9DEE-DFE993D2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FE74A-5F32-4F5B-9CBB-618AEE92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CD765-C483-449F-91F2-B6B32786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E968C-743A-4B35-B8CC-1084215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3DBC-AC08-428D-B3CC-059DB61E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309F0-0201-4E77-A7AA-CB9DC27D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6DEBF-D125-4122-90FD-1C9D230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15E60-EBA0-4B2A-9677-B62AD32D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8BDB1-1D0E-4797-8795-099271F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F85A5-924E-44A9-8F17-33758793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23E-F92A-42AD-8660-1B4878D0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683AA-3AF2-4B40-B422-E316E77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6D8A2-04B3-4ABC-B70C-26DA22B8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9269-E22F-4E8D-9C6A-34A195A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6FCE-FDAF-44F1-96F1-4B1FC83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882B-FBAC-46A1-873D-E7E3EA5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B228-09EE-4D4F-B02C-19F19AC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3038-371A-45A7-A1C9-45D03DA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793CB-42C3-4BAA-9086-0EFCF38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E2742-6240-4F35-A886-A352E8B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1C142-157C-432C-B50D-F34F394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5638-AEC7-45E4-BCCA-D859EEBF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44AA3-3AEB-4255-A079-7A61B16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CCFA-E7E6-45E3-ADD9-C4F961A1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6B67A-732F-4AB9-AD71-E57AF14E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4735-793D-44C1-8A39-6DECB311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9D1C3-3D7C-479D-A77A-7C1038B1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D6724-458B-48C6-844B-0CB84F3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75729-901E-40E4-BB75-E063D50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68472-92C1-4C7C-B38E-54F7224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3E2D-018D-4644-B4EA-4D3C258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41D71-AB02-4D7F-A6CD-17EB8E7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972F-9B36-473A-A2C1-6C4AF67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35EF6-DFFA-4569-9F4E-F86CA3F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C951E-8BA8-4768-9102-9A265E52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5BACD-9DC0-4ED3-8A18-68A0CE9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CA6AE-F709-439D-BD3B-65C6DAC8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BA88-721E-4412-A331-2ECC4AB7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D70-C86E-450D-B80E-6C916E2F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E49-2A30-4E58-BEDA-8E6C678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8047-795C-47B5-8CDF-534FFA0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9C3B-C4CC-4D30-860B-D89263EA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C224-EA95-4F61-A5E7-746C3CE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2FC-BE74-4B4B-9F28-6E26979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C5A-6CF0-4F8B-9CC5-B4E3393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8D5-ED1E-46A2-B2C7-3849440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D3B-EA1B-47C1-A87B-EF905E3A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047B-1D83-43B3-8B8E-7645F4B2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BCD-8F95-41E1-A3BE-ED902458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8D1B-D8D3-4324-9853-A1173BC8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0379-8A26-469D-966B-B999FA93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F9BB-4CCD-47B7-A814-FCA869D6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7845-A192-4B99-A3C0-F7AE3AD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8B48-C49F-40AA-9F03-F833273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30E-9377-4885-A658-C2B6B6CF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294F-2373-4BD7-89CB-53F63E6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151B-A3A9-476D-9057-64FCF3F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DAA8-4BB3-40D2-A5D2-4CEA370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5D1C-44D6-4E18-8718-308EBF6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DC7E-BCB7-4DF5-B7CB-876D0182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37D8-E9E1-4F4B-92E5-A0628FD6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E8C0-FE88-4ED3-A9E2-703FAE1C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F0D7-6C48-4C04-9835-B5E15026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D92A-2436-4DF4-B9B1-46EA80C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85B2-7DF1-482A-9746-10DAA3B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122-D156-4542-9E8A-81B2954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6D95-360A-4355-9C49-F6C484B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C301-B298-46EC-B50B-4BF62C2C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791A-4BE2-4E4C-BB1E-63E2CBF3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F9F7-40DF-4C59-8E8B-32B3813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B0D8-1EC8-42C9-A2DC-8AF6CA9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C042-E4BA-4BFD-9444-49E782E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AFAC-D5D6-4E14-8CF5-39C05159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A605-867F-40A4-B442-AA639989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6DCB-4CDA-4F32-A545-822BB94D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7B7F-0E86-4376-977B-70D26E2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448-6772-4DCC-8BBE-F4016B0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0513-B8C2-4386-A222-FB43CC4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527D-C60B-4B3D-816E-F36E79BD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3C6E-0E4C-4C98-BF22-930626C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F875B-0F47-44DA-B922-0C56B0C6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23FF-05C0-465B-BD23-22390931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AB11-5631-45DF-B138-3615317C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1AA2-A62E-49FB-8693-1A7C6CD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ED0E-FFD8-41AE-AD77-5ED6C8F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633F-1D0B-4363-B268-3E0BDD2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BF60-BA72-4A86-96A5-B66A5805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741-2C46-4813-B6A5-1EB15CFC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EA9C-7C9E-4F4F-B420-32E6366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674B-668B-4D86-8470-236F4228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7A62-9729-4166-A090-FBABDB7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54C0-CA3E-458A-8F8E-4021EFB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5420-F938-4E0A-84A0-721FFFE9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F62C-A3F5-4C3C-B8E3-F04DF6CD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35A8-8B30-460C-A75B-4C0F20F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D1D6-5C27-4131-8516-41BC0E7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69F8F-85EB-48B6-BE01-01184EC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A4A2-9DA4-4E30-9EE4-1F6D8048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260-EB47-4A98-8934-050ED24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2765-44D4-4DF5-BCED-962C177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83BE-2FD3-4C31-8D6E-3645BAD3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853E-F282-4A56-B33D-1852AC3F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0D57-CEA0-4AA3-9C55-73656471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417DF-CA45-4857-A944-651AE4D0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26568-71D2-4E1E-B5E1-996D3D5E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B070-B543-4938-B6AB-E83A356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2360D-E017-4567-A7F1-B62A944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C897B-0FE5-4884-89D2-64FF400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87CB-8108-4B05-BB0B-740024A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08D-B42C-4D2F-8E95-A0B5F87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734C-6910-428E-8679-D9222BC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17AE-418A-4C39-8DF3-0803EC8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5E2C-944A-4117-B2DF-C8DFABC7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58B34-09D0-4C9C-A3BB-D93743CD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ED9D2-3210-431F-9CDB-7EFA0FB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0B176-2FE8-493D-B6A3-BB33922E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6BE5C-4268-46DE-9AC5-33D6948E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AE1B-8890-4AE4-8D13-48FEC49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9237D-2E4C-4002-8A20-A9B36D4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D47F1-E3D1-4BAD-BB09-260F9B7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814-1A37-43FD-81FD-170E848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EF9C7-60DC-438F-8F95-CD4D34AC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4664-1A83-4E8C-86BF-2A3C151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0540-70E6-4020-B2EA-9733B53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35577-F4AB-4AAD-BC08-E56A17A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5CCA-6283-4B16-9072-D6587EB7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DF952-F58F-487E-9187-D61A0C42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6946A-B4B8-49BB-812E-26F1E7B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44F02-A22D-4A43-92DF-030EB976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070AF-E7CA-4DD4-BB76-38A2864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B6084-DDFC-4E13-AD2C-A8DCEE39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1766-18B6-469B-8994-9A7A65E62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A69-D0A4-4857-9C89-64DB23FF4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CC8E-AAF4-4160-9C62-FB64AB653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197-A786-4390-87C5-4A9FFB3F5F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564-71C1-4981-BB9C-CA6A97F59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80A-0572-4BE9-B8E8-CBD667888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44D-136F-408C-BE7D-764EC6815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2BB-D326-417B-99B6-2620E910E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01FE-C90C-41AA-B998-4324706C5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658-0BA6-481C-ABF8-255222728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1BDA-CD4B-4BD2-8220-40DFC0C7E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4D9-32A6-4CE2-8B98-8BBC3610D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2357280" y="71424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Прямоугольник 6"/>
          <p:cNvSpPr/>
          <p:nvPr/>
        </p:nvSpPr>
        <p:spPr>
          <a:xfrm>
            <a:off x="1285920" y="607212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214200" y="107172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евиз  урока 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Думаешь – коллективно! Решаешь – оперативно! Отвечаешь – доказательно! 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И открытия нас ждут обязательно!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огут ли вирусы приносить пользу?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Прямоугольник 3"/>
          <p:cNvSpPr/>
          <p:nvPr/>
        </p:nvSpPr>
        <p:spPr>
          <a:xfrm>
            <a:off x="642960" y="1000080"/>
            <a:ext cx="850104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вет найдите в учебнике на стр. 106- 107. и заполните  таблицу «Значение вирусов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42960" y="1928880"/>
          <a:ext cx="7643880" cy="1928880"/>
        </p:xfrm>
        <a:graphic>
          <a:graphicData uri="http://schemas.openxmlformats.org/drawingml/2006/table">
            <a:tbl>
              <a:tblPr/>
              <a:tblGrid>
                <a:gridCol w="3857760"/>
                <a:gridCol w="37861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ицательная роль виру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ожительная роль виру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534" name="Picture 2" descr="C:\Users\111\Downloads\В 11.jpg"/>
          <p:cNvPicPr/>
          <p:nvPr/>
        </p:nvPicPr>
        <p:blipFill>
          <a:blip r:embed="rId2"/>
          <a:srcRect l="72785" t="20833" r="7740" b="39583"/>
          <a:stretch/>
        </p:blipFill>
        <p:spPr>
          <a:xfrm>
            <a:off x="3071880" y="3706920"/>
            <a:ext cx="2063520" cy="3151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7" descr="C:\Users\111\Downloads\тюльпан.jpg"/>
          <p:cNvPicPr/>
          <p:nvPr/>
        </p:nvPicPr>
        <p:blipFill>
          <a:blip r:embed="rId3"/>
          <a:srcRect l="50782" t="14583" r="9378" b="2079"/>
          <a:stretch/>
        </p:blipFill>
        <p:spPr>
          <a:xfrm>
            <a:off x="6143760" y="3701880"/>
            <a:ext cx="2500200" cy="29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блем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иру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это существо или вещество?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выскажите свое отношение к этой проблеме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2174760"/>
            <a:ext cx="3686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не имеют клеточного стро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Способны жить и размножаться внутри други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– внутриклеточные парази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не клетки представляют собой кристалл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86160" y="2174760"/>
            <a:ext cx="4400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не клетки хозяина они не проявляют никаких свойств живого организ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не питаютс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не вырабатывают энергии, не расту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у них нет обмена веще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находятся на границе живого и нежив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5"/>
          <p:cNvSpPr/>
          <p:nvPr/>
        </p:nvSpPr>
        <p:spPr>
          <a:xfrm>
            <a:off x="0" y="4005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Picture 2" descr="C:\Users\111\Downloads\В 11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804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143000"/>
            <a:ext cx="8043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Правила составления синквей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 строка – одно слово, обычно существительное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это тема синквей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 строка – два слова, прилагательные,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раскрывающих тему синквей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строка – три слова, глаг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описывающие действия в  рамках тем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4 строка – одно предложен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выражающее отношение к тем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5 строка – одно слово-резю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позволяющее выразить своё отношение к тем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36417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501040" y="2174760"/>
            <a:ext cx="1857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642680"/>
            <a:ext cx="4040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Параз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85ff"/>
                </a:solidFill>
                <a:latin typeface="Tahoma"/>
              </a:rPr>
              <a:t>Микроскопические, ядови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Заражают, размножаются, уб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удь осторожен, каждый живой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13" descr="C:\Users\111\Downloads\сл.3.jpg"/>
          <p:cNvPicPr/>
          <p:nvPr/>
        </p:nvPicPr>
        <p:blipFill>
          <a:blip r:embed="rId1"/>
          <a:srcRect l="14103" t="12055" r="6360" b="0"/>
          <a:stretch/>
        </p:blipFill>
        <p:spPr>
          <a:xfrm>
            <a:off x="4440240" y="2357280"/>
            <a:ext cx="456552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аши со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Соблюдайте правила личной гигие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Остерегайтесь больных люде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Занимайтесь спорт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Следите за своим здоровь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И вирусы  вам будут нипоч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1434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Готовимся к ВПР по би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Tahoma"/>
              </a:rPr>
              <a:t>Рассмотрите фотографии с изображением различных объектов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1.1 Подпишите названия, используя слова из предложенного списка</a:t>
            </a: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:  </a:t>
            </a: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вирусы, растения, живот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1.2. Два из изображенных на фотографиях объекта объединены общим признаком. Выпишите название объекта, «выпадающего» из общего ряда. Объясните свой выбор</a:t>
            </a: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твет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________________________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Рисунок 4" descr="C:\Users\111\Downloads\вирус.jpg"/>
          <p:cNvPicPr/>
          <p:nvPr/>
        </p:nvPicPr>
        <p:blipFill>
          <a:blip r:embed="rId1"/>
          <a:srcRect l="9000" t="2467" r="53244" b="66283"/>
          <a:stretch/>
        </p:blipFill>
        <p:spPr>
          <a:xfrm>
            <a:off x="357120" y="535788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5" descr="C:\Users\111\Downloads\вирус.jpg"/>
          <p:cNvPicPr/>
          <p:nvPr/>
        </p:nvPicPr>
        <p:blipFill>
          <a:blip r:embed="rId2"/>
          <a:srcRect l="52622" t="1612" r="5945" b="66131"/>
          <a:stretch/>
        </p:blipFill>
        <p:spPr>
          <a:xfrm>
            <a:off x="6114960" y="5286240"/>
            <a:ext cx="2695680" cy="157176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6" descr="C:\Users\111\Downloads\вирус.jpg"/>
          <p:cNvPicPr/>
          <p:nvPr/>
        </p:nvPicPr>
        <p:blipFill>
          <a:blip r:embed="rId3"/>
          <a:srcRect l="6650" t="41129" r="51020" b="27218"/>
          <a:stretch/>
        </p:blipFill>
        <p:spPr>
          <a:xfrm>
            <a:off x="3000240" y="5286240"/>
            <a:ext cx="2810160" cy="157176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7"/>
          <p:cNvSpPr/>
          <p:nvPr/>
        </p:nvSpPr>
        <p:spPr>
          <a:xfrm>
            <a:off x="42876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0" y="1206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0" y="1206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160" y="97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5" descr="C:\Users\111\Downloads\сл. 20.jpg"/>
          <p:cNvPicPr/>
          <p:nvPr/>
        </p:nvPicPr>
        <p:blipFill>
          <a:blip r:embed="rId1"/>
          <a:srcRect l="4429" t="69913" r="8333" b="4047"/>
          <a:stretch/>
        </p:blipFill>
        <p:spPr>
          <a:xfrm>
            <a:off x="285840" y="357120"/>
            <a:ext cx="8358120" cy="14288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"/>
          <p:cNvSpPr/>
          <p:nvPr/>
        </p:nvSpPr>
        <p:spPr>
          <a:xfrm>
            <a:off x="714240" y="2717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учить параграф 21, </a:t>
            </a:r>
            <a:r>
              <a:rPr b="0" lang="ru-RU" sz="3200" spc="-1" strike="noStrike">
                <a:solidFill>
                  <a:srgbClr val="29ffff"/>
                </a:solidFill>
                <a:latin typeface="Calibri"/>
                <a:ea typeface="Times New Roman"/>
              </a:rPr>
              <a:t>в Р.т. выполнить задание № 5 на стр. 8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Творческое задание: </a:t>
            </a:r>
            <a:r>
              <a:rPr b="0" lang="ru-RU" sz="3200" spc="-1" strike="noStrike">
                <a:solidFill>
                  <a:srgbClr val="29ffff"/>
                </a:solidFill>
                <a:latin typeface="Calibri"/>
                <a:ea typeface="Times New Roman"/>
              </a:rPr>
              <a:t>По желанию изготовить модель вируса из пластили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чему то, что поражает компьютер, тоже назвали «вирусами»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Picture 4" descr="C:\Users\111\Downloads\сл 2.jpg"/>
          <p:cNvPicPr/>
          <p:nvPr/>
        </p:nvPicPr>
        <p:blipFill>
          <a:blip r:embed="rId2"/>
          <a:srcRect l="53907" t="4402" r="21485" b="71409"/>
          <a:stretch/>
        </p:blipFill>
        <p:spPr>
          <a:xfrm>
            <a:off x="5000760" y="2357280"/>
            <a:ext cx="3681360" cy="271476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5"/>
          <p:cNvSpPr/>
          <p:nvPr/>
        </p:nvSpPr>
        <p:spPr>
          <a:xfrm>
            <a:off x="50004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У меня печальный вид,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Голова с утра боли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Я чихаю, я охрип. Что тако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1285920" y="607212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Verdana"/>
              </a:rPr>
              <a:t>Что вы знаете об этом заболевани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Picture 1" descr="C:\Users\111\Downloads\сл 2.jpg"/>
          <p:cNvPicPr/>
          <p:nvPr/>
        </p:nvPicPr>
        <p:blipFill>
          <a:blip r:embed="rId3"/>
          <a:srcRect l="53517" t="43756" r="3124" b="12504"/>
          <a:stretch/>
        </p:blipFill>
        <p:spPr>
          <a:xfrm>
            <a:off x="428760" y="2928960"/>
            <a:ext cx="415260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Заголовок 1"/>
          <p:cNvSpPr/>
          <p:nvPr/>
        </p:nvSpPr>
        <p:spPr>
          <a:xfrm>
            <a:off x="53964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4" name="Picture 3" descr="C:\Users\111\Downloads\--.jpg"/>
          <p:cNvPicPr/>
          <p:nvPr/>
        </p:nvPicPr>
        <p:blipFill>
          <a:blip r:embed="rId2"/>
          <a:srcRect l="55472" t="45835" r="3124" b="4165"/>
          <a:stretch/>
        </p:blipFill>
        <p:spPr>
          <a:xfrm>
            <a:off x="5357880" y="30002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3"/>
          <p:cNvSpPr/>
          <p:nvPr/>
        </p:nvSpPr>
        <p:spPr>
          <a:xfrm>
            <a:off x="642960" y="428760"/>
            <a:ext cx="7715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Verdana"/>
              </a:rPr>
              <a:t>Урок по биологии в 5 класс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Тема:   На границе живого и неживого: виру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6" name="Picture 3" descr="C:\Users\111\Downloads\вирус.jpg"/>
          <p:cNvPicPr/>
          <p:nvPr/>
        </p:nvPicPr>
        <p:blipFill>
          <a:blip r:embed="rId3"/>
          <a:srcRect l="7116" t="33601" r="23592" b="12507"/>
          <a:stretch/>
        </p:blipFill>
        <p:spPr>
          <a:xfrm>
            <a:off x="214200" y="3857760"/>
            <a:ext cx="44006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Познакомиться с строением вир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Узнать историю открытия вир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Выяснить,  какое значение они имеют для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00" y="59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160" y="1404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Rectangle 6"/>
          <p:cNvSpPr/>
          <p:nvPr/>
        </p:nvSpPr>
        <p:spPr>
          <a:xfrm flipV="1">
            <a:off x="0" y="-3574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2" name="Picture 8" descr="C:\Users\111\Downloads\школа.jpg"/>
          <p:cNvPicPr/>
          <p:nvPr/>
        </p:nvPicPr>
        <p:blipFill>
          <a:blip r:embed="rId2"/>
          <a:srcRect l="5469" t="9722" r="6250" b="0"/>
          <a:stretch/>
        </p:blipFill>
        <p:spPr>
          <a:xfrm>
            <a:off x="2562120" y="3071880"/>
            <a:ext cx="65818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ИРУСОЛОГИЯ – наука, изучающая вирусы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5429160" y="1428840"/>
            <a:ext cx="31435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митрий Иосифович Иванов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1892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Открытие вируса табачной моза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5" name="Picture 8" descr="&amp;mcy;&amp;icy;&amp;kcy;&amp;rcy;&amp;ocy;&amp;bcy;&amp;icy;&amp;ocy;&amp;lcy;&amp;ocy;&amp;gcy;, &amp;fcy;&amp;icy;&amp;zcy;&amp;icy;&amp;ocy;&amp;lcy;&amp;ocy;&amp;gcy; &amp;rcy;&amp;acy;&amp;scy;&amp;tcy;&amp;iecy;&amp;ncy;&amp;icy;&amp;jcy;, &amp;ocy;&amp;scy;&amp;ncy;&amp;ocy;&amp;vcy;&amp;ocy;&amp;pcy;&amp;ocy;&amp;lcy;&amp;ocy;&amp;zhcy;&amp;ncy;&amp;icy;&amp;kcy; &amp;ocy;&amp;tcy;&amp;iecy;&amp;chcy;&amp;iecy;&amp;scy;&amp;tcy;&amp;vcy;&amp;iecy;&amp;ncy;&amp;ncy;&amp;ocy;&amp;jcy; &amp;vcy;&amp;icy;&amp;rcy;&amp;ucy;&amp;scy;&amp;ocy;&amp;lcy;&amp;ocy;&amp;gcy;&amp;icy;&amp;icy;"/>
          <p:cNvPicPr/>
          <p:nvPr/>
        </p:nvPicPr>
        <p:blipFill>
          <a:blip r:embed="rId2"/>
          <a:stretch/>
        </p:blipFill>
        <p:spPr>
          <a:xfrm>
            <a:off x="571680" y="1285920"/>
            <a:ext cx="38574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0" y="4005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Прямоугольник 2"/>
          <p:cNvSpPr/>
          <p:nvPr/>
        </p:nvSpPr>
        <p:spPr>
          <a:xfrm>
            <a:off x="285840" y="2142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Прочитайте текст на стр. 105 об истории открытия вируса табачной мозаики и найдите ответы на вопрос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1) Сколько прошло лет с момента открытия  вирусов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7030a0"/>
                </a:solidFill>
                <a:latin typeface="Verdana"/>
              </a:rPr>
              <a:t>) 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очему вирус именно так называется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3) Почему Дмитрий Иосифович Ивановский назвал их «фильтрующимися  вирусами»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-642960" y="-2883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2286000" y="247500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Picture 14" descr="C:\Users\111\Downloads\сл. 11.jpg"/>
          <p:cNvPicPr/>
          <p:nvPr/>
        </p:nvPicPr>
        <p:blipFill>
          <a:blip r:embed="rId1"/>
          <a:srcRect l="0" t="3126" r="0" b="7811"/>
          <a:stretch/>
        </p:blipFill>
        <p:spPr>
          <a:xfrm>
            <a:off x="1428840" y="2658960"/>
            <a:ext cx="6286320" cy="41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роение вирусов: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Вирусы мельче бактерий примерно в 100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С помощью электронного микроскопа установлено, что вирусы имеют разную форму: шаровидную, нитевидную, цилиндрическую, форму кристалл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Известно более 1000 видов разных вирусов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5" descr="&amp;Kcy;&amp;acy;&amp;rcy;&amp;tcy;&amp;icy;&amp;ncy;&amp;kcy;&amp;icy; &amp;pcy;&amp;ocy; &amp;zcy;&amp;acy;&amp;pcy;&amp;rcy;&amp;ocy;&amp;scy;&amp;ucy; &amp;vcy;&amp;icy;&amp;rcy;&amp;ucy;&amp;scy;&amp;ycy; &amp;kcy;&amp;acy;&amp;rcy;&amp;tcy;&amp;icy;&amp;ncy;&amp;kcy;&amp;icy; &amp;bcy;&amp;i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214200" y="3286080"/>
            <a:ext cx="4897440" cy="3272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&amp;Kcy;&amp;acy;&amp;rcy;&amp;tcy;&amp;icy;&amp;ncy;&amp;kcy;&amp;icy; &amp;pcy;&amp;ocy; &amp;zcy;&amp;acy;&amp;pcy;&amp;rcy;&amp;ocy;&amp;scy;&amp;ucy; &amp;Vcy;&amp;icy;&amp;rcy;&amp;ucy;&amp;scy; &amp;tcy;&amp;acy;&amp;bcy;&amp;acy;&amp;chcy;&amp;ncy;&amp;ocy;&amp;jcy; &amp;mcy;&amp;ocy;&amp;zcy;&amp;acy;&amp;icy;&amp;kcy;&amp;icy;"/>
          <p:cNvPicPr/>
          <p:nvPr/>
        </p:nvPicPr>
        <p:blipFill>
          <a:blip r:embed="rId3"/>
          <a:stretch/>
        </p:blipFill>
        <p:spPr>
          <a:xfrm>
            <a:off x="5214960" y="3286080"/>
            <a:ext cx="3651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начение вирусов: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В журнале «Вокруг света» была опубликована статья, которая называлась «Проклятие фараонов». В ней говорилось о том, что в Египте была обнаружена ранее неизвестная гробница. Через некоторое время, все члены экспедиции, участвующие в раскопках, погибл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ahoma"/>
              </a:rPr>
              <a:t>Как вы думаете, каковы причины этого? Какие будут предположения?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начение вирусов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8920" y="856800"/>
            <a:ext cx="7178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ирусологи установили,  что вирусы явл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ичиной многих болезней челове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Термин «вирус» происхо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от латинского – «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virus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»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- «я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пределите по тексту параграф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на стр. 106, какие заболе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человека относятся к вирус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Picture 1" descr="C:\Users\111\Downloads\польза вирусов.jpg"/>
          <p:cNvPicPr/>
          <p:nvPr/>
        </p:nvPicPr>
        <p:blipFill>
          <a:blip r:embed="rId2"/>
          <a:srcRect l="6252" t="23958" r="25783" b="5207"/>
          <a:stretch/>
        </p:blipFill>
        <p:spPr>
          <a:xfrm>
            <a:off x="5175360" y="2500200"/>
            <a:ext cx="37465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8:13:04Z</dcterms:created>
  <dc:creator>Мама</dc:creator>
  <dc:description/>
  <dc:language>en-US</dc:language>
  <cp:lastModifiedBy>111</cp:lastModifiedBy>
  <dcterms:modified xsi:type="dcterms:W3CDTF">2022-02-16T16:24:22Z</dcterms:modified>
  <cp:revision>123</cp:revision>
  <dc:subject/>
  <dc:title>Слайд 1</dc:title>
</cp:coreProperties>
</file>