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7.png" ContentType="image/pn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B8B-ABF6-4C4F-AAB0-7971297DA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F29-A30D-4B1E-A03B-8E482AB8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5ED-EC3B-42D3-A92F-68CB420B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BAE-6B92-4B65-A167-01185F6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49F-2E2C-4784-9222-12A26FF1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46B8-8149-4AF7-8327-118892D8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06A2-22E3-4504-95C3-709C4A75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89B9-B3A4-4DCB-AD9B-909D819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E31A-453C-4EAC-B0FF-1FF7EB11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BCC0-E9CD-41E2-A91A-28BBC01C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087E-0BB6-4C35-8140-D32DDDB2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BE8-80BC-4849-BA4A-7012106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104-547B-4875-A38D-64DF412C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E6B-EB02-4565-A68F-29FC43C1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BBD-6821-4D90-8242-54681459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59B3-9208-4B0B-8358-C6698106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402-04CC-487B-9615-BCD16F57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085-DE08-48E8-9A89-5F44630E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1C7-40B2-4B99-A276-2708765A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4E9-E380-4E39-BF98-F6EA2F1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DB1C-09A7-4954-AA59-7157CBBB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089-52AB-4218-9D16-ABFFCCD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6423-3BB3-44E6-AA5A-DEB0F6E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E1B-F81D-4B4A-96FB-1E78B6A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5510-08CB-4F01-AB31-0E1C500B23C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onstantia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3D9-A2E9-4890-907A-B3F93622F59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714240" y="357120"/>
            <a:ext cx="8001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984807"/>
                </a:solidFill>
                <a:latin typeface="Calibri"/>
              </a:rPr>
              <a:t>Урок русского языка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  5     класс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 тем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</a:rPr>
              <a:t>«Обращение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Рисунок 7" descr="kniga52.jpg"/>
          <p:cNvPicPr/>
          <p:nvPr/>
        </p:nvPicPr>
        <p:blipFill>
          <a:blip r:embed="rId1"/>
          <a:stretch/>
        </p:blipFill>
        <p:spPr>
          <a:xfrm>
            <a:off x="2556000" y="3645000"/>
            <a:ext cx="421452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286080" y="4714560"/>
            <a:ext cx="5640480" cy="1785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1" descr="26596067_1212752666_saltan06.jpg"/>
          <p:cNvPicPr/>
          <p:nvPr/>
        </p:nvPicPr>
        <p:blipFill>
          <a:blip r:embed="rId1"/>
          <a:stretch/>
        </p:blipFill>
        <p:spPr>
          <a:xfrm>
            <a:off x="500040" y="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2" descr="Alenushka2.jpg"/>
          <p:cNvPicPr/>
          <p:nvPr/>
        </p:nvPicPr>
        <p:blipFill>
          <a:blip r:embed="rId2"/>
          <a:stretch/>
        </p:blipFill>
        <p:spPr>
          <a:xfrm>
            <a:off x="3143160" y="0"/>
            <a:ext cx="2643120" cy="3506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normal_tzar3.jpg"/>
          <p:cNvPicPr/>
          <p:nvPr/>
        </p:nvPicPr>
        <p:blipFill>
          <a:blip r:embed="rId3"/>
          <a:stretch/>
        </p:blipFill>
        <p:spPr>
          <a:xfrm>
            <a:off x="6072120" y="0"/>
            <a:ext cx="2643120" cy="34243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Tsarevna_Lajgushka25.jpg"/>
          <p:cNvPicPr/>
          <p:nvPr/>
        </p:nvPicPr>
        <p:blipFill>
          <a:blip r:embed="rId4"/>
          <a:stretch/>
        </p:blipFill>
        <p:spPr>
          <a:xfrm>
            <a:off x="1143000" y="3571920"/>
            <a:ext cx="307188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Alenushka2.jpg"/>
          <p:cNvPicPr/>
          <p:nvPr/>
        </p:nvPicPr>
        <p:blipFill>
          <a:blip r:embed="rId5"/>
          <a:stretch/>
        </p:blipFill>
        <p:spPr>
          <a:xfrm>
            <a:off x="3143160" y="0"/>
            <a:ext cx="2643120" cy="3506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Сергей\Мои документы\Рисунок1.jpg"/>
          <p:cNvPicPr/>
          <p:nvPr/>
        </p:nvPicPr>
        <p:blipFill>
          <a:blip r:embed="rId6"/>
          <a:stretch/>
        </p:blipFill>
        <p:spPr>
          <a:xfrm>
            <a:off x="5286240" y="3571920"/>
            <a:ext cx="315432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71680" y="428760"/>
            <a:ext cx="828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дравствуй, князь ты мой прекрасный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носок да спой еще раз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т мой, зеркальце, скаж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х, Иван –царевич, сжалься надо мной –не ешь ме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пей, братец, водицы из копытца: козленочком станеш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500040" y="7858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зья посещают детскую библиотек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Я вам, друзья, открою сказочный мир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857160" y="3090960"/>
            <a:ext cx="7215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ое изучили мы про обращени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е является оно членом предложе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4-конечная звезда 4"/>
          <p:cNvSpPr/>
          <p:nvPr/>
        </p:nvSpPr>
        <p:spPr>
          <a:xfrm>
            <a:off x="428760" y="30718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1000080" y="357120"/>
            <a:ext cx="74296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ыберите только предложения с обращен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лезайте муравьи после зимней сту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равьи – санитары л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ята идут на речку куп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ята пойдем на речку купа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дко спит моя краса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дко спи моя красавиц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степью Алтая высокие звезды сверк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степью Алтая высокие звезды сверкаю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2" descr="j0440424.gif"/>
          <p:cNvPicPr/>
          <p:nvPr/>
        </p:nvPicPr>
        <p:blipFill>
          <a:blip r:embed="rId1"/>
          <a:stretch/>
        </p:blipFill>
        <p:spPr>
          <a:xfrm>
            <a:off x="357120" y="214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134" name="Двойные круглые скобки 5"/>
          <p:cNvSpPr/>
          <p:nvPr/>
        </p:nvSpPr>
        <p:spPr>
          <a:xfrm>
            <a:off x="2928960" y="2428920"/>
            <a:ext cx="257184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Двойные круглые скобки 6"/>
          <p:cNvSpPr/>
          <p:nvPr/>
        </p:nvSpPr>
        <p:spPr>
          <a:xfrm>
            <a:off x="3000240" y="4000680"/>
            <a:ext cx="2643480" cy="1143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Овал 7"/>
          <p:cNvSpPr/>
          <p:nvPr/>
        </p:nvSpPr>
        <p:spPr>
          <a:xfrm>
            <a:off x="3071880" y="271476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Овал 9"/>
          <p:cNvSpPr/>
          <p:nvPr/>
        </p:nvSpPr>
        <p:spPr>
          <a:xfrm>
            <a:off x="3786120" y="421488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Двойные круглые скобки 10"/>
          <p:cNvSpPr/>
          <p:nvPr/>
        </p:nvSpPr>
        <p:spPr>
          <a:xfrm>
            <a:off x="2928960" y="5500800"/>
            <a:ext cx="2786040" cy="10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Овал 11"/>
          <p:cNvSpPr/>
          <p:nvPr/>
        </p:nvSpPr>
        <p:spPr>
          <a:xfrm>
            <a:off x="4714920" y="5643720"/>
            <a:ext cx="91440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Овальная выноска 12"/>
          <p:cNvSpPr/>
          <p:nvPr/>
        </p:nvSpPr>
        <p:spPr>
          <a:xfrm>
            <a:off x="4357800" y="6286680"/>
            <a:ext cx="357120" cy="28548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Овальная выноска 13"/>
          <p:cNvSpPr/>
          <p:nvPr/>
        </p:nvSpPr>
        <p:spPr>
          <a:xfrm>
            <a:off x="4786200" y="4857840"/>
            <a:ext cx="357480" cy="35712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Овальная выноска 14"/>
          <p:cNvSpPr/>
          <p:nvPr/>
        </p:nvSpPr>
        <p:spPr>
          <a:xfrm>
            <a:off x="4000680" y="3286080"/>
            <a:ext cx="357120" cy="28584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Овальная выноска 16"/>
          <p:cNvSpPr/>
          <p:nvPr/>
        </p:nvSpPr>
        <p:spPr>
          <a:xfrm>
            <a:off x="3429000" y="4857840"/>
            <a:ext cx="357120" cy="285840"/>
          </a:xfrm>
          <a:prstGeom prst="wedgeEllipseCallout">
            <a:avLst>
              <a:gd name="adj1" fmla="val -43421"/>
              <a:gd name="adj2" fmla="val 90736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18"/>
          <p:cNvSpPr/>
          <p:nvPr/>
        </p:nvSpPr>
        <p:spPr>
          <a:xfrm>
            <a:off x="2071800" y="28584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исьме я появлюсь- всегда рядом запят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в начале появлюсь, запятою отда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редину заберусь, запятыми отде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 конце я появлюсь, запятою прицеплю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Заголовок 1"/>
          <p:cNvSpPr/>
          <p:nvPr/>
        </p:nvSpPr>
        <p:spPr>
          <a:xfrm>
            <a:off x="1758960" y="36216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7451640" y="2349360"/>
            <a:ext cx="1360440" cy="136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21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900000" y="1125360"/>
            <a:ext cx="1336680" cy="18669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9">
            <a:hlinkClick r:id="rId3" action="ppaction://hlinksldjump"/>
          </p:cNvPr>
          <p:cNvSpPr/>
          <p:nvPr/>
        </p:nvSpPr>
        <p:spPr>
          <a:xfrm>
            <a:off x="4356000" y="580536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1178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576" h="21600">
                <a:moveTo>
                  <a:pt x="1178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576" h="21600">
                <a:moveTo>
                  <a:pt x="9212" y="8224"/>
                </a:moveTo>
                <a:lnTo>
                  <a:pt x="13076" y="8224"/>
                </a:lnTo>
                <a:lnTo>
                  <a:pt x="13076" y="15221"/>
                </a:lnTo>
                <a:lnTo>
                  <a:pt x="14364" y="15221"/>
                </a:lnTo>
                <a:lnTo>
                  <a:pt x="14364" y="16144"/>
                </a:lnTo>
                <a:lnTo>
                  <a:pt x="9212" y="16144"/>
                </a:lnTo>
                <a:lnTo>
                  <a:pt x="9212" y="15221"/>
                </a:lnTo>
                <a:lnTo>
                  <a:pt x="10500" y="15221"/>
                </a:lnTo>
                <a:lnTo>
                  <a:pt x="10500" y="9129"/>
                </a:lnTo>
                <a:lnTo>
                  <a:pt x="9212" y="9129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583360" y="530064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6228"/>
                </a:solidFill>
                <a:latin typeface="Book Antiqua"/>
              </a:rPr>
              <a:t>Информация для учите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Сергей\Мои документы\сказ Пушкина илл\1000887765.jpg"/>
          <p:cNvPicPr/>
          <p:nvPr/>
        </p:nvPicPr>
        <p:blipFill>
          <a:blip r:embed="rId1"/>
          <a:stretch/>
        </p:blipFill>
        <p:spPr>
          <a:xfrm>
            <a:off x="2143080" y="857160"/>
            <a:ext cx="521496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500040" y="185400"/>
            <a:ext cx="82868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к-то к святому старцу пришли двое праздных юношей и спросили: «Скажи нам, ста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е, что делать, чтобы разбогатеть?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тарец хитро прищурился и сказал: «Дети мои, если послушаете меня, обязательно разбогатеете. Есть в году один день, и если Бог найдет вас работающими в этот день, то разбогатеете, а если нет, будете нищими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ткрой нам этот день, отче!» - вскричали юнош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Рад бы, дети мои, да по старости своей забыл я его,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улыбнулся в усы старец,- потому лучше вам ни дня не оставаться без работы»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Так и в духовной жизни, постоянно делай что-нибудь доброе, чтобы дьявол всегда находил тебя занят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е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857160" y="785880"/>
            <a:ext cx="771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Я всегда произношусь с интонацией звательной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Запятая при мне должна быть обязательно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33652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пишите текст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вставив  обращения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из левого  столбика.</a:t>
            </a:r>
            <a:endParaRPr b="0" lang="en-US" sz="26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3857760" cy="4262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ма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Ле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Мария Васильев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друзь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Constantia"/>
              </a:rPr>
              <a:t>ребята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29080" y="285840"/>
            <a:ext cx="4400640" cy="5852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ова-лекар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Здоровье- наше несметное богатство,…!  Чтобы сберечь его, примите совет- регулярно пользуйтесь лекарствами. Лекарства эти- слов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Да, да. Слова-лекарства: «…,как ты себя чувствуешь?», «Помоги, …,пожалуйста, если тебе нетрудно»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Простите,…, за опоздание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Чудесные лекарства состоят из доброжелательных слов, интонаций, взглядов, улыбок. Приучайтесь к ним,… . И тогда в вашем классе все будут здоровы и добр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Солнце 6"/>
          <p:cNvSpPr/>
          <p:nvPr/>
        </p:nvSpPr>
        <p:spPr>
          <a:xfrm>
            <a:off x="285840" y="357120"/>
            <a:ext cx="428400" cy="357120"/>
          </a:xfrm>
          <a:prstGeom prst="sun">
            <a:avLst>
              <a:gd name="adj" fmla="val 25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85840" y="642960"/>
            <a:ext cx="831852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 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Franklin Gothic Heavy"/>
              </a:rPr>
              <a:t>Предложения с обращения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56800" y="5643720"/>
            <a:ext cx="749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571680" y="1285920"/>
            <a:ext cx="8429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ращ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ежливое убедительно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влекает называет побуждае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живило наше приятное общ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часть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071720" y="21420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м  нам   при  обще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жет   обраще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юдям, звёздам или птицам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 смело  обрати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,  друг,  не забывай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ятые  расставля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j0343297"/>
          <p:cNvPicPr/>
          <p:nvPr/>
        </p:nvPicPr>
        <p:blipFill>
          <a:blip r:embed="rId1"/>
          <a:stretch/>
        </p:blipFill>
        <p:spPr>
          <a:xfrm>
            <a:off x="285840" y="37148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95640" y="290160"/>
            <a:ext cx="540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Итоги урока </a:t>
            </a: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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2071800" y="1071720"/>
            <a:ext cx="626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ему научилис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ем урок полезен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Что нового вы открыли для себя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7" descr="kniga52.jpg"/>
          <p:cNvPicPr/>
          <p:nvPr/>
        </p:nvPicPr>
        <p:blipFill>
          <a:blip r:embed="rId1"/>
          <a:stretch/>
        </p:blipFill>
        <p:spPr>
          <a:xfrm>
            <a:off x="2857680" y="4500720"/>
            <a:ext cx="30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-323640"/>
            <a:ext cx="6985080" cy="324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Домашнее задание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п.43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Book Antiqua"/>
              </a:rPr>
              <a:t>Выполните любое из заданий буклета.</a:t>
            </a:r>
            <a:endParaRPr b="0" lang="en-US" sz="4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5" name="Скругленный прямоугольник 10"/>
          <p:cNvSpPr/>
          <p:nvPr/>
        </p:nvSpPr>
        <p:spPr>
          <a:xfrm>
            <a:off x="2714760" y="3714840"/>
            <a:ext cx="4214520" cy="2286000"/>
          </a:xfrm>
          <a:prstGeom prst="roundRect">
            <a:avLst>
              <a:gd name="adj" fmla="val 1903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53840" y="290160"/>
            <a:ext cx="4681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Рефлексия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403280" y="155736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Я  доволен уроком, потому что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1"/>
          <p:cNvSpPr/>
          <p:nvPr/>
        </p:nvSpPr>
        <p:spPr>
          <a:xfrm>
            <a:off x="1764720" y="1928880"/>
            <a:ext cx="616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пасибо за урок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дачи вам, ребята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j0214098.wav" descr=""/>
          <p:cNvPicPr/>
          <p:nvPr/>
        </p:nvPicPr>
        <p:blipFill>
          <a:blip r:embed="rId1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j0214098.wav" descr=""/>
          <p:cNvPicPr/>
          <p:nvPr/>
        </p:nvPicPr>
        <p:blipFill>
          <a:blip r:embed="rId2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45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4745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28760" y="500040"/>
            <a:ext cx="82864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6228"/>
              </a:buClr>
              <a:buFont typeface="Wingdings 2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Arial"/>
              </a:rPr>
              <a:t>Цель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понятие обращения, научить находить обращение в предложении и выделять его знака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умение использовать обращения в речи, составлять с ним предложения, отличать обращения от подлежащего, выразительно читать предложения с обращение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ывать внимательное обращение к слову  учить детей гордиться родным языком, уважительно и бережно относиться к н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642960" y="308880"/>
            <a:ext cx="8215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Book Antiqua"/>
              </a:rPr>
              <a:t>Прочтите  слова,  расставляя правильно  уда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лфавИт, 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вЁкла,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пОнял, облегчИть , киломЕтр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лА,  досУг, звонИт, портфЕль,  предмЕт , столЯр,    тОрты, цемЕнт , щавЕл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642960" y="214200"/>
            <a:ext cx="7786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Алфавит, свёкла,   понял, облегчить , километр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ла,  досуг, звонит, портфель,  предмет , столяр,    торты, цемент , щав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396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 2"/>
                <a:ea typeface="Wingdings 2"/>
              </a:rPr>
              <a:t></a:t>
            </a:r>
            <a:r>
              <a:rPr b="1" lang="ru-RU" sz="5000" spc="-1" strike="noStrike">
                <a:solidFill>
                  <a:srgbClr val="4f6228"/>
                </a:solidFill>
                <a:latin typeface="Book Antiqua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Book Antiqua"/>
              </a:rPr>
              <a:t>Справка</a:t>
            </a:r>
            <a:r>
              <a:rPr b="1" lang="ru-RU" sz="5000" spc="-1" strike="noStrike">
                <a:solidFill>
                  <a:srgbClr val="4f6228"/>
                </a:solidFill>
                <a:latin typeface="Book Antiqu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113" name="Picture 4" descr="j0370140"/>
          <p:cNvPicPr/>
          <p:nvPr/>
        </p:nvPicPr>
        <p:blipFill>
          <a:blip r:embed="rId1"/>
          <a:stretch/>
        </p:blipFill>
        <p:spPr>
          <a:xfrm>
            <a:off x="857160" y="3257640"/>
            <a:ext cx="3409920" cy="36003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4214880" y="1000080"/>
            <a:ext cx="3890880" cy="2500200"/>
          </a:xfrm>
          <a:prstGeom prst="wedgeRoundRectCallout">
            <a:avLst>
              <a:gd name="adj1" fmla="val -75333"/>
              <a:gd name="adj2" fmla="val 87185"/>
              <a:gd name="adj3" fmla="val 16667"/>
            </a:avLst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214880" y="9288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шибка в ударен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чит с преступлением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кай запомнит это млад и стар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 молодым, ни стары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льзя одним удар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то, что нужно, ставить под уда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4725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4617b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помни!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6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ставьте вместо точек слова, расставляя ударения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 поможет вам в этом рифм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амолетом правит летчи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Трактор водит тракторис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Электричку – машинис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ены выкраси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ску выструга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доме свет провел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шахте трудится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жаркой кузнице ... 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то все знает – ... !</a:t>
            </a:r>
            <a:endParaRPr b="0" lang="en-US" sz="22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6500880" y="3286080"/>
            <a:ext cx="25002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7"/>
          <p:cNvSpPr/>
          <p:nvPr/>
        </p:nvSpPr>
        <p:spPr>
          <a:xfrm>
            <a:off x="642960" y="4286160"/>
            <a:ext cx="6143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ЗвонИт   звонарь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ЗвонЯт   в   звонок,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Чтоб  ты  запомнить верно смо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500040" y="50004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Расскажи нам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бращение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то ты значишь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что скрываешь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Как с тобою поступать, чтоб нам грамотными стать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4" descr="j0440424.gif"/>
          <p:cNvPicPr/>
          <p:nvPr/>
        </p:nvPicPr>
        <p:blipFill>
          <a:blip r:embed="rId1"/>
          <a:stretch/>
        </p:blipFill>
        <p:spPr>
          <a:xfrm>
            <a:off x="6643800" y="5000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428760" y="599040"/>
            <a:ext cx="8286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Calibri"/>
              </a:rPr>
              <a:t>К кому или к чему автор обращается здес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вети нам, солнышко, све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Сергей Сергеевич, разрешите мне завтра поехать с ва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Чем вы, гости, торг ведѐт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ствуйте, Иван Федорович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9T05:05:55Z</dcterms:modified>
  <cp:revision>107</cp:revision>
  <dc:subject/>
  <dc:title>Слайд 1</dc:title>
</cp:coreProperties>
</file>