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7.png" ContentType="image/pn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D80-1744-471A-ACE2-2D7A4BC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4CD-B5E4-47CB-B1FC-7677F6AA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524-8186-44A3-8C4D-9C8D4EB9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2B2-3263-439D-B1DB-CBFD72AD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6538-DB24-4F1B-B307-EDB3A6A0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1AF-6DD2-4542-8E34-93537DB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007-8441-4A85-9348-50DB94B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93A-13C3-47C3-A0F7-462E525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B295-2690-46F8-BFA3-5976814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3A6-037F-4F89-B6D3-77DED821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3EE-DC4E-4326-AC90-AC2CE54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DBB-C1CC-4A57-96A2-F8DA7E8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3B88-647A-4DC3-96CD-5B0FA85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AD1-E44B-46A3-A4AC-9BC516C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738-EFE9-4946-BD48-7865CD29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B3F9-F084-4336-87FC-D0F235E7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E8E-187B-4A63-8F16-0E740491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676-2B81-4BED-8246-AC5F237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4B0-E965-4F98-8D81-E09EDCC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C40-8C27-41BD-B728-B99D1F3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962-165D-4EF9-A711-7E069E3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573-9AE6-4E67-871C-EF19509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DD2-D1F9-476F-B391-9FD8BA2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263-F654-4294-916F-D8D1105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D39-E6EF-4AAC-ACA2-6384714C88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A06-36E2-42D2-ABDE-B140B9E855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714240" y="357120"/>
            <a:ext cx="8001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84807"/>
                </a:solidFill>
                <a:latin typeface="Calibri"/>
              </a:rPr>
              <a:t>Урок русского язык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  5     класс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 тем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«Обраще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kniga52.jpg"/>
          <p:cNvPicPr/>
          <p:nvPr/>
        </p:nvPicPr>
        <p:blipFill>
          <a:blip r:embed="rId1"/>
          <a:stretch/>
        </p:blipFill>
        <p:spPr>
          <a:xfrm>
            <a:off x="2556000" y="3645000"/>
            <a:ext cx="421452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86080" y="4714560"/>
            <a:ext cx="56404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26596067_1212752666_saltan06.jpg"/>
          <p:cNvPicPr/>
          <p:nvPr/>
        </p:nvPicPr>
        <p:blipFill>
          <a:blip r:embed="rId1"/>
          <a:stretch/>
        </p:blipFill>
        <p:spPr>
          <a:xfrm>
            <a:off x="50004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Alenushka2.jpg"/>
          <p:cNvPicPr/>
          <p:nvPr/>
        </p:nvPicPr>
        <p:blipFill>
          <a:blip r:embed="rId2"/>
          <a:stretch/>
        </p:blipFill>
        <p:spPr>
          <a:xfrm>
            <a:off x="3143160" y="0"/>
            <a:ext cx="2643120" cy="3506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normal_tzar3.jpg"/>
          <p:cNvPicPr/>
          <p:nvPr/>
        </p:nvPicPr>
        <p:blipFill>
          <a:blip r:embed="rId3"/>
          <a:stretch/>
        </p:blipFill>
        <p:spPr>
          <a:xfrm>
            <a:off x="6072120" y="0"/>
            <a:ext cx="2643120" cy="34243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Tsarevna_Lajgushka25.jpg"/>
          <p:cNvPicPr/>
          <p:nvPr/>
        </p:nvPicPr>
        <p:blipFill>
          <a:blip r:embed="rId4"/>
          <a:stretch/>
        </p:blipFill>
        <p:spPr>
          <a:xfrm>
            <a:off x="1143000" y="35719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Alenushka2.jpg"/>
          <p:cNvPicPr/>
          <p:nvPr/>
        </p:nvPicPr>
        <p:blipFill>
          <a:blip r:embed="rId5"/>
          <a:stretch/>
        </p:blipFill>
        <p:spPr>
          <a:xfrm>
            <a:off x="3143160" y="0"/>
            <a:ext cx="2643120" cy="350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Сергей\Мои документы\Рисунок1.jpg"/>
          <p:cNvPicPr/>
          <p:nvPr/>
        </p:nvPicPr>
        <p:blipFill>
          <a:blip r:embed="rId6"/>
          <a:stretch/>
        </p:blipFill>
        <p:spPr>
          <a:xfrm>
            <a:off x="5286240" y="3571920"/>
            <a:ext cx="315432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71680" y="428760"/>
            <a:ext cx="828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равствуй, князь ты мой прекрасны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носок да спой еще раз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т мой, зеркальце, скаж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х, Иван –царевич, сжалься надо мной –не ешь ме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ей, братец, водицы из копытца: козленочком станеш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500040" y="785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зья посещают детскую библиоте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вам, друзья, открою сказочный ми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857160" y="3090960"/>
            <a:ext cx="72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ое изучили мы про обращ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е является оно членом предложе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4-конечная звезда 4"/>
          <p:cNvSpPr/>
          <p:nvPr/>
        </p:nvSpPr>
        <p:spPr>
          <a:xfrm>
            <a:off x="428760" y="3071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000080" y="357120"/>
            <a:ext cx="7429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берите только предложения с обращен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лезайте муравьи после зимней сту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равьи – санитары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ята идут на речку куп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ята пойдем на речку куп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дко спит моя краса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дко спи моя краса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степью Алтая высокие звезды сверк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степью Алтая высокие звезды сверка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j0440424.gif"/>
          <p:cNvPicPr/>
          <p:nvPr/>
        </p:nvPicPr>
        <p:blipFill>
          <a:blip r:embed="rId1"/>
          <a:stretch/>
        </p:blipFill>
        <p:spPr>
          <a:xfrm>
            <a:off x="35712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Двойные круглые скобки 5"/>
          <p:cNvSpPr/>
          <p:nvPr/>
        </p:nvSpPr>
        <p:spPr>
          <a:xfrm>
            <a:off x="2928960" y="2428920"/>
            <a:ext cx="257184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Двойные круглые скобки 6"/>
          <p:cNvSpPr/>
          <p:nvPr/>
        </p:nvSpPr>
        <p:spPr>
          <a:xfrm>
            <a:off x="3000240" y="4000680"/>
            <a:ext cx="26434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Овал 7"/>
          <p:cNvSpPr/>
          <p:nvPr/>
        </p:nvSpPr>
        <p:spPr>
          <a:xfrm>
            <a:off x="3071880" y="271476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Овал 9"/>
          <p:cNvSpPr/>
          <p:nvPr/>
        </p:nvSpPr>
        <p:spPr>
          <a:xfrm>
            <a:off x="3786120" y="421488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Двойные круглые скобки 10"/>
          <p:cNvSpPr/>
          <p:nvPr/>
        </p:nvSpPr>
        <p:spPr>
          <a:xfrm>
            <a:off x="2928960" y="5500800"/>
            <a:ext cx="2786040" cy="10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Овал 11"/>
          <p:cNvSpPr/>
          <p:nvPr/>
        </p:nvSpPr>
        <p:spPr>
          <a:xfrm>
            <a:off x="4714920" y="564372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Овальная выноска 12"/>
          <p:cNvSpPr/>
          <p:nvPr/>
        </p:nvSpPr>
        <p:spPr>
          <a:xfrm>
            <a:off x="4357800" y="6286680"/>
            <a:ext cx="357120" cy="28548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Овальная выноска 13"/>
          <p:cNvSpPr/>
          <p:nvPr/>
        </p:nvSpPr>
        <p:spPr>
          <a:xfrm>
            <a:off x="4786200" y="4857840"/>
            <a:ext cx="357480" cy="35712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Овальная выноска 14"/>
          <p:cNvSpPr/>
          <p:nvPr/>
        </p:nvSpPr>
        <p:spPr>
          <a:xfrm>
            <a:off x="4000680" y="3286080"/>
            <a:ext cx="357120" cy="28584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Овальная выноска 16"/>
          <p:cNvSpPr/>
          <p:nvPr/>
        </p:nvSpPr>
        <p:spPr>
          <a:xfrm>
            <a:off x="3429000" y="4857840"/>
            <a:ext cx="357120" cy="28584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8"/>
          <p:cNvSpPr/>
          <p:nvPr/>
        </p:nvSpPr>
        <p:spPr>
          <a:xfrm>
            <a:off x="2071800" y="285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исьме я появлюсь- всегда рядом запя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 начале появлюсь, запятою отда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редину заберусь, запятыми отде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 конце я появлюсь, запятою прицеп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1758960" y="36216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2349360"/>
            <a:ext cx="1360440" cy="136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00000" y="1125360"/>
            <a:ext cx="1336680" cy="18669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9">
            <a:hlinkClick r:id="rId3" action="ppaction://hlinksldjump"/>
          </p:cNvPr>
          <p:cNvSpPr/>
          <p:nvPr/>
        </p:nvSpPr>
        <p:spPr>
          <a:xfrm>
            <a:off x="4356000" y="580536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576" h="21600">
                <a:moveTo>
                  <a:pt x="1178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576" h="21600">
                <a:moveTo>
                  <a:pt x="9212" y="8224"/>
                </a:moveTo>
                <a:lnTo>
                  <a:pt x="13076" y="8224"/>
                </a:lnTo>
                <a:lnTo>
                  <a:pt x="13076" y="15221"/>
                </a:lnTo>
                <a:lnTo>
                  <a:pt x="14364" y="15221"/>
                </a:lnTo>
                <a:lnTo>
                  <a:pt x="14364" y="16144"/>
                </a:lnTo>
                <a:lnTo>
                  <a:pt x="9212" y="16144"/>
                </a:lnTo>
                <a:lnTo>
                  <a:pt x="9212" y="15221"/>
                </a:lnTo>
                <a:lnTo>
                  <a:pt x="10500" y="15221"/>
                </a:lnTo>
                <a:lnTo>
                  <a:pt x="10500" y="9129"/>
                </a:lnTo>
                <a:lnTo>
                  <a:pt x="9212" y="9129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583360" y="5300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Book Antiqua"/>
              </a:rPr>
              <a:t>Информация для уч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Сергей\Мои документы\сказ Пушкина илл\1000887765.jpg"/>
          <p:cNvPicPr/>
          <p:nvPr/>
        </p:nvPicPr>
        <p:blipFill>
          <a:blip r:embed="rId1"/>
          <a:stretch/>
        </p:blipFill>
        <p:spPr>
          <a:xfrm>
            <a:off x="2143080" y="857160"/>
            <a:ext cx="521496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500040" y="185400"/>
            <a:ext cx="82868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к-то к святому старцу пришли двое праздных юношей и спросили: «Скажи нам, ста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е, что делать, чтобы разбогатеть?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тарец хитро прищурился и сказал: «Дети мои, если послушаете меня, обязательно разбогатеете. Есть в году один день, и если Бог найдет вас работающими в этот день, то разбогатеете, а если нет, будете нищими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ткрой нам этот день, отче!» - вскричали юнош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Рад бы, дети мои, да по старости своей забыл я его,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улыбнулся в усы старец,- потому лучше вам ни дня не оставаться без работы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Так и в духовной жизни, постоянно делай что-нибудь доброе, чтобы дьявол всегда находил тебя заня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857160" y="785880"/>
            <a:ext cx="77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Я всегда произношусь с интонацией звательной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Запятая при мне должна быть обязательно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33652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ишите текст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вставив  обращ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из левого  столбика.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3857760" cy="4262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ария Васильев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друзь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ребя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29080" y="285840"/>
            <a:ext cx="4400640" cy="58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ова-лекар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Здоровье- наше несметное богатство,…!  Чтобы сберечь его, примите совет- регулярно пользуйтесь лекарствами. Лекарства эти- сл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а, да. Слова-лекарства: «…,как ты себя чувствуешь?», «Помоги, …,пожалуйста, если тебе нетрудно»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Простите,…, за опозда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Чудесные лекарства состоят из доброжелательных слов, интонаций, взглядов, улыбок. Приучайтесь к ним,… . И тогда в вашем классе все будут здоровы и доб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Солнце 6"/>
          <p:cNvSpPr/>
          <p:nvPr/>
        </p:nvSpPr>
        <p:spPr>
          <a:xfrm>
            <a:off x="285840" y="357120"/>
            <a:ext cx="428400" cy="357120"/>
          </a:xfrm>
          <a:prstGeom prst="sun">
            <a:avLst>
              <a:gd name="adj" fmla="val 25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85840" y="642960"/>
            <a:ext cx="83185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 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Heavy"/>
              </a:rPr>
              <a:t>Предложения с обращения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56800" y="5643720"/>
            <a:ext cx="749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571680" y="1285920"/>
            <a:ext cx="84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жливое убедительно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влекает называет побуждае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ивило наше приятное общ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часть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071720" y="21420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 нам   при  обще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т   обращ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юдям, звёздам или птицам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 смело  обрати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,  друг,  не забыва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ые  расставля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j0343297"/>
          <p:cNvPicPr/>
          <p:nvPr/>
        </p:nvPicPr>
        <p:blipFill>
          <a:blip r:embed="rId1"/>
          <a:stretch/>
        </p:blipFill>
        <p:spPr>
          <a:xfrm>
            <a:off x="285840" y="37148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95640" y="290160"/>
            <a:ext cx="540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Итоги урока </a:t>
            </a: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071800" y="1071720"/>
            <a:ext cx="62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ему научили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ем урок полезен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то нового вы открыли для себ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7" descr="kniga52.jpg"/>
          <p:cNvPicPr/>
          <p:nvPr/>
        </p:nvPicPr>
        <p:blipFill>
          <a:blip r:embed="rId1"/>
          <a:stretch/>
        </p:blipFill>
        <p:spPr>
          <a:xfrm>
            <a:off x="2857680" y="450072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-323640"/>
            <a:ext cx="6985080" cy="324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Домашнее задание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п.43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Выполните любое из заданий буклета.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5" name="Скругленный прямоугольник 10"/>
          <p:cNvSpPr/>
          <p:nvPr/>
        </p:nvSpPr>
        <p:spPr>
          <a:xfrm>
            <a:off x="2714760" y="3714840"/>
            <a:ext cx="4214520" cy="2286000"/>
          </a:xfrm>
          <a:prstGeom prst="roundRect">
            <a:avLst>
              <a:gd name="adj" fmla="val 1903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3840" y="290160"/>
            <a:ext cx="4681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Рефлексия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403280" y="155736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Я  доволен уроком, потому что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764720" y="1928880"/>
            <a:ext cx="616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дачи вам, ребята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j0214098.wav" descr=""/>
          <p:cNvPicPr/>
          <p:nvPr/>
        </p:nvPicPr>
        <p:blipFill>
          <a:blip r:embed="rId1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j0214098.wav" descr=""/>
          <p:cNvPicPr/>
          <p:nvPr/>
        </p:nvPicPr>
        <p:blipFill>
          <a:blip r:embed="rId2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745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28760" y="500040"/>
            <a:ext cx="828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онятие обращения, научить находить обращение в предложении и выделять его знак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мение использовать обращения в речи, составлять с ним предложения, отличать обращения от подлежащего, выразительно читать предложения с обращение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ывать внимательное обращение к слову  учить детей гордиться родным языком, уважительно и бережно относиться к н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642960" y="30888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Book Antiqua"/>
              </a:rPr>
              <a:t>Прочтите  слова,  расставляя правильно  уда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лфавИт, 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вЁкла,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пОнял, облегчИть , киломЕтр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лА,  досУг, звонИт, портфЕль,  предмЕт , столЯр,    тОрты, цемЕнт , щав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642960" y="214200"/>
            <a:ext cx="7786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лфавит, свёкла,   понял, облегчить , километр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ла,  досуг, звонит, портфель,  предмет , столяр,    торты, цемент , щав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396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Справка</a:t>
            </a:r>
            <a:r>
              <a:rPr b="1" lang="ru-RU" sz="5000" spc="-1" strike="noStrike">
                <a:solidFill>
                  <a:srgbClr val="4f6228"/>
                </a:solidFill>
                <a:latin typeface="Book Antiqu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113" name="Picture 4" descr="j0370140"/>
          <p:cNvPicPr/>
          <p:nvPr/>
        </p:nvPicPr>
        <p:blipFill>
          <a:blip r:embed="rId1"/>
          <a:stretch/>
        </p:blipFill>
        <p:spPr>
          <a:xfrm>
            <a:off x="857160" y="3257640"/>
            <a:ext cx="340992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4214880" y="1000080"/>
            <a:ext cx="3890880" cy="2500200"/>
          </a:xfrm>
          <a:prstGeom prst="wedgeRoundRectCallout">
            <a:avLst>
              <a:gd name="adj1" fmla="val -75333"/>
              <a:gd name="adj2" fmla="val 87185"/>
              <a:gd name="adj3" fmla="val 16667"/>
            </a:avLst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214880" y="9288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шибка в ударен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чит с преступление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кай запомнит это млад и ста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 молодым, ни стары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одним удар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, что нужно, ставить под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4725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помни!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6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ставьте вместо точек слова, расставляя ударени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 поможет вам в этом рифм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амолетом правит летчи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рактор водит тракторис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лектричку – машинис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ены выкраси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ску выструга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доме свет прове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шахте трудится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жаркой кузнице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то все знает – ... !</a:t>
            </a:r>
            <a:endParaRPr b="0" lang="en-US" sz="22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00880" y="3286080"/>
            <a:ext cx="25002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642960" y="42861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ЗвонИт   звонарь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ЗвонЯт   в   звонок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Чтоб  ты  запомнить верно смо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00040" y="50004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Расскажи нам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бращение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то ты значишь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то скрываешь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к с тобою поступать, чтоб нам грамотными стать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4" descr="j0440424.gif"/>
          <p:cNvPicPr/>
          <p:nvPr/>
        </p:nvPicPr>
        <p:blipFill>
          <a:blip r:embed="rId1"/>
          <a:stretch/>
        </p:blipFill>
        <p:spPr>
          <a:xfrm>
            <a:off x="6643800" y="5000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428760" y="599040"/>
            <a:ext cx="8286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К кому или к чему автор обращается здес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вети нам, солнышко, све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ергей Сергеевич, разрешите мне завтра поехать с ва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ем вы, гости, торг ведѐт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йте, Иван Федорович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9T05:05:55Z</dcterms:modified>
  <cp:revision>107</cp:revision>
  <dc:subject/>
  <dc:title>Слайд 1</dc:title>
</cp:coreProperties>
</file>