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CFFB5-A656-404C-806F-01B6C848E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8B585-F683-4576-8CE1-7856E1A0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E44F2-D084-435F-93CC-A2329CDBF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0C7F5-72A7-4C58-91C0-CB0B2EA7B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0B59-D6EA-48D3-8471-34950C863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90D93-6F22-4556-B833-E0B1157A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A56D-556F-4FD8-8336-3476B61E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13A1-854F-4F68-8B47-F79A82F3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E8A6-6528-42F4-A267-22371ADF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BBDEC-478E-4CC3-9D5D-465A7DC4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3DC9-1336-4EB5-923D-34C6C6EB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B567A-1CB5-4117-B76D-E2F75E66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0449-73C5-4639-A9FD-032BC036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5B35-6308-466E-B13F-5F3EBAE6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771D-E763-40F6-9082-A5F5B065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3C936-BBE3-4A0A-B102-AF44F75A4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2DDC-7CCF-41B3-A563-7752EE3D9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0BB29-F5C8-4051-92B9-2BC10117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546A6-58F8-4FDD-931D-4A1A0FDD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30329-C02C-47CA-9E56-3D62A5D15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E4E39-7C89-4CFC-A947-9615F4A5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F16DC-F1CF-47F5-82EC-55092627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52C54-5FC7-4CA1-A074-67DBBCFF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E0D97-B13D-4C8F-ABA3-1362CCF6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2f2b20"/>
              </a:solidFill>
              <a:uFillTx/>
              <a:latin typeface="Comic Sans MS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2f2b20"/>
              </a:solidFill>
              <a:uFillTx/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800" spc="-1" strike="noStrike" u="sng">
                <a:solidFill>
                  <a:srgbClr val="ffffff"/>
                </a:solidFill>
                <a:uFillTx/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3AED-334D-4C80-B54E-9D747C4161D2}" type="slidenum">
              <a:rPr b="0" i="1" lang="ru-RU" sz="1800" spc="-1" strike="noStrike" u="sng">
                <a:solidFill>
                  <a:srgbClr val="ffffff"/>
                </a:solidFill>
                <a:uFillTx/>
                <a:latin typeface="Comic Sans MS"/>
              </a:rPr>
              <a:t>&lt;number&gt;</a:t>
            </a:fld>
            <a:endParaRPr b="0" i="1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2f2b20"/>
              </a:solidFill>
              <a:uFillTx/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2f2b20"/>
              </a:solidFill>
              <a:uFillTx/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2f2b20"/>
              </a:solidFill>
              <a:uFillTx/>
              <a:latin typeface="Comic Sans MS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2f2b20"/>
              </a:solidFill>
              <a:uFillTx/>
              <a:latin typeface="Comic Sans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2f2b20"/>
              </a:solidFill>
              <a:uFillTx/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2f2b20"/>
              </a:solidFill>
              <a:uFillTx/>
              <a:latin typeface="Comic Sans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800" spc="-1" strike="noStrike" u="sng">
                <a:solidFill>
                  <a:srgbClr val="ffffff"/>
                </a:solidFill>
                <a:uFillTx/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CA10-64D6-4FE6-9889-43169F5A38DB}" type="slidenum">
              <a:rPr b="0" i="1" lang="ru-RU" sz="1800" spc="-1" strike="noStrike" u="sng">
                <a:solidFill>
                  <a:srgbClr val="ffffff"/>
                </a:solidFill>
                <a:uFillTx/>
                <a:latin typeface="Comic Sans MS"/>
              </a:rPr>
              <a:t>&lt;number&gt;</a:t>
            </a:fld>
            <a:endParaRPr b="0" i="1" lang="en-US" sz="1800" spc="-1" strike="noStrike" u="sng">
              <a:solidFill>
                <a:srgbClr val="000000"/>
              </a:solidFill>
              <a:uFillTx/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75e47"/>
                </a:solidFill>
                <a:latin typeface="Cambria"/>
              </a:rPr>
              <a:t>Тропы и фигуры речи.</a:t>
            </a:r>
            <a:endParaRPr b="0" lang="en-US" sz="6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76000" y="5444640"/>
            <a:ext cx="603252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ff"/>
              </a:solidFill>
              <a:latin typeface="Calibri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-360" y="333360"/>
            <a:ext cx="876924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75e47"/>
                </a:solidFill>
                <a:latin typeface="Calibri"/>
              </a:rPr>
              <a:t>Олицетворение- </a:t>
            </a: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присвоение предметам неживой природы свойств живых существ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Monotype Corsiva"/>
              </a:rPr>
              <a:t>Но вот багряною рукою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Monotype Corsiva"/>
              </a:rPr>
              <a:t>Заря от утренних долин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Monotype Corsiva"/>
              </a:rPr>
              <a:t>Выводит с солнцем за собою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Monotype Corsiva"/>
              </a:rPr>
              <a:t>Весёлый праздник именин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Monotype Corsiva"/>
              </a:rPr>
              <a:t>(А.Пушкин)                                                                                              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Monotype Corsiva"/>
              </a:rPr>
              <a:t>Руки милой-пара лебедей- в золоте волос моих ныряют.                         ( С .Есенин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>
    <p:push dir="r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356760"/>
            <a:ext cx="79437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Метонимия </a:t>
            </a:r>
            <a:r>
              <a:rPr b="0" lang="ru-RU" sz="2200" spc="-1" strike="noStrike">
                <a:solidFill>
                  <a:srgbClr val="0000ff"/>
                </a:solidFill>
                <a:latin typeface="Calibri"/>
              </a:rPr>
              <a:t>(от греч. «переименование»)- поэтический троп , замена одного слова (понятия) другим словом (понятием),имеющим причинную связь с первым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С них отражал герой безумный,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Один в толпе домашних слуг,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Турецкой рати приступ шумный,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b050"/>
                </a:solidFill>
                <a:uFillTx/>
                <a:latin typeface="Monotype Corsiva"/>
              </a:rPr>
              <a:t>И бросил шпагу под бунчук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(А.Пушкин)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Не то на серебре-на золоте едал .                                                                                                                              (А.Грибоедов</a:t>
            </a:r>
            <a:r>
              <a:rPr b="1" lang="ru-RU" sz="1800" spc="-1" strike="noStrike">
                <a:solidFill>
                  <a:srgbClr val="00b050"/>
                </a:solidFill>
                <a:latin typeface="Monotype Corsiva"/>
              </a:rPr>
              <a:t>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>
    <p:push dir="r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Синекдоха </a:t>
            </a:r>
            <a:r>
              <a:rPr b="0" lang="ru-RU" sz="2200" spc="-1" strike="noStrike">
                <a:solidFill>
                  <a:srgbClr val="0000ff"/>
                </a:solidFill>
                <a:latin typeface="Calibri"/>
              </a:rPr>
              <a:t>(от греч. «соотнесение»)-разновидность метонимии, перенос значения по количеству – большее вместо меньшего или наоборот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Скажи-ка, дядя, ведь не даром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Москва спаленная пожаром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b050"/>
                </a:solidFill>
                <a:uFillTx/>
                <a:latin typeface="Monotype Corsiva"/>
              </a:rPr>
              <a:t>Французу </a:t>
            </a: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отдана</a:t>
            </a:r>
            <a:r>
              <a:rPr b="1" lang="en-US" sz="2000" spc="-1" strike="noStrike">
                <a:solidFill>
                  <a:srgbClr val="00b050"/>
                </a:solidFill>
                <a:latin typeface="Monotype Corsiva"/>
              </a:rPr>
              <a:t>?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(М.Лермонтов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И слышно было до рассвета, как ликовал француз.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(М.Лермонтов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>
    <p:push dir="r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6979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Гипербола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( от греч. «преувеличение»)-поэтический приём чрезмерного преувеличения или уменьшения предмета, для выражения восторга, изумления, негодования и т.п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</a:rPr>
              <a:t>                                                         </a:t>
            </a: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У того-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                  </a:t>
            </a: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револьверы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                                                      </a:t>
            </a: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в четыре курка,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сабля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                                                   </a:t>
            </a: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в семьдесят лезвий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А у этого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                             </a:t>
            </a: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- рука 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                                                          </a:t>
            </a: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и ещё рука   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Да и та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                                     </a:t>
            </a: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за пояс ткнута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(В. Маяковский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В сто сорок солнц закат пылал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 </a:t>
            </a:r>
            <a:r>
              <a:rPr b="1" lang="ru-RU" sz="2000" spc="-1" strike="noStrike">
                <a:solidFill>
                  <a:srgbClr val="00b050"/>
                </a:solidFill>
                <a:latin typeface="Monotype Corsiva"/>
              </a:rPr>
              <a:t>(В.Маяковский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>
    <p:push dir="r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2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7696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Литота</a:t>
            </a: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(от греч. «простота»)- художественный приём преуменьшения, противоположный гиперболе, используемый для изобразительно-выразительных свойств речи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Тучи в клочики,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В клочочки - клочишки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(В.Маяковский)                                                                                 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Мальчик-с-пальчик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>
    <p:push dir="r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Перифраз</a:t>
            </a: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(от греч. «пересказ»)- образный оборот, выражение, которое употребляется вместо какого-либо слова или словосочетания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Monotype Corsiva"/>
              </a:rPr>
              <a:t>Угас, как светоч, дивный гений,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Monotype Corsiva"/>
              </a:rPr>
              <a:t>Увял торжественный венок .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Monotype Corsiva"/>
              </a:rPr>
              <a:t>(М.Ю.Лермонтов)  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>
    <p:push dir="r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Ирония</a:t>
            </a: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(от греч. «притворство»)- выражение насмешки или лукавства посредством иносказания.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Ай, Моська, знать, она сильна,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Что лает на слона.         (И.Крылов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Откуда, умная, бредешь ты ,голова?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(И.Крылов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Гротеск</a:t>
            </a:r>
            <a:r>
              <a:rPr b="1" lang="ru-RU" sz="3600" spc="-1" strike="noStrike">
                <a:solidFill>
                  <a:srgbClr val="0000ff"/>
                </a:solidFill>
                <a:latin typeface="Monotype Corsiva"/>
              </a:rPr>
              <a:t>- искажение или смещение норм действительности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Образ Органчика из « Истории одного города»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М.Салтыкова – Щедрина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>
    <p:push dir="r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57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0000"/>
                </a:solidFill>
                <a:latin typeface="Cambria"/>
              </a:rPr>
              <a:t>Сарказм</a:t>
            </a:r>
            <a:r>
              <a:rPr b="0" lang="ru-RU" sz="4600" spc="-1" strike="noStrike">
                <a:solidFill>
                  <a:srgbClr val="0000ff"/>
                </a:solidFill>
                <a:latin typeface="Cambria"/>
              </a:rPr>
              <a:t>-злая ,горькая или гневная насмешка. </a:t>
            </a:r>
            <a:r>
              <a:rPr b="1" lang="ru-RU" sz="2400" spc="-1" strike="noStrike">
                <a:solidFill>
                  <a:srgbClr val="00b050"/>
                </a:solidFill>
                <a:latin typeface="Cambria"/>
              </a:rPr>
              <a:t>«Размышление у парадного подъезда» (Н.Некрасов)</a:t>
            </a:r>
            <a:endParaRPr b="0" lang="en-US" sz="2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56800" y="785520"/>
            <a:ext cx="769644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Каланбур</a:t>
            </a:r>
            <a:r>
              <a:rPr b="0" lang="ru-RU" sz="2200" spc="-1" strike="noStrike">
                <a:solidFill>
                  <a:srgbClr val="0000ff"/>
                </a:solidFill>
                <a:latin typeface="Calibri"/>
              </a:rPr>
              <a:t>-звуковое сходство слов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Наш медик в рот больным без счету капли льет. Однако от того ни капли пользы нет.                          ( М. Херасков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grpSp>
        <p:nvGrpSpPr>
          <p:cNvPr id="132" name="Diagram 4"/>
          <p:cNvGrpSpPr/>
          <p:nvPr/>
        </p:nvGrpSpPr>
        <p:grpSpPr>
          <a:xfrm>
            <a:off x="28080" y="214200"/>
            <a:ext cx="8991360" cy="6419880"/>
            <a:chOff x="28080" y="214200"/>
            <a:chExt cx="8991360" cy="6419880"/>
          </a:xfrm>
        </p:grpSpPr>
        <p:sp>
          <p:nvSpPr>
            <p:cNvPr id="133" name="_s2052"/>
            <p:cNvSpPr/>
            <p:nvPr/>
          </p:nvSpPr>
          <p:spPr>
            <a:xfrm flipH="1" flipV="1">
              <a:off x="2936880" y="2291040"/>
              <a:ext cx="802080" cy="572760"/>
            </a:xfrm>
            <a:prstGeom prst="line">
              <a:avLst/>
            </a:prstGeom>
            <a:ln w="2844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i="1" lang="en-US" sz="18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134" name="_s2053"/>
            <p:cNvSpPr/>
            <p:nvPr/>
          </p:nvSpPr>
          <p:spPr>
            <a:xfrm>
              <a:off x="1016280" y="918720"/>
              <a:ext cx="2250360" cy="16070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Антитеза</a:t>
              </a:r>
              <a:endParaRPr b="0" i="1" lang="en-US" sz="24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135" name="_s2054"/>
            <p:cNvSpPr/>
            <p:nvPr/>
          </p:nvSpPr>
          <p:spPr>
            <a:xfrm flipH="1">
              <a:off x="2278080" y="3423600"/>
              <a:ext cx="1137240" cy="0"/>
            </a:xfrm>
            <a:prstGeom prst="line">
              <a:avLst/>
            </a:prstGeom>
            <a:ln w="2844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i="1" lang="en-US" sz="18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136" name="_s2055"/>
            <p:cNvSpPr/>
            <p:nvPr/>
          </p:nvSpPr>
          <p:spPr>
            <a:xfrm>
              <a:off x="28080" y="2620080"/>
              <a:ext cx="2250360" cy="16070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Повтор</a:t>
              </a:r>
              <a:endParaRPr b="0" i="1" lang="en-US" sz="24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137" name="_s2056"/>
            <p:cNvSpPr/>
            <p:nvPr/>
          </p:nvSpPr>
          <p:spPr>
            <a:xfrm flipH="1">
              <a:off x="2936880" y="3984120"/>
              <a:ext cx="802080" cy="572760"/>
            </a:xfrm>
            <a:prstGeom prst="line">
              <a:avLst/>
            </a:prstGeom>
            <a:ln w="2844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i="1" lang="en-US" sz="18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138" name="_s2057"/>
            <p:cNvSpPr/>
            <p:nvPr/>
          </p:nvSpPr>
          <p:spPr>
            <a:xfrm>
              <a:off x="1016280" y="4321440"/>
              <a:ext cx="2250360" cy="16070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Инверсия</a:t>
              </a:r>
              <a:endParaRPr b="0" i="1" lang="en-US" sz="24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139" name="_s2058"/>
            <p:cNvSpPr/>
            <p:nvPr/>
          </p:nvSpPr>
          <p:spPr>
            <a:xfrm>
              <a:off x="4523760" y="4219560"/>
              <a:ext cx="0" cy="807480"/>
            </a:xfrm>
            <a:prstGeom prst="line">
              <a:avLst/>
            </a:prstGeom>
            <a:ln w="2844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i="1" lang="en-US" sz="18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140" name="_s2059"/>
            <p:cNvSpPr/>
            <p:nvPr/>
          </p:nvSpPr>
          <p:spPr>
            <a:xfrm>
              <a:off x="3398400" y="5027040"/>
              <a:ext cx="2250360" cy="16070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ff"/>
                  </a:solidFill>
                  <a:latin typeface="Arial"/>
                </a:rPr>
                <a:t>Риторическое</a:t>
              </a:r>
              <a:endParaRPr b="0" i="1" lang="en-US" sz="22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i="1" lang="en-US" sz="2200" spc="-1" strike="noStrike">
                  <a:solidFill>
                    <a:srgbClr val="0000ff"/>
                  </a:solidFill>
                  <a:latin typeface="Arial"/>
                </a:rPr>
                <a:t>восклицание</a:t>
              </a:r>
              <a:endParaRPr b="0" i="1" lang="en-US" sz="22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141" name="_s2060"/>
            <p:cNvSpPr/>
            <p:nvPr/>
          </p:nvSpPr>
          <p:spPr>
            <a:xfrm>
              <a:off x="5313960" y="3987720"/>
              <a:ext cx="796680" cy="568800"/>
            </a:xfrm>
            <a:prstGeom prst="line">
              <a:avLst/>
            </a:prstGeom>
            <a:ln w="2844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i="1" lang="en-US" sz="18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142" name="_s2061"/>
            <p:cNvSpPr/>
            <p:nvPr/>
          </p:nvSpPr>
          <p:spPr>
            <a:xfrm>
              <a:off x="5780880" y="4321440"/>
              <a:ext cx="2250360" cy="16070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Arial"/>
                </a:rPr>
                <a:t>Риторическое</a:t>
              </a:r>
              <a:endParaRPr b="0" i="1" lang="en-US" sz="20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i="1" lang="en-US" sz="2000" spc="-1" strike="noStrike">
                  <a:solidFill>
                    <a:srgbClr val="0000ff"/>
                  </a:solidFill>
                  <a:latin typeface="Arial"/>
                </a:rPr>
                <a:t>обращение</a:t>
              </a:r>
              <a:endParaRPr b="0" i="1" lang="en-US" sz="20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143" name="_s2062"/>
            <p:cNvSpPr/>
            <p:nvPr/>
          </p:nvSpPr>
          <p:spPr>
            <a:xfrm>
              <a:off x="5643720" y="3423600"/>
              <a:ext cx="1125000" cy="0"/>
            </a:xfrm>
            <a:prstGeom prst="line">
              <a:avLst/>
            </a:prstGeom>
            <a:ln w="2844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i="1" lang="en-US" sz="18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144" name="_s2063"/>
            <p:cNvSpPr/>
            <p:nvPr/>
          </p:nvSpPr>
          <p:spPr>
            <a:xfrm>
              <a:off x="6769080" y="2620080"/>
              <a:ext cx="2250360" cy="16070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Arial"/>
                </a:rPr>
                <a:t>Риторический</a:t>
              </a:r>
              <a:endParaRPr b="0" i="1" lang="en-US" sz="20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i="1" lang="en-US" sz="2000" spc="-1" strike="noStrike">
                  <a:solidFill>
                    <a:srgbClr val="0000ff"/>
                  </a:solidFill>
                  <a:latin typeface="Arial"/>
                </a:rPr>
                <a:t>вопрос</a:t>
              </a:r>
              <a:endParaRPr b="0" i="1" lang="en-US" sz="20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145" name="_s2064"/>
            <p:cNvSpPr/>
            <p:nvPr/>
          </p:nvSpPr>
          <p:spPr>
            <a:xfrm flipV="1">
              <a:off x="5313960" y="2291040"/>
              <a:ext cx="796680" cy="567720"/>
            </a:xfrm>
            <a:prstGeom prst="line">
              <a:avLst/>
            </a:prstGeom>
            <a:ln w="2844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i="1" lang="en-US" sz="18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146" name="_s2065"/>
            <p:cNvSpPr/>
            <p:nvPr/>
          </p:nvSpPr>
          <p:spPr>
            <a:xfrm>
              <a:off x="5780880" y="918720"/>
              <a:ext cx="2250360" cy="16070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Градация</a:t>
              </a:r>
              <a:endParaRPr b="0" i="1" lang="en-US" sz="24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147" name="_s2066"/>
            <p:cNvSpPr/>
            <p:nvPr/>
          </p:nvSpPr>
          <p:spPr>
            <a:xfrm flipV="1">
              <a:off x="4523760" y="1821240"/>
              <a:ext cx="0" cy="803520"/>
            </a:xfrm>
            <a:prstGeom prst="line">
              <a:avLst/>
            </a:prstGeom>
            <a:ln w="2844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i="1" lang="en-US" sz="18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148" name="_s2067"/>
            <p:cNvSpPr/>
            <p:nvPr/>
          </p:nvSpPr>
          <p:spPr>
            <a:xfrm>
              <a:off x="3398400" y="214200"/>
              <a:ext cx="2250360" cy="16070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Оксюморон</a:t>
              </a:r>
              <a:endParaRPr b="0" i="1" lang="en-US" sz="24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149" name="_s2068"/>
            <p:cNvSpPr/>
            <p:nvPr/>
          </p:nvSpPr>
          <p:spPr>
            <a:xfrm>
              <a:off x="3398400" y="2624760"/>
              <a:ext cx="2250360" cy="1607040"/>
            </a:xfrm>
            <a:prstGeom prst="ellips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ffccff"/>
                </a:gs>
              </a:gsLst>
              <a:lin ang="8100000"/>
            </a:gra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Comic Sans MS"/>
                </a:rPr>
                <a:t>Синтаксические </a:t>
              </a:r>
              <a:endParaRPr b="0" i="1" lang="en-US" sz="20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Comic Sans MS"/>
                </a:rPr>
                <a:t>фигуры</a:t>
              </a:r>
              <a:endParaRPr b="0" i="1" lang="en-US" sz="20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</p:grpSp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7410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ff0000"/>
                </a:solidFill>
                <a:latin typeface="Calibri"/>
              </a:rPr>
              <a:t>Фигура -</a:t>
            </a:r>
            <a:r>
              <a:rPr b="0" lang="ru-RU" sz="33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ru-RU" sz="3300" spc="-1" strike="noStrike">
                <a:solidFill>
                  <a:srgbClr val="0000ff"/>
                </a:solidFill>
                <a:latin typeface="Calibri"/>
              </a:rPr>
              <a:t>изменение «естественного» порядка слов в синтаксической конструкции (перестановка слов, пропуск необходимых или использование «лишних», с точки зрения «естественной» речи, лексических элементов),ради достижения дополнительной выразительности.</a:t>
            </a:r>
            <a:endParaRPr b="0" lang="en-US" sz="33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>
    <p:push dir="r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Diagram 66"/>
          <p:cNvGrpSpPr/>
          <p:nvPr/>
        </p:nvGrpSpPr>
        <p:grpSpPr>
          <a:xfrm>
            <a:off x="649800" y="172440"/>
            <a:ext cx="8242920" cy="6495840"/>
            <a:chOff x="649800" y="172440"/>
            <a:chExt cx="8242920" cy="6495840"/>
          </a:xfrm>
        </p:grpSpPr>
        <p:sp>
          <p:nvSpPr>
            <p:cNvPr id="89" name="_s1028"/>
            <p:cNvSpPr/>
            <p:nvPr/>
          </p:nvSpPr>
          <p:spPr>
            <a:xfrm flipH="1" flipV="1">
              <a:off x="3333600" y="1692720"/>
              <a:ext cx="1034280" cy="1281960"/>
            </a:xfrm>
            <a:prstGeom prst="line">
              <a:avLst/>
            </a:prstGeom>
            <a:ln w="2844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i="1" lang="en-US" sz="18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90" name="_s1029"/>
            <p:cNvSpPr/>
            <p:nvPr/>
          </p:nvSpPr>
          <p:spPr>
            <a:xfrm>
              <a:off x="2179800" y="600480"/>
              <a:ext cx="1493640" cy="118728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2f2b20"/>
                  </a:solidFill>
                  <a:latin typeface="Arial"/>
                </a:rPr>
                <a:t>Эпитет</a:t>
              </a:r>
              <a:endParaRPr b="0" i="1" lang="en-US" sz="24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91" name="_s1030"/>
            <p:cNvSpPr/>
            <p:nvPr/>
          </p:nvSpPr>
          <p:spPr>
            <a:xfrm flipH="1" flipV="1">
              <a:off x="2350800" y="2593080"/>
              <a:ext cx="1741320" cy="634680"/>
            </a:xfrm>
            <a:prstGeom prst="line">
              <a:avLst/>
            </a:prstGeom>
            <a:ln w="2844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i="1" lang="en-US" sz="18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92" name="_s1031"/>
            <p:cNvSpPr/>
            <p:nvPr/>
          </p:nvSpPr>
          <p:spPr>
            <a:xfrm>
              <a:off x="921960" y="1756440"/>
              <a:ext cx="1493640" cy="118728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675e47"/>
                  </a:solidFill>
                  <a:latin typeface="Arial"/>
                </a:rPr>
                <a:t>Сравнение</a:t>
              </a:r>
              <a:endParaRPr b="0" i="1" lang="en-US" sz="20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93" name="_s1032"/>
            <p:cNvSpPr/>
            <p:nvPr/>
          </p:nvSpPr>
          <p:spPr>
            <a:xfrm flipH="1">
              <a:off x="2136960" y="3559320"/>
              <a:ext cx="1897560" cy="213840"/>
            </a:xfrm>
            <a:prstGeom prst="line">
              <a:avLst/>
            </a:prstGeom>
            <a:ln w="2844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i="1" lang="en-US" sz="18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94" name="_s1033"/>
            <p:cNvSpPr/>
            <p:nvPr/>
          </p:nvSpPr>
          <p:spPr>
            <a:xfrm>
              <a:off x="649800" y="3267720"/>
              <a:ext cx="1492920" cy="1186560"/>
            </a:xfrm>
            <a:prstGeom prst="ellipse">
              <a:avLst/>
            </a:prstGeom>
            <a:solidFill>
              <a:srgbClr val="a9a57c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2f2b20"/>
                  </a:solidFill>
                  <a:latin typeface="Arial"/>
                </a:rPr>
                <a:t>Гипербола</a:t>
              </a:r>
              <a:endParaRPr b="0" i="1" lang="en-US" sz="20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95" name="_s1034"/>
            <p:cNvSpPr/>
            <p:nvPr/>
          </p:nvSpPr>
          <p:spPr>
            <a:xfrm flipH="1">
              <a:off x="2758320" y="3863520"/>
              <a:ext cx="1450440" cy="994680"/>
            </a:xfrm>
            <a:prstGeom prst="line">
              <a:avLst/>
            </a:prstGeom>
            <a:ln w="2844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i="1" lang="en-US" sz="18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96" name="_s1035"/>
            <p:cNvSpPr/>
            <p:nvPr/>
          </p:nvSpPr>
          <p:spPr>
            <a:xfrm>
              <a:off x="1448280" y="4656240"/>
              <a:ext cx="1493640" cy="1187280"/>
            </a:xfrm>
            <a:prstGeom prst="ellipse">
              <a:avLst/>
            </a:prstGeom>
            <a:solidFill>
              <a:srgbClr val="a9a57c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2f2b20"/>
                  </a:solidFill>
                  <a:latin typeface="Arial"/>
                </a:rPr>
                <a:t>Метафора</a:t>
              </a:r>
              <a:endParaRPr b="0" i="1" lang="en-US" sz="20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97" name="_s1036"/>
            <p:cNvSpPr/>
            <p:nvPr/>
          </p:nvSpPr>
          <p:spPr>
            <a:xfrm flipH="1">
              <a:off x="4019760" y="4043160"/>
              <a:ext cx="544680" cy="1459800"/>
            </a:xfrm>
            <a:prstGeom prst="line">
              <a:avLst/>
            </a:prstGeom>
            <a:ln w="2844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i="1" lang="en-US" sz="18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98" name="_s1037"/>
            <p:cNvSpPr/>
            <p:nvPr/>
          </p:nvSpPr>
          <p:spPr>
            <a:xfrm>
              <a:off x="3064680" y="5481000"/>
              <a:ext cx="1493640" cy="1187280"/>
            </a:xfrm>
            <a:prstGeom prst="ellipse">
              <a:avLst/>
            </a:prstGeom>
            <a:solidFill>
              <a:srgbClr val="a9a57c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2f2b20"/>
                  </a:solidFill>
                  <a:latin typeface="Arial"/>
                </a:rPr>
                <a:t>Метонимия</a:t>
              </a:r>
              <a:endParaRPr b="0" i="1" lang="en-US" sz="20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99" name="_s1038"/>
            <p:cNvSpPr/>
            <p:nvPr/>
          </p:nvSpPr>
          <p:spPr>
            <a:xfrm>
              <a:off x="4984200" y="4041000"/>
              <a:ext cx="534960" cy="1461960"/>
            </a:xfrm>
            <a:prstGeom prst="line">
              <a:avLst/>
            </a:prstGeom>
            <a:ln w="2844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i="1" lang="en-US" sz="18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100" name="_s1039"/>
            <p:cNvSpPr/>
            <p:nvPr/>
          </p:nvSpPr>
          <p:spPr>
            <a:xfrm>
              <a:off x="4987080" y="5481000"/>
              <a:ext cx="1493640" cy="1187280"/>
            </a:xfrm>
            <a:prstGeom prst="ellipse">
              <a:avLst/>
            </a:prstGeom>
            <a:solidFill>
              <a:srgbClr val="a9a57c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2f2b20"/>
                  </a:solidFill>
                  <a:latin typeface="Arial"/>
                </a:rPr>
                <a:t>Перифраз</a:t>
              </a:r>
              <a:endParaRPr b="0" i="1" lang="en-US" sz="20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101" name="_s1040"/>
            <p:cNvSpPr/>
            <p:nvPr/>
          </p:nvSpPr>
          <p:spPr>
            <a:xfrm>
              <a:off x="5335920" y="3858480"/>
              <a:ext cx="1444320" cy="999360"/>
            </a:xfrm>
            <a:prstGeom prst="line">
              <a:avLst/>
            </a:prstGeom>
            <a:ln w="2844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i="1" lang="en-US" sz="18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102" name="_s1041"/>
            <p:cNvSpPr/>
            <p:nvPr/>
          </p:nvSpPr>
          <p:spPr>
            <a:xfrm>
              <a:off x="6602760" y="4654080"/>
              <a:ext cx="1493640" cy="1187280"/>
            </a:xfrm>
            <a:prstGeom prst="ellipse">
              <a:avLst/>
            </a:prstGeom>
            <a:solidFill>
              <a:srgbClr val="a9a57c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2f2b20"/>
                  </a:solidFill>
                  <a:latin typeface="Arial"/>
                </a:rPr>
                <a:t>Ирония</a:t>
              </a:r>
              <a:endParaRPr b="0" i="1" lang="en-US" sz="20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103" name="_s1042"/>
            <p:cNvSpPr/>
            <p:nvPr/>
          </p:nvSpPr>
          <p:spPr>
            <a:xfrm>
              <a:off x="5507640" y="3554640"/>
              <a:ext cx="1897560" cy="221040"/>
            </a:xfrm>
            <a:prstGeom prst="line">
              <a:avLst/>
            </a:prstGeom>
            <a:ln w="2844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i="1" lang="en-US" sz="18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104" name="_s1043"/>
            <p:cNvSpPr/>
            <p:nvPr/>
          </p:nvSpPr>
          <p:spPr>
            <a:xfrm>
              <a:off x="7399080" y="3264840"/>
              <a:ext cx="1493640" cy="1187280"/>
            </a:xfrm>
            <a:prstGeom prst="ellipse">
              <a:avLst/>
            </a:prstGeom>
            <a:solidFill>
              <a:srgbClr val="a9a57c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2f2b20"/>
                  </a:solidFill>
                  <a:latin typeface="Arial"/>
                </a:rPr>
                <a:t>Синекдоха</a:t>
              </a:r>
              <a:endParaRPr b="0" i="1" lang="en-US" sz="20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105" name="_s1044"/>
            <p:cNvSpPr/>
            <p:nvPr/>
          </p:nvSpPr>
          <p:spPr>
            <a:xfrm flipV="1">
              <a:off x="5446440" y="2595240"/>
              <a:ext cx="1744200" cy="630360"/>
            </a:xfrm>
            <a:prstGeom prst="line">
              <a:avLst/>
            </a:prstGeom>
            <a:ln w="2844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i="1" lang="en-US" sz="18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106" name="_s1045"/>
            <p:cNvSpPr/>
            <p:nvPr/>
          </p:nvSpPr>
          <p:spPr>
            <a:xfrm>
              <a:off x="7123680" y="1754280"/>
              <a:ext cx="1493640" cy="1187280"/>
            </a:xfrm>
            <a:prstGeom prst="ellipse">
              <a:avLst/>
            </a:prstGeom>
            <a:solidFill>
              <a:srgbClr val="a9a57c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2f2b20"/>
                  </a:solidFill>
                  <a:latin typeface="Arial"/>
                </a:rPr>
                <a:t>Оксюморон</a:t>
              </a:r>
              <a:endParaRPr b="0" i="1" lang="en-US" sz="20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107" name="_s1046"/>
            <p:cNvSpPr/>
            <p:nvPr/>
          </p:nvSpPr>
          <p:spPr>
            <a:xfrm flipV="1">
              <a:off x="5170680" y="1695240"/>
              <a:ext cx="1037520" cy="1279080"/>
            </a:xfrm>
            <a:prstGeom prst="line">
              <a:avLst/>
            </a:prstGeom>
            <a:ln w="2844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i="1" lang="en-US" sz="18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108" name="_s1047"/>
            <p:cNvSpPr/>
            <p:nvPr/>
          </p:nvSpPr>
          <p:spPr>
            <a:xfrm>
              <a:off x="5865840" y="600480"/>
              <a:ext cx="1493640" cy="1187280"/>
            </a:xfrm>
            <a:prstGeom prst="ellipse">
              <a:avLst/>
            </a:prstGeom>
            <a:solidFill>
              <a:srgbClr val="a9a57c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2f2b20"/>
                  </a:solidFill>
                  <a:latin typeface="Arial"/>
                </a:rPr>
                <a:t>Олицетворение</a:t>
              </a:r>
              <a:endParaRPr b="0" i="1" lang="en-US" sz="20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109" name="_s1048"/>
            <p:cNvSpPr/>
            <p:nvPr/>
          </p:nvSpPr>
          <p:spPr>
            <a:xfrm flipV="1">
              <a:off x="4769640" y="1359360"/>
              <a:ext cx="0" cy="1523160"/>
            </a:xfrm>
            <a:prstGeom prst="line">
              <a:avLst/>
            </a:prstGeom>
            <a:ln w="2844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i="1" lang="en-US" sz="18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110" name="_s1049"/>
            <p:cNvSpPr/>
            <p:nvPr/>
          </p:nvSpPr>
          <p:spPr>
            <a:xfrm>
              <a:off x="4022640" y="172440"/>
              <a:ext cx="1493640" cy="1187280"/>
            </a:xfrm>
            <a:prstGeom prst="ellipse">
              <a:avLst/>
            </a:prstGeom>
            <a:solidFill>
              <a:srgbClr val="a9a57c"/>
            </a:soli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2f2b20"/>
                  </a:solidFill>
                  <a:latin typeface="Arial"/>
                </a:rPr>
                <a:t>Литота</a:t>
              </a:r>
              <a:endParaRPr b="0" i="1" lang="en-US" sz="24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  <p:sp>
          <p:nvSpPr>
            <p:cNvPr id="111" name="_s1050"/>
            <p:cNvSpPr/>
            <p:nvPr/>
          </p:nvSpPr>
          <p:spPr>
            <a:xfrm>
              <a:off x="4022640" y="2882880"/>
              <a:ext cx="1493640" cy="1187280"/>
            </a:xfrm>
            <a:prstGeom prst="ellipse">
              <a:avLst/>
            </a:prstGeom>
            <a:gradFill rotWithShape="0">
              <a:gsLst>
                <a:gs pos="0">
                  <a:srgbClr val="ccff33"/>
                </a:gs>
                <a:gs pos="100000">
                  <a:srgbClr val="5e7517"/>
                </a:gs>
              </a:gsLst>
              <a:lin ang="5400000"/>
            </a:gradFill>
            <a:ln w="9360">
              <a:solidFill>
                <a:srgbClr val="2f2b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66"/>
                  </a:solidFill>
                  <a:latin typeface="Comic Sans MS"/>
                </a:rPr>
                <a:t>Тропы</a:t>
              </a:r>
              <a:endParaRPr b="0" i="1" lang="en-US" sz="3200" spc="-1" strike="noStrike" u="sng">
                <a:solidFill>
                  <a:srgbClr val="2f2b20"/>
                </a:solidFill>
                <a:uFillTx/>
                <a:latin typeface="Comic Sans MS"/>
              </a:endParaRPr>
            </a:p>
          </p:txBody>
        </p:sp>
      </p:grpSp>
      <p:sp>
        <p:nvSpPr>
          <p:cNvPr id="112" name="Text Box 92"/>
          <p:cNvSpPr/>
          <p:nvPr/>
        </p:nvSpPr>
        <p:spPr>
          <a:xfrm>
            <a:off x="324000" y="404640"/>
            <a:ext cx="172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2f2b20"/>
              </a:solidFill>
              <a:uFillTx/>
              <a:latin typeface="Comic Sans MS"/>
            </a:endParaRPr>
          </a:p>
        </p:txBody>
      </p:sp>
      <p:pic>
        <p:nvPicPr>
          <p:cNvPr id="113" name="WordArt 93" descr=""/>
          <p:cNvPicPr/>
          <p:nvPr/>
        </p:nvPicPr>
        <p:blipFill>
          <a:blip r:embed="rId1"/>
          <a:stretch/>
        </p:blipFill>
        <p:spPr>
          <a:xfrm>
            <a:off x="-73080" y="-49320"/>
            <a:ext cx="2103480" cy="2202120"/>
          </a:xfrm>
          <a:prstGeom prst="rect">
            <a:avLst/>
          </a:prstGeom>
          <a:ln w="0">
            <a:noFill/>
          </a:ln>
        </p:spPr>
      </p:pic>
      <p:pic>
        <p:nvPicPr>
          <p:cNvPr id="114" name="WordArt 98" descr=""/>
          <p:cNvPicPr/>
          <p:nvPr/>
        </p:nvPicPr>
        <p:blipFill>
          <a:blip r:embed="rId2"/>
          <a:stretch/>
        </p:blipFill>
        <p:spPr>
          <a:xfrm>
            <a:off x="7010280" y="225360"/>
            <a:ext cx="2121120" cy="1974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Calibri"/>
              </a:rPr>
              <a:t>Антитеза</a:t>
            </a:r>
            <a:r>
              <a:rPr b="1" i="1" lang="ru-RU" sz="2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ff"/>
                </a:solidFill>
                <a:latin typeface="Calibri"/>
              </a:rPr>
              <a:t>(от греч. «противопоставление»)- сопоставления или противопоставления контрастных понятий и служит для усиления впечатления.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Monotype Corsiva"/>
              </a:rPr>
              <a:t>          </a:t>
            </a: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Они сошлись. Волна и камень,                                   Стихи и проза, лед и пламень.(А.Пушкин)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>
    <p:push dir="r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447920" y="333000"/>
            <a:ext cx="7696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Оксюморон </a:t>
            </a: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(от греч. слова «остроумно-глупое»)-сочетает контрастные по значению слова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Свободные рабы,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живой труп,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оптимистическая трагедия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Monotype Corsiva"/>
              </a:rPr>
              <a:t>Таинственно шумит лесная тишина.( И. Бунин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>
    <p:push dir="r"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-360" y="333000"/>
            <a:ext cx="8893080" cy="67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Повтор</a:t>
            </a: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-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фигура речи, состоящая в повторении звуков, слов, синтаксических конструкций и усиливающая выразительность высказывания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-звуковые повторы гласных звуков- ассонанс </a:t>
            </a: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(красивая- неугасимая)                                         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;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 неточная рифма с несовпадающими ударными гласными- диссонанс </a:t>
            </a:r>
            <a:r>
              <a:rPr b="1" lang="ru-RU" sz="2800" spc="-1" strike="noStrike">
                <a:solidFill>
                  <a:srgbClr val="00b050"/>
                </a:solidFill>
                <a:latin typeface="Monotype Corsiva"/>
              </a:rPr>
              <a:t>(</a:t>
            </a: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розовый – разовый)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-лексико-синтаксические повторы -повторение слова в начале строки – анафора ,в конце строки - эпифора, целого стиха - рефрен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Monotype Corsiva"/>
              </a:rPr>
              <a:t>Тороватому боярину слава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Monotype Corsiva"/>
              </a:rPr>
              <a:t>И красавице боярыне слава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Monotype Corsiva"/>
              </a:rPr>
              <a:t>(Некрасов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>
    <p:push dir="r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0"/>
            <a:ext cx="88581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Градация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(от лат. «постепенность»)-слова располагаются в порядке усиления или ослабления признака.                                                 </a:t>
            </a:r>
            <a:r>
              <a:rPr b="0" lang="ru-RU" sz="22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2200" spc="-1" strike="noStrike">
                <a:solidFill>
                  <a:srgbClr val="00b050"/>
                </a:solidFill>
                <a:latin typeface="Monotype Corsiva"/>
              </a:rPr>
              <a:t>Ветер ревел, бил людей холодными мокрыми   ладонями, пытался свалить с ног. (А.С.Пушкин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Monotype Corsiva"/>
              </a:rPr>
              <a:t>     </a:t>
            </a: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Анафора</a:t>
            </a:r>
            <a:r>
              <a:rPr b="1" lang="ru-RU" sz="2200" spc="-1" strike="noStrike">
                <a:solidFill>
                  <a:srgbClr val="0000ff"/>
                </a:solidFill>
                <a:latin typeface="Monotype Corsiva"/>
              </a:rPr>
              <a:t>-повторение слов.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Monotype Corsiva"/>
              </a:rPr>
              <a:t>Не напрасно дули ветры. Не напрасно шла гроза.                           (  С.Есенин)                                                                </a:t>
            </a:r>
            <a:r>
              <a:rPr b="1" lang="ru-RU" sz="2200" spc="-1" strike="noStrike">
                <a:solidFill>
                  <a:srgbClr val="ff0000"/>
                </a:solidFill>
                <a:latin typeface="Monotype Corsiva"/>
              </a:rPr>
              <a:t>Параллелизм-</a:t>
            </a:r>
            <a:r>
              <a:rPr b="1" lang="ru-RU" sz="2200" spc="-1" strike="noStrike">
                <a:solidFill>
                  <a:srgbClr val="0000ff"/>
                </a:solidFill>
                <a:latin typeface="Monotype Corsiva"/>
              </a:rPr>
              <a:t>одинаковое синтаксическое построение предложений.                                                                                   </a:t>
            </a:r>
            <a:r>
              <a:rPr b="1" lang="ru-RU" sz="2200" spc="-1" strike="noStrike">
                <a:solidFill>
                  <a:srgbClr val="00b050"/>
                </a:solidFill>
                <a:latin typeface="Monotype Corsiva"/>
              </a:rPr>
              <a:t>Он над тучами смеется, он от  радости рыдает! (М.Горький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>
    <p:push dir="r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459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Риторический вопрос</a:t>
            </a: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-фигура,в которой в форме вопроса содержится утверждение,не требующее ответа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Зачем семьи родной безвестный круг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Я покидал</a:t>
            </a:r>
            <a:r>
              <a:rPr b="1" lang="en-US" sz="3600" spc="-1" strike="noStrike">
                <a:solidFill>
                  <a:srgbClr val="00b050"/>
                </a:solidFill>
                <a:latin typeface="Monotype Corsiva"/>
              </a:rPr>
              <a:t>?</a:t>
            </a: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 Всё сердце грело там…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                                       </a:t>
            </a:r>
            <a:r>
              <a:rPr b="1" lang="ru-RU" sz="3600" spc="-1" strike="noStrike">
                <a:solidFill>
                  <a:srgbClr val="00b050"/>
                </a:solidFill>
                <a:latin typeface="Monotype Corsiva"/>
              </a:rPr>
              <a:t>(М. Лермонов</a:t>
            </a:r>
            <a:r>
              <a:rPr b="0" lang="ru-RU" sz="3600" spc="-1" strike="noStrike">
                <a:solidFill>
                  <a:srgbClr val="0000ff"/>
                </a:solidFill>
                <a:latin typeface="Monotype Corsiva"/>
              </a:rPr>
              <a:t>)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>
    <p:push dir="r"/>
  </p:transition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769608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Риторическое восклицание</a:t>
            </a: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(от греч. «оратор»)- стилистическая фигура, которая служит для усиления эмоционального восприятия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Monotype Corsiva"/>
              </a:rPr>
              <a:t>Звенит и буйствует природа.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Monotype Corsiva"/>
              </a:rPr>
              <a:t>Я соучастник ей во всём!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Monotype Corsiva"/>
              </a:rPr>
              <a:t>(А. Блок)</a:t>
            </a:r>
            <a:r>
              <a:rPr b="1" lang="ru-RU" sz="2200" spc="-1" strike="noStrike">
                <a:solidFill>
                  <a:srgbClr val="00b05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>
    <p:push dir="r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7696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Риторическое обращение- </a:t>
            </a: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стилистическая фигура, состоящая из вопросов и восклицаний, выражающих сомнение, просьбу, негодование, жалобу, приветствие и пр., обращённых автором к людям , к природе или к самому себе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Monotype Corsiva"/>
              </a:rPr>
              <a:t>О Волга! После многих лет                                                        Я вновь принес тебе привет.                                               (  Н.Некрасов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>
    <p:push dir="r"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83664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Calibri"/>
              </a:rPr>
              <a:t>Тропы-</a:t>
            </a:r>
            <a:r>
              <a:rPr b="1" i="1" lang="ru-RU" sz="2200" spc="-1" strike="noStrike">
                <a:solidFill>
                  <a:srgbClr val="0000ff"/>
                </a:solidFill>
                <a:latin typeface="Calibri"/>
              </a:rPr>
              <a:t>слова или обороты речи в переносном, иносказательном, образном смысле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Слова могут употребляться как в собственном, так и в переносном значении. Например, в выражениях</a:t>
            </a:r>
            <a:r>
              <a:rPr b="1" i="1" lang="en-US" sz="2400" spc="-1" strike="noStrike">
                <a:solidFill>
                  <a:srgbClr val="00b050"/>
                </a:solidFill>
                <a:latin typeface="Calibri"/>
              </a:rPr>
              <a:t>: 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острый нож, твердый камень, слова «острый» и «твёрдый» употреблены в собственном смысле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;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 в выражениях же острый ум, твердый характер эти же самые слова употреблены в переносном значении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71360" y="333000"/>
            <a:ext cx="80722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Эпитет-</a:t>
            </a: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художественное определение,ярко и образно  рисующее наиболее существенный признак предмета или явления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Monotype Corsiva"/>
              </a:rPr>
              <a:t>Отговорила роща золотая            Березовым весёлым языком… 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Monotype Corsiva"/>
              </a:rPr>
              <a:t>С. Есенин                                                        Ночевала тучка золотая …                             М. Лермонтов</a:t>
            </a:r>
            <a:r>
              <a:rPr b="1" lang="ru-RU" sz="2200" spc="-1" strike="noStrike">
                <a:solidFill>
                  <a:srgbClr val="00b050"/>
                </a:solidFill>
                <a:latin typeface="Calibri"/>
              </a:rPr>
              <a:t>     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>
    <p:push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324000" y="404640"/>
            <a:ext cx="8135640" cy="68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2f2b20"/>
                </a:solidFill>
                <a:uFillTx/>
                <a:latin typeface="Comic Sans MS"/>
              </a:rPr>
              <a:t>К эпитетам относятся все «</a:t>
            </a: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Comic Sans MS"/>
              </a:rPr>
              <a:t>красочные» определения, которые чаще всего выражаются прилагательными</a:t>
            </a:r>
            <a:r>
              <a:rPr b="0" i="1" lang="ru-RU" sz="2400" spc="-1" strike="noStrike" u="sng">
                <a:solidFill>
                  <a:srgbClr val="2f2b20"/>
                </a:solidFill>
                <a:uFillTx/>
                <a:latin typeface="Comic Sans MS"/>
              </a:rPr>
              <a:t>.</a:t>
            </a:r>
            <a:endParaRPr b="0" i="1" lang="en-US" sz="2400" spc="-1" strike="noStrike" u="sng">
              <a:solidFill>
                <a:srgbClr val="2f2b20"/>
              </a:solidFill>
              <a:uFillTx/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2f2b20"/>
                </a:solidFill>
                <a:uFillTx/>
                <a:latin typeface="Comic Sans MS"/>
              </a:rPr>
              <a:t>Например: </a:t>
            </a:r>
            <a:r>
              <a:rPr b="0" i="1" lang="ru-RU" sz="2400" spc="-1" strike="noStrike" u="sng">
                <a:solidFill>
                  <a:srgbClr val="00b050"/>
                </a:solidFill>
                <a:uFillTx/>
                <a:latin typeface="Comic Sans MS"/>
              </a:rPr>
              <a:t>грустно-сиротеющая земля (Ф. И. Тютчев), седой туман, лимонный свет, немой покой (И. А. Бунин).</a:t>
            </a:r>
            <a:endParaRPr b="0" i="1" lang="en-US" sz="2400" spc="-1" strike="noStrike" u="sng">
              <a:solidFill>
                <a:srgbClr val="2f2b20"/>
              </a:solidFill>
              <a:uFillTx/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Comic Sans MS"/>
              </a:rPr>
              <a:t>— </a:t>
            </a: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Comic Sans MS"/>
              </a:rPr>
              <a:t>существительными, выступающими в качестве приложений или сказуемых, дающих образную характеристику предмета</a:t>
            </a:r>
            <a:r>
              <a:rPr b="0" i="1" lang="ru-RU" sz="2400" spc="-1" strike="noStrike" u="sng">
                <a:solidFill>
                  <a:srgbClr val="2f2b20"/>
                </a:solidFill>
                <a:uFillTx/>
                <a:latin typeface="Comic Sans MS"/>
              </a:rPr>
              <a:t>.</a:t>
            </a:r>
            <a:endParaRPr b="0" i="1" lang="en-US" sz="2400" spc="-1" strike="noStrike" u="sng">
              <a:solidFill>
                <a:srgbClr val="2f2b20"/>
              </a:solidFill>
              <a:uFillTx/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b050"/>
                </a:solidFill>
                <a:uFillTx/>
                <a:latin typeface="Comic Sans MS"/>
              </a:rPr>
              <a:t>Например:  волшебница-зима; мать — сыра земля; Поэт — это лира, а не только няня своей души (М. Горький);</a:t>
            </a:r>
            <a:endParaRPr b="0" i="1" lang="en-US" sz="2400" spc="-1" strike="noStrike" u="sng">
              <a:solidFill>
                <a:srgbClr val="2f2b20"/>
              </a:solidFill>
              <a:uFillTx/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2f2b20"/>
                </a:solidFill>
                <a:uFillTx/>
                <a:latin typeface="Comic Sans MS"/>
              </a:rPr>
              <a:t>— </a:t>
            </a:r>
            <a:r>
              <a:rPr b="0" i="1" lang="ru-RU" sz="2400" spc="-1" strike="noStrike" u="sng">
                <a:solidFill>
                  <a:srgbClr val="2f2b20"/>
                </a:solidFill>
                <a:uFillTx/>
                <a:latin typeface="Comic Sans MS"/>
              </a:rPr>
              <a:t>наречиями, выступающими в роли обстоятельств.</a:t>
            </a:r>
            <a:endParaRPr b="0" i="1" lang="en-US" sz="2400" spc="-1" strike="noStrike" u="sng">
              <a:solidFill>
                <a:srgbClr val="2f2b20"/>
              </a:solidFill>
              <a:uFillTx/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2f2b20"/>
                </a:solidFill>
                <a:uFillTx/>
                <a:latin typeface="Comic Sans MS"/>
              </a:rPr>
              <a:t>Например: На севере диком стоит одиноко...(М. Ю. Лермонтов); Листья были напряженно вытянуты по ветру (К. Г. Паустовский);</a:t>
            </a:r>
            <a:endParaRPr b="0" i="1" lang="en-US" sz="2400" spc="-1" strike="noStrike" u="sng">
              <a:solidFill>
                <a:srgbClr val="2f2b20"/>
              </a:solidFill>
              <a:uFillTx/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2f2b20"/>
                </a:solidFill>
                <a:uFillTx/>
                <a:latin typeface="Comic Sans MS"/>
              </a:rPr>
              <a:t> </a:t>
            </a:r>
            <a:endParaRPr b="0" i="1" lang="en-US" sz="1800" spc="-1" strike="noStrike" u="sng">
              <a:solidFill>
                <a:srgbClr val="2f2b20"/>
              </a:solidFill>
              <a:uFillTx/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2f2b20"/>
              </a:solidFill>
              <a:uFillTx/>
              <a:latin typeface="Comic Sans MS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684360" y="612720"/>
            <a:ext cx="7920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Comic Sans MS"/>
              </a:rPr>
              <a:t>— </a:t>
            </a: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Comic Sans MS"/>
              </a:rPr>
              <a:t>деепричастиями.</a:t>
            </a:r>
            <a:endParaRPr b="0" i="1" lang="en-US" sz="2400" spc="-1" strike="noStrike" u="sng">
              <a:solidFill>
                <a:srgbClr val="2f2b20"/>
              </a:solidFill>
              <a:uFillTx/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b050"/>
                </a:solidFill>
                <a:uFillTx/>
                <a:latin typeface="Comic Sans MS"/>
              </a:rPr>
              <a:t>Например:  волны несутся гремя и сверкая;</a:t>
            </a:r>
            <a:endParaRPr b="0" i="1" lang="en-US" sz="2400" spc="-1" strike="noStrike" u="sng">
              <a:solidFill>
                <a:srgbClr val="2f2b20"/>
              </a:solidFill>
              <a:uFillTx/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b050"/>
                </a:solidFill>
                <a:uFillTx/>
                <a:latin typeface="Comic Sans MS"/>
              </a:rPr>
              <a:t>— </a:t>
            </a:r>
            <a:r>
              <a:rPr b="0" i="1" lang="ru-RU" sz="2400" spc="-1" strike="noStrike" u="sng">
                <a:solidFill>
                  <a:srgbClr val="00b050"/>
                </a:solidFill>
                <a:uFillTx/>
                <a:latin typeface="Comic Sans MS"/>
              </a:rPr>
              <a:t>местоимениями, выражающими превосходную степень того или иного состояния человеческой души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.  </a:t>
            </a:r>
            <a:endParaRPr b="0" i="1" lang="en-US" sz="2400" spc="-1" strike="noStrike" u="sng">
              <a:solidFill>
                <a:srgbClr val="2f2b20"/>
              </a:solidFill>
              <a:uFillTx/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Comic Sans MS"/>
              </a:rPr>
              <a:t>— </a:t>
            </a: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Comic Sans MS"/>
              </a:rPr>
              <a:t>причастиями и причастными оборотами.</a:t>
            </a:r>
            <a:endParaRPr b="0" i="1" lang="en-US" sz="2400" spc="-1" strike="noStrike" u="sng">
              <a:solidFill>
                <a:srgbClr val="2f2b20"/>
              </a:solidFill>
              <a:uFillTx/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b050"/>
                </a:solidFill>
                <a:uFillTx/>
                <a:latin typeface="Comic Sans MS"/>
              </a:rPr>
              <a:t>Например: Соловьи словословьем грохочущим оглашают лесные пределы (Б. Л. Пастернак); Допускаю также появление... борзописцев, которые не могут доказать, где они вчера ночевали, и у которых нет других слов на языке, кроме слов, не помнящих родства (М. Е. Салтыков-Щедрин).</a:t>
            </a:r>
            <a:endParaRPr b="0" i="1" lang="en-US" sz="2400" spc="-1" strike="noStrike" u="sng">
              <a:solidFill>
                <a:srgbClr val="2f2b20"/>
              </a:solidFill>
              <a:uFillTx/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b050"/>
                </a:solidFill>
                <a:uFillTx/>
                <a:latin typeface="Comic Sans MS"/>
              </a:rPr>
              <a:t>Например: Ведь были схватки боевые, Да, говорят, еще какие! (М. Ю. Лермонтов);</a:t>
            </a:r>
            <a:endParaRPr b="0" i="1" lang="en-US" sz="2400" spc="-1" strike="noStrike" u="sng">
              <a:solidFill>
                <a:srgbClr val="2f2b20"/>
              </a:solidFill>
              <a:uFillTx/>
              <a:latin typeface="Comic Sans MS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468360" y="474840"/>
            <a:ext cx="8064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Comic Sans MS"/>
              </a:rPr>
              <a:t>Постоянные эпитеты облегчали певцу, сказителю исполнение произведения. Любой фольклорный текст насыщен такими, по большей части «украшающими», эпитетами.</a:t>
            </a:r>
            <a:endParaRPr b="0" i="1" lang="en-US" sz="2400" spc="-1" strike="noStrike" u="sng">
              <a:solidFill>
                <a:srgbClr val="2f2b20"/>
              </a:solidFill>
              <a:uFillTx/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Comic Sans MS"/>
              </a:rPr>
              <a:t> </a:t>
            </a:r>
            <a:endParaRPr b="0" i="1" lang="en-US" sz="2400" spc="-1" strike="noStrike" u="sng">
              <a:solidFill>
                <a:srgbClr val="2f2b20"/>
              </a:solidFill>
              <a:uFillTx/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b050"/>
                </a:solidFill>
                <a:uFillTx/>
                <a:latin typeface="Comic Sans MS"/>
              </a:rPr>
              <a:t>«В фольклоре, - пишет литературовед В.П.Аникин, - девица всегда красна, молодец - добрый, батюшка - родный, детушки - малые, молодчик - удалый, тело - белое, руки - белые, слезы - горючие, голос - громкий, поклон - низкий, стол - дубовый, вино - зеленое, водочка - сладка, орел - сизый, цветок - алый, камень - горючий, пески - сыпучие, ночь - темная, лес - стоячий, горы - крутые, леса - дремучие, туча - грозная, ветры - буйные, поле - чистое, солнце - красное, лук - тугой, кабак - царев, сабля - острая, волк - серый и пр.»</a:t>
            </a:r>
            <a:endParaRPr b="0" i="1" lang="en-US" sz="2400" spc="-1" strike="noStrike" u="sng">
              <a:solidFill>
                <a:srgbClr val="2f2b20"/>
              </a:solidFill>
              <a:uFillTx/>
              <a:latin typeface="Comic Sans MS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71360" y="260280"/>
            <a:ext cx="807228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5e47"/>
                </a:solidFill>
                <a:latin typeface="Calibri"/>
              </a:rPr>
              <a:t>Сравнения</a:t>
            </a:r>
            <a:r>
              <a:rPr b="1" lang="ru-RU" sz="28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слова или выражения, содержащие уподобление одного предмета или явления другому. Простейшая форма сравнения использует связующие слова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: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 как, словно, точно, подобно, как бы, как будто, похож на, вот так бы и т.д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Calibri"/>
              </a:rPr>
              <a:t>         </a:t>
            </a:r>
            <a:r>
              <a:rPr b="1" i="1" lang="ru-RU" sz="1800" spc="-1" strike="noStrike">
                <a:solidFill>
                  <a:srgbClr val="00b050"/>
                </a:solidFill>
                <a:latin typeface="Calibri"/>
              </a:rPr>
              <a:t>И стоит, словно зеркало,пруд,                                                      отражая свои берега.                              (И.Бунин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Monotype Corsiva"/>
              </a:rPr>
              <a:t>Пирует с дружиною вещий Олег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Monotype Corsiva"/>
              </a:rPr>
              <a:t>При звоне веселом стакана</a:t>
            </a:r>
            <a:r>
              <a:rPr b="1" i="1" lang="en-US" sz="2400" spc="-1" strike="noStrike">
                <a:solidFill>
                  <a:srgbClr val="00b050"/>
                </a:solidFill>
                <a:latin typeface="Monotype Corsiva"/>
              </a:rPr>
              <a:t>;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Monotype Corsiva"/>
              </a:rPr>
              <a:t>И кудри их белы, как утренний снег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Monotype Corsiva"/>
              </a:rPr>
              <a:t>Над славной главою кургана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Monotype Corsiva"/>
              </a:rPr>
              <a:t>(А.Пушкин)</a:t>
            </a: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                                                  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>
    <p:push dir="r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213840"/>
            <a:ext cx="82152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Метафора </a:t>
            </a:r>
            <a:r>
              <a:rPr b="0" lang="ru-RU" sz="2200" spc="-1" strike="noStrike">
                <a:solidFill>
                  <a:srgbClr val="0000ff"/>
                </a:solidFill>
                <a:latin typeface="Calibri"/>
              </a:rPr>
              <a:t>(от греч. «перенесение»)-троп, состоящий в употреблении слов и выражений в переносном смысле на основе какой-нибудь аналогии, сходства, сравнения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Monotype Corsiva"/>
              </a:rPr>
              <a:t>Мы пьём из чаши бытия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Monotype Corsiva"/>
              </a:rPr>
              <a:t>С закрытыми глазами,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Monotype Corsiva"/>
              </a:rPr>
              <a:t>Златые омочив края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Monotype Corsiva"/>
              </a:rPr>
              <a:t>Своими же слезами…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Monotype Corsiva"/>
              </a:rPr>
              <a:t>М.Ю.Лермонтов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Monotype Corsiva"/>
              </a:rPr>
              <a:t>…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Monotype Corsiva"/>
              </a:rPr>
              <a:t>Нос корабля, ножка стола, заря жизни,                                                                                говор волн, закат пылает, стрелка часов…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transition>
    <p:push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17:19:55Z</dcterms:created>
  <dc:creator>Новиков А</dc:creator>
  <dc:description/>
  <dc:language>en-US</dc:language>
  <cp:lastModifiedBy>Галина</cp:lastModifiedBy>
  <dcterms:modified xsi:type="dcterms:W3CDTF">2022-10-02T07:28:25Z</dcterms:modified>
  <cp:revision>22</cp:revision>
  <dc:subject/>
  <dc:title>Изобразительно-выразительные средства  языка</dc:title>
</cp:coreProperties>
</file>