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AC5-D245-46DB-82C4-D2C2E26C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C1E-B85A-4879-943B-ABEF0890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243-D0B8-4557-95C5-3B813F85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5D8D-DC9C-467D-9F09-EDAD7F68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FF8-FE29-4650-B8C5-311E68F5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942-0090-4BE8-9C59-62E1D6B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C6B-36D1-4DAF-8951-CE9BF7A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5D9-8629-4699-BD59-0FC18212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429-9221-4CF7-A2CC-649734CA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633-30D5-478C-A337-77B8553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4D7-47EB-4BB6-9D20-12735070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5AC-782C-4D9E-AB44-FD3EAC0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f591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F53E-4364-484E-92A1-219A2EF0CE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ень в природ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7168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Юдина Е.А., учитель начальных класс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МБОУ «Шиловская СОШ №3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77.jpg"/>
          <p:cNvPicPr/>
          <p:nvPr/>
        </p:nvPicPr>
        <p:blipFill>
          <a:blip r:embed="rId1"/>
          <a:stretch/>
        </p:blipFill>
        <p:spPr>
          <a:xfrm>
            <a:off x="2928960" y="2143080"/>
            <a:ext cx="3763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28760" y="428760"/>
            <a:ext cx="500040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ОСЕНЬ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. Сказочный чертог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открытый для обзор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ки лесных дорог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лядевшихся в озера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выставке картин: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ы, залы, залы, зал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язов, ясеней, оси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золоте небывал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3500280" y="50004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рис Пастерна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96604-peyzash-biom-kraska-osen-rastitelnost-1920x1080.jpg"/>
          <p:cNvPicPr/>
          <p:nvPr/>
        </p:nvPicPr>
        <p:blipFill>
          <a:blip r:embed="rId1"/>
          <a:stretch/>
        </p:blipFill>
        <p:spPr>
          <a:xfrm>
            <a:off x="4714920" y="4214880"/>
            <a:ext cx="414324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000080" y="1214280"/>
            <a:ext cx="72151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стилинография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декоративно-прикладного искусств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ставляет собой создание лепных картин с изображением более или менее выпуклых, полуобъёмных объектов на горизонтальной поверх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8bb3727be9001089a94fe990a6bfbe61.jpg"/>
          <p:cNvPicPr/>
          <p:nvPr/>
        </p:nvPicPr>
        <p:blipFill>
          <a:blip r:embed="rId1"/>
          <a:stretch/>
        </p:blipFill>
        <p:spPr>
          <a:xfrm>
            <a:off x="357120" y="2357280"/>
            <a:ext cx="4138560" cy="26434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5" descr="applikacziya-iz-plastilina-svoimi-rukami-14.jpg"/>
          <p:cNvPicPr/>
          <p:nvPr/>
        </p:nvPicPr>
        <p:blipFill>
          <a:blip r:embed="rId2"/>
          <a:stretch/>
        </p:blipFill>
        <p:spPr>
          <a:xfrm>
            <a:off x="5394240" y="1600200"/>
            <a:ext cx="2546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2575179543.jpg"/>
          <p:cNvPicPr/>
          <p:nvPr/>
        </p:nvPicPr>
        <p:blipFill>
          <a:blip r:embed="rId1"/>
          <a:stretch/>
        </p:blipFill>
        <p:spPr>
          <a:xfrm>
            <a:off x="1714680" y="1719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osenizplastelina6.jpg"/>
          <p:cNvPicPr/>
          <p:nvPr/>
        </p:nvPicPr>
        <p:blipFill>
          <a:blip r:embed="rId1"/>
          <a:stretch/>
        </p:blipFill>
        <p:spPr>
          <a:xfrm>
            <a:off x="785880" y="1500120"/>
            <a:ext cx="7534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detsad-641292-1541437032.jpg"/>
          <p:cNvPicPr/>
          <p:nvPr/>
        </p:nvPicPr>
        <p:blipFill>
          <a:blip r:embed="rId1"/>
          <a:stretch/>
        </p:blipFill>
        <p:spPr>
          <a:xfrm>
            <a:off x="1357200" y="1500120"/>
            <a:ext cx="64296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ластилинограф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2" descr="poster_event_1061821.jpg"/>
          <p:cNvPicPr/>
          <p:nvPr/>
        </p:nvPicPr>
        <p:blipFill>
          <a:blip r:embed="rId1"/>
          <a:stretch/>
        </p:blipFill>
        <p:spPr>
          <a:xfrm>
            <a:off x="928800" y="2000160"/>
            <a:ext cx="742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30T09:36:31Z</dcterms:created>
  <dc:creator>LENA</dc:creator>
  <dc:description/>
  <dc:language>en-US</dc:language>
  <cp:lastModifiedBy>LENA</cp:lastModifiedBy>
  <dcterms:modified xsi:type="dcterms:W3CDTF">2022-09-30T10:16:44Z</dcterms:modified>
  <cp:revision>4</cp:revision>
  <dc:subject/>
  <dc:title>Осень в природе</dc:title>
</cp:coreProperties>
</file>