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640-622A-4758-B47E-93BA8275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889-C378-4DE5-9529-645C06F4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6F2-0A62-4417-A252-2497FC08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141-4958-4F81-BD04-0CAE1478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D80-8755-4415-923C-F2712AEB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4F5-B318-4C25-BC5E-D8E3AB77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561-4922-4DFC-A1B8-480239CD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ABB-9C02-4402-9445-96F8A38C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DCE-1F9F-42BD-ACFD-5E587CBB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AE2-7DA2-4976-8369-9E0EDAC4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F41-7FF1-4B8E-A225-DD39DED7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858-8DA1-46DD-8463-05046D2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E5A6-68CE-45C8-8A43-E2AA538DA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ень в природ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7168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Юдина Е.А., учитель начальных класс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БОУ «Шиловская СОШ №3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77.jpg"/>
          <p:cNvPicPr/>
          <p:nvPr/>
        </p:nvPicPr>
        <p:blipFill>
          <a:blip r:embed="rId1"/>
          <a:stretch/>
        </p:blipFill>
        <p:spPr>
          <a:xfrm>
            <a:off x="2928960" y="2143080"/>
            <a:ext cx="3763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428760" y="428760"/>
            <a:ext cx="50004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АЯ ОСЕН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. Сказочный чертог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открытый для обзор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ки лесных дорог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ядевшихся в озера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выставке картин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ы, залы, залы, зал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зов, ясеней, осин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золоте небывал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3500280" y="50004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орис Пастерна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96604-peyzash-biom-kraska-osen-rastitelnost-1920x1080.jpg"/>
          <p:cNvPicPr/>
          <p:nvPr/>
        </p:nvPicPr>
        <p:blipFill>
          <a:blip r:embed="rId1"/>
          <a:stretch/>
        </p:blipFill>
        <p:spPr>
          <a:xfrm>
            <a:off x="4714920" y="4214880"/>
            <a:ext cx="41432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000080" y="1214280"/>
            <a:ext cx="7215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стилинография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коративно-прикладного искусств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дставляет собой создание лепных картин с изображением более или менее выпуклых, полуобъёмных объектов на горизонтальной поверх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стилинограф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8bb3727be9001089a94fe990a6bfbe61.jpg"/>
          <p:cNvPicPr/>
          <p:nvPr/>
        </p:nvPicPr>
        <p:blipFill>
          <a:blip r:embed="rId1"/>
          <a:stretch/>
        </p:blipFill>
        <p:spPr>
          <a:xfrm>
            <a:off x="357120" y="2357280"/>
            <a:ext cx="4138560" cy="264348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5" descr="applikacziya-iz-plastilina-svoimi-rukami-14.jpg"/>
          <p:cNvPicPr/>
          <p:nvPr/>
        </p:nvPicPr>
        <p:blipFill>
          <a:blip r:embed="rId2"/>
          <a:stretch/>
        </p:blipFill>
        <p:spPr>
          <a:xfrm>
            <a:off x="5394240" y="1600200"/>
            <a:ext cx="2546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стилин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2575179543.jpg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стилин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osenizplastelina6.jpg"/>
          <p:cNvPicPr/>
          <p:nvPr/>
        </p:nvPicPr>
        <p:blipFill>
          <a:blip r:embed="rId1"/>
          <a:stretch/>
        </p:blipFill>
        <p:spPr>
          <a:xfrm>
            <a:off x="785880" y="1500120"/>
            <a:ext cx="75340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стилин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detsad-641292-1541437032.jpg"/>
          <p:cNvPicPr/>
          <p:nvPr/>
        </p:nvPicPr>
        <p:blipFill>
          <a:blip r:embed="rId1"/>
          <a:stretch/>
        </p:blipFill>
        <p:spPr>
          <a:xfrm>
            <a:off x="1357200" y="1500120"/>
            <a:ext cx="64296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стилин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poster_event_1061821.jpg"/>
          <p:cNvPicPr/>
          <p:nvPr/>
        </p:nvPicPr>
        <p:blipFill>
          <a:blip r:embed="rId1"/>
          <a:stretch/>
        </p:blipFill>
        <p:spPr>
          <a:xfrm>
            <a:off x="928800" y="2000160"/>
            <a:ext cx="7429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30T09:36:31Z</dcterms:created>
  <dc:creator>LENA</dc:creator>
  <dc:description/>
  <dc:language>en-US</dc:language>
  <cp:lastModifiedBy>LENA</cp:lastModifiedBy>
  <dcterms:modified xsi:type="dcterms:W3CDTF">2022-09-30T10:16:44Z</dcterms:modified>
  <cp:revision>4</cp:revision>
  <dc:subject/>
  <dc:title>Осень в природе</dc:title>
</cp:coreProperties>
</file>