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gif" ContentType="image/gi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696-FF62-49D4-B176-B4C6069191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6B34-5462-4B76-B61D-FF02CD7E2EFD}" type="slidenum"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F55-A8B8-4280-B5EE-A0AE8FFE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301-B90B-443D-AD78-23E60A5C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16A-9425-487B-A7DC-2A6C0FA1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E3D-DF3E-4FF3-A0B8-5BB10490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DCDD-268B-42B4-BB85-1BA9E065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6478-3122-43B0-92BB-8B12E4F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2132-C33F-4AD7-82B3-A720FCB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238-384B-4E71-A1EE-BAA8387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CEC9-7EFE-406E-9A14-B24928E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0AD8-A8E3-4E2B-8875-31693090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917A-E315-47AF-A555-4094AE2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F59-6840-407C-A0D0-BB971B3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6855-92A5-4615-8E33-48A4DF2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2FE4-D1E6-48E9-8316-FAA6666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663B-7312-4299-A32E-B8A40DED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788D-D93A-4584-9F07-CCA643B7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C8E9-8347-4CE9-A70B-7346BE8A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B7D-A752-44EE-A435-C7658572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722-428E-4D2B-809A-7032F35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EF7-1A17-4A28-B665-1942A101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AAE-24BA-4883-BE6D-DBEC2A89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A38-F7FF-4D2E-AABE-B5B94481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F8B-842C-4892-9BCB-0279D40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93C-EE8F-405E-8AD9-B5F3C74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78E-460D-45FD-85A3-BE8BB0DA14D8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136-9041-4A8D-962D-E6F437301700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0;&#1053;&#1050;&#1045;&#1058;&#1040;%20&#1044;&#1051;&#1071;%20&#1059;&#1063;&#1040;&#1065;&#1048;&#1061;&#1057;&#1071;.doc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lib.ua-ru.net/diss/cont/108031.html" TargetMode="External"/><Relationship Id="rId2" Type="http://schemas.openxmlformats.org/officeDocument/2006/relationships/hyperlink" Target="http://festival.1september.ru/articles/575591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Monotype Corsiva"/>
              </a:rPr>
              <a:t>Педагогический проект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66920" y="3357360"/>
            <a:ext cx="4249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Автор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Евстратова Л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Изображение 249"/>
          <p:cNvPicPr/>
          <p:nvPr/>
        </p:nvPicPr>
        <p:blipFill>
          <a:blip r:embed="rId1"/>
          <a:stretch/>
        </p:blipFill>
        <p:spPr>
          <a:xfrm>
            <a:off x="6300720" y="260280"/>
            <a:ext cx="2158920" cy="12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Диагностика входного контроля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определение уровня познавательной активности обучающихся на уроках истории (по методике Н.Г.   </a:t>
            </a:r>
            <a:r>
              <a:rPr b="0" lang="ru-RU" sz="2800" spc="-1" strike="noStrike" u="sng">
                <a:solidFill>
                  <a:srgbClr val="cccc00"/>
                </a:solidFill>
                <a:uFillTx/>
                <a:latin typeface="Georgia"/>
                <a:hlinkClick r:id="rId1"/>
              </a:rPr>
              <a:t>Лускановой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выявление представлений обучающихся о связи истории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проведение контрольных и проверочных работ по ис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99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11280" y="549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Формы обучени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134" name="Diagram 7"/>
          <p:cNvGrpSpPr/>
          <p:nvPr/>
        </p:nvGrpSpPr>
        <p:grpSpPr>
          <a:xfrm>
            <a:off x="1678320" y="1695240"/>
            <a:ext cx="4923360" cy="4113360"/>
            <a:chOff x="1678320" y="1695240"/>
            <a:chExt cx="4923360" cy="4113360"/>
          </a:xfrm>
        </p:grpSpPr>
        <p:sp>
          <p:nvSpPr>
            <p:cNvPr id="135" name="_s2052"/>
            <p:cNvSpPr/>
            <p:nvPr/>
          </p:nvSpPr>
          <p:spPr>
            <a:xfrm flipH="1" flipV="1">
              <a:off x="2954880" y="323640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6" name="_s2053"/>
            <p:cNvSpPr/>
            <p:nvPr/>
          </p:nvSpPr>
          <p:spPr>
            <a:xfrm>
              <a:off x="1678320" y="2465280"/>
              <a:ext cx="1368360" cy="102816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Круглый стол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7" name="_s2054"/>
            <p:cNvSpPr/>
            <p:nvPr/>
          </p:nvSpPr>
          <p:spPr>
            <a:xfrm flipH="1">
              <a:off x="2954880" y="400824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8" name="_s2055"/>
            <p:cNvSpPr/>
            <p:nvPr/>
          </p:nvSpPr>
          <p:spPr>
            <a:xfrm>
              <a:off x="1678320" y="4008240"/>
              <a:ext cx="136836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Спектакль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9" name="_s2056"/>
            <p:cNvSpPr/>
            <p:nvPr/>
          </p:nvSpPr>
          <p:spPr>
            <a:xfrm>
              <a:off x="4140360" y="4265280"/>
              <a:ext cx="0" cy="514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0" name="_s2057"/>
            <p:cNvSpPr/>
            <p:nvPr/>
          </p:nvSpPr>
          <p:spPr>
            <a:xfrm>
              <a:off x="3456000" y="4780080"/>
              <a:ext cx="136800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Урок -исследование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1" name="_s2058"/>
            <p:cNvSpPr/>
            <p:nvPr/>
          </p:nvSpPr>
          <p:spPr>
            <a:xfrm>
              <a:off x="4732920" y="400824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2" name="_s2059"/>
            <p:cNvSpPr/>
            <p:nvPr/>
          </p:nvSpPr>
          <p:spPr>
            <a:xfrm>
              <a:off x="5233320" y="4008240"/>
              <a:ext cx="136836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Урок-диалог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 flipV="1">
              <a:off x="4732920" y="323640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4" name="_s2061"/>
            <p:cNvSpPr/>
            <p:nvPr/>
          </p:nvSpPr>
          <p:spPr>
            <a:xfrm>
              <a:off x="5233320" y="2465280"/>
              <a:ext cx="1368360" cy="102816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Традиционный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урок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5" name="_s2062"/>
            <p:cNvSpPr/>
            <p:nvPr/>
          </p:nvSpPr>
          <p:spPr>
            <a:xfrm flipV="1">
              <a:off x="4140360" y="2724120"/>
              <a:ext cx="0" cy="51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3456000" y="1695240"/>
              <a:ext cx="136800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Защита проектов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7" name="_s2064"/>
            <p:cNvSpPr/>
            <p:nvPr/>
          </p:nvSpPr>
          <p:spPr>
            <a:xfrm>
              <a:off x="3456000" y="3238560"/>
              <a:ext cx="136800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Monotype Corsiva"/>
                </a:rPr>
                <a:t>Урок</a:t>
              </a: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i="1" lang="ru-RU" sz="4600" spc="-1" strike="noStrike">
                <a:solidFill>
                  <a:srgbClr val="ffffff"/>
                </a:solidFill>
                <a:latin typeface="Monotype Corsiva"/>
              </a:rPr>
              <a:t>Приёмы и методы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1476360" y="1700280"/>
            <a:ext cx="6408720" cy="360"/>
          </a:xfrm>
          <a:prstGeom prst="lin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08480" y="1869120"/>
            <a:ext cx="7729560" cy="4557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3300"/>
            </a:solidFill>
            <a:round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Групповые диску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642960" y="2571840"/>
            <a:ext cx="7920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Проблемное изложение</a:t>
            </a:r>
            <a:r>
              <a:rPr b="0" lang="ru-RU" sz="1800" spc="-1" strike="noStrike">
                <a:solidFill>
                  <a:srgbClr val="60897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55640" y="3933720"/>
            <a:ext cx="799308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Частично – поисковая деятельность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755640" y="4508640"/>
            <a:ext cx="799308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Ролевое моделирование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755640" y="5084640"/>
            <a:ext cx="7993080" cy="3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Учебный проект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755640" y="5734080"/>
            <a:ext cx="79930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Мультимедиа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55640" y="3213000"/>
            <a:ext cx="7920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ейс-технологи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Применение  кейс-технологи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4" descr="DSCN0943"/>
          <p:cNvPicPr/>
          <p:nvPr/>
        </p:nvPicPr>
        <p:blipFill>
          <a:blip r:embed="rId1"/>
          <a:stretch/>
        </p:blipFill>
        <p:spPr>
          <a:xfrm>
            <a:off x="5364000" y="2060640"/>
            <a:ext cx="2951280" cy="2448000"/>
          </a:xfrm>
          <a:prstGeom prst="rect">
            <a:avLst/>
          </a:prstGeom>
          <a:ln w="0">
            <a:noFill/>
          </a:ln>
        </p:spPr>
      </p:pic>
      <p:sp>
        <p:nvSpPr>
          <p:cNvPr id="159" name="Line 20"/>
          <p:cNvSpPr/>
          <p:nvPr/>
        </p:nvSpPr>
        <p:spPr>
          <a:xfrm>
            <a:off x="684360" y="1484280"/>
            <a:ext cx="6408720" cy="360"/>
          </a:xfrm>
          <a:prstGeom prst="lin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160" name="Organization Chart 18"/>
          <p:cNvGrpSpPr/>
          <p:nvPr/>
        </p:nvGrpSpPr>
        <p:grpSpPr>
          <a:xfrm>
            <a:off x="684360" y="1989000"/>
            <a:ext cx="4534920" cy="3094560"/>
            <a:chOff x="684360" y="1989000"/>
            <a:chExt cx="4534920" cy="3094560"/>
          </a:xfrm>
        </p:grpSpPr>
        <p:cxnSp>
          <p:nvCxnSpPr>
            <p:cNvPr id="161" name="_s3076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3435480" y="2741760"/>
              <a:ext cx="619560" cy="1587960"/>
            </a:xfrm>
            <a:prstGeom prst="bentConnector3">
              <a:avLst>
                <a:gd name="adj1" fmla="val 209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3077"/>
            <p:cNvCxnSpPr>
              <a:stCxn id="165" idx="0"/>
              <a:endCxn id="163" idx="2"/>
            </p:cNvCxnSpPr>
            <p:nvPr/>
          </p:nvCxnSpPr>
          <p:spPr>
            <a:xfrm flipV="1">
              <a:off x="2951640" y="3225960"/>
              <a:ext cx="1800" cy="619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307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848240" y="2741760"/>
              <a:ext cx="619560" cy="1587960"/>
            </a:xfrm>
            <a:prstGeom prst="bentConnector3">
              <a:avLst>
                <a:gd name="adj1" fmla="val 209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3" name="_s3079"/>
            <p:cNvSpPr/>
            <p:nvPr/>
          </p:nvSpPr>
          <p:spPr>
            <a:xfrm>
              <a:off x="2271600" y="198900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Результаты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кейсов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7" name="_s3080"/>
            <p:cNvSpPr/>
            <p:nvPr/>
          </p:nvSpPr>
          <p:spPr>
            <a:xfrm>
              <a:off x="684360" y="384588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презентации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5" name="_s3081"/>
            <p:cNvSpPr/>
            <p:nvPr/>
          </p:nvSpPr>
          <p:spPr>
            <a:xfrm>
              <a:off x="2271600" y="384588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Защита 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проектов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2" name="_s3082"/>
            <p:cNvSpPr/>
            <p:nvPr/>
          </p:nvSpPr>
          <p:spPr>
            <a:xfrm>
              <a:off x="3858840" y="384588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эссе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Темы  эссе на историческую т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9246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Столкновение между регулярными частями Красной и Белой армий являлось лишь фасадом гражданской войны…Победа той или иной стороны зависела прежде всего от сочувствия и поддержки …крестьянства (А.Дани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…Дворцовые перевороты в России…можно считать платой за реформы Петра». (И.Куру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…для славы мертвых нет.» (А.Ахмат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дания к уро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1476360" y="1844640"/>
            <a:ext cx="2160720" cy="180036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Составить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кроссворд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5867280" y="2565360"/>
            <a:ext cx="2521080" cy="165564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Подобрать стихи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к датам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995640" y="1989000"/>
            <a:ext cx="2089080" cy="144000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Написать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рецензию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1476360" y="3860640"/>
            <a:ext cx="2664000" cy="187344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Составить карту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путешеств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5076720" y="4365720"/>
            <a:ext cx="2880000" cy="158436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Создать сценарий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Monotype Corsiva"/>
              </a:rPr>
              <a:t>Система интегрированных  уроков в 6 - 8 класс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6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диспут «Вещий Олег» Пушкина и  летопись – правда и вымыс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 – исследование «Опричнина в истории и произведении Толстова «Князь Серебряный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7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спектакль «Тарас Бульба- богатырь земли Русской»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исследование «Запорожская Сечь, ее нравы и обыча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 защита проектов «Преемники Петра глазами писателе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 – защита проектов «Герои Отечественной войны 1812 го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Круглый стол «Тема русской истории в творчестве А.С. Пушки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 - презентация стихов собственного сочинения на тему «Отечественная война 1812 г. в наших сердцах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99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истема интегрированных  уроков в 10 и 11 класс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10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 - защита проектов «Великая Орда двинулась на запа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 - диспут «Заговор. Трагедия Павла 1 – злой рок или случайность» (А.Г. Брикнер. «Смерть Павла 1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11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 – исследование «Я помню! Я горжусь!» (Екатеринино в годы Великой Отечественной вой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-дискуссия «Человек на войн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0022 коррекция"/>
          <p:cNvPicPr/>
          <p:nvPr/>
        </p:nvPicPr>
        <p:blipFill>
          <a:blip r:embed="rId1"/>
          <a:srcRect l="11156" t="0" r="0" b="0"/>
          <a:stretch/>
        </p:blipFill>
        <p:spPr>
          <a:xfrm>
            <a:off x="6012000" y="4149720"/>
            <a:ext cx="2376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Внеклассная деятель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лый стол «Встреча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есным человек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я в Тарханы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тупление со стихами собствен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инения в творческой лабора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рожкин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чер «Русского роман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ещение Тамбовского краеведческого муз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Scan0003"/>
          <p:cNvPicPr/>
          <p:nvPr/>
        </p:nvPicPr>
        <p:blipFill>
          <a:blip r:embed="rId1"/>
          <a:srcRect l="15962" t="28011" r="13210" b="38536"/>
          <a:stretch/>
        </p:blipFill>
        <p:spPr>
          <a:xfrm>
            <a:off x="6643800" y="3643200"/>
            <a:ext cx="2381040" cy="18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Scan0004"/>
          <p:cNvPicPr/>
          <p:nvPr/>
        </p:nvPicPr>
        <p:blipFill>
          <a:blip r:embed="rId2"/>
          <a:stretch/>
        </p:blipFill>
        <p:spPr>
          <a:xfrm>
            <a:off x="4211640" y="1700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Итоговый контро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Анкетирование обучающихся «Знаю ли я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Динамика качества обучения по 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Творческие работы обучаю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езультаты контрольных и проверочных  работ по 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Определение уровня познавательной активности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1f4"/>
          <p:cNvPicPr/>
          <p:nvPr/>
        </p:nvPicPr>
        <p:blipFill>
          <a:blip r:embed="rId1"/>
          <a:stretch/>
        </p:blipFill>
        <p:spPr>
          <a:xfrm>
            <a:off x="3780000" y="4076640"/>
            <a:ext cx="1226880" cy="158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089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Тема 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«Повышение уровня познавательной активности обучающихся путем интеграции истории и литературы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3500280"/>
            <a:ext cx="7924680" cy="37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Ребенок – это факел, который нужно зажечь, а не сосу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который нужно заполн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Франсуа Раб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Результаты рабо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езультаты работы учащихся на уроках можно представить в виде диаграмм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Object 9"/>
          <p:cNvGraphicFramePr/>
          <p:nvPr/>
        </p:nvGraphicFramePr>
        <p:xfrm>
          <a:off x="4859280" y="1484280"/>
          <a:ext cx="307044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3070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03640" y="3789360"/>
          <a:ext cx="285300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789360"/>
                    <a:ext cx="2853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тегрированные уроки призваны содействовать формированию мотивационной сферы деятельности обучающихся, т.е. прививать им интерес к предмету, расширять их кругозор, повышать общий уровень образованности. Они стимулируют активную познавательную деятельность обучающихся, помогают решить задачу воспитания активного чита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акие уроки требуют большой подготовительной работы, но они несут позитивный заряд на дальнейшую творческую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 u="sng">
                <a:solidFill>
                  <a:srgbClr val="ffffff"/>
                </a:solidFill>
                <a:uFillTx/>
                <a:latin typeface="Arial"/>
              </a:rPr>
              <a:t>Гипотеза подтвердилась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ормирование историко-литературных  представлений обучающихся происходит более успешно, а уровень познавательной активности школьников растет, если изучение истории сочетается с  художественной литерату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зультатом осуществления проектов является  рост числа  обучающихся, занимающих призовые места на муниципальных и региональных конкурсах и олимпиа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Интернет-ресурс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1522800"/>
            <a:ext cx="57164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Monotype Corsiva"/>
                <a:hlinkClick r:id="rId1"/>
              </a:rPr>
              <a:t>www.lib.ua-ru.net/diss/cont/108031.html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 www.pedsovet.su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 www.dissercat.com/…integrats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literatury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istorii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ff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revolution.allbest.ru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ff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www.ug.ru/old/03.13/pg9.htm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ff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Monotype Corsiva"/>
                <a:hlinkClick r:id="rId2"/>
              </a:rPr>
              <a:t>festival.1september.ru</a:t>
            </a: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14360" y="3286080"/>
            <a:ext cx="6319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Актуальность те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ктуальность избранной темы определяется следующими фактор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озросший интерес к истории в современном обще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художественные произведения на историческую тему являются значительной частью содержания образовательного стандарта по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зучение художественных произведений неотрывно от истории способствует развитию эстетической культуры школьников, расширению их кругозора, познавательного интереса к прошлому, более глубокого понимания ими настоящ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Ведущая идея  (цель)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00200"/>
            <a:ext cx="7925400" cy="3823920"/>
          </a:xfrm>
          <a:prstGeom prst="rect">
            <a:avLst/>
          </a:prstGeom>
          <a:solidFill>
            <a:srgbClr val="ffcc99"/>
          </a:solidFill>
          <a:ln w="38160">
            <a:solidFill>
              <a:srgbClr val="660033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Повышение уров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познавательной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обучающихся за счет соз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системы интегрированных уро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истории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сновные задач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880" y="1785600"/>
            <a:ext cx="7749000" cy="3846960"/>
          </a:xfrm>
          <a:prstGeom prst="rect">
            <a:avLst/>
          </a:prstGeom>
          <a:solidFill>
            <a:srgbClr val="ffcc99"/>
          </a:solidFill>
          <a:ln w="38160">
            <a:solidFill>
              <a:srgbClr val="660033"/>
            </a:solidFill>
            <a:miter/>
          </a:ln>
        </p:spPr>
        <p:txBody>
          <a:bodyPr anchor="ctr" anchorCtr="1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Определить уровень знаний обучающихся по истории и литера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Изучить уровень осмысления интегрированного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в методической нау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Обосновать содержание, методы и приемы форм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представлений обучающихся о литературно-истор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явлениях и фак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Определить результативность работы по формиров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у школьников  целостных представлений о литературно-истор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явлениях и фактах в системе интегрированных  уро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Гипотеза</a:t>
            </a:r>
            <a:r>
              <a:rPr b="1" lang="ru-RU" sz="4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500040" y="1285920"/>
            <a:ext cx="7929720" cy="4832280"/>
          </a:xfrm>
          <a:prstGeom prst="flowChartDocument">
            <a:avLst/>
          </a:prstGeom>
          <a:solidFill>
            <a:srgbClr val="ffcc99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Если в школе создана система интегрированных уроков истории 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литературы,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а изучение исторических событий сочетается и дополняетс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историческими источниками и историческими произведениями  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то формирование представлений обучающихся об истори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и литературе в их взаимосвязи будет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более успешным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560" y="7174080"/>
            <a:ext cx="7093080" cy="14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6" descr="1b3"/>
          <p:cNvPicPr/>
          <p:nvPr/>
        </p:nvPicPr>
        <p:blipFill>
          <a:blip r:embed="rId1"/>
          <a:stretch/>
        </p:blipFill>
        <p:spPr>
          <a:xfrm>
            <a:off x="3203640" y="5373720"/>
            <a:ext cx="93960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Аннотац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анный проект посвящен теме интеграции истории и литературы в целях  формирования мотивационной сферы деятельности обучающихся, привития им интереса к предмету, расширению кругозора и повышения уровня познавательной активности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тегрированный урок – это поиск новых эффективных форм обучения, основанных  на гуманистическом и личностно ориентированном подходе к обучению и воспитанию школьнико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09[1]"/>
          <p:cNvPicPr/>
          <p:nvPr/>
        </p:nvPicPr>
        <p:blipFill>
          <a:blip r:embed="rId1"/>
          <a:stretch/>
        </p:blipFill>
        <p:spPr>
          <a:xfrm>
            <a:off x="7093080" y="5084640"/>
            <a:ext cx="1079280" cy="9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Этапы работы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Organization Chart 6"/>
          <p:cNvGrpSpPr/>
          <p:nvPr/>
        </p:nvGrpSpPr>
        <p:grpSpPr>
          <a:xfrm>
            <a:off x="457200" y="1557360"/>
            <a:ext cx="8228880" cy="4894560"/>
            <a:chOff x="457200" y="1557360"/>
            <a:chExt cx="8228880" cy="4894560"/>
          </a:xfrm>
        </p:grpSpPr>
        <p:cxnSp>
          <p:nvCxnSpPr>
            <p:cNvPr id="119" name="_s1028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522040" y="2563560"/>
              <a:ext cx="979200" cy="2880720"/>
            </a:xfrm>
            <a:prstGeom prst="bentConnector3">
              <a:avLst>
                <a:gd name="adj1" fmla="val 1820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22" name="_s1029"/>
            <p:cNvCxnSpPr>
              <a:stCxn id="123" idx="0"/>
              <a:endCxn id="121" idx="1"/>
            </p:cNvCxnSpPr>
            <p:nvPr/>
          </p:nvCxnSpPr>
          <p:spPr>
            <a:xfrm flipV="1">
              <a:off x="4571280" y="3514680"/>
              <a:ext cx="3240" cy="979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24" name="_s1030"/>
            <p:cNvCxnSpPr>
              <a:stCxn id="125" idx="0"/>
              <a:endCxn id="121" idx="0"/>
            </p:cNvCxnSpPr>
            <p:nvPr/>
          </p:nvCxnSpPr>
          <p:spPr>
            <a:xfrm flipH="1" flipV="1" rot="5400000">
              <a:off x="2641680" y="2563920"/>
              <a:ext cx="979200" cy="2880720"/>
            </a:xfrm>
            <a:prstGeom prst="bentConnector3">
              <a:avLst>
                <a:gd name="adj1" fmla="val 1820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1" name="_s1031"/>
            <p:cNvSpPr/>
            <p:nvPr/>
          </p:nvSpPr>
          <p:spPr>
            <a:xfrm>
              <a:off x="3337200" y="155736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0897c"/>
                </a:gs>
                <a:gs pos="50000">
                  <a:srgbClr val="354418"/>
                </a:gs>
                <a:gs pos="100000">
                  <a:srgbClr val="60897c"/>
                </a:gs>
              </a:gsLst>
              <a:lin ang="8100000"/>
            </a:gra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Три стадии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проекта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5" name="_s1032"/>
            <p:cNvSpPr/>
            <p:nvPr/>
          </p:nvSpPr>
          <p:spPr>
            <a:xfrm>
              <a:off x="457200" y="449424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354418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Организационный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3" name="_s1033"/>
            <p:cNvSpPr/>
            <p:nvPr/>
          </p:nvSpPr>
          <p:spPr>
            <a:xfrm>
              <a:off x="3337200" y="449424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354418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Основной</a:t>
              </a:r>
              <a:r>
                <a:rPr b="0" lang="en-US" sz="2100" spc="-1" strike="noStrike">
                  <a:solidFill>
                    <a:srgbClr val="6699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0" name="_s1034"/>
            <p:cNvSpPr/>
            <p:nvPr/>
          </p:nvSpPr>
          <p:spPr>
            <a:xfrm>
              <a:off x="6217560" y="449424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354418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Аналитический</a:t>
              </a:r>
              <a:r>
                <a:rPr b="0" lang="en-US" sz="2100" spc="-1" strike="noStrike">
                  <a:solidFill>
                    <a:srgbClr val="6699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r>
              <a:rPr b="0" lang="ru-RU" sz="4200" spc="-1" strike="noStrike">
                <a:solidFill>
                  <a:srgbClr val="354418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836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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орожкина Н., Нехорошева Т. Как готовить интегрированные уроки: история +литература. –М.: Чистые пруды,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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очергина Л.Л.,Тропкина Л.А. История – литература. Интегрированные уроки. Волгоград,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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етренко Н.А. Интегрированный урок, как форма учебного занятия – Фестиваль педагогических идей «Открытый урок»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929280" y="5143680"/>
            <a:ext cx="79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1:33:54Z</dcterms:created>
  <dc:creator>user</dc:creator>
  <dc:description/>
  <dc:language>en-US</dc:language>
  <cp:lastModifiedBy>User</cp:lastModifiedBy>
  <dcterms:modified xsi:type="dcterms:W3CDTF">2022-10-02T10:35:58Z</dcterms:modified>
  <cp:revision>73</cp:revision>
  <dc:subject/>
  <dc:title>Слайд 1</dc:title>
</cp:coreProperties>
</file>